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9AD-F69F-45F4-B7E1-B48D31EF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553-4D42-4E50-B0D7-E679B96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614-12CB-48B3-9C49-A6AD7624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334-AD66-448F-BB59-BF99274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024-794D-49AD-BE83-A7EDD9D8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CDFF-E564-4D60-AF9C-330202F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4C4-DDD7-42D5-944A-139E136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0FB0-12E1-4060-8A7F-85DD17F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6E2-3268-4BEC-BEA4-8777E5CE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9A2-604F-4CEF-8C30-6E02442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82C1-959A-4304-AF7F-D106E0F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870-0071-4DE2-9A40-AA1CC11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DED-EBFB-4DBC-9387-41852BF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2A83-94E9-4B92-92B9-9443F3E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464-A17B-4870-9DD0-1308074E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F62A-CD02-4827-A293-FCDF98E2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9939-D5F2-4758-88CC-09C307A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331-0AE8-411F-B57F-17590C7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56D-BA8A-4373-A460-01D8D341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67A-13A0-43E7-8D84-D460FBA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CCF-A6E5-41B8-9D17-11FB8D9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96D-03F1-4BC6-A2D6-BF941CD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64F-BF0B-454B-A842-2C5BEEA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CD4-9403-4EAF-AF17-291F28B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375-35DB-433F-A592-CB7DFF7831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4E7-E8DF-401A-B52F-B85AA2AE16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2637000"/>
            <a:ext cx="69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一次有趣的观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60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238720" cy="3934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47640" y="52293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扁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331920"/>
            <a:ext cx="4033800" cy="403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50864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扁豆炒肉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64000" y="40464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64000" y="4005360"/>
            <a:ext cx="33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扁豆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797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蔓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46400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60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下面的字词你能读得准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916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1989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蔓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060640"/>
            <a:ext cx="41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扁豆蔓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wà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0766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005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400536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缠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5157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究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14172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豌豆蔓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3141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南瓜蔓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15772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四个小时以后，扁豆蔓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天，我又把扁豆蔓儿从左边绕着缠在竹竿上，还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484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我紧盯着它。过了半个小时，扁豆开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124640" y="2940120"/>
            <a:ext cx="113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又过了两个小时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60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我还注意到，每隔一小时右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，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89864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离开了记号，向右边移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278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扁豆蔓儿离记号更远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2735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扁豆蔓儿就突然抖一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4400" y="5641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又转到竹竿右边，绕着缠上去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7960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竹竿上用红墨水做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2276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楷体_GB2312"/>
              </a:rPr>
              <a:t>看扁豆蔓儿缠绕快放镜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4076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我终于相信扁豆蔓儿是向右绕着爬的。这是我自己观察到的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637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</a:rPr>
              <a:t>听说  不相信  观察  终于相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2240" y="189000"/>
            <a:ext cx="4278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0:37:59Z</dcterms:created>
  <dc:creator>微软用户</dc:creator>
  <dc:description/>
  <dc:language>en-US</dc:language>
  <cp:lastModifiedBy>微软用户</cp:lastModifiedBy>
  <dcterms:modified xsi:type="dcterms:W3CDTF">2004-02-07T20:09:16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