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50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36.jpeg" ContentType="image/jpeg"/>
  <Override PartName="/ppt/media/image31.jpeg" ContentType="image/jpeg"/>
  <Override PartName="/ppt/media/image45.wmf" ContentType="image/x-wmf"/>
  <Override PartName="/ppt/media/image9.jpeg" ContentType="image/jpeg"/>
  <Override PartName="/ppt/media/image48.png" ContentType="image/png"/>
  <Override PartName="/ppt/media/image34.jpeg" ContentType="image/jpeg"/>
  <Override PartName="/ppt/media/image43.png" ContentType="image/png"/>
  <Override PartName="/ppt/media/image46.png" ContentType="image/png"/>
  <Override PartName="/ppt/media/image49.jpeg" ContentType="image/jpeg"/>
  <Override PartName="/ppt/media/image51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.gif" ContentType="image/gif"/>
  <Override PartName="/ppt/media/image4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4.png" ContentType="image/png"/>
  <Override PartName="/ppt/media/image40.jpeg" ContentType="image/jpeg"/>
  <Override PartName="/ppt/media/image4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99B-2BB7-4FE9-807B-C831DB47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5AA-0B09-4F96-8F7C-EB77B39F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387-AE49-41BD-BEA4-2D4DD8D3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664-2402-4129-8B78-22F25F72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387-F54C-4E9E-9FB6-D582928E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070-D8A9-428A-96BD-BC97AE40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69C-3524-4419-BAA1-24A555B0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0AE-2494-45AF-95E8-F1EAB1DD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B6C-6E1F-4D5E-8B0A-23856A33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294-8B27-4061-9C8E-2578134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438-5E91-40FE-AE2B-AB743FDF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A10-47EB-410C-AE74-927138E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DD92-D28B-4811-B457-3A0A66E853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8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wmf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778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5280" y="2708280"/>
            <a:ext cx="936360" cy="792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03640" y="2421000"/>
            <a:ext cx="32526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看 菊 花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60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苏教版 一年级 语文 上册 课文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724360" y="836640"/>
            <a:ext cx="316872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2960" y="907920"/>
            <a:ext cx="31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黄色的菊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157720"/>
            <a:ext cx="295128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81400" y="5238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白色的菊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0820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56720" cy="568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64000" y="981000"/>
            <a:ext cx="3600720" cy="1368360"/>
          </a:xfrm>
          <a:prstGeom prst="cloudCallout">
            <a:avLst>
              <a:gd name="adj1" fmla="val -53041"/>
              <a:gd name="adj2" fmla="val 63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72280" y="1143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黑体"/>
              </a:rPr>
              <a:t>淡绿色的菊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580000" y="1052640"/>
            <a:ext cx="3313080" cy="1008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62920" y="1143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紫红色的菊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3961080" cy="3357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643280" cy="3195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608280" cy="3313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610600" y="333360"/>
            <a:ext cx="35334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黄的</a:t>
            </a:r>
            <a:r>
              <a:rPr b="1" lang="zh-CN" sz="11000" spc="-1" strike="noStrike">
                <a:solidFill>
                  <a:srgbClr val="1502a2"/>
                </a:solidFill>
                <a:latin typeface="Times New Roman"/>
                <a:ea typeface="华文新魏"/>
              </a:rPr>
              <a:t>菊花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53000" cy="450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3119400" cy="450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872320" y="0"/>
            <a:ext cx="3271680" cy="4471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58920" y="4437000"/>
            <a:ext cx="708660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白的</a:t>
            </a:r>
            <a:r>
              <a:rPr b="1" lang="zh-CN" sz="105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菊花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88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860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4076640"/>
            <a:ext cx="8209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66ff99"/>
                </a:solidFill>
                <a:latin typeface="Times New Roman"/>
                <a:ea typeface="华文新魏"/>
              </a:rPr>
              <a:t>淡绿的</a:t>
            </a:r>
            <a:r>
              <a:rPr b="1" lang="zh-CN" sz="11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菊花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573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558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36040" y="189000"/>
            <a:ext cx="286164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a41ea1"/>
                </a:solidFill>
                <a:latin typeface="Times New Roman"/>
                <a:ea typeface="华文新魏"/>
              </a:rPr>
              <a:t>紫红的</a:t>
            </a:r>
            <a:r>
              <a:rPr b="1" lang="zh-CN" sz="8800" spc="-1" strike="noStrike">
                <a:solidFill>
                  <a:srgbClr val="823222"/>
                </a:solidFill>
                <a:latin typeface="Times New Roman"/>
                <a:ea typeface="华文新魏"/>
              </a:rPr>
              <a:t>菊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657600" cy="29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895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39240" y="-316080"/>
            <a:ext cx="1399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02a2"/>
                </a:solidFill>
                <a:latin typeface="Times New Roman"/>
                <a:ea typeface="华文新魏"/>
              </a:rPr>
              <a:t>一朵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3657600" cy="345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780000" y="2997360"/>
            <a:ext cx="3119400" cy="345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37560" y="2565360"/>
            <a:ext cx="3106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204e"/>
                </a:solidFill>
                <a:latin typeface="Times New Roman"/>
              </a:rPr>
              <a:t>一丛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392720" cy="4111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06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63640" y="4221000"/>
            <a:ext cx="6782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62fc9"/>
                </a:solidFill>
                <a:latin typeface="Times New Roman"/>
                <a:ea typeface="华文新魏"/>
              </a:rPr>
              <a:t>一片片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看菊花           爸爸        妈妈        紫红          开放            舍不得      不怕冷       离去      许多          一点儿       也     很       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9280" y="76500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ff9933"/>
                </a:solidFill>
                <a:latin typeface="Times New Roman"/>
              </a:rPr>
              <a:t>公园里的菊花好看极了。黄的，白的，淡绿的，紫红的，一朵朵，一丛丛，一片片，它们正迎着深秋的寒风开放呢。人们边看边走，边走边看，舍不得离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657080" cy="1368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195640" y="981000"/>
            <a:ext cx="22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想一想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2492280"/>
            <a:ext cx="936720" cy="576360"/>
          </a:xfrm>
          <a:custGeom>
            <a:avLst/>
            <a:gdLst>
              <a:gd name="textAreaLeft" fmla="*/ 234000 w 936720"/>
              <a:gd name="textAreaRight" fmla="*/ 702720 w 936720"/>
              <a:gd name="textAreaTop" fmla="*/ 0 h 576360"/>
              <a:gd name="textAreaBottom" fmla="*/ 504360 h 576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257184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031840" y="2421000"/>
            <a:ext cx="4700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你还看过其它颜色的菊花吗？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3789360"/>
            <a:ext cx="936720" cy="576360"/>
          </a:xfrm>
          <a:custGeom>
            <a:avLst/>
            <a:gdLst>
              <a:gd name="textAreaLeft" fmla="*/ 234000 w 936720"/>
              <a:gd name="textAreaRight" fmla="*/ 702720 w 936720"/>
              <a:gd name="textAreaTop" fmla="*/ 0 h 576360"/>
              <a:gd name="textAreaBottom" fmla="*/ 504360 h 576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364500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08000" y="3860640"/>
            <a:ext cx="4176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它们穿得那么漂亮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1640" y="4581360"/>
            <a:ext cx="28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在干什么呢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cover dir="l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6048360" cy="568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59458" t="-1969" r="0" b="5937"/>
          <a:stretch/>
        </p:blipFill>
        <p:spPr>
          <a:xfrm>
            <a:off x="6227640" y="620640"/>
            <a:ext cx="2687760" cy="2664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227640" y="2997360"/>
            <a:ext cx="273708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这么多花，数也数不过来。咦！这儿怎么只有菊花，其它的花跑到哪里去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832960" cy="578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0" t="0" r="-92" b="6663"/>
          <a:stretch/>
        </p:blipFill>
        <p:spPr>
          <a:xfrm>
            <a:off x="250920" y="836640"/>
            <a:ext cx="2449440" cy="223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76720" y="83664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ff"/>
                </a:solidFill>
                <a:latin typeface="黑体"/>
                <a:ea typeface="黑体"/>
              </a:rPr>
              <a:t>哦！！！原来它们都怕冷，有的谢了，有的到泥土里去冬眠……只有菊花，正迎着深秋的寒风开放呢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141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怕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141720"/>
            <a:ext cx="4248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3789360"/>
            <a:ext cx="10810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3141720"/>
            <a:ext cx="309564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0840" y="3351240"/>
            <a:ext cx="21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这句话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了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524720" y="3284640"/>
            <a:ext cx="1228680" cy="1220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59280" y="4581360"/>
            <a:ext cx="4968720" cy="1081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4797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1360" y="472428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说明菊花不畏严寒 ，不怕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832960" cy="578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26457" t="50004" r="0" b="0"/>
          <a:stretch/>
        </p:blipFill>
        <p:spPr>
          <a:xfrm>
            <a:off x="179280" y="765000"/>
            <a:ext cx="2016360" cy="1800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125360"/>
            <a:ext cx="5256360" cy="581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是呀！菊花不仅不怕冷，还可以给人治病，供人观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35280" y="2852640"/>
            <a:ext cx="23050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想一想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386064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99ff"/>
                </a:solidFill>
                <a:latin typeface="黑体"/>
                <a:ea typeface="黑体"/>
              </a:rPr>
              <a:t>人们边走边看，边看边走，舍不得离去，他们在想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7440" y="836640"/>
            <a:ext cx="8747280" cy="568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2160720" cy="2087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324000" y="2060640"/>
            <a:ext cx="165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作业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73852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菊花这么漂亮，这么美，你想对菊花说点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16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87280" y="259380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Arial"/>
                <a:ea typeface="华文行楷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256536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Arial"/>
                <a:ea typeface="华文行楷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661240" cy="568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24800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1700280"/>
            <a:ext cx="1800000" cy="41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34936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瞧！星期天早晨，芳芳一家出门了，他们去干什么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85080" cy="561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84360" y="1052640"/>
            <a:ext cx="446400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55400" y="9842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看  菊  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48112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芳芳看到什么菊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373720"/>
            <a:ext cx="136692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4653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请点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464000" cy="410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484360" y="1700280"/>
            <a:ext cx="4464000" cy="410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484360" y="1700280"/>
            <a:ext cx="4464000" cy="41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484360" y="1700280"/>
            <a:ext cx="4464000" cy="41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2484360" y="1700280"/>
            <a:ext cx="4464000" cy="417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2484360" y="1700280"/>
            <a:ext cx="4498920" cy="41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2484360" y="1700280"/>
            <a:ext cx="4464000" cy="41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08720" y="1052640"/>
            <a:ext cx="1656000" cy="2305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1100160"/>
            <a:ext cx="18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哇！太美了，我还想看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2484360" y="1700280"/>
            <a:ext cx="4464000" cy="417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73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28012" t="50004" r="29574" b="0"/>
          <a:stretch/>
        </p:blipFill>
        <p:spPr>
          <a:xfrm>
            <a:off x="324000" y="836640"/>
            <a:ext cx="1944360" cy="2127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1125360"/>
            <a:ext cx="496872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08200" y="164448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99ff"/>
                </a:solidFill>
                <a:latin typeface="黑体"/>
                <a:ea typeface="黑体"/>
              </a:rPr>
              <a:t>别急！我们先看看课文，看看课文中写了哪些漂亮的菊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868400" cy="144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556000" y="907920"/>
            <a:ext cx="180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找一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2349360"/>
            <a:ext cx="503280" cy="792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263700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349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自由读课文，找出菊花喜欢穿什么颜色的衣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3860640"/>
            <a:ext cx="503280" cy="792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3860640"/>
            <a:ext cx="61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把不认识的“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44434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宝宝”找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234936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56720" cy="580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0" r="47461" b="55906"/>
          <a:stretch/>
        </p:blipFill>
        <p:spPr>
          <a:xfrm>
            <a:off x="0" y="765000"/>
            <a:ext cx="2627280" cy="201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95640" y="719280"/>
            <a:ext cx="165564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我会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3139920"/>
          <a:ext cx="7345080" cy="1584360"/>
        </p:xfrm>
        <a:graphic>
          <a:graphicData uri="http://schemas.openxmlformats.org/drawingml/2006/table">
            <a:tbl>
              <a:tblPr/>
              <a:tblGrid>
                <a:gridCol w="1468800"/>
                <a:gridCol w="1469160"/>
                <a:gridCol w="1469160"/>
                <a:gridCol w="1469160"/>
                <a:gridCol w="146880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6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公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6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开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6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放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6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不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6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许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900000" y="2494080"/>
            <a:ext cx="1440000" cy="6476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ɡō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2492280"/>
            <a:ext cx="1511280" cy="6476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2492280"/>
            <a:ext cx="1441440" cy="6476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2494080"/>
            <a:ext cx="1511280" cy="6476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2492280"/>
            <a:ext cx="1440000" cy="6476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827600"/>
            <a:ext cx="158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公园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4797360"/>
            <a:ext cx="17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开门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360" y="479736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开放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4797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不好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4797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许多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56720" cy="5800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47461" b="55906"/>
          <a:stretch/>
        </p:blipFill>
        <p:spPr>
          <a:xfrm>
            <a:off x="0" y="836640"/>
            <a:ext cx="2627280" cy="2016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195640" y="790560"/>
            <a:ext cx="165564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我会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2997360"/>
          <a:ext cx="4896000" cy="1554120"/>
        </p:xfrm>
        <a:graphic>
          <a:graphicData uri="http://schemas.openxmlformats.org/drawingml/2006/table">
            <a:tbl>
              <a:tblPr/>
              <a:tblGrid>
                <a:gridCol w="1632240"/>
                <a:gridCol w="1631880"/>
                <a:gridCol w="16318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6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点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6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也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6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听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906560" y="2349360"/>
            <a:ext cx="1657440" cy="648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2349360"/>
            <a:ext cx="1656000" cy="648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2349360"/>
            <a:ext cx="1655640" cy="648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465300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雨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4653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也许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4653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听话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1150920" cy="136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763640" y="981000"/>
            <a:ext cx="201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学课文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708280"/>
            <a:ext cx="576360" cy="431640"/>
          </a:xfrm>
          <a:custGeom>
            <a:avLst/>
            <a:gdLst>
              <a:gd name="textAreaLeft" fmla="*/ 131400 w 576360"/>
              <a:gd name="textAreaRight" fmla="*/ 444960 w 57636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6496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99ff"/>
                </a:solidFill>
                <a:latin typeface="黑体"/>
                <a:ea typeface="黑体"/>
              </a:rPr>
              <a:t>公园里的菊花美丽极了。它们都喜欢穿着什么衣服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微软用户</cp:lastModifiedBy>
  <dcterms:modified xsi:type="dcterms:W3CDTF">2015-07-01T14:40:07Z</dcterms:modified>
  <cp:revision>180</cp:revision>
  <dc:subject/>
  <dc:title>幻灯片 1</dc:title>
</cp:coreProperties>
</file>