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6253-676C-45C1-9718-8A100390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DF2-A114-4A24-8EBF-D7B1660D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14B-9026-4A63-8F64-464D0F7E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710-D381-476B-9AB3-4715CFF7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4D85-AAD8-4F47-B66B-DB92ED0C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FADA-C477-44EF-8572-724B381D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0A26-B5E4-4F07-9F64-CF2ADFDE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B2D4-0396-4D16-AA0F-92200D75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80D2-0062-4A37-BCC4-F20B090E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0B6C-821F-49DE-A836-B4051D1A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2C5F-DB71-40CC-B8F7-1DA358CF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F80D-680B-415F-AF78-1D9628C8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6B55-05DF-4AFF-B7F0-303F6BD3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3450-1C99-4193-BC98-A59862D7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17EF-56C9-4A6F-8A10-0495BD8F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A3D5-6673-48CB-AF29-2C6F42D7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B5C9-6181-490B-AAE9-B76567F2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7E8-BF6D-4582-9FB9-47C13F92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3561-4EB0-4EB4-BA55-635ACF52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BE5-5671-464F-9E1E-EEDB3120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A0AD-E329-4C78-BEF7-58F70390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4C4-3079-4BD0-AD69-B0676C3C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3311-EA6F-4514-8980-DD2ADEC9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B22-6B59-45EC-949E-23EFBA55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8B4C-FBB3-4B52-BB49-4D27EDB09CA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1A3E-AA9A-4C46-AECB-27A298F06C9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eijing.qianlong.com/3825/2006/04/17/105@3122733.htm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moobol.com/o/liveSlides.do?liveId=10100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798560" y="1052640"/>
            <a:ext cx="734544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静  诗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英  首  思  举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意  照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601920" y="1125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a3014"/>
                </a:solidFill>
                <a:latin typeface="Arial"/>
              </a:rPr>
              <a:t>左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1920" y="2637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a3014"/>
                </a:solidFill>
                <a:latin typeface="Arial"/>
              </a:rPr>
              <a:t>上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8880" y="4292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a3014"/>
                </a:solidFill>
                <a:latin typeface="Arial"/>
              </a:rPr>
              <a:t>半包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332000" y="1699920"/>
            <a:ext cx="73454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诗   静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971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、英英学古诗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250920" y="620640"/>
          <a:ext cx="842472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20640"/>
                    <a:ext cx="84247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050920" y="2293920"/>
          <a:ext cx="6553440" cy="358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2293920"/>
                    <a:ext cx="6553440" cy="35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1835280" y="549360"/>
          <a:ext cx="5759280" cy="20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549360"/>
                    <a:ext cx="5759280" cy="20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2268000" y="2924280"/>
            <a:ext cx="4728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秋天的夜晚，明亮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月光照在床前，地上就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铺了一层白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92320" y="2936880"/>
            <a:ext cx="88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79360" y="3645000"/>
            <a:ext cx="771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月光照在床前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367344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Arial"/>
              </a:rPr>
              <a:t>                          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</a:rPr>
              <a:t>地上就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</a:rPr>
              <a:t>铺了一层白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2000" y="289260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明亮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908000" y="404640"/>
          <a:ext cx="554544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04640"/>
                    <a:ext cx="554544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2065320" y="2637000"/>
            <a:ext cx="45208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远离家乡的人望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那天上的月亮，不由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思念起故乡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84320" y="2627280"/>
            <a:ext cx="7345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远离家乡的人望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那天上的月亮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23920" y="3747960"/>
            <a:ext cx="70819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Arial"/>
              </a:rPr>
              <a:t>                         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</a:rPr>
              <a:t>不由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Arial"/>
              </a:rPr>
              <a:t>思念起故乡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076720" y="224028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举头望明月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头思故乡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280836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549360"/>
            <a:ext cx="37432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静夜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d01ad"/>
                </a:solidFill>
                <a:latin typeface="Comic Sans MS"/>
                <a:ea typeface="楷体_GB2312"/>
              </a:rPr>
              <a:t>床前明月光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d01ad"/>
                </a:solidFill>
                <a:latin typeface="Comic Sans MS"/>
                <a:ea typeface="楷体_GB2312"/>
              </a:rPr>
              <a:t>疑是地上霜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举头望明月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低头思故乡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3708360" y="13413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d01ad"/>
                </a:solidFill>
                <a:latin typeface="Arial"/>
                <a:ea typeface="楷体_GB2312"/>
              </a:rPr>
              <a:t>秋天的夜晚，明亮的月光照在床前，地上就像铺了一层白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51280" y="321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80000" y="3068640"/>
            <a:ext cx="42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a1"/>
                </a:solidFill>
                <a:latin typeface="Arial"/>
                <a:ea typeface="楷体_GB2312"/>
              </a:rPr>
              <a:t>远离家乡的人望着那天上的月亮，不由得思念起故乡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22640" y="189000"/>
            <a:ext cx="3766680" cy="37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村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（清）高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草长莺飞二月天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拂堤杨柳醉春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儿童散学归来早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忙趁东风放纸鸢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292360" y="2349000"/>
            <a:ext cx="35226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6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泊船瓜洲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安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京口瓜洲一水间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钟山只隔数重山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风又绿江南岸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月何时照我还？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549720"/>
            <a:ext cx="431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月九日忆山东兄弟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王维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独在异乡为异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每逢佳节倍思亲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遥知兄弟登高处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遍插茱萸少一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971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、英英学古诗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1916280"/>
            <a:ext cx="2663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da3014"/>
                </a:solidFill>
                <a:latin typeface="Comic Sans MS"/>
              </a:rPr>
              <a:t>英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55640" y="3789360"/>
            <a:ext cx="763272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给你听       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疑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是地上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思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念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听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了    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唐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836640"/>
            <a:ext cx="8785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一</a:t>
            </a:r>
            <a:r>
              <a:rPr b="1" lang="zh-CN" sz="4800" spc="-1" strike="noStrike">
                <a:solidFill>
                  <a:srgbClr val="da3014"/>
                </a:solidFill>
                <a:latin typeface="Comic Sans MS"/>
              </a:rPr>
              <a:t>首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古</a:t>
            </a:r>
            <a:r>
              <a:rPr b="1" lang="zh-CN" sz="4800" spc="-1" strike="noStrike">
                <a:solidFill>
                  <a:srgbClr val="da3014"/>
                </a:solidFill>
                <a:latin typeface="Comic Sans MS"/>
              </a:rPr>
              <a:t>诗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        一</a:t>
            </a:r>
            <a:r>
              <a:rPr b="1" lang="zh-CN" sz="4800" spc="-1" strike="noStrike">
                <a:solidFill>
                  <a:srgbClr val="da3014"/>
                </a:solidFill>
                <a:latin typeface="Comic Sans MS"/>
              </a:rPr>
              <a:t>层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白霜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李白               </a:t>
            </a:r>
            <a:r>
              <a:rPr b="1" lang="zh-CN" sz="4800" spc="-1" strike="noStrike">
                <a:solidFill>
                  <a:srgbClr val="da3014"/>
                </a:solidFill>
                <a:latin typeface="Comic Sans MS"/>
              </a:rPr>
              <a:t>静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夜</a:t>
            </a:r>
            <a:r>
              <a:rPr b="1" lang="zh-CN" sz="4800" spc="-1" strike="noStrike">
                <a:solidFill>
                  <a:srgbClr val="da3014"/>
                </a:solidFill>
                <a:latin typeface="Comic Sans MS"/>
              </a:rPr>
              <a:t>思</a:t>
            </a:r>
            <a:br>
              <a:rPr sz="4800"/>
            </a:br>
            <a:r>
              <a:rPr b="1" lang="zh-CN" sz="4800" spc="-1" strike="noStrike">
                <a:solidFill>
                  <a:srgbClr val="da3014"/>
                </a:solidFill>
                <a:latin typeface="Comic Sans MS"/>
              </a:rPr>
              <a:t>照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在               </a:t>
            </a:r>
            <a:r>
              <a:rPr b="1" lang="zh-CN" sz="4800" spc="-1" strike="noStrike">
                <a:solidFill>
                  <a:srgbClr val="da3014"/>
                </a:solidFill>
                <a:latin typeface="Comic Sans MS"/>
              </a:rPr>
              <a:t>意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549360"/>
            <a:ext cx="7559640" cy="934920"/>
          </a:xfrm>
          <a:prstGeom prst="rect">
            <a:avLst/>
          </a:prstGeom>
          <a:noFill/>
          <a:ln w="28440">
            <a:solidFill>
              <a:srgbClr val="a1d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5589720"/>
            <a:ext cx="289080" cy="287280"/>
          </a:xfrm>
          <a:prstGeom prst="su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90040" y="2781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8000" y="2349360"/>
            <a:ext cx="58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91280" y="2421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50320" y="3429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ē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2349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背书）（背诵）（背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3429000"/>
            <a:ext cx="57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背包）（背负）（背孩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5589720"/>
            <a:ext cx="289080" cy="287280"/>
          </a:xfrm>
          <a:prstGeom prst="su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41600" y="105264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首古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6680" y="213372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首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54960" y="2133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586320" y="33336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层白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34840" y="1484280"/>
            <a:ext cx="37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层（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61760" y="3716280"/>
            <a:ext cx="37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层（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34840" y="2708280"/>
            <a:ext cx="37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层（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34840" y="4653000"/>
            <a:ext cx="37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层（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39680" y="1557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灰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33920" y="27082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花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37162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奶油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413000"/>
            <a:ext cx="1441440" cy="1058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189000"/>
            <a:ext cx="144648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5867280" y="2565360"/>
            <a:ext cx="1467000" cy="1108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5867280" y="3789360"/>
            <a:ext cx="144144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316320" y="0"/>
            <a:ext cx="582768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54003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95280" y="2736720"/>
            <a:ext cx="750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华文楷体"/>
                <a:ea typeface="华文楷体"/>
              </a:rPr>
              <a:t>英英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这首诗是说，秋天的夜晚，明亮的月光照在床前，地上就像铺了一 </a:t>
            </a:r>
            <a:r>
              <a:rPr b="0" lang="zh-CN" sz="4800" spc="-1" strike="noStrike">
                <a:solidFill>
                  <a:srgbClr val="da3014"/>
                </a:solidFill>
                <a:latin typeface="华文楷体"/>
                <a:ea typeface="华文楷体"/>
              </a:rPr>
              <a:t>层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白霜。远离家乡的人</a:t>
            </a:r>
            <a:r>
              <a:rPr b="1" lang="zh-CN" sz="4800" spc="-1" strike="noStrike">
                <a:solidFill>
                  <a:srgbClr val="da3014"/>
                </a:solidFill>
                <a:latin typeface="华文楷体"/>
                <a:ea typeface="华文楷体"/>
              </a:rPr>
              <a:t>/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望着那天上的月亮，不由得思念起故乡来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05:14:42Z</dcterms:created>
  <dc:creator>Mr.sun</dc:creator>
  <dc:description/>
  <dc:language>en-US</dc:language>
  <cp:lastModifiedBy>微软用户</cp:lastModifiedBy>
  <dcterms:modified xsi:type="dcterms:W3CDTF">2012-09-26T23:41:56Z</dcterms:modified>
  <cp:revision>52</cp:revision>
  <dc:subject/>
  <dc:title>  </dc:title>
</cp:coreProperties>
</file>