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801-623D-4BFD-B4FC-AA12785C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43B-BE75-4BC0-8BC4-1B271C7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776-8AA2-4504-AF12-08F326F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239-09F2-4591-8B09-001871C8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437-7A7D-42A2-B09F-C0641471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B20-E9F3-42F3-90A4-81134AD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C37-A403-4ED5-8392-F04E7A7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108-B95E-4941-AAC2-DF9D2B57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D4B-773F-4976-AE7E-C7317CE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C1-4FF0-4596-BBDB-62CB7C7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B88-D25B-4E96-8AE8-9C37662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F48-F6CA-4F73-A88B-DC66E09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2D0-93EC-4259-8D16-BAAB950CF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  <a:ea typeface="隶书"/>
              </a:rPr>
              <a:t>  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隶书"/>
              </a:rPr>
              <a:t>再 别 康 桥</a:t>
            </a:r>
            <a:br>
              <a:rPr sz="7200"/>
            </a:br>
            <a:r>
              <a:rPr b="0" lang="en-US" sz="4800" spc="-1" strike="noStrike">
                <a:solidFill>
                  <a:srgbClr val="3821c5"/>
                </a:solidFill>
                <a:latin typeface="Arial"/>
                <a:ea typeface="华文行楷"/>
              </a:rPr>
              <a:t>                             </a:t>
            </a:r>
            <a:br>
              <a:rPr sz="4800"/>
            </a:br>
            <a:r>
              <a:rPr b="0" lang="en-US" sz="4800" spc="-1" strike="noStrike">
                <a:solidFill>
                  <a:srgbClr val="3821c5"/>
                </a:solidFill>
                <a:latin typeface="Arial"/>
                <a:ea typeface="华文行楷"/>
              </a:rPr>
              <a:t>                        </a:t>
            </a:r>
            <a:r>
              <a:rPr b="1" lang="zh-CN" sz="4000" spc="-1" strike="noStrike">
                <a:solidFill>
                  <a:srgbClr val="33cc1a"/>
                </a:solidFill>
                <a:latin typeface="Arial"/>
                <a:ea typeface="隶书"/>
              </a:rPr>
              <a:t>徐志摩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821c5"/>
                </a:solidFill>
                <a:latin typeface="Arial"/>
                <a:ea typeface="隶书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67680" y="-406764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8600" y="22860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品读康桥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1828800"/>
            <a:ext cx="73915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把自己欣赏的诗句朗读给同学和老师听，并说说喜欢的理由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3520" y="1600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本诗表达了诗人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23623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这首诗运用优美抒情的语言，以自己回到母校康桥，在河中泛舟的所见、所思、所感，表达了对母校热爱、依依惜别的深情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思考康桥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85800" y="31240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河畔金柳倒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5800" y="4038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青草水底招摇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9480" y="49528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榆阴浮藻清潭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724280" y="144792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撑篙漫溯寻梦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16360" y="25909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黄昏夏虫沉默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716360" y="3733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招手惜别云彩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838080" y="685800"/>
            <a:ext cx="2810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诗中的画境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85800" y="2057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挥手作别云彩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5410080"/>
            <a:ext cx="2819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挥手作别云彩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19320" y="4114800"/>
            <a:ext cx="262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河畔金柳倒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2819520"/>
            <a:ext cx="33098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青草水底招摇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76360" y="1523880"/>
            <a:ext cx="38131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康桥的永久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榆阴浮藻清潭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581280" y="457200"/>
            <a:ext cx="295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撑篙漫溯寻梦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486400" y="2971800"/>
            <a:ext cx="3200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黄昏夏虫沉默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943600" y="5105520"/>
            <a:ext cx="2590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招手惜别云彩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-2143800" y="2820240"/>
            <a:ext cx="55512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意境，情趣与意象的融合</a:t>
            </a:r>
            <a:endParaRPr b="0" lang="en-US" sz="4000" spc="-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1332000" y="692280"/>
            <a:ext cx="6481800" cy="541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838080"/>
            <a:ext cx="38862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建筑美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音乐美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绘画美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20040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四行一节，错落排列，字数相近，回环呼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2408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节奏轻快，韵律柔和，抑扬顿挫，朗朗上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48120" y="4648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云彩、金柳、青荇、水草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星辉、夏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堂小结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通过对两首诗歌的学习，我们学会了从诗歌情感和意象着手体味诗歌，为以后的学习打下一个坚实的基础，下面请同学们用这种方法鉴赏以下两首，并体会与本诗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走出康桥</a:t>
            </a:r>
            <a:r>
              <a:rPr b="0" lang="en-US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—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志摩的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7200" y="1109520"/>
            <a:ext cx="86868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沙扬娜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赠日本女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最是那一低头的温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像一朵水莲花不胜凉风的娇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道一声珍重，道一声珍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那一声珍重里有蜜甜的忧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沙扬娜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Arial"/>
                <a:ea typeface="隶书"/>
              </a:rPr>
              <a:t>走出徐志摩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乡愁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余光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是一枚小小的邮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这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亲在那头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大后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是一张窄窄的船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这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娘在那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来啊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是一方矮矮的坟墓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外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亲在里头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现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是一湾浅浅的海峡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这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陆在那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5"/>
          <p:cNvPicPr/>
          <p:nvPr/>
        </p:nvPicPr>
        <p:blipFill>
          <a:blip r:embed="rId1"/>
          <a:stretch/>
        </p:blipFill>
        <p:spPr>
          <a:xfrm>
            <a:off x="179280" y="0"/>
            <a:ext cx="2000520" cy="27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无标题-5"/>
          <p:cNvPicPr/>
          <p:nvPr/>
        </p:nvPicPr>
        <p:blipFill>
          <a:blip r:embed="rId2"/>
          <a:stretch/>
        </p:blipFill>
        <p:spPr>
          <a:xfrm>
            <a:off x="108000" y="3645000"/>
            <a:ext cx="2692440" cy="292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无标题-2"/>
          <p:cNvPicPr/>
          <p:nvPr/>
        </p:nvPicPr>
        <p:blipFill>
          <a:blip r:embed="rId3"/>
          <a:stretch/>
        </p:blipFill>
        <p:spPr>
          <a:xfrm>
            <a:off x="2700360" y="189000"/>
            <a:ext cx="4643280" cy="3736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308880" y="2286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康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200842184749965"/>
          <p:cNvPicPr/>
          <p:nvPr/>
        </p:nvPicPr>
        <p:blipFill>
          <a:blip r:embed="rId4"/>
          <a:stretch/>
        </p:blipFill>
        <p:spPr>
          <a:xfrm>
            <a:off x="2916360" y="3782880"/>
            <a:ext cx="4398840" cy="3075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5651640" y="1916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剑桥大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徐志摩被誉为诗哲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现代诗人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散文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别名：南湖，云中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浙江省海宁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主张诗歌有建筑美，音乐美，绘画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主要作品有诗集《猛虎集》《志摩的诗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《翡冷翠的一夜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xuzhimo"/>
          <p:cNvPicPr/>
          <p:nvPr/>
        </p:nvPicPr>
        <p:blipFill>
          <a:blip r:embed="rId1"/>
          <a:stretch/>
        </p:blipFill>
        <p:spPr>
          <a:xfrm>
            <a:off x="1177920" y="1600200"/>
            <a:ext cx="2590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193680"/>
            <a:ext cx="8534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徐志摩生于富商家庭，中学与郁达夫同班，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16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考入北京大学，并于同年应父命与年仅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6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岁的张幼仪成婚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18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赴美国留学，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0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赴英国留学，就读于剑桥大学，攻读博士学位。其间徐志摩于婚外爱恋林徽英，并于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2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月与元配夫人张幼仪离婚，同年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离别剑桥起程回国。历任北京大学，清华大学教授。经常发表诗作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3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与胡适等成立新月社，为主要成员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4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印度大诗人泰戈尔访华，徐志摩任翻译，后随泰戈尔漫游欧洲。同年认识有夫之妇陆小曼并相恋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6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月与陆小曼结婚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27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在上海光华大学任教授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30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秋，应胡适之邀，到北京大学任教授。在此期间，徐志摩为了生计，往返于北平和上海之间疲于奔命，但仍旧难以满足早已移情别恋的陆小曼。只是碍于旧情与面子，不好再次离异。他陷入深深的痛苦中。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31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月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19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日，从南京乘飞机去北平，途中飞机失事，不幸遇难，死于泰山脚下，时年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35</a:t>
            </a:r>
            <a:r>
              <a:rPr b="1" lang="zh-CN" sz="2600" spc="-1" strike="noStrike">
                <a:solidFill>
                  <a:srgbClr val="2300d5"/>
                </a:solidFill>
                <a:latin typeface="Times New Roman"/>
              </a:rPr>
              <a:t>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kan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68360" y="400536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康桥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cambridge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，即剑桥，邻近康河，以剑桥大学闻名于世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诗人曾在剑桥大学学习生活过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.1928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年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诗人第三次漫游欧洲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在一个明媚的夏日午后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诗人独自悄悄来到康河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徜徉于昔日的校园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在那一木一花中寻觅当年的欢声笑语和那洒落其间的青春年华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康河的水开启了诗人的性灵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唤醒了他的诗情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于是便吟成了这首传世之作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《</a:t>
            </a:r>
            <a:r>
              <a:rPr b="0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再别康桥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》</a:t>
            </a:r>
            <a:r>
              <a:rPr b="0" lang="en-US" sz="2400" spc="-1" strike="noStrike">
                <a:solidFill>
                  <a:srgbClr val="ff0066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0880" y="2286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了解康桥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0"/>
            <a:ext cx="403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走进康桥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1182600"/>
            <a:ext cx="601956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注意诗歌的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节奏、重音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停顿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朗读时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语调柔和、舒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欣赏诗歌优美的语言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感受诗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对母校的深情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隶书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朗读时力求做到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隶书"/>
              </a:rPr>
              <a:t>抑扬顿挫身临其境、声情并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（四）体会意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52280" y="19810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52280" y="4191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52280" y="5181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524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文在意象的选择上独具特色，请同学们带感情朗读课文，找出诗歌中出现的意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2013480" y="4267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意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3124080" y="3276720"/>
            <a:ext cx="609840" cy="2666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4055400" y="3017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5377680" y="30481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云彩  星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3905280" y="41911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地上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5377680" y="41911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金柳  康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828960" y="54100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水中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377680" y="541008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青荇  水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导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9810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4191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52280" y="5181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267080" y="11430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云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2133720" y="2286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诗人在告别康桥时，避开送行的人们，而选择这些独特的意象云彩的自然景物，营造出了一种清新感，虽然难分难舍但也使离别也显得自热。云彩本是漂浮不定的，一会远在天边一会又尽在眼前，给人一种飘逸洒脱之感这又与徐志摩的诗歌风格很相符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导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52280" y="19810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280" y="4191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52280" y="5181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67080" y="11430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金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133720" y="2286000"/>
            <a:ext cx="6400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河畔的金柳比喻成夕阳中的新娘，运用了拟人的修辞手法，生动活泼形象的描绘出了夕阳下柳枝的美好姿态，浸透出了诗人对康桥的欢喜和眷恋之情。新娘是少女一生中最美好的时刻，突现了康桥在作者心中的地位。并且“柳”与“留” 有一种谐音关系，表达出了作者对康桥的依依不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语文大师 xiexingcun.com</dc:creator>
  <dc:description>语文大师 xiexingcun.com</dc:description>
  <dc:language>en-US</dc:language>
  <cp:lastModifiedBy>USER</cp:lastModifiedBy>
  <cp:lastPrinted>1899-12-30T00:00:00Z</cp:lastPrinted>
  <dcterms:modified xsi:type="dcterms:W3CDTF">2014-09-19T23:32:06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