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hammer.wav" ContentType="audio/x-wav"/>
  <Override PartName="/ppt/media/image13.png" ContentType="image/png"/>
  <Override PartName="/ppt/media/chimes.wav" ContentType="audio/x-wav"/>
  <Override PartName="/ppt/media/image29.png" ContentType="image/png"/>
  <Override PartName="/ppt/media/image14.wmf" ContentType="image/x-wmf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7.png" ContentType="image/png"/>
  <Override PartName="/ppt/media/image30.jpeg" ContentType="image/jpeg"/>
  <Override PartName="/ppt/media/image15.png" ContentType="image/png"/>
  <Override PartName="/ppt/media/image18.png" ContentType="image/png"/>
  <Override PartName="/ppt/media/image6.jpeg" ContentType="image/jpeg"/>
  <Override PartName="/ppt/media/type.wav" ContentType="audio/x-wav"/>
  <Override PartName="/ppt/media/image4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2.png" ContentType="image/pn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F9A8-AF09-4EA5-B73E-4F66289C73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sogou.com/sogoupedia?query=&#28872;&#22763;&#38517;&#22253;" TargetMode="External"/><Relationship Id="rId2" Type="http://schemas.openxmlformats.org/officeDocument/2006/relationships/slide" Target="../slides/slide20.xml"/><Relationship Id="rId3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B6F0-A2FF-4B3A-8FAC-9B0D88F14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曾为孔繁森同志安装过电话、现阿里地区电信公司经理张小虎在阿里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宋体"/>
                <a:hlinkClick r:id="rId1"/>
              </a:rPr>
              <a:t>烈士陵园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为孔繁森墓献哈达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521-DEE4-4DCF-9E5F-4096FEEF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313-0B2D-4E1E-B5F9-FBA4D212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AA7-50B8-4CA1-A4B6-E10D57FF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6C1-0E14-4CEE-9E54-CF26CA52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7A99-C880-4083-85A6-5DA1357D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7BBD-E1EC-4568-96B5-47233123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50D8-BD82-45DD-9224-E07EC6D9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C2A7-2ACC-4E7F-9109-F7690783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682B-976A-4EC7-BF59-B89FCF21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670D-8151-48B1-B906-1F687C93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7B87-A2A7-4A65-8BC0-0CC37D93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ABF-8EF7-4DC8-9CDB-67621FC8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2929-0604-4DF2-8C47-AA9DDF55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5B21-4CD6-4D7E-8D77-CADCA8B3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AD86-8A3E-4A70-B762-F7FBE1B9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045A-6DA2-4780-BE98-E9E23B1B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EDD4-9ABF-4059-AEDE-7B750D17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856-A696-4CBF-8922-3C7C334E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BEA-F3F5-47BB-87D3-42645F0B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2C8-9F72-477C-819C-CA57957C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BB4-131B-4F67-90EB-34CF6D30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A09-9C78-4826-AE0D-75AAF782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B02-4F77-484B-8F82-2C4EC2B2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E6F-876D-47E2-9E80-B625E656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5F8D-6074-484E-8BE2-EFF85F52366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5170-8166-4712-A970-38A4F9C638B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oso.com/q?w=%BF&#1527;%B1&#621;&amp;sc=img&amp;ic=one&amp;ity=&amp;id=2&amp;total=220" TargetMode="External"/><Relationship Id="rId2" Type="http://schemas.openxmlformats.org/officeDocument/2006/relationships/hyperlink" Target="http://www.soso.com/q?w=%BF&#1527;%B1&#621;&amp;sc=img&amp;ic=one&amp;ity=&amp;id=2&amp;total=220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3071880" y="90360"/>
            <a:ext cx="5454720" cy="1481400"/>
          </a:xfrm>
          <a:prstGeom prst="rect">
            <a:avLst/>
          </a:prstGeom>
          <a:ln w="0">
            <a:noFill/>
          </a:ln>
        </p:spPr>
      </p:pic>
      <p:pic>
        <p:nvPicPr>
          <p:cNvPr id="96" name="墨迹 1" descr=""/>
          <p:cNvPicPr/>
          <p:nvPr/>
        </p:nvPicPr>
        <p:blipFill>
          <a:blip r:embed="rId4"/>
          <a:stretch/>
        </p:blipFill>
        <p:spPr>
          <a:xfrm>
            <a:off x="2857680" y="4613400"/>
            <a:ext cx="628632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1919160" y="1292400"/>
            <a:ext cx="568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199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年，拉萨市附近发生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地震。曲尼、曲印和贡桑三个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族孩子失去了亲人，成了孤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孔繁森就把他们接到自己的身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楷体_GB2312"/>
              </a:rPr>
              <a:t>像对待亲生儿女一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抚养他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2705040" y="153360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孔繁森抚养他们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Arial"/>
                <a:ea typeface="楷体_GB2312"/>
              </a:rPr>
              <a:t>孔繁森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像对待亲生儿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一样</a:t>
            </a:r>
            <a:r>
              <a:rPr b="1" lang="zh-CN" sz="5400" spc="-1" strike="noStrike">
                <a:solidFill>
                  <a:srgbClr val="008000"/>
                </a:solidFill>
                <a:latin typeface="Arial"/>
                <a:ea typeface="楷体_GB2312"/>
              </a:rPr>
              <a:t>抚养他们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http://www.zzi.cc/sck/wevae/Rose/Rose_7/lass_rose_wall_1b.gif"/>
          <p:cNvPicPr/>
          <p:nvPr/>
        </p:nvPicPr>
        <p:blipFill>
          <a:blip r:embed="rId1"/>
          <a:stretch/>
        </p:blipFill>
        <p:spPr>
          <a:xfrm>
            <a:off x="6858000" y="0"/>
            <a:ext cx="99072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www.zzi.cc/sck/wevae/Rose/Rose_7/lass_rose_wall_1b.gif"/>
          <p:cNvPicPr/>
          <p:nvPr/>
        </p:nvPicPr>
        <p:blipFill>
          <a:blip r:embed="rId2"/>
          <a:stretch/>
        </p:blipFill>
        <p:spPr>
          <a:xfrm>
            <a:off x="7848720" y="0"/>
            <a:ext cx="99036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://www.zzi.cc/sck/wevae/Rose/Rose_7/lass_rose_wall_1b.gif"/>
          <p:cNvPicPr/>
          <p:nvPr/>
        </p:nvPicPr>
        <p:blipFill>
          <a:blip r:embed="rId3"/>
          <a:stretch/>
        </p:blipFill>
        <p:spPr>
          <a:xfrm>
            <a:off x="5867280" y="0"/>
            <a:ext cx="99072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http://www.zzi.cc/sck/wevae/Rose/Rose_7/lass_rose_wall_1b.gif"/>
          <p:cNvPicPr/>
          <p:nvPr/>
        </p:nvPicPr>
        <p:blipFill>
          <a:blip r:embed="rId4"/>
          <a:stretch/>
        </p:blipFill>
        <p:spPr>
          <a:xfrm>
            <a:off x="4876920" y="0"/>
            <a:ext cx="99036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http://www.zzi.cc/sck/wevae/Rose/Rose_7/lass_rose_wall_1b.gif"/>
          <p:cNvPicPr/>
          <p:nvPr/>
        </p:nvPicPr>
        <p:blipFill>
          <a:blip r:embed="rId5"/>
          <a:stretch/>
        </p:blipFill>
        <p:spPr>
          <a:xfrm>
            <a:off x="3886200" y="0"/>
            <a:ext cx="99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http://www.zzi.cc/sck/wevae/Rose/Rose_7/lass_rose_wall_1b.gif"/>
          <p:cNvPicPr/>
          <p:nvPr/>
        </p:nvPicPr>
        <p:blipFill>
          <a:blip r:embed="rId6"/>
          <a:stretch/>
        </p:blipFill>
        <p:spPr>
          <a:xfrm>
            <a:off x="2895480" y="0"/>
            <a:ext cx="99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http://www.zzi.cc/sck/wevae/Rose/Rose_7/lass_rose_wall_1b.gif"/>
          <p:cNvPicPr/>
          <p:nvPr/>
        </p:nvPicPr>
        <p:blipFill>
          <a:blip r:embed="rId7"/>
          <a:stretch/>
        </p:blipFill>
        <p:spPr>
          <a:xfrm>
            <a:off x="1905120" y="0"/>
            <a:ext cx="99036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http://www.zzi.cc/sck/wevae/Rose/Rose_7/lass_rose_wall_1b.gif"/>
          <p:cNvPicPr/>
          <p:nvPr/>
        </p:nvPicPr>
        <p:blipFill>
          <a:blip r:embed="rId8"/>
          <a:stretch/>
        </p:blipFill>
        <p:spPr>
          <a:xfrm>
            <a:off x="990720" y="0"/>
            <a:ext cx="99036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http://www.zzi.cc/sck/wevae/Rose/Rose_7/lass_rose_wall_1b.gif"/>
          <p:cNvPicPr/>
          <p:nvPr/>
        </p:nvPicPr>
        <p:blipFill>
          <a:blip r:embed="rId9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5"/>
          <p:cNvSpPr/>
          <p:nvPr/>
        </p:nvSpPr>
        <p:spPr>
          <a:xfrm>
            <a:off x="228600" y="2057400"/>
            <a:ext cx="84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尼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发高烧了，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孔繁森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印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衣服破了，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孔繁森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贡桑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摔倒了，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孔繁森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http://www.zzi.cc/sck/wevae/Rose/Rose_7/lass_rose_line_2.gif"/>
          <p:cNvPicPr/>
          <p:nvPr/>
        </p:nvPicPr>
        <p:blipFill>
          <a:blip r:embed="rId10"/>
          <a:stretch/>
        </p:blipFill>
        <p:spPr>
          <a:xfrm>
            <a:off x="380880" y="1523880"/>
            <a:ext cx="4800600" cy="457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7"/>
          <p:cNvSpPr/>
          <p:nvPr/>
        </p:nvSpPr>
        <p:spPr>
          <a:xfrm>
            <a:off x="533520" y="7621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华文新魏"/>
              </a:rPr>
              <a:t>你会说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IMG_1492"/>
          <p:cNvPicPr/>
          <p:nvPr/>
        </p:nvPicPr>
        <p:blipFill>
          <a:blip r:embed="rId2"/>
          <a:srcRect l="-1087" t="0" r="0" b="0"/>
          <a:stretch/>
        </p:blipFill>
        <p:spPr>
          <a:xfrm>
            <a:off x="2016000" y="163440"/>
            <a:ext cx="4788000" cy="3551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3376440" y="3892680"/>
            <a:ext cx="2443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天夜里，孔繁森悄悄地来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医院，请求献血。医生见他年纪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了，身体又不好，没有同意。经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繁森再三恳求，医生才勉强答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IMG_1492"/>
          <p:cNvPicPr/>
          <p:nvPr/>
        </p:nvPicPr>
        <p:blipFill>
          <a:blip r:embed="rId2"/>
          <a:srcRect l="-1087" t="0" r="0" b="0"/>
          <a:stretch/>
        </p:blipFill>
        <p:spPr>
          <a:xfrm>
            <a:off x="2016000" y="235080"/>
            <a:ext cx="4788000" cy="35510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1699920" y="3892680"/>
            <a:ext cx="579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天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夜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孔繁森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悄悄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来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医院，请求献血。医生见他年纪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了，身体又不好，没有同意。经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繁森再三恳求，医生才勉强答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IMG_1492"/>
          <p:cNvPicPr/>
          <p:nvPr/>
        </p:nvPicPr>
        <p:blipFill>
          <a:blip r:embed="rId2"/>
          <a:srcRect l="-1087" t="0" r="0" b="0"/>
          <a:stretch/>
        </p:blipFill>
        <p:spPr>
          <a:xfrm>
            <a:off x="2016000" y="235080"/>
            <a:ext cx="4788000" cy="3551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1699920" y="3892680"/>
            <a:ext cx="579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天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夜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孔繁森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悄悄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来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医院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请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献血。医生见他年纪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了，身体又不好，没有同意。经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繁森再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恳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医生才勉强答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IMG_1492"/>
          <p:cNvPicPr/>
          <p:nvPr/>
        </p:nvPicPr>
        <p:blipFill>
          <a:blip r:embed="rId2"/>
          <a:srcRect l="-1087" t="0" r="0" b="0"/>
          <a:stretch/>
        </p:blipFill>
        <p:spPr>
          <a:xfrm>
            <a:off x="2016000" y="306360"/>
            <a:ext cx="4788000" cy="35514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1699920" y="3892680"/>
            <a:ext cx="579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天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夜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孔繁森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悄悄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来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医院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请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献血。医生见他年纪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了，身体又不好，没有同意。经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繁森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再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恳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医生才勉强答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5"/>
          <p:cNvPicPr/>
          <p:nvPr/>
        </p:nvPicPr>
        <p:blipFill>
          <a:blip r:embed="rId1"/>
          <a:stretch/>
        </p:blipFill>
        <p:spPr>
          <a:xfrm>
            <a:off x="-3240" y="-3240"/>
            <a:ext cx="9153720" cy="6867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755640" y="1947960"/>
            <a:ext cx="78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孔繁森用献血所得的营养费，帮助这几个孤儿上学读书。藏胞们知道了这件事，都感动得流下了热泪。他们深情地唱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5"/>
          <p:cNvPicPr/>
          <p:nvPr/>
        </p:nvPicPr>
        <p:blipFill>
          <a:blip r:embed="rId1"/>
          <a:stretch/>
        </p:blipFill>
        <p:spPr>
          <a:xfrm>
            <a:off x="-3240" y="-3240"/>
            <a:ext cx="9153720" cy="6867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755640" y="1519200"/>
            <a:ext cx="78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孔繁森用献血所得的营养费，帮助这几个孤儿上学读书。藏胞们知道了这件事，都感动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流下了热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他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深情地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5"/>
          <p:cNvPicPr/>
          <p:nvPr/>
        </p:nvPicPr>
        <p:blipFill>
          <a:blip r:embed="rId1"/>
          <a:stretch/>
        </p:blipFill>
        <p:spPr>
          <a:xfrm>
            <a:off x="-3240" y="-3240"/>
            <a:ext cx="9153720" cy="6867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55640" y="620640"/>
            <a:ext cx="7812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孔繁森用献血所得的营养费，帮助这几个孤儿上学读书。藏胞们知道了这件事，都感动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流下了热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他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深情地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道：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569760" y="2997360"/>
            <a:ext cx="2100960" cy="338580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太阳和月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有同一个母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她的名字叫光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汉族和藏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有同一个母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她的名字叫中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1627560" y="9619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看到课题，你想说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24000" y="1989000"/>
            <a:ext cx="82864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：孔繁森是干什么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繁森是哪里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要写孔繁森（他有什么品质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6600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41680" y="236232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http://203.192.6.27/news/2005-07/05/xin_430402190843703114562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10"/>
          <p:cNvSpPr txBox="1"/>
          <p:nvPr/>
        </p:nvSpPr>
        <p:spPr>
          <a:xfrm>
            <a:off x="304920" y="472428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孔繁森纪念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70" name="Picture 11" descr="C:\Documents and Settings\Owner\My Documents\My Pictures\{AFDDCDD6-D56E-4308-B5AC-65CE5A3105B9}.BMP"/>
          <p:cNvPicPr/>
          <p:nvPr/>
        </p:nvPicPr>
        <p:blipFill>
          <a:blip r:embed="rId4"/>
          <a:stretch/>
        </p:blipFill>
        <p:spPr>
          <a:xfrm>
            <a:off x="380880" y="228600"/>
            <a:ext cx="22971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2987640" y="0"/>
            <a:ext cx="2824200" cy="766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4"/>
          <a:stretch/>
        </p:blipFill>
        <p:spPr>
          <a:xfrm>
            <a:off x="1187280" y="1628640"/>
            <a:ext cx="561672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Control 6"/>
          <p:cNvGraphicFramePr/>
          <p:nvPr/>
        </p:nvGraphicFramePr>
        <p:xfrm>
          <a:off x="1042920" y="1643040"/>
          <a:ext cx="5761080" cy="46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Control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1643040"/>
                    <a:ext cx="576108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Control 6"/>
          <p:cNvGraphicFramePr/>
          <p:nvPr/>
        </p:nvGraphicFramePr>
        <p:xfrm>
          <a:off x="1042920" y="1643040"/>
          <a:ext cx="5761080" cy="46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7" name="Control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1643040"/>
                    <a:ext cx="576108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Control 6"/>
          <p:cNvGraphicFramePr/>
          <p:nvPr/>
        </p:nvGraphicFramePr>
        <p:xfrm>
          <a:off x="971640" y="1643040"/>
          <a:ext cx="5832360" cy="466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3" name="Control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1643040"/>
                    <a:ext cx="583236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Control 6"/>
          <p:cNvGraphicFramePr/>
          <p:nvPr/>
        </p:nvGraphicFramePr>
        <p:xfrm>
          <a:off x="1042920" y="1643040"/>
          <a:ext cx="5761080" cy="46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Control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1643040"/>
                    <a:ext cx="576108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Control 6"/>
          <p:cNvGraphicFramePr/>
          <p:nvPr/>
        </p:nvGraphicFramePr>
        <p:xfrm>
          <a:off x="1116000" y="1643040"/>
          <a:ext cx="5688000" cy="455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5" name="Control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1643040"/>
                    <a:ext cx="5688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Control 6"/>
          <p:cNvGraphicFramePr/>
          <p:nvPr/>
        </p:nvGraphicFramePr>
        <p:xfrm>
          <a:off x="1042920" y="1643040"/>
          <a:ext cx="5761080" cy="46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Control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1643040"/>
                    <a:ext cx="576108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Control 6"/>
          <p:cNvGraphicFramePr/>
          <p:nvPr/>
        </p:nvGraphicFramePr>
        <p:xfrm>
          <a:off x="1547640" y="1643040"/>
          <a:ext cx="5256360" cy="420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7" name="Control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47640" y="1643040"/>
                    <a:ext cx="525636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4"/>
          <a:stretch/>
        </p:blipFill>
        <p:spPr>
          <a:xfrm>
            <a:off x="900000" y="16430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539640" y="226548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几遍，长句子或难读的句子多读几遍，做到不错读，不漏读，不重读，不打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Control 6"/>
          <p:cNvGraphicFramePr/>
          <p:nvPr/>
        </p:nvGraphicFramePr>
        <p:xfrm>
          <a:off x="1332000" y="1643040"/>
          <a:ext cx="5472000" cy="437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Control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1643040"/>
                    <a:ext cx="547200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179280" y="1341360"/>
            <a:ext cx="79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说下面偏旁的名称，再按笔顺描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4"/>
          <a:stretch/>
        </p:blipFill>
        <p:spPr>
          <a:xfrm>
            <a:off x="318960" y="2643120"/>
            <a:ext cx="839628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357120" y="66996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403280" y="1773360"/>
            <a:ext cx="741672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孔、针孔、姓孔、小孔、孔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优秀、优良、优等、优先、优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秀气、秀丽、秀美、秀色、秀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、市场、市容、市民、市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尼采、尼姑、尼山、尼罗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214200" y="1773360"/>
            <a:ext cx="121464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57120" y="66996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403280" y="1773360"/>
            <a:ext cx="741672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献血、流血、出血、血汗、血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营、营养、营生、经营、营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费用、学费、药费、交费、车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帮助、助手、助跑、助理、助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族、汉字、汉子、汉语、汉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214200" y="1773360"/>
            <a:ext cx="121464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357120" y="66996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较组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5"/>
          <p:cNvSpPr/>
          <p:nvPr/>
        </p:nvSpPr>
        <p:spPr>
          <a:xfrm>
            <a:off x="900000" y="1413000"/>
            <a:ext cx="742968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（      ）   请（      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仅（      ）   清（      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（      ）   子（      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纪（      ）   字（      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7"/>
          <p:cNvSpPr/>
          <p:nvPr/>
        </p:nvSpPr>
        <p:spPr>
          <a:xfrm>
            <a:off x="3571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择多音字的读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5"/>
          <p:cNvSpPr/>
          <p:nvPr/>
        </p:nvSpPr>
        <p:spPr>
          <a:xfrm>
            <a:off x="571680" y="1500120"/>
            <a:ext cx="79293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ān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部（  ）  晒干（   ）  干净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勉强（  ）  强大（   ）  坚强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dá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d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应（  ）  回答（  ）  答案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xuè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xi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献血（  ）  流血（  ）  血本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357120" y="785880"/>
            <a:ext cx="76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出下面词语的近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7"/>
          <p:cNvSpPr/>
          <p:nvPr/>
        </p:nvSpPr>
        <p:spPr>
          <a:xfrm>
            <a:off x="4645080" y="1628640"/>
            <a:ext cx="26416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优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产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看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恳求、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答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3276720" y="1773360"/>
            <a:ext cx="478476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优秀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生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待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纪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意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357120" y="785880"/>
            <a:ext cx="76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出下面词语的反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3073320" y="2463840"/>
            <a:ext cx="4356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去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意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勉强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明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附近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643280" y="2492280"/>
            <a:ext cx="26434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得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反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黑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遥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4449600" y="3200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49600" y="3200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7"/>
          <p:cNvSpPr/>
          <p:nvPr/>
        </p:nvSpPr>
        <p:spPr>
          <a:xfrm>
            <a:off x="357120" y="357120"/>
            <a:ext cx="82155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孔繁森，</a:t>
            </a:r>
            <a:r>
              <a:rPr b="1" lang="en-US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44</a:t>
            </a:r>
            <a:r>
              <a:rPr b="1" lang="zh-CN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出生于山东聊城一个贫苦的农民家庭。他</a:t>
            </a:r>
            <a:r>
              <a:rPr b="1" lang="en-US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8</a:t>
            </a:r>
            <a:r>
              <a:rPr b="1" lang="zh-CN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岁参军，在部队干了</a:t>
            </a:r>
            <a:r>
              <a:rPr b="1" lang="en-US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7</a:t>
            </a:r>
            <a:r>
              <a:rPr b="1" lang="zh-CN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，</a:t>
            </a:r>
            <a:r>
              <a:rPr b="1" lang="en-US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66</a:t>
            </a:r>
            <a:r>
              <a:rPr b="1" lang="zh-CN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加入中国共产党。</a:t>
            </a:r>
            <a:r>
              <a:rPr b="1" lang="en-US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69</a:t>
            </a:r>
            <a:r>
              <a:rPr b="1" lang="zh-CN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复员后，他先当工人，后被提拔为国家干部。</a:t>
            </a:r>
            <a:r>
              <a:rPr b="1" lang="en-US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79</a:t>
            </a:r>
            <a:r>
              <a:rPr b="1" lang="zh-CN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，时任地委宣传部副部长的孔繁森主动报名到西藏工作。</a:t>
            </a:r>
            <a:r>
              <a:rPr b="1" lang="en-US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93</a:t>
            </a:r>
            <a:r>
              <a:rPr b="1" lang="zh-CN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，孔繁森进藏工作期满，但他继续留在西藏，担任了阿里地委书记。</a:t>
            </a:r>
            <a:r>
              <a:rPr b="1" lang="en-US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94</a:t>
            </a:r>
            <a:r>
              <a:rPr b="1" lang="zh-CN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</a:t>
            </a:r>
            <a:r>
              <a:rPr b="1" lang="en-US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1</a:t>
            </a:r>
            <a:r>
              <a:rPr b="1" lang="zh-CN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月</a:t>
            </a:r>
            <a:r>
              <a:rPr b="1" lang="en-US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9</a:t>
            </a:r>
            <a:r>
              <a:rPr b="1" lang="zh-CN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日，完成任务返回阿里途中，不幸发生车祸以身殉职，时年</a:t>
            </a:r>
            <a:r>
              <a:rPr b="1" lang="en-US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50</a:t>
            </a:r>
            <a:r>
              <a:rPr b="1" lang="zh-CN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岁。他牺牲后，江总书记于</a:t>
            </a:r>
            <a:r>
              <a:rPr b="1" lang="en-US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95</a:t>
            </a:r>
            <a:r>
              <a:rPr b="1" lang="zh-CN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</a:t>
            </a:r>
            <a:r>
              <a:rPr b="1" lang="en-US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4</a:t>
            </a:r>
            <a:r>
              <a:rPr b="1" lang="zh-CN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月</a:t>
            </a:r>
            <a:r>
              <a:rPr b="1" lang="en-US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9</a:t>
            </a:r>
            <a:r>
              <a:rPr b="1" lang="zh-CN" sz="3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日亲笔题词“向孔繁森同志学习”。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324000" y="83664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给课文标上自然小节，说说每一节写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5280" y="2482920"/>
            <a:ext cx="835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孔繁森是一位优秀的援藏干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孔繁森像对待亲生儿女一样抚养藏族孤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孔繁森去医院献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孔繁森用献血换来的钱帮助孤儿上学感动了藏族同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250920" y="134784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课文主要写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95280" y="248292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课文主要写孔繁森收养藏族孤儿，并以献血所得的营养费帮助他们上学读书的动人事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17280" cy="5664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179280" y="90792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词语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出不理解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249120" y="1700280"/>
            <a:ext cx="86439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优秀  援藏干部  地震  藏族  年纪  同意   再三恳求  勉强  答应  帮助    热泪   深情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营养费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3000240" y="90360"/>
            <a:ext cx="28242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人生价值的实现 《孔繁森》电影片段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4800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b812f"/>
                </a:solidFill>
                <a:latin typeface="Arial"/>
                <a:ea typeface="楷体_GB2312"/>
              </a:rPr>
              <a:t>        </a:t>
            </a:r>
            <a:r>
              <a:rPr b="1" lang="zh-CN" sz="6600" spc="-1" strike="noStrike">
                <a:solidFill>
                  <a:srgbClr val="3b812f"/>
                </a:solidFill>
                <a:latin typeface="Arial"/>
                <a:ea typeface="楷体_GB2312"/>
              </a:rPr>
              <a:t>孔繁森是一位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优秀</a:t>
            </a:r>
            <a:r>
              <a:rPr b="1" lang="zh-CN" sz="6600" spc="-1" strike="noStrike">
                <a:solidFill>
                  <a:srgbClr val="3b812f"/>
                </a:solidFill>
                <a:latin typeface="Arial"/>
                <a:ea typeface="楷体_GB2312"/>
              </a:rPr>
              <a:t>的援藏干部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3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26" descr="2"/>
          <p:cNvPicPr/>
          <p:nvPr/>
        </p:nvPicPr>
        <p:blipFill>
          <a:blip r:embed="rId1"/>
          <a:stretch/>
        </p:blipFill>
        <p:spPr>
          <a:xfrm>
            <a:off x="304920" y="128520"/>
            <a:ext cx="4343400" cy="284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27" descr="4"/>
          <p:cNvPicPr/>
          <p:nvPr/>
        </p:nvPicPr>
        <p:blipFill>
          <a:blip r:embed="rId2"/>
          <a:stretch/>
        </p:blipFill>
        <p:spPr>
          <a:xfrm>
            <a:off x="4800600" y="152280"/>
            <a:ext cx="3908520" cy="2743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28" descr="3"/>
          <p:cNvPicPr/>
          <p:nvPr/>
        </p:nvPicPr>
        <p:blipFill>
          <a:blip r:embed="rId3"/>
          <a:stretch/>
        </p:blipFill>
        <p:spPr>
          <a:xfrm>
            <a:off x="228600" y="3068640"/>
            <a:ext cx="4343400" cy="2933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29" descr="1"/>
          <p:cNvPicPr/>
          <p:nvPr/>
        </p:nvPicPr>
        <p:blipFill>
          <a:blip r:embed="rId4"/>
          <a:stretch/>
        </p:blipFill>
        <p:spPr>
          <a:xfrm>
            <a:off x="4876920" y="3068640"/>
            <a:ext cx="4038480" cy="2895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30"/>
          <p:cNvSpPr/>
          <p:nvPr/>
        </p:nvSpPr>
        <p:spPr>
          <a:xfrm>
            <a:off x="826920" y="60930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92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，拉萨市附近发生了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地震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06:25:22Z</dcterms:created>
  <dc:creator>语文备课大师 www.xiexingcun.com【全免费】</dc:creator>
  <dc:description>语文备课大师 www.xiexingcun.com【全免费】</dc:description>
  <cp:keywords/>
  <dc:language>en-US</dc:language>
  <cp:lastModifiedBy>薛加林</cp:lastModifiedBy>
  <cp:lastPrinted>1899-12-30T00:00:00Z</cp:lastPrinted>
  <dcterms:modified xsi:type="dcterms:W3CDTF">2015-10-10T19:33:06Z</dcterms:modified>
  <cp:revision>0</cp:revision>
  <dc:subject/>
  <dc:title>语文备课大师 www.xiexingcun.com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