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0FE-A2FD-4036-A21B-895E8ABA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99E-32D0-4F51-81E1-E45D90E5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3F3-DE6B-4222-8554-8FD71E71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A6A-15E8-4F0F-85BA-963D6813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AA0B-40D8-4508-814A-E3462CE7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D3D-97F4-4276-80F1-4CC9D2DF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F695-EEA2-4ECB-9685-3D9C63E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11AB-480A-4089-9D17-7F4DA045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A128-1939-492D-8A76-30B4B7F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168A-D592-43B8-B40A-CE819E84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DA3-ACC7-43B1-9254-79DB8D2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FB7-FE50-4FF5-91EF-DCCD21E0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419E-B5D9-4F1F-A80F-80A08A14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406-F7D6-4E5B-B90B-FE37963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6826-F65B-4B29-AA09-89B99619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2AFF-208A-40BF-8287-72DD22CB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BB82-82BE-42C5-B448-C9BEDFDD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E66-03A9-4CAE-94C5-105163DB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E7C-980C-46C0-8D28-E9D6F0A0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C41-45EC-4DCF-B2CF-56B291D8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A69-C91B-4026-8CC7-770DCFEE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B68-3534-4FFB-8402-8490CEB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F10-AD2C-411C-95E4-78905315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9DF-930C-4275-9590-191D61C6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7A9C-2ACD-4333-8E5D-5634BEADF7E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B62-19E1-4BD7-B312-7C8EFF912D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4368960"/>
            <a:ext cx="4753080" cy="244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540160" cy="571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47640" y="836640"/>
            <a:ext cx="4819680" cy="1308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132000" y="1965240"/>
            <a:ext cx="2698920" cy="391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389640" y="115920"/>
            <a:ext cx="2646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198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常常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注视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4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1989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常常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视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4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989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常常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视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5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5280" y="1773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日子一长，他的双眼渐渐灵活起来。人们都说，梅兰芳的眼睛会说话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5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1773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日子一长，他的双眼渐渐灵活起来。人们都说，梅兰芳的眼睛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说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6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65" name="Picture 1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-11836440"/>
            <a:ext cx="9110520" cy="186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7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000" y="184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经过勤学苦练，梅兰芳终于成为世界闻名的京剧大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75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0000" y="1844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经过勤学苦练，梅兰芳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终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成为世界闻名的京剧大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8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84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6" name=""/>
          <p:cNvGraphicFramePr/>
          <p:nvPr/>
        </p:nvGraphicFramePr>
        <p:xfrm>
          <a:off x="3894120" y="19875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矩形 12"/>
          <p:cNvSpPr/>
          <p:nvPr/>
        </p:nvSpPr>
        <p:spPr>
          <a:xfrm>
            <a:off x="4067280" y="1916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16000" y="19890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矩形 12"/>
          <p:cNvSpPr/>
          <p:nvPr/>
        </p:nvSpPr>
        <p:spPr>
          <a:xfrm>
            <a:off x="1289160" y="19177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95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7" name="FOfficeDoc1"/>
          <p:cNvGraphicFramePr/>
          <p:nvPr/>
        </p:nvGraphicFramePr>
        <p:xfrm>
          <a:off x="4356000" y="1413000"/>
          <a:ext cx="4465800" cy="357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FOfficeDoc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6000" y="1413000"/>
                    <a:ext cx="44658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FOfficeDoc1"/>
          <p:cNvGraphicFramePr/>
          <p:nvPr/>
        </p:nvGraphicFramePr>
        <p:xfrm>
          <a:off x="4356000" y="1430280"/>
          <a:ext cx="4465800" cy="3573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FOfficeDoc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56000" y="1430280"/>
                    <a:ext cx="44658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9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11280" y="1341360"/>
            <a:ext cx="583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推荐阅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凿壁借光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囊萤映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99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05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11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17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23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03280" y="206064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花、兰草、木兰、玉兰、马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名、芳香、芳草、芳容、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张、紧跟、加紧、要紧、吃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、或许、或是、间或、或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、生活、干活、活命、农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4000" y="2133720"/>
            <a:ext cx="9349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3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403280" y="2133720"/>
            <a:ext cx="74167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、学者、读者、作者、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、注视、专注、注定、注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、斜视、电视、视线、环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气、灵活、灵光、机灵、神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324000" y="2133720"/>
            <a:ext cx="934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3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7120" y="785880"/>
            <a:ext cx="14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57120" y="179064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389480" y="177336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57120" y="393372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427640" y="393372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46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210960" y="76500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5840" y="15699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矩形 12"/>
          <p:cNvSpPr/>
          <p:nvPr/>
        </p:nvSpPr>
        <p:spPr>
          <a:xfrm>
            <a:off x="108900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508200" y="155592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矩形 12"/>
          <p:cNvSpPr/>
          <p:nvPr/>
        </p:nvSpPr>
        <p:spPr>
          <a:xfrm>
            <a:off x="3681360" y="1484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172200" y="15699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矩形 12"/>
          <p:cNvSpPr/>
          <p:nvPr/>
        </p:nvSpPr>
        <p:spPr>
          <a:xfrm>
            <a:off x="634536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71640" y="344340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矩形 12"/>
          <p:cNvSpPr/>
          <p:nvPr/>
        </p:nvSpPr>
        <p:spPr>
          <a:xfrm>
            <a:off x="1144440" y="33717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564000" y="34290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矩形 12"/>
          <p:cNvSpPr/>
          <p:nvPr/>
        </p:nvSpPr>
        <p:spPr>
          <a:xfrm>
            <a:off x="3736800" y="33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227640" y="34434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矩形 12"/>
          <p:cNvSpPr/>
          <p:nvPr/>
        </p:nvSpPr>
        <p:spPr>
          <a:xfrm>
            <a:off x="6400800" y="3371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71640" y="524340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矩形 12"/>
          <p:cNvSpPr/>
          <p:nvPr/>
        </p:nvSpPr>
        <p:spPr>
          <a:xfrm>
            <a:off x="1144440" y="51721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564000" y="52293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矩形 12"/>
          <p:cNvSpPr/>
          <p:nvPr/>
        </p:nvSpPr>
        <p:spPr>
          <a:xfrm>
            <a:off x="3736800" y="51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245280" y="52434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矩形 12"/>
          <p:cNvSpPr/>
          <p:nvPr/>
        </p:nvSpPr>
        <p:spPr>
          <a:xfrm>
            <a:off x="6418440" y="51721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69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79280" y="9079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395280" y="1916280"/>
            <a:ext cx="8499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兰芳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没神儿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者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盯  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视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勤学苦练   京剧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05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280" y="76500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小时候去拜师学艺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说他的眼睛没有神儿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唱戏的料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1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8280" y="76500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小时候去拜师学艺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说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的眼睛没有神儿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唱戏的料子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0800" y="35002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不是唱戏的料子”意思就是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4076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没有唱戏的天份，唱不好戏，不可能出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76760"/>
            <a:ext cx="82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说梅兰芳不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因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梅兰芳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师傅说他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18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773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学艺的决心没有动摇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23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1773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学艺的决心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动摇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28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31" name="Picture 1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-11836440"/>
            <a:ext cx="9110520" cy="186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198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常常紧盯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注视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3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6:25:22Z</dcterms:created>
  <dc:creator>语文备课大师 www.xiexingcun.com【全免费】</dc:creator>
  <dc:description>语文备课大师 www.xiexingcun.com【全免费】</dc:description>
  <dc:language>en-US</dc:language>
  <cp:lastModifiedBy>DELL</cp:lastModifiedBy>
  <dcterms:modified xsi:type="dcterms:W3CDTF">2015-10-10T19:33:06Z</dcterms:modified>
  <cp:revision>0</cp:revision>
  <dc:subject/>
  <dc:title>语文备课大师 www.xiexingcun.com【全免费】</dc:title>
</cp:coreProperties>
</file>