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6A5-7818-4C36-844A-7246EB11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B25-7DF6-4013-9B41-EFF62295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1EA-8C4C-4EDF-93EB-1C82F197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002-9CA6-4BBF-94EF-8E89CB2A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ADB-2D47-464C-AB58-D8D84E79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109-239B-4387-B60B-1B0284A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1DF-E040-4932-90E3-1F5298E0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5F8-46AD-4E50-AFF3-63CC0CB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CC6-7214-4D5F-A046-4C77250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3F3-1D54-4492-9378-5F4FE62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D3F-F9D4-42C2-88C7-5E552F62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814-EA7C-4C68-A078-86BE8C86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B57F-AC4F-442F-A132-C4F70A51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0267-FB9A-4424-85E0-98CACA10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D008-F6A8-49B3-BB1C-C3F84678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F8E6-D1D0-4123-B98B-A94AA95A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A3A-8D3A-4EED-B458-428ECC01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81C2-62A9-4DEF-860E-215D77DC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0A91-52B2-44D2-AC09-4B9DBC0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EAAA-E6CC-408B-85F5-95AB78F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49A4-2F5E-4593-88B9-8AF8C3B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0B9-65A3-4737-9A2C-C05067EF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F734-FCC3-4719-B5F1-5BEB59CC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CFA7-2F5D-48CB-9A09-E13760B1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286000" y="2209680"/>
            <a:ext cx="5638680" cy="11066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6482160" y="5513400"/>
            <a:ext cx="2204640" cy="1148040"/>
            <a:chOff x="6482160" y="5513400"/>
            <a:chExt cx="2204640" cy="1148040"/>
          </a:xfrm>
        </p:grpSpPr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 rot="1622400">
              <a:off x="6592680" y="5715000"/>
              <a:ext cx="106668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7128000" y="5867280"/>
              <a:ext cx="1558800" cy="501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406D-F0BE-4622-BF8E-FBA3EA4CEB1B}" type="slidenum"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1622400">
            <a:off x="-36360" y="17640"/>
            <a:ext cx="1066680" cy="74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98600" y="169920"/>
            <a:ext cx="1558800" cy="50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27880" y="260280"/>
            <a:ext cx="24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配人教版　语文　必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600-3066-4174-94B9-6DFC4B5860F6}" type="slidenum"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1622400">
            <a:off x="-36360" y="17640"/>
            <a:ext cx="1066680" cy="744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98600" y="169920"/>
            <a:ext cx="1558800" cy="501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27880" y="260280"/>
            <a:ext cx="24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配人教版　语文　必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8871120" cy="164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1280" y="907920"/>
            <a:ext cx="2790720" cy="876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33360" y="1798200"/>
            <a:ext cx="84772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卡片摘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作者作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斯蒂芬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霍金是继阿尔伯特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爱因斯坦之后最杰出的物理学家。霍金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94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年出生于英国牛津，先后就读于牛津大学和剑桥大学，学习数学、物理学和宇宙学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96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年，霍金经诊断得了肌萎缩性侧索硬化症。这种病会引起肌肉萎缩，导致瘫痪；说话会越来越困难，直至完全丧失语言能力；患者通常因并发肺炎或窒息而死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不过，患者的思维能力包括记忆能力不受影响。医生告诉霍金他最多只能活两年。在经历了一段短暂的失望和沮丧后，霍金又开始了他的宇宙学研究。霍金后来在相对论、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大爆炸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和黑洞等领域取得了突出的研究成果。霍金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988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年出版的宇宙学著作《时间简史：从大爆炸到黑洞》，是一部里程碑式的畅销书。霍金被确诊患病已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多年，但他仍孜孜于宇宙起源的理论研究，仍在为大统一理论而耕耘不已。霍金现任剑桥大学卢卡斯数学教授，这也是牛顿爵士曾担任过的职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背景剖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现代宇宙学最有影响的学说是大爆炸宇宙学。大爆炸宇宙学认为，宇宙早期温度极高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在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0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亿度以上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物质密度极大。在那里，物质被压缩成一个奇点，时间和空间都毫无意义。大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20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亿年前，发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爆炸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温度逐渐冷却，形成各种各样的恒星体系，也就是我们今天所能观测到的宇宙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宇宙大爆炸学说是逐渐形成的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世纪初，爱因斯坦的相对论改变了科学家研究宇宙的方法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927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年，比利时天文学家勒梅特第一个提出了动态宇宙模型，认为宇宙是从一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原始原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不断分裂、膨胀形成的。他推测：如果宇宙中物质的质量小于某个临界值，宇宙就会继续膨胀下去，成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开放的宇宙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；反之，就会坍缩，成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闭合的宇宙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948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年，出生在俄国的美籍物理学家伽莫夫发展了这一理论，提出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大爆炸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学说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大爆炸学说得到了以下天文观测的支持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1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河外星系有系统地谱线红移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课文中涉及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917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年，美国天文学家斯里弗发现河外星系谱线有系统地向红端移动，表明这些遥远的天体正在离我们远去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929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年，美国天文学家哈勃发现，几乎所有的星系都有红移现象。星系距离越远，红移越大。这种红移与距离之间的线性关系，称为哈勃定律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2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在各种不同的天体上，氦的丰度相近，大都是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0%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。根据大爆炸理论，早期宇宙温度很高，所以产生氦的效率也很高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3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测定各种天体的年龄，均小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20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亿年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4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宇宙微波背景辐射的发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28680" y="1368360"/>
          <a:ext cx="8486640" cy="443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680" y="1368360"/>
                    <a:ext cx="848664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951920" y="2456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0200" y="2492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800" y="2997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27920" y="299736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u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7280" y="299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0720" y="3573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3800" y="3573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49480" y="4148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5440" y="4149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56160" y="4643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z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22160" y="465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30160" y="465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7200" y="5229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27200" y="5229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9080" y="5229360"/>
            <a:ext cx="6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31920" y="1550880"/>
          <a:ext cx="8462880" cy="374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920" y="1550880"/>
                    <a:ext cx="846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980000" y="1483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l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61040" y="1484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u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3200" y="2060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zh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7080" y="2060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l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7560" y="2637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zh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2160" y="3141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z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2520" y="2645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u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7920" y="31161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u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1480" y="4005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6160" y="4437000"/>
            <a:ext cx="7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23600" y="4005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5440" y="4437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28680" y="1814400"/>
          <a:ext cx="8486640" cy="323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680" y="1814400"/>
                    <a:ext cx="848664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122640" y="234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14280" y="285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35720" y="234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64080" y="285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06640" y="350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1428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43000" y="44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91000" y="37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6408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词语解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①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模棱两可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态度、意见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含糊；不明确；既不肯定，也不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②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臭名昭著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坏名声谁都知道。昭著，明白显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③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感恩戴德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对别人所给的恩德表示感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④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百思不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反复思索，仍然不能理解。也说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百思不得其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844640"/>
            <a:ext cx="576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0920" y="2426760"/>
            <a:ext cx="3673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4560" y="2924280"/>
            <a:ext cx="4826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4560" y="3476520"/>
            <a:ext cx="4826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4545000"/>
            <a:ext cx="6985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⑤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微不足道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非常渺小，不值得一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⑥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不可思议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不可想象，不能理解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原来是佛教用语，含有神秘奥妙的意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空无一物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什么东西都没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⑧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万无一失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绝对不会出差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3280" y="1916280"/>
            <a:ext cx="540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2421000"/>
            <a:ext cx="59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924280"/>
            <a:ext cx="6985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3476520"/>
            <a:ext cx="3744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4076640"/>
            <a:ext cx="3745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4033440"/>
            <a:ext cx="8540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13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　宇宙的未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文学常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《宇宙的未来》是一篇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作者是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国著名物理学家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_______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他写的科普著作《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》在全世界行销千万册，极大地增进了人们对宇宙的认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5200" y="292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演讲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1720" y="285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11840" y="34290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史蒂芬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霍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5276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简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933640" cy="866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33360" y="1798200"/>
            <a:ext cx="84772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中心主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这篇演讲，从古代巫师的预言，谈到近代宗教的预言，然后过渡到自己对宇宙未来的预言，结构严谨，重点突出。作者运用天体物理学理论，对宇宙未来作出了两种预测，一是继续膨胀下去；二是收缩以至坍缩成一个点。是膨胀还是收缩，取决于宇宙的平均密度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如果它比临界值小，宇宙就将永远膨胀。但是如果它比临界值大，宇宙就会坍缩，而时间就会在大挤压处终结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现在密度似乎非常接近于把坍缩和无限膨胀区分开来的临界密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所以两种结果都有可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33360" y="907920"/>
            <a:ext cx="84772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问题讨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作者讲演的题目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宇宙的未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却先讲了许多历史故事，这起到了什么作用？你认为这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跑题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了，还是与话题有关联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明确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如同中国古代说书人先讲一段别的故事以引起正题一样，这篇讲演先从古代的先知和女巫谈起，以引起听众的兴趣，起到了引出话题的作用。作者敢于讽刺那些古代预言家，正是代表科学界表明了一种自信，因为科学的预言是建立在科学研究基础之上的，是可以用科学原理加以说明的。所以说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讲史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是为了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衬今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，不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跑题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，而是与话题相关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另外，开头列举历史故事也是为了增加听众的兴趣，由简单通俗的故事入手更容易让人接受，使这篇讲演辞显得幽默风趣，通俗易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33360" y="1052640"/>
            <a:ext cx="8477280" cy="53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艺术特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1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思路清晰，环环相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论述宇宙的未来这样一个抽象而又宽泛的问题是相当难的，但是作者在论述的时候却是有条不紊，丝丝入扣。首先，在开篇时，作者便提出了预言未来很难这一话题，而且举例说明从古代的巫师到近代的预言者预言的屡屡失败。然后在此基础上提出可以预言宇宙的未来，但是有一个条件：在非常大的尺度下。接下去是全文论述的重点，也就是主体部分。在主体部分的论述中，论述思路是这样的：宇宙在不断膨胀——膨胀是均匀的——要看宇宙是坍缩还是继续膨胀，要看它的密度——平均密度是宇宙未来的关键——宇宙中存在暗物质——黑洞的形成——宇宙的初始速度被仔细地选取的原因——得出结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2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形象设喻，风趣幽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本文是科技论文，其内容抽象、深奥，不容易为平常人所接受，但是作者在论述的过程中，却常常用一些生动的比喻来说明事理。如在第八段中，作者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如果你稍微改变一下你旋转轮赌盘的方式，就会改变出来的数字。你在实际上不可能预言出来的数字，否则的话，物理学家就会在赌场发财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。作者用赌场上的任意性来比喻物理方程的不稳定性。再如，在第十四段中，作者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这有一点像是再投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如果有人声称一个新生的婴儿是和某一死者等同，如果该婴儿没从他的以前的生命遗传到任何特征或记忆，这种声称有什么意义呢？人们可以同样地讲，它是完全不同的个体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。这个比喻的本体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大挤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之前和之后存在的事件，喻体是某一死者和新生的婴儿，作者用这一比喻说明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大挤压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前后的宇宙是不同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另外，作者的语言也蕴含着机智和幽默。例如结尾时，作者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所以我正是继承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以保万无一失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，实际上作者是根本不可能继承巫师的做法，这样说只是对于宇宙的未来——坍缩或者是膨胀——做一个幽默的注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995120"/>
            <a:ext cx="85406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结构图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JG13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040360" cy="406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33360" y="1803240"/>
            <a:ext cx="847728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方正华隶_GBK"/>
              </a:rPr>
              <a:t>课文内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据说，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844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年是第二次回归的开始，但是首先要数出获救者名单。只有数完了名单，审判日才降临到那些不列在名单上的人。幸运的是，数人名看来要花很长的时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828880" cy="89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33360" y="1916280"/>
            <a:ext cx="8477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名句赏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①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笨鸟先飞早入林，笨人勤学早成材。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《省世格言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赏读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飞得慢的鸟儿提早起飞就会比别的鸟儿早飞入树林，不够聪明的人只要勤奋努力，就可以比别人早成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2762280" cy="88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．在一个星系中心的巨大黑洞可能花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 baseline="30000">
                <a:solidFill>
                  <a:srgbClr val="0033cc"/>
                </a:solidFill>
                <a:latin typeface="Times New Roman"/>
                <a:ea typeface="楷体_GB2312"/>
              </a:rPr>
              <a:t>9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年的时间蒸发掉并完全消失，也就是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后面跟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9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。这比宇宙现在的年龄要长得多，它是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 baseline="30000">
                <a:solidFill>
                  <a:srgbClr val="0033cc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年，也就是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后面跟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。如果宇宙要永远膨胀下去的话，仍然有大量的时间可供黑洞蒸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．如果暴涨理论是正确的，则宇宙实际上是处在刀锋上。所以我正是继承那些巫师或预言者的良好传统，两方下赌注，以保万无一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方正华隶_GBK"/>
              </a:rPr>
              <a:t>发散迁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红树林是重要的海洋生物资源，具有极高的经济价值。以海南岛的红树林为例，该系统内有鸟类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14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占全岛的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0%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以上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昆虫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0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多种、水生动物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0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多种，平均每公顷每年可产鱼、虾、蟹等海产品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75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多千克，所以海南自古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万亩红树养万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说法。红树林的树皮中含有地单宁，可作鞣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(róu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料和染料；有些红树植物木质坚硬，耐腐蚀，是建筑物和船舶的优质用材。某些红树植物还可入药，能治疗淋巴结核、皮肤病、癌症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33360" y="981000"/>
            <a:ext cx="8477280" cy="539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方正华隶_GBK"/>
              </a:rPr>
              <a:t>点　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这句话幽默中含着揶揄和讽刺，揭露了宗教预言师的荒谬，表现了对方屡测屡败却又想方设法自圆其说的尴尬与可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运用列举数字的说明方法，让读者更清楚地了解黑洞蒸发掉并完全消失的时间之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．听众明知作者做的是科学的预言，和巫师们完全不同，可作者却有意将自己降为他们的同类，一是说明自己恰好也有两种预测，二是顺势又对他们进行嘲讽。这种智慧的表达既带来了轻松愉悦的气氛，又大大增加了自己的亲和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33360" y="1909800"/>
            <a:ext cx="8477280" cy="274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方正华隶_GBK"/>
              </a:rPr>
              <a:t>思　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这段文字主要用了哪些说明方法？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【答案】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说明方法：举例子、列数字、引用等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作用：说明红树林是重要的海洋生物资源，具有极高的经济价值；使说明的内容具体、准确，具有可信度和说服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1960" y="907920"/>
            <a:ext cx="3848400" cy="847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33360" y="1755360"/>
            <a:ext cx="84772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【角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史蒂芬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霍金被誉为继牛顿和爱因斯坦之后的最伟大的理论物理学家。在过完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2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岁生日之后，他不幸患上了肌萎缩性脊髓侧索硬化症，从此全身瘫痪，生活不能自理，而且语音失常，不能与人直接交流。但残疾没有击倒他，反而使他的才能发挥到了极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请写一篇文章来表达你对史蒂芬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霍金的钦佩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示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人生的斗士——史蒂芬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霍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如果说他的命运是那破旧的花架，那么因为他的坚强意志，变得繁花似锦，光艳夺人；如果说他的命运是那漆黑的夜空，那么因为他的坚强意志，变得繁星闪烁，熠熠发光；如果说他的命运是那贫瘠的土地，那么因为他的坚强意志，变得葱葱郁郁、油油翠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是的，他的成功，不仅仅是他的非凡的科学成就，其原因中更值得人称道的是他坚忍不拔的意志和对人生的无比自信，这造就了一个时代的伟人，人生的斗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先来想想他的成就。他凭借自己的智慧和艰辛，写出了著名的《时间简史》，推动了科学界的飞速发展，为世界做出了巨大的贡献。同时，他也被称为与英国牛顿和德国爱因斯坦并列的世界三大科学家之一，他的成就足以凌驾当今科学金字塔的顶峰，成为一颗最耀眼的北斗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我们在惊叹他在事业上的非凡成就的同时，也不免会感叹他命运的不幸和他意志的无比坚韧。在他身上，不仅闪耀着智者无比的光彩，更散发出斗士所特有的一种韧性，他是精神睿智的结晶，是人格力量的聚集，他，是人生的斗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也许，在人生道路中我们会遇到这样或那样的挫折，但我们要坚信，命运由自己掌握。让我们怀着刘禹锡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直乎天上争春回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豁达，拍拍我们身上的灰尘，继续我们的人生旅程，去追求我们的理想吧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霍金，他就是火，点亮了我们前进的灯；霍金，他就是灯，照亮了我们前进的道路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【角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一次新闻发布会上，有个女记者提出了一个令全场鸦雀无声的无比尖锐的问题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霍金先生，难道你不为被固定在一个轮椅上而感到悲哀吗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众所周知，霍金是个全身瘫痪的人，只有一些手指可以活动，其命运无比悲惨。然而，霍金镇定自若地用手指在键盘上敲出了这样一些字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我没有悲哀。我却很庆幸，因为上帝虽然把我固定在这轮椅上，却给了我足以想象世界万物，足以激发人生斗志的能力，其实，上帝对人都是很公平的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33360" y="1196640"/>
            <a:ext cx="847728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阅读这则材料，选取一个角度，写一篇文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示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面对挫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人的一生如同在大海中航行的一艘帆船，无论在多平静的海域，总会有起起伏伏，总会遇到风浪的打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面对人生中不可避免的挫折，选择前进，还是选择退缩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退一步，消极地沉浸在挫折带来的苦难中，你也许会被风浪淹没，而勇敢一些，积极地迎难而上，与困难斗争，也许风浪过后是无限美好的天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②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书到用时方恨少，事非经过不知难。                ——陆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赏读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知识总是在运用时才让人感到太不够了，许多事情如果不亲身经历过就不知道它有多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③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人之为学，不可自小，又不可自大。           ——顾炎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赏读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学习时不要在渊博浩瀚的知识面前感到自卑，也不能因为学到一点点知识而骄傲自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巴尔扎克在自己的手杖上写道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我能战胜一切挫折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也许正是这种坚毅的品格，使巴尔扎克成为举世闻名的大文豪，也许正是这种坚强的信念，使他的作品能永垂青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挫折并不可怕，重要的是你以什么样的态度面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西西弗斯被认为是世界上最不幸的人，他每天做着辛苦却永远也无法完成的工作。而当人们看到他时，他却并没有传说中的凄苦模样，而是捉了只蝴蝶在快乐地玩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上帝给了他世间最大的挫折，但并没有剥夺他积极、乐观的权利。面对人生中的挫折，你依然可以拥有一份笑看风轻云淡的心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在巨大的不幸面前，曹雪芹倾注满腔心血于《红楼梦》，写出了这本不朽的传世经典；在巨大的困难面前，张海迪用惊人的毅力学习了多种语言，为社会做出了不可磨灭的贡献；在巨大的挫折面前，奥斯特洛夫斯基用手摸索着，完成了伟大的《钢铁是怎样炼成的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面对挫折，他们选择了勇敢，选择了坚毅，也就选择了成功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当海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凯勒在黑暗中、在无声的世界里学会了写字，学会了生活，用她充满爱的心写成了《假如给我三天光明》时，你怎能不为她由衷感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当司马迁受刑后在监牢中面对四壁写出了传世巨著《史记》时，你怎能不为他心生感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33360" y="2152440"/>
            <a:ext cx="847728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当牛顿的科学手稿被火烧光，而他又从头整理，得出震撼物理学界的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三大定律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时，你怎能不对他肃然起敬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挫折，不是失败的理由，只有在大风大浪中依然扬帆勇往直前的小船，才能到达成功的彼岸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文言拾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越人遇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越人道上遇狗，狗低首摇尾人言曰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我善猎，得兽与若中分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越人喜，引而俱归。食以粱肉，待之以人礼。狗得盛礼，日益倨，猎得兽，必尽啖乃已。或嗤越人曰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尔饮食之，得兽，其辄尽啖，将奚以狗为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越人悟，因与肉分，多自与。狗怒，啮其首，断领足，走而去之。夫以家人养狗，而与狗争食，几何不败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33360" y="981000"/>
            <a:ext cx="847728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【译文】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越人在路上遇到一只狗，那狗低着头摇着尾巴像人一样说道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我擅长捕猎，捕到的猎物和你平分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那越人很高兴，带着狗一起回家。用精美的食物饲养它，像对待人一样去对待它。狗受到盛情的礼遇，一天天地傲慢起来，猎取的野兽，必定是自己全部吃掉。有的人就讥笑那越人说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喂养它，它捕猎到的野兽，却全部自己吃了，你为什么还要养它呢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那越人醒悟了，于是给狗分野兽的肉的时候，越人自己多拿多吃。狗恼怒了，咬他的头，咬断了他的脖子和腿，就跑着离开了。把狗当成家人养，然后却又和狗争食，哪有不失败的呢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【思悟】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讥讽那些巧言善骗、贪得无厌、凶狠残忍的邪恶小人。对于恶人和恶势力，不要姑息纵容。到自己无法忍受的时候，就难免自取其祸，此所谓养虎为患是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33360" y="981000"/>
            <a:ext cx="847728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词语辨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原形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原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原形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指原来的形状，本来的真实面目，常含贬义。原型：原来的类型或模型，特指文艺作品中塑造人物形象所依据的现实生活中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例句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在这种情况下，造谣煽动的坏分子，则在人民面前暴露了原形，失去了活动的市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例句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罗贯中继承了话本中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拥刘反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的主题，接受了其中的人物原型，并注入了自己的心血，创作了《三国志通俗演义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33360" y="1197000"/>
            <a:ext cx="847728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死气沉沉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·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万马齐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都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形容无一点生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的意思。异：前者偏重指气氛压抑，用于人时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不愿讲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的意思。后者偏重于不敢讲话。喑：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例句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上海有官立的书报审查处，凡较好的作品，一定不准出版，所以出版界都是死气沉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例句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他的发言把会场上万马齐喑的沉闷空气打破了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03:16Z</dcterms:created>
  <dc:creator>语文大师 xiexingcun.com</dc:creator>
  <dc:description>语文大师 xiexingcun.com</dc:description>
  <cp:keywords/>
  <dc:language>en-US</dc:language>
  <cp:lastModifiedBy>备课大师</cp:lastModifiedBy>
  <dcterms:modified xsi:type="dcterms:W3CDTF">2014-10-11T03:28:01Z</dcterms:modified>
  <cp:revision>2</cp:revision>
  <dc:subject>  </dc:subject>
  <dc:title>语文大师 xiexingcun.com</dc:title>
</cp:coreProperties>
</file>