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12.WAV" ContentType="audio/x-wav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98BE-D21A-4454-B228-D5BE5600FF4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7455-CFAE-4523-A890-877E7999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B74-A4A0-4509-99EF-3E8C295D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CF3-B4CA-4163-903A-2938679B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0C36-FB06-4CFB-98C1-3D5979B4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B31A-BC06-4D13-ACCD-56BC9FDD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FF6C-597B-4314-A272-D145D8F2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407-B010-4FBC-8CAA-30FA408D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CC5-F12A-435E-A1D7-99D40F4A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320E-A61B-47DD-BEAC-058D2604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8599-87DD-456D-97F8-9B44D290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4DD-9D8C-4D7B-95F4-A3C1355B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E57D-435B-4B40-8367-23287813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DFC1-1505-482E-A4D0-9E66640A7B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12.WAV" TargetMode="External"/><Relationship Id="rId4" Type="http://schemas.openxmlformats.org/officeDocument/2006/relationships/image" Target="../media/image2.png"/><Relationship Id="rId5" Type="http://schemas.openxmlformats.org/officeDocument/2006/relationships/slide" Target="slide4.xml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4.jpe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.png"/><Relationship Id="rId12" Type="http://schemas.openxmlformats.org/officeDocument/2006/relationships/audio" Target="../media/12.WAV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" Target="slide6.xm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7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14400" y="1692360"/>
            <a:ext cx="7162920" cy="26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《爱莲说》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414600" y="4791240"/>
            <a:ext cx="23148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周敦颐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380880"/>
            <a:ext cx="441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→</a:t>
            </a:r>
            <a:r>
              <a:rPr b="1" lang="zh-CN" sz="6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明旨意</a:t>
            </a:r>
            <a:r>
              <a:rPr b="1" lang="en-US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60020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明自己不慕名利，洁身自好的生活态度。</a:t>
            </a:r>
            <a:r>
              <a:rPr b="1" lang="en-US" sz="6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3886200"/>
            <a:ext cx="7924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舂陵周茂叔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人品甚高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胸怀洒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如光风霁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黄庭坚《豫章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濂溪诗序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457200"/>
            <a:ext cx="441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→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懂手法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2096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文中作者分别赋予菊、牡丹和莲以特定的象征意义，用以言志，感叹世间隐士极少、君子罕见、俗人太多的现状，此谓之“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托物言志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”。作者用“菊”和“牡丹”来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衬托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正衬和反衬），含蓄而突出地表达了文章的主旨，此谓之“烘云托月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457200"/>
            <a:ext cx="89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四、积累关于“莲花”的诗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主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以莲喻人，通过对莲花的描写和赞美，歌颂它坚贞不渝，“出淤泥而不染”的品质，同时，作者将花的形象比拟为人的品质，以莲的形象比拟不慕名利、洁身自好的生活态度，以爱莲之情来表达自己对这种生活态度的赞赏和追慕，表达出自己对追名逐利、趋炎附势的恶浊世风的鄙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短文两篇   —— 一词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 水陆草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结构助词，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予独爱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淤泥而不染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主谓之间，取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句子独立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远  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益清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动词，远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而不可亵玩焉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形容词，距离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短文两篇——  一词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  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陋室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判断动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鲜  陶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闻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芳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美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鲜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短文两篇 —— 词类活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不在高，有仙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名  名作动，出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不在深，有龙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灵  名作动，显出灵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丝竹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耳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形作动，使……感到混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案牍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形作动，使……感到劳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名作动，长枝蔓，生枝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益清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形作动，远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短文两篇   —— 古今异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案牍之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形     形体、身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形状、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乎众矣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应当、应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合适、适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亭亭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植            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种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琥珀"/>
              </a:rPr>
              <a:t>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说”是古代的一种文体，可以说明议论，也可以记叙事物，但都是用来阐述作者对各种问题的见解的。大多是就一事一议，就一物或一种现象抒发作者的感想，写法上不拘一格，行文自由活泼，波澜起伏，篇幅一般不长，跟现代杂文颇为相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14400" y="249120"/>
          <a:ext cx="266688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49120"/>
                    <a:ext cx="26668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380880" y="190512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　　水陆草木之花，可爱者甚</a:t>
            </a:r>
            <a:r>
              <a:rPr b="0" lang="zh-CN" sz="3600" spc="-1" strike="noStrike" u="sng">
                <a:solidFill>
                  <a:srgbClr val="ff0303"/>
                </a:solidFill>
                <a:uFillTx/>
                <a:latin typeface="Times New Roman"/>
                <a:ea typeface="华文行楷"/>
              </a:rPr>
              <a:t>蕃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。晋陶渊明独爱菊。自</a:t>
            </a:r>
            <a:r>
              <a:rPr b="0" lang="zh-CN" sz="3200" spc="-1" strike="noStrike" u="sng">
                <a:solidFill>
                  <a:srgbClr val="ff0303"/>
                </a:solidFill>
                <a:uFillTx/>
                <a:latin typeface="Times New Roman"/>
                <a:ea typeface="华文行楷"/>
              </a:rPr>
              <a:t>李唐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来，世人甚爱牡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8120" y="1143000"/>
          <a:ext cx="1218960" cy="48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8120" y="1143000"/>
                    <a:ext cx="12189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>
            <a:hlinkClick r:id="rId8" action="ppaction://hlinksldjump"/>
          </p:cNvPr>
          <p:cNvSpPr/>
          <p:nvPr/>
        </p:nvSpPr>
        <p:spPr>
          <a:xfrm>
            <a:off x="5029200" y="2133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00"/>
                </a:solidFill>
                <a:latin typeface="Times New Roman"/>
                <a:ea typeface="华文行楷"/>
              </a:rPr>
              <a:t>　　水上、地上各种草木的花，可爱的很多。晋朝的陶渊明惟独爱菊。自唐朝以来，世上的人们很喜爱牡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7010280" y="0"/>
            <a:ext cx="2133720" cy="19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876920" y="685800"/>
          <a:ext cx="1066680" cy="630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76920" y="685800"/>
                    <a:ext cx="106668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1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80880" y="457200"/>
            <a:ext cx="419112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303"/>
                </a:solidFill>
                <a:uFillTx/>
                <a:latin typeface="Times New Roman"/>
                <a:ea typeface="华文行楷"/>
              </a:rPr>
              <a:t>予</a:t>
            </a:r>
            <a:r>
              <a:rPr b="0" lang="zh-CN" sz="47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独爱莲之出淤泥而不</a:t>
            </a:r>
            <a:r>
              <a:rPr b="0" lang="zh-CN" sz="3600" spc="-1" strike="noStrike" u="sng">
                <a:solidFill>
                  <a:srgbClr val="ff0303"/>
                </a:solidFill>
                <a:uFillTx/>
                <a:latin typeface="Times New Roman"/>
                <a:ea typeface="华文行楷"/>
              </a:rPr>
              <a:t>染</a:t>
            </a:r>
            <a:r>
              <a:rPr b="0" lang="zh-CN" sz="47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，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303"/>
                </a:solidFill>
                <a:uFillTx/>
                <a:latin typeface="Times New Roman"/>
                <a:ea typeface="华文行楷"/>
              </a:rPr>
              <a:t>濯</a:t>
            </a:r>
            <a:r>
              <a:rPr b="0" lang="zh-CN" sz="47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清涟而不</a:t>
            </a:r>
            <a:r>
              <a:rPr b="0" lang="zh-CN" sz="3600" spc="-1" strike="noStrike" u="sng">
                <a:solidFill>
                  <a:srgbClr val="ff0303"/>
                </a:solidFill>
                <a:uFillTx/>
                <a:latin typeface="Times New Roman"/>
                <a:ea typeface="华文行楷"/>
              </a:rPr>
              <a:t>妖</a:t>
            </a:r>
            <a:r>
              <a:rPr b="0" lang="zh-CN" sz="47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，中通外直，不蔓不枝，香远益清，亭亭净</a:t>
            </a:r>
            <a:r>
              <a:rPr b="0" lang="zh-CN" sz="3600" spc="-1" strike="noStrike" u="sng">
                <a:solidFill>
                  <a:srgbClr val="ff0303"/>
                </a:solidFill>
                <a:uFillTx/>
                <a:latin typeface="Times New Roman"/>
                <a:ea typeface="华文行楷"/>
              </a:rPr>
              <a:t>植</a:t>
            </a:r>
            <a:r>
              <a:rPr b="0" lang="zh-CN" sz="47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，可远观而不可</a:t>
            </a:r>
            <a:r>
              <a:rPr b="0" lang="zh-CN" sz="3600" spc="-1" strike="noStrike" u="sng">
                <a:solidFill>
                  <a:srgbClr val="ff0303"/>
                </a:solidFill>
                <a:uFillTx/>
                <a:latin typeface="Times New Roman"/>
                <a:ea typeface="华文行楷"/>
              </a:rPr>
              <a:t>亵</a:t>
            </a:r>
            <a:r>
              <a:rPr b="0" lang="zh-CN" sz="47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玩焉。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48320" y="152280"/>
          <a:ext cx="106668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52280"/>
                    <a:ext cx="106668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4952880" y="762120"/>
            <a:ext cx="4038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6600"/>
                </a:solidFill>
                <a:latin typeface="Times New Roman"/>
                <a:ea typeface="华文行楷"/>
              </a:rPr>
              <a:t>我只喜爱莲从淤泥里长出来却不受污染，在清水里洗涤却不显得妖艳；茎梗中间贯通，不牵牵连连，不枝枝节节；香气远播，越发清香；笔挺洁净地站在那里地，只能在远处观赏却不能贴近去玩弄它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28600"/>
            <a:ext cx="685800" cy="380880"/>
          </a:xfrm>
          <a:prstGeom prst="wedgeRoundRectCallout">
            <a:avLst>
              <a:gd name="adj1" fmla="val -37268"/>
              <a:gd name="adj2" fmla="val 87083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62300"/>
                </a:solidFill>
                <a:latin typeface="Times New Roman"/>
                <a:ea typeface="华文行楷"/>
              </a:rPr>
              <a:t>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533520" y="898560"/>
            <a:ext cx="37335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　　予</a:t>
            </a:r>
            <a:r>
              <a:rPr b="0" lang="zh-CN" sz="3600" spc="-1" strike="noStrike" u="sng">
                <a:solidFill>
                  <a:srgbClr val="ff0303"/>
                </a:solidFill>
                <a:uFillTx/>
                <a:latin typeface="Times New Roman"/>
                <a:ea typeface="华文行楷"/>
              </a:rPr>
              <a:t>谓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菊，花之隐逸者也；牡丹，花之富贵者也；莲，花之</a:t>
            </a:r>
            <a:r>
              <a:rPr b="0" lang="zh-CN" sz="3600" spc="-1" strike="noStrike" u="sng">
                <a:solidFill>
                  <a:srgbClr val="ff0303"/>
                </a:solidFill>
                <a:uFillTx/>
                <a:latin typeface="Times New Roman"/>
                <a:ea typeface="华文行楷"/>
              </a:rPr>
              <a:t>君子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者也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533520"/>
            <a:ext cx="1295280" cy="533160"/>
          </a:xfrm>
          <a:prstGeom prst="wedgeRoundRectCallout">
            <a:avLst>
              <a:gd name="adj1" fmla="val -39828"/>
              <a:gd name="adj2" fmla="val 4881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2300"/>
                </a:solidFill>
                <a:latin typeface="Times New Roman"/>
                <a:ea typeface="华文行楷"/>
              </a:rPr>
              <a:t>认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876920" y="457200"/>
          <a:ext cx="106668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457200"/>
                    <a:ext cx="106668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" name=""/>
          <p:cNvGrpSpPr/>
          <p:nvPr/>
        </p:nvGrpSpPr>
        <p:grpSpPr>
          <a:xfrm>
            <a:off x="4800600" y="1521000"/>
            <a:ext cx="3581280" cy="2855520"/>
            <a:chOff x="4800600" y="1521000"/>
            <a:chExt cx="3581280" cy="2855520"/>
          </a:xfrm>
        </p:grpSpPr>
        <p:sp>
          <p:nvSpPr>
            <p:cNvPr id="71" name="">
              <a:hlinkClick r:id="rId5" action="ppaction://hlinksldjump"/>
            </p:cNvPr>
            <p:cNvSpPr/>
            <p:nvPr/>
          </p:nvSpPr>
          <p:spPr>
            <a:xfrm>
              <a:off x="4800600" y="1521000"/>
              <a:ext cx="20574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6600"/>
                  </a:solidFill>
                  <a:latin typeface="Times New Roman"/>
                  <a:ea typeface="华文行楷"/>
                </a:rPr>
                <a:t>　　我认为菊，是花中的隐士；牡丹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00600" y="3733920"/>
              <a:ext cx="35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6600"/>
                  </a:solidFill>
                  <a:latin typeface="Times New Roman"/>
                  <a:ea typeface="华文行楷"/>
                </a:rPr>
                <a:t>是花中的富贵者；莲，是花中的君子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7010280" y="990720"/>
            <a:ext cx="1719360" cy="23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7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457200" y="762120"/>
            <a:ext cx="3809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303"/>
                </a:solidFill>
                <a:uFillTx/>
                <a:latin typeface="Times New Roman"/>
                <a:ea typeface="华文行楷"/>
              </a:rPr>
              <a:t>噫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！菊之爱，陶后</a:t>
            </a:r>
            <a:r>
              <a:rPr b="0" lang="zh-CN" sz="4000" spc="-1" strike="noStrike" u="sng">
                <a:solidFill>
                  <a:srgbClr val="ff0303"/>
                </a:solidFill>
                <a:uFillTx/>
                <a:latin typeface="Times New Roman"/>
                <a:ea typeface="华文行楷"/>
              </a:rPr>
              <a:t>鲜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有闻。莲之爱，同予者何人？牡丹之爱，</a:t>
            </a:r>
            <a:r>
              <a:rPr b="0" lang="zh-CN" sz="4000" spc="-1" strike="noStrike" u="sng">
                <a:solidFill>
                  <a:srgbClr val="ff0303"/>
                </a:solidFill>
                <a:uFillTx/>
                <a:latin typeface="Times New Roman"/>
                <a:ea typeface="华文行楷"/>
              </a:rPr>
              <a:t>宜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乎众矣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1219320"/>
            <a:ext cx="2590920" cy="609480"/>
          </a:xfrm>
          <a:prstGeom prst="wedgeRoundRectCallout">
            <a:avLst>
              <a:gd name="adj1" fmla="val -41236"/>
              <a:gd name="adj2" fmla="val 41925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2300"/>
                </a:solidFill>
                <a:latin typeface="方正舒体"/>
                <a:ea typeface="方正舒体"/>
              </a:rPr>
              <a:t>Xiǎn</a:t>
            </a:r>
            <a:r>
              <a:rPr b="0" lang="zh-CN" sz="2800" spc="-1" strike="noStrike">
                <a:solidFill>
                  <a:srgbClr val="462300"/>
                </a:solidFill>
                <a:latin typeface="华文行楷"/>
                <a:ea typeface="华文行楷"/>
              </a:rPr>
              <a:t>少，难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4937040" y="2158920"/>
            <a:ext cx="38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00"/>
                </a:solidFill>
                <a:latin typeface="Times New Roman"/>
                <a:ea typeface="华文行楷"/>
              </a:rPr>
              <a:t>唉，喜爱菊花的，陶渊明以后就很少听到了。喜爱莲花的，像我一样的人有几个呢？喜爱牡丹的人，当然很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876920" y="304920"/>
          <a:ext cx="1066680" cy="63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304920"/>
                    <a:ext cx="106668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6400800" y="270000"/>
            <a:ext cx="2362320" cy="16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7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4572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三、披文揽情，质疑探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752480"/>
            <a:ext cx="441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→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晓内容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2971800"/>
            <a:ext cx="723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文章哪从七个方面描绘了莲的可爱 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066680"/>
            <a:ext cx="78483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出淤泥而不染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濯清涟而不妖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通外直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蔓不枝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香远益清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亭亭净植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可远观而不可亵玩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79640" y="1035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不与世俗同流合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94760" y="18730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纯真自然，不显妖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6680" y="27320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内心通达，行为正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90920" y="354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不攀附权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99480" y="4387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美名远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23160" y="5226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高洁独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08080" y="6008760"/>
            <a:ext cx="27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自尊自爱，令人敬佩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76320"/>
            <a:ext cx="441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→</a:t>
            </a:r>
            <a:r>
              <a:rPr b="1" lang="zh-CN" sz="6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晓内容</a:t>
            </a:r>
            <a:r>
              <a:rPr b="1" lang="en-US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7621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三、披文揽情，质疑探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752480"/>
            <a:ext cx="441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→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明旨意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312264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“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水陆草木之花，可爱者甚蕃”，为什么作者“独爱莲”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语文备课大师 www.xiexingcun.com【全免费】</dc:creator>
  <dc:description>语文备课大师 www.xiexingcun.com【全免费】</dc:description>
  <dc:language>en-US</dc:language>
  <cp:lastModifiedBy>User</cp:lastModifiedBy>
  <dcterms:modified xsi:type="dcterms:W3CDTF">2015-07-15T00:14:48Z</dcterms:modified>
  <cp:revision>0</cp:revision>
  <dc:subject> </dc:subject>
  <dc:title>语文备课大师 www.xiexingcun.com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