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gif" ContentType="image/gif"/>
  <Override PartName="/ppt/media/image4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E197-5B04-49A2-84D6-5B792B89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96E4-8AF9-4FE6-B574-93D3145E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F06F-874A-457C-8116-80AC481A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CAB0-921B-446D-BB1F-A9630AE1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F0BF-DCC7-4DB9-B521-A9149CAB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C2B5-FD7B-478B-B8C3-586A9071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141B-6BC1-4A77-812E-1714F4EC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A18A-91BF-4D6F-9153-A55EE9B9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D324-ABAD-4AE2-B994-7AB3C0E6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75F2-A7EE-45D4-893E-A3187BFC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2EF5-EDAA-4F2A-A339-83C6D032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A8EC-14A9-4263-B2B2-A434C2BF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6ABE-8788-4666-BBEF-4DADE0B49B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2492280"/>
            <a:ext cx="38876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新魏"/>
              </a:rPr>
              <a:t>人生是一节一节台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华文中宋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新魏"/>
              </a:rPr>
              <a:t>许多人渴望在台阶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华文中宋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新魏"/>
              </a:rPr>
              <a:t>找到自己的高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华文中宋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新魏"/>
              </a:rPr>
              <a:t>父亲正是如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华文中宋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新魏"/>
              </a:rPr>
              <a:t>可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华文中宋"/>
                <a:ea typeface="华文新魏"/>
              </a:rPr>
              <a:t>         ——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新魏"/>
              </a:rPr>
              <a:t>果真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2001101014" descr="石径幽幽"/>
          <p:cNvPicPr/>
          <p:nvPr/>
        </p:nvPicPr>
        <p:blipFill>
          <a:blip r:embed="rId2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529040" y="333360"/>
            <a:ext cx="8625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李  森  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0" y="549360"/>
            <a:ext cx="2736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台阶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bkt005" descr=""/>
          <p:cNvPicPr/>
          <p:nvPr/>
        </p:nvPicPr>
        <p:blipFill>
          <a:blip r:embed="rId2"/>
          <a:stretch/>
        </p:blipFill>
        <p:spPr>
          <a:xfrm>
            <a:off x="5291280" y="3968640"/>
            <a:ext cx="3852720" cy="2889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981800" y="3357720"/>
            <a:ext cx="49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新屋造好了，父亲怎么样了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63640" y="4365720"/>
            <a:ext cx="316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人也衰老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36840" y="5126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3640" y="5229360"/>
            <a:ext cx="4248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身体也垮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3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3"/>
                </a:solidFill>
                <a:latin typeface="Times New Roman"/>
              </a:rPr>
              <a:t>在父亲的努力下，新台阶终于砌好了，可父亲却感到怎样？为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141300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不对劲。 台阶低，意味着经济地位地下，父亲由此形成了自卑心理。这种自卑心理长期存在，难以一下子消除，所以台阶高了，反而处处感到不习惯，不对劲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030120ms-2b" descr=""/>
          <p:cNvPicPr/>
          <p:nvPr/>
        </p:nvPicPr>
        <p:blipFill>
          <a:blip r:embed="rId2"/>
          <a:srcRect l="0" t="0" r="0" b="544"/>
          <a:stretch/>
        </p:blipFill>
        <p:spPr>
          <a:xfrm>
            <a:off x="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140360" y="260280"/>
            <a:ext cx="5003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辅读资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父亲”的形象，在那个年代里，在我生活过的乡村里，几乎到处可见。他们除了有一双永远也不干净的脚以外，还应该有一双不能碰棉絮的手（他们开裂着沟纹的手一旦碰棉絮，会将好好的棉絮粘扯得一塌糊涂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李森祥给编者的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2160" y="609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姚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姚体"/>
              </a:rPr>
              <a:t>以“父亲是一个－－－的人”为话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14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父亲是一个坚强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父亲是一个要强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父亲是一个勇敢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父亲是一个勤劳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父亲是一个朴实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38480" cy="6896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2001101014" descr="石径幽幽"/>
          <p:cNvPicPr/>
          <p:nvPr/>
        </p:nvPicPr>
        <p:blipFill>
          <a:blip r:embed="rId2"/>
          <a:stretch/>
        </p:blipFill>
        <p:spPr>
          <a:xfrm>
            <a:off x="0" y="0"/>
            <a:ext cx="449424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788000" y="333360"/>
            <a:ext cx="4033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3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攀登台阶 理解父亲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2492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华文行楷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父亲用大半辈子造一个高台阶的新屋到底值不值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请以“台阶是父亲的－－”来谈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8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台阶是父亲的理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台阶是父亲的心灵沉重负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台阶是父亲的催老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台阶是父亲的自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9144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660033"/>
                </a:solidFill>
                <a:latin typeface="Arial"/>
                <a:ea typeface="华文行楷"/>
              </a:rPr>
              <a:t>请以“为了台阶，父亲付出了－－”为话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8040" y="2354040"/>
            <a:ext cx="72630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Arial"/>
                <a:ea typeface="华文中宋"/>
              </a:rPr>
              <a:t>为了台阶，父亲付出了岁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Arial"/>
                <a:ea typeface="华文中宋"/>
              </a:rPr>
              <a:t>为了台阶，父亲付出了青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Arial"/>
                <a:ea typeface="华文中宋"/>
              </a:rPr>
              <a:t>为了台阶，父亲付出了健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6f90a2794b9ba536c8aa6dd0c7f5846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24000" y="2268360"/>
            <a:ext cx="770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行楷"/>
              </a:rPr>
              <a:t>辅读资料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华文行楷"/>
              </a:rPr>
              <a:t>: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华文行楷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行楷"/>
              </a:rPr>
              <a:t>在中国乡村，一个父亲的使命也就那么多，或造一间屋，或为子女成家立业，然后他就迅速地衰老，并且再也不被人关注，我只是为他们的最终命运而惋惜，这几乎是乡村农民最为真实的一个结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行楷"/>
              </a:rPr>
              <a:t>李森祥给编者的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8360" y="616572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4781" y="8406"/>
                </a:moveTo>
                <a:lnTo>
                  <a:pt x="9212" y="8406"/>
                </a:lnTo>
                <a:lnTo>
                  <a:pt x="13633" y="3794"/>
                </a:lnTo>
                <a:lnTo>
                  <a:pt x="13633" y="17806"/>
                </a:lnTo>
                <a:lnTo>
                  <a:pt x="9212" y="13194"/>
                </a:lnTo>
                <a:lnTo>
                  <a:pt x="4781" y="13194"/>
                </a:lnTo>
                <a:close/>
              </a:path>
              <a:path fill="darken" w="23576" h="21600">
                <a:moveTo>
                  <a:pt x="15287" y="10800"/>
                </a:moveTo>
                <a:lnTo>
                  <a:pt x="18794" y="10800"/>
                </a:lnTo>
              </a:path>
              <a:path fill="darken" w="23576" h="21600">
                <a:moveTo>
                  <a:pt x="15287" y="8406"/>
                </a:moveTo>
                <a:lnTo>
                  <a:pt x="18794" y="5639"/>
                </a:lnTo>
              </a:path>
              <a:path fill="darken" w="23576" h="21600">
                <a:moveTo>
                  <a:pt x="15287" y="13194"/>
                </a:moveTo>
                <a:lnTo>
                  <a:pt x="18794" y="1596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WATER0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000" y="2386440"/>
            <a:ext cx="84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3120"/>
                <a:tab algn="l" pos="2327400"/>
                <a:tab algn="l" pos="2908440"/>
                <a:tab algn="l" pos="34876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所谓细节描写是指文学作品中对人物动作、语言、神态、心理、外貌以及自然景观、场面气氛等细小环节或情节的描写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3120"/>
                <a:tab algn="l" pos="2327400"/>
                <a:tab algn="l" pos="2908440"/>
                <a:tab algn="l" pos="34876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3120"/>
                <a:tab algn="l" pos="2327400"/>
                <a:tab algn="l" pos="2908440"/>
                <a:tab algn="l" pos="34876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3120"/>
                <a:tab algn="l" pos="2327400"/>
                <a:tab algn="l" pos="2908440"/>
                <a:tab algn="l" pos="34876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细节描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刻画人物性格、丰满人物形象、连接故事情节、丰富作品内涵等方面具有重要作用。生动的细节描写，有助于折射广阔的生活画面，表现深刻的社会主题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3120"/>
                <a:tab algn="l" pos="2327400"/>
                <a:tab algn="l" pos="2908440"/>
                <a:tab algn="l" pos="34876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4000" y="189000"/>
            <a:ext cx="4248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2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凝望台阶 感受父亲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2" name=""/>
          <p:cNvSpPr/>
          <p:nvPr/>
        </p:nvSpPr>
        <p:spPr>
          <a:xfrm>
            <a:off x="5705640" y="42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细节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6560" y="404640"/>
            <a:ext cx="84981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父亲坐在绿荫里，……一片片旱烟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雾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父亲头上飘来飘去。”表现父亲怎样的思想感情？为何不用心理描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896472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父亲抽烟时专注地望着别人家高高的台阶，他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羡慕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他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向往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他在谋划怎样加快准备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争取能早日建造起高台阶的新屋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像人家一样气派，也叫人羡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篇小说是用第一人称写的，不允许写别人的心理活动，只能以形写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291280" y="3968640"/>
            <a:ext cx="3852720" cy="2889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3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但是，父亲在放鞭炮时，他的神情是很有意思的。找出来，看看他有什麽特色？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77336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奋斗了大半辈子。高高的台阶就要砌起来，新屋就要完工，他心里的高兴是无法形容的。一辈子低眉顺眼、老实厚道，高兴起来也与众不同。一双手放在哪里都不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1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3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413000"/>
            <a:ext cx="6156360" cy="31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李森祥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当代作家，中国作家协会会员。 他与高峰合著的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《王中王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受到人们的重视。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中央电视台热播过的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《天下粮仓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李森祥便是该剧的策划。作为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浙江电视台制作中心主任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李森祥长期从事影视剧创作、拍摄、策划工作，有很强的艺术感受能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代表作有小说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《小学老师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《抒情年代》、《传世之鼓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作品充满对劳动人民的深厚感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其艺术特色是文字简洁、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善抓细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天下粮仓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1928880" cy="2046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050920" y="404640"/>
            <a:ext cx="3673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者简介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8" name="aa59892b01abc2c4e7cd4048" descr=""/>
          <p:cNvPicPr/>
          <p:nvPr/>
        </p:nvPicPr>
        <p:blipFill>
          <a:blip r:embed="rId5"/>
          <a:stretch/>
        </p:blipFill>
        <p:spPr>
          <a:xfrm>
            <a:off x="6300720" y="660240"/>
            <a:ext cx="2087640" cy="24814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99308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“父亲偶尔出去一趟，回来时，一副若有所失的模样？”这种心态怎么理解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4920" y="1917720"/>
            <a:ext cx="468144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父亲干了一辈子，劳动就是生命，在他的精神世界中，劳动是创造，劳动有收获，劳动体现了自己的价值，一旦不能干活，就失去一切，所以感觉若有所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932360" y="1343160"/>
            <a:ext cx="417816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4067280" cy="4221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4046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造新屋的过程写的简略，可造台阶反而很详细，这是为什麽？</a:t>
            </a:r>
            <a:r>
              <a:rPr b="1" lang="en-US" sz="3600" spc="-1" strike="noStrike">
                <a:solidFill>
                  <a:srgbClr val="00000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76360" y="2276640"/>
            <a:ext cx="59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33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详略是由中心而定的。题目是“台阶”，所以主体工程可以略写，造台阶要详写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9640" y="98100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这篇课文中关于老屋的三级青石板的描写是否可以删除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206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33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2421000"/>
            <a:ext cx="7775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不可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写三块青石板的来历，前后就形成对比，写出父亲当年的强壮，造成新屋之后的老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写石板粗糙，暗示当年经济条件更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写“我”在台阶上跳上跳下，表明那时年幼，而新屋造好，“我已经长大成人了”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说明准备盖房前后用了一二十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33520" y="380880"/>
            <a:ext cx="8153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比较《背影》和《台阶》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在立意和选材上的异同之处。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557360"/>
            <a:ext cx="17082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同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19280" y="3068640"/>
            <a:ext cx="701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都是抓住生活中的细节，以小见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76360" y="1700280"/>
            <a:ext cx="76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都是描写一个平凡而朴实的父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148428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《背影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84360" y="1484280"/>
            <a:ext cx="66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抓住“背影”命题立意，组织材料，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突出了父亲的背影，突出了父爱，给人深刻的印象，让人强烈地感受父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0000" y="401940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围绕“台阶”命题立意，组织材料，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建房这个一般性的题材有了侧重点，有了特色，突出了父亲对社会地位的追求，突出了父亲希望受人尊重的思想性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393372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《台阶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-757080" y="-819000"/>
            <a:ext cx="4572000" cy="3782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332000" y="198900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父亲闪了腰后</a:t>
            </a:r>
            <a:r>
              <a:rPr b="1" lang="en-US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整天若有所失，有一天他走出家门，恰遇愚公闲逛</a:t>
            </a:r>
            <a:r>
              <a:rPr b="1" lang="en-US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二人皆生无限感慨，他们会有怎样的一番谈话</a:t>
            </a:r>
            <a:r>
              <a:rPr b="1" lang="en-US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?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同桌合作</a:t>
            </a:r>
            <a:r>
              <a:rPr b="1" lang="en-US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分角色进行表演</a:t>
            </a:r>
            <a:r>
              <a:rPr b="0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340000" y="476280"/>
            <a:ext cx="5562720" cy="10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08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让想象飞起来</a:t>
            </a:r>
            <a:endParaRPr b="0" lang="en-US" sz="1800" spc="1" strike="noStrike">
              <a:ln w="1260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08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60" name=""/>
          <p:cNvSpPr/>
          <p:nvPr/>
        </p:nvSpPr>
        <p:spPr>
          <a:xfrm>
            <a:off x="8388360" y="6283440"/>
            <a:ext cx="755640" cy="574560"/>
          </a:xfrm>
          <a:custGeom>
            <a:avLst/>
            <a:gdLst>
              <a:gd name="textAreaLeft" fmla="*/ 37080 w 755640"/>
              <a:gd name="textAreaRight" fmla="*/ 718560 w 755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8403" h="21600">
                <a:moveTo>
                  <a:pt x="0" y="0"/>
                </a:moveTo>
                <a:lnTo>
                  <a:pt x="28403" y="0"/>
                </a:lnTo>
                <a:lnTo>
                  <a:pt x="28403" y="21600"/>
                </a:lnTo>
                <a:lnTo>
                  <a:pt x="0" y="21600"/>
                </a:lnTo>
                <a:close/>
              </a:path>
              <a:path fill="lightenLess" w="28403" h="21600">
                <a:moveTo>
                  <a:pt x="0" y="0"/>
                </a:moveTo>
                <a:lnTo>
                  <a:pt x="28403" y="0"/>
                </a:lnTo>
                <a:lnTo>
                  <a:pt x="27003" y="1400"/>
                </a:lnTo>
                <a:lnTo>
                  <a:pt x="1400" y="1400"/>
                </a:lnTo>
                <a:close/>
              </a:path>
              <a:path fill="darken" w="28403" h="21600">
                <a:moveTo>
                  <a:pt x="28403" y="0"/>
                </a:moveTo>
                <a:lnTo>
                  <a:pt x="28403" y="21600"/>
                </a:lnTo>
                <a:lnTo>
                  <a:pt x="27003" y="20200"/>
                </a:lnTo>
                <a:lnTo>
                  <a:pt x="27003" y="1400"/>
                </a:lnTo>
                <a:close/>
              </a:path>
              <a:path fill="darkenLess" w="28403" h="21600">
                <a:moveTo>
                  <a:pt x="284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03" y="20200"/>
                </a:lnTo>
                <a:close/>
              </a:path>
              <a:path fill="lighten" w="284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03" h="21600">
                <a:moveTo>
                  <a:pt x="7195" y="7301"/>
                </a:moveTo>
                <a:lnTo>
                  <a:pt x="8109" y="7301"/>
                </a:lnTo>
                <a:lnTo>
                  <a:pt x="8492" y="7667"/>
                </a:lnTo>
                <a:lnTo>
                  <a:pt x="17701" y="7667"/>
                </a:lnTo>
                <a:lnTo>
                  <a:pt x="18258" y="8224"/>
                </a:lnTo>
                <a:lnTo>
                  <a:pt x="18258" y="8772"/>
                </a:lnTo>
                <a:lnTo>
                  <a:pt x="20103" y="8772"/>
                </a:lnTo>
                <a:lnTo>
                  <a:pt x="20468" y="8224"/>
                </a:lnTo>
                <a:lnTo>
                  <a:pt x="21208" y="8224"/>
                </a:lnTo>
                <a:lnTo>
                  <a:pt x="21208" y="13376"/>
                </a:lnTo>
                <a:lnTo>
                  <a:pt x="20468" y="13376"/>
                </a:lnTo>
                <a:lnTo>
                  <a:pt x="20103" y="12828"/>
                </a:lnTo>
                <a:lnTo>
                  <a:pt x="18258" y="12828"/>
                </a:lnTo>
                <a:lnTo>
                  <a:pt x="18258" y="14107"/>
                </a:lnTo>
                <a:lnTo>
                  <a:pt x="8675" y="14107"/>
                </a:lnTo>
                <a:lnTo>
                  <a:pt x="8675" y="9877"/>
                </a:lnTo>
                <a:lnTo>
                  <a:pt x="8492" y="9877"/>
                </a:lnTo>
                <a:lnTo>
                  <a:pt x="8109" y="10243"/>
                </a:lnTo>
                <a:lnTo>
                  <a:pt x="7195" y="1024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2997360"/>
            <a:ext cx="90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8920" y="333360"/>
            <a:ext cx="878508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课外寻找关于“父亲”的文章、诗歌进行自主阅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黑体"/>
                <a:ea typeface="黑体"/>
              </a:rPr>
              <a:t>推荐书目：苏童《父爱》 梁实秋《代沟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990000"/>
                </a:solidFill>
                <a:latin typeface="黑体"/>
                <a:ea typeface="黑体"/>
              </a:rPr>
              <a:t>周国平《妞妞——一个父亲的札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990000"/>
                </a:solidFill>
                <a:latin typeface="黑体"/>
                <a:ea typeface="黑体"/>
              </a:rPr>
              <a:t>巴尔扎克《高老头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600"/>
            <a:ext cx="85341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诵读感知，整体把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读准字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凹凼（                ）  尴尬（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烦躁（                ）  嵌着（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黏性（                ）  胯骨（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门槛（                ）  磕烟灰（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82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āo d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182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ān  g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2787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25909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i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3581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i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3429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u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4419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4343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26920" y="2349360"/>
            <a:ext cx="784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开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发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高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结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24160" y="8431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说的结构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36000" y="234936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三级青石板的台阶低，要造高台阶的新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2720" y="3213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漫长的准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53360" y="4097160"/>
            <a:ext cx="19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九级台阶的新屋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360" y="49417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新屋落成，人老了，身体垮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踏上台阶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认识父亲（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把握故事情节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96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484280"/>
            <a:ext cx="94330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父亲为什么要建一栋有高台阶的新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父亲怎样造起一栋有高台阶的新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新屋造好了，父亲怎么样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石阶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“父亲总觉得我们家的台阶低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3280" y="189000"/>
            <a:ext cx="429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为什么“父亲总觉得我们家的台阶低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1844640"/>
            <a:ext cx="3936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中宋"/>
              </a:rPr>
              <a:t>因为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台阶是地位的标志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中宋"/>
              </a:rPr>
              <a:t>，人家高的有几十级，自己家的台阶只有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中宋"/>
              </a:rPr>
              <a:t>级，被人家小看，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没人说过他有地位，父亲也觉得自己没有地位”，想有地位却没有地位，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中宋"/>
              </a:rPr>
              <a:t>所以觉得自己家的台阶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2001101015" descr="五、六十年代的宣传画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404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3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父亲为什么要造一栋有高台阶的新屋？</a:t>
            </a:r>
            <a:r>
              <a:rPr b="1" lang="en-US" sz="3600" spc="-1" strike="noStrike">
                <a:solidFill>
                  <a:srgbClr val="00000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49228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造新屋，当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是为了改善居住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件，每个建筑物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有它的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人文性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以说，父亲对台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的要求，也就是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地位的要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2276640"/>
            <a:ext cx="446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隶书"/>
              </a:rPr>
              <a:t>台阶高</a:t>
            </a:r>
            <a:r>
              <a:rPr b="1" lang="en-US" sz="3600" spc="-1" strike="noStrike">
                <a:solidFill>
                  <a:srgbClr val="99cc00"/>
                </a:solidFill>
                <a:latin typeface="华文隶书"/>
              </a:rPr>
              <a:t>,</a:t>
            </a:r>
            <a:r>
              <a:rPr b="1" lang="zh-CN" sz="3600" spc="-1" strike="noStrike">
                <a:solidFill>
                  <a:srgbClr val="99cc00"/>
                </a:solidFill>
                <a:latin typeface="华文隶书"/>
              </a:rPr>
              <a:t>屋主人的地位就相应高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华文楷体"/>
                <a:ea typeface="华文楷体"/>
              </a:rPr>
              <a:t>（父亲毕生的奋斗就是要赢得尊重。也是尊重的需要使他产生希望和理想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3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81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85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5" name=""/>
          <p:cNvCxnSpPr/>
          <p:nvPr/>
        </p:nvCxnSpPr>
        <p:spPr>
          <a:xfrm flipV="1">
            <a:off x="2503440" y="4579560"/>
            <a:ext cx="1223280" cy="650160"/>
          </a:xfrm>
          <a:prstGeom prst="bentConnector3">
            <a:avLst>
              <a:gd name="adj1" fmla="val 49985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6" name=""/>
          <p:cNvCxnSpPr/>
          <p:nvPr/>
        </p:nvCxnSpPr>
        <p:spPr>
          <a:xfrm flipV="1" rot="10800000">
            <a:off x="4487040" y="2862000"/>
            <a:ext cx="1151640" cy="575280"/>
          </a:xfrm>
          <a:prstGeom prst="bentConnector3">
            <a:avLst>
              <a:gd name="adj1" fmla="val 49906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7" name=""/>
          <p:cNvCxnSpPr/>
          <p:nvPr/>
        </p:nvCxnSpPr>
        <p:spPr>
          <a:xfrm flipV="1" rot="10800000">
            <a:off x="3115440" y="4005000"/>
            <a:ext cx="1151640" cy="575280"/>
          </a:xfrm>
          <a:prstGeom prst="bentConnector3">
            <a:avLst>
              <a:gd name="adj1" fmla="val 49906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8" name=""/>
          <p:cNvCxnSpPr/>
          <p:nvPr/>
        </p:nvCxnSpPr>
        <p:spPr>
          <a:xfrm flipV="1" rot="10800000">
            <a:off x="3707640" y="3427920"/>
            <a:ext cx="1303920" cy="610200"/>
          </a:xfrm>
          <a:prstGeom prst="bentConnector3">
            <a:avLst>
              <a:gd name="adj1" fmla="val 499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9" name=""/>
          <p:cNvSpPr/>
          <p:nvPr/>
        </p:nvSpPr>
        <p:spPr>
          <a:xfrm rot="18985200">
            <a:off x="2687400" y="3076200"/>
            <a:ext cx="2423880" cy="166680"/>
          </a:xfrm>
          <a:prstGeom prst="rightArrow">
            <a:avLst>
              <a:gd name="adj1" fmla="val 50000"/>
              <a:gd name="adj2" fmla="val 3635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/>
          <p:nvPr/>
        </p:nvCxnSpPr>
        <p:spPr>
          <a:xfrm flipV="1">
            <a:off x="5024160" y="2276280"/>
            <a:ext cx="1507320" cy="551520"/>
          </a:xfrm>
          <a:prstGeom prst="bentConnector3">
            <a:avLst>
              <a:gd name="adj1" fmla="val 4992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1" name=""/>
          <p:cNvSpPr/>
          <p:nvPr/>
        </p:nvSpPr>
        <p:spPr>
          <a:xfrm>
            <a:off x="2700360" y="2563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8870000">
            <a:off x="3160080" y="232056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MS Outlook"/>
                <a:ea typeface="MS Outlook"/>
              </a:rPr>
              <a:t>艰辛和汗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4941720"/>
            <a:ext cx="28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MS Outlook"/>
                <a:ea typeface="MS Outlook"/>
              </a:rPr>
              <a:t>台阶低　地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30200" y="145584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MS Outlook"/>
                <a:ea typeface="MS Outlook"/>
              </a:rPr>
              <a:t>台阶高　受人尊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民居台阶" descr=""/>
          <p:cNvPicPr/>
          <p:nvPr/>
        </p:nvPicPr>
        <p:blipFill>
          <a:blip r:embed="rId2"/>
          <a:stretch/>
        </p:blipFill>
        <p:spPr>
          <a:xfrm>
            <a:off x="5508720" y="2997360"/>
            <a:ext cx="3635280" cy="386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71480" y="439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/>
          <p:nvPr/>
        </p:nvCxnSpPr>
        <p:spPr>
          <a:xfrm flipV="1">
            <a:off x="1294920" y="5085720"/>
            <a:ext cx="1297800" cy="361080"/>
          </a:xfrm>
          <a:prstGeom prst="bentConnector3">
            <a:avLst>
              <a:gd name="adj1" fmla="val 49916"/>
            </a:avLst>
          </a:prstGeom>
          <a:ln w="76320">
            <a:solidFill>
              <a:srgbClr val="ffff66"/>
            </a:solidFill>
            <a:miter/>
          </a:ln>
        </p:spPr>
      </p:cxnSp>
      <p:cxnSp>
        <p:nvCxnSpPr>
          <p:cNvPr id="88" name=""/>
          <p:cNvCxnSpPr/>
          <p:nvPr/>
        </p:nvCxnSpPr>
        <p:spPr>
          <a:xfrm flipV="1">
            <a:off x="1943280" y="4725360"/>
            <a:ext cx="1297440" cy="361080"/>
          </a:xfrm>
          <a:prstGeom prst="bentConnector3">
            <a:avLst>
              <a:gd name="adj1" fmla="val 49930"/>
            </a:avLst>
          </a:prstGeom>
          <a:ln w="76320">
            <a:solidFill>
              <a:srgbClr val="ffff66"/>
            </a:solidFill>
            <a:miter/>
          </a:ln>
        </p:spPr>
      </p:cxnSp>
      <p:cxnSp>
        <p:nvCxnSpPr>
          <p:cNvPr id="89" name=""/>
          <p:cNvCxnSpPr/>
          <p:nvPr/>
        </p:nvCxnSpPr>
        <p:spPr>
          <a:xfrm flipV="1">
            <a:off x="2592360" y="4293720"/>
            <a:ext cx="1223280" cy="432720"/>
          </a:xfrm>
          <a:prstGeom prst="bentConnector3">
            <a:avLst>
              <a:gd name="adj1" fmla="val 49985"/>
            </a:avLst>
          </a:prstGeom>
          <a:ln w="76320">
            <a:solidFill>
              <a:srgbClr val="ffff66"/>
            </a:solidFill>
            <a:miter/>
          </a:ln>
        </p:spPr>
      </p:cxnSp>
      <p:cxnSp>
        <p:nvCxnSpPr>
          <p:cNvPr id="90" name=""/>
          <p:cNvCxnSpPr/>
          <p:nvPr/>
        </p:nvCxnSpPr>
        <p:spPr>
          <a:xfrm flipV="1">
            <a:off x="3166920" y="3861720"/>
            <a:ext cx="1224720" cy="432360"/>
          </a:xfrm>
          <a:prstGeom prst="bentConnector3">
            <a:avLst>
              <a:gd name="adj1" fmla="val 49926"/>
            </a:avLst>
          </a:prstGeom>
          <a:ln w="76320">
            <a:solidFill>
              <a:srgbClr val="ffff66"/>
            </a:solidFill>
            <a:miter/>
          </a:ln>
        </p:spPr>
      </p:cxnSp>
      <p:cxnSp>
        <p:nvCxnSpPr>
          <p:cNvPr id="91" name=""/>
          <p:cNvCxnSpPr/>
          <p:nvPr/>
        </p:nvCxnSpPr>
        <p:spPr>
          <a:xfrm flipV="1">
            <a:off x="3708360" y="3499560"/>
            <a:ext cx="1296000" cy="359640"/>
          </a:xfrm>
          <a:prstGeom prst="bentConnector3">
            <a:avLst>
              <a:gd name="adj1" fmla="val 49986"/>
            </a:avLst>
          </a:prstGeom>
          <a:ln w="76320">
            <a:solidFill>
              <a:srgbClr val="ffff66"/>
            </a:solidFill>
            <a:miter/>
          </a:ln>
        </p:spPr>
      </p:cxnSp>
      <p:cxnSp>
        <p:nvCxnSpPr>
          <p:cNvPr id="92" name=""/>
          <p:cNvCxnSpPr/>
          <p:nvPr/>
        </p:nvCxnSpPr>
        <p:spPr>
          <a:xfrm flipV="1">
            <a:off x="4390920" y="3069720"/>
            <a:ext cx="1224720" cy="434160"/>
          </a:xfrm>
          <a:prstGeom prst="bentConnector3">
            <a:avLst>
              <a:gd name="adj1" fmla="val 49926"/>
            </a:avLst>
          </a:prstGeom>
          <a:ln w="76320">
            <a:solidFill>
              <a:srgbClr val="ffff66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9907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捡 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90400" y="44704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捡 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400536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存角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9320" y="36450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种 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8760" y="32209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砍 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64320" y="2852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捡石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24240" y="234936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编草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44500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方正姚体"/>
                <a:ea typeface="方正姚体"/>
              </a:rPr>
              <a:t>台阶低 地位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43120" y="259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35920" y="2133720"/>
            <a:ext cx="18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方正姚体"/>
                <a:ea typeface="方正姚体"/>
              </a:rPr>
              <a:t>台阶高  受人尊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60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3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那么父亲是怎样造起一栋有高台阶的新屋的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或他都作了哪些准备工作？）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81360" y="4437000"/>
            <a:ext cx="4562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天捡砖、瓦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鹅卵石等。往瓦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里塞角票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语文备课大师 www.xiexingcun.com【全免费】</dc:creator>
  <dc:description>语文备课大师 www.xiexingcun.com【全免费】</dc:description>
  <dc:language>en-US</dc:language>
  <cp:lastModifiedBy>User</cp:lastModifiedBy>
  <dcterms:modified xsi:type="dcterms:W3CDTF">2015-07-15T00:14:48Z</dcterms:modified>
  <cp:revision>0</cp:revision>
  <dc:subject> </dc:subject>
  <dc:title>语文备课大师 www.xiexingcun.com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