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chimes.wav" ContentType="audio/x-wav"/>
  <Override PartName="/ppt/media/image16.jpeg" ContentType="image/jpeg"/>
  <Override PartName="/ppt/media/image3.jpeg" ContentType="image/jpeg"/>
  <Override PartName="/ppt/media/image15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8319-F420-4F6B-A794-6BBE7EDE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31D-9710-406A-A8DF-BA9638F9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4A2C-4EE9-4D92-AB7C-FF57C90D1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CB74-EBC3-4E93-A0A5-5CB527E3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5D20-F2E8-4F0E-9347-B53E1BA5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6835-9FE4-4A11-B5C8-15961E6E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DE56-1346-421B-8549-73C7A783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DFDF-4D38-4AD2-BBE7-7BED3D22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E5B2-A4F7-4D94-AA83-EDEBC0B1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2324-1143-4AB6-AA74-E2F8AB03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F83D-C57B-4CD2-B8E5-41144398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1C09-3F23-4CEA-A3FB-27CEE101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4359-64D4-41D4-82DA-9466BB4BC8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6670800"/>
            <a:ext cx="9144000" cy="214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qiyi.com/w_19rsdjzp19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7560" y="706320"/>
            <a:ext cx="8034480" cy="54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9040" y="12859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宋体"/>
              </a:rPr>
              <a:t>红装素裹：</a:t>
            </a:r>
            <a:r>
              <a:rPr b="0" lang="zh-CN" sz="2400" spc="-1" strike="noStrike">
                <a:solidFill>
                  <a:srgbClr val="cc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5400" y="5249880"/>
            <a:ext cx="12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宋体"/>
              </a:rPr>
              <a:t>妖娆：</a:t>
            </a:r>
            <a:r>
              <a:rPr b="0" lang="zh-CN" sz="2400" spc="-1" strike="noStrike">
                <a:solidFill>
                  <a:srgbClr val="cc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6040" y="4572000"/>
            <a:ext cx="14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宋体"/>
              </a:rPr>
              <a:t>折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0200" y="2519280"/>
            <a:ext cx="20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宋体"/>
              </a:rPr>
              <a:t>惟余莽莽：</a:t>
            </a:r>
            <a:r>
              <a:rPr b="0" lang="zh-CN" sz="2400" spc="-1" strike="noStrike">
                <a:solidFill>
                  <a:srgbClr val="cc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3440" y="3195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宋体"/>
              </a:rPr>
              <a:t>顿失滔滔：</a:t>
            </a:r>
            <a:r>
              <a:rPr b="0" lang="zh-CN" sz="2400" spc="-1" strike="noStrike">
                <a:solidFill>
                  <a:srgbClr val="cc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3960" y="390384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宋体"/>
              </a:rPr>
              <a:t>一代天骄：</a:t>
            </a:r>
            <a:r>
              <a:rPr b="0" lang="zh-CN" sz="2400" spc="-1" strike="noStrike">
                <a:solidFill>
                  <a:srgbClr val="cc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4560" y="1289160"/>
            <a:ext cx="68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形容雪后天晴，红日和白雪交相辉映的壮丽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色。这里指白雪覆盖着大地。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00400" y="524196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娇艳美好。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98600" y="45766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鞠躬，倾倒。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74840" y="2500200"/>
            <a:ext cx="68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只剩下白茫茫的一片。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2240" y="3197160"/>
            <a:ext cx="68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黄河因结冰而立刻失去了波涛滚滚的气势。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79520" y="389268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称雄一世的人物。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87480" y="1882800"/>
            <a:ext cx="664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ff"/>
                </a:solidFill>
                <a:latin typeface="宋体"/>
              </a:rPr>
              <a:t>词的上下两片写了什么内容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8640" y="2525760"/>
            <a:ext cx="54547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上片：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描写北国雪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下片：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纵论历代英雄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lum bright="6000"/>
          </a:blip>
          <a:srcRect l="0" t="0" r="-2013" b="0"/>
          <a:stretch/>
        </p:blipFill>
        <p:spPr>
          <a:xfrm>
            <a:off x="887400" y="3821040"/>
            <a:ext cx="7526520" cy="2363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35411" r="0" b="0"/>
          <a:stretch/>
        </p:blipFill>
        <p:spPr>
          <a:xfrm>
            <a:off x="920880" y="992160"/>
            <a:ext cx="2797200" cy="6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77880" y="10238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上阕：描写北方壮丽雪景，抒发作者思想感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41400" y="2760840"/>
            <a:ext cx="546120" cy="17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北国雪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92600" y="218592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里冰封、万里雪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82960" y="3211560"/>
            <a:ext cx="4519800" cy="469080"/>
            <a:chOff x="3882960" y="3211560"/>
            <a:chExt cx="4519800" cy="469080"/>
          </a:xfrm>
        </p:grpSpPr>
        <p:sp>
          <p:nvSpPr>
            <p:cNvPr id="98" name=""/>
            <p:cNvSpPr/>
            <p:nvPr/>
          </p:nvSpPr>
          <p:spPr>
            <a:xfrm>
              <a:off x="3882960" y="3220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70240" y="3211560"/>
              <a:ext cx="423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长城、黄河、山脉、高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273320" y="4462560"/>
            <a:ext cx="6322680" cy="647640"/>
            <a:chOff x="1273320" y="4462560"/>
            <a:chExt cx="6322680" cy="647640"/>
          </a:xfrm>
        </p:grpSpPr>
        <p:sp>
          <p:nvSpPr>
            <p:cNvPr id="101" name=""/>
            <p:cNvSpPr/>
            <p:nvPr/>
          </p:nvSpPr>
          <p:spPr>
            <a:xfrm>
              <a:off x="1273320" y="4462560"/>
              <a:ext cx="6283800" cy="647640"/>
            </a:xfrm>
            <a:custGeom>
              <a:avLst/>
              <a:gdLst>
                <a:gd name="textAreaLeft" fmla="*/ 0 w 6283800"/>
                <a:gd name="textAreaRight" fmla="*/ 6284160 w 6283800"/>
                <a:gd name="textAreaTop" fmla="*/ 39240 h 647640"/>
                <a:gd name="textAreaBottom" fmla="*/ 6084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55"/>
                  </a:moveTo>
                  <a:cubicBezTo>
                    <a:pt x="3600" y="-1665"/>
                    <a:pt x="7200" y="2975"/>
                    <a:pt x="10800" y="655"/>
                  </a:cubicBezTo>
                  <a:cubicBezTo>
                    <a:pt x="14400" y="-1665"/>
                    <a:pt x="18000" y="2975"/>
                    <a:pt x="21600" y="655"/>
                  </a:cubicBezTo>
                  <a:lnTo>
                    <a:pt x="21600" y="20945"/>
                  </a:lnTo>
                  <a:cubicBezTo>
                    <a:pt x="18000" y="23265"/>
                    <a:pt x="14400" y="18625"/>
                    <a:pt x="10800" y="20945"/>
                  </a:cubicBezTo>
                  <a:cubicBezTo>
                    <a:pt x="7200" y="23265"/>
                    <a:pt x="3600" y="18625"/>
                    <a:pt x="0" y="20945"/>
                  </a:cubicBezTo>
                  <a:close/>
                </a:path>
              </a:pathLst>
            </a:custGeom>
            <a:gradFill rotWithShape="0">
              <a:gsLst>
                <a:gs pos="0">
                  <a:srgbClr val="c9f9ff"/>
                </a:gs>
                <a:gs pos="50000">
                  <a:srgbClr val="ffffff"/>
                </a:gs>
                <a:gs pos="100000">
                  <a:srgbClr val="c9f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34240" y="4545000"/>
              <a:ext cx="61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抒发了词作者对祖国壮丽山河的热爱之情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 flipV="1">
            <a:off x="4772160" y="2639520"/>
            <a:ext cx="880920" cy="559080"/>
          </a:xfrm>
          <a:prstGeom prst="line">
            <a:avLst/>
          </a:prstGeom>
          <a:ln w="28440">
            <a:solidFill>
              <a:srgbClr val="cc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4676400" y="2647800"/>
            <a:ext cx="811080" cy="540000"/>
          </a:xfrm>
          <a:prstGeom prst="line">
            <a:avLst/>
          </a:prstGeom>
          <a:ln w="28440">
            <a:solidFill>
              <a:srgbClr val="cc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47640" y="4192560"/>
            <a:ext cx="45900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554120" y="2697120"/>
            <a:ext cx="801720" cy="1490040"/>
            <a:chOff x="1554120" y="2697120"/>
            <a:chExt cx="801720" cy="1490040"/>
          </a:xfrm>
        </p:grpSpPr>
        <p:sp>
          <p:nvSpPr>
            <p:cNvPr id="107" name=""/>
            <p:cNvSpPr/>
            <p:nvPr/>
          </p:nvSpPr>
          <p:spPr>
            <a:xfrm>
              <a:off x="1807920" y="26971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实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09360" y="3727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虚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54120" y="299700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678040" y="2309760"/>
            <a:ext cx="776160" cy="1375560"/>
            <a:chOff x="2678040" y="2309760"/>
            <a:chExt cx="776160" cy="1375560"/>
          </a:xfrm>
        </p:grpSpPr>
        <p:sp>
          <p:nvSpPr>
            <p:cNvPr id="111" name=""/>
            <p:cNvSpPr/>
            <p:nvPr/>
          </p:nvSpPr>
          <p:spPr>
            <a:xfrm>
              <a:off x="2907720" y="2309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总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07720" y="3225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详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78040" y="260172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608200" y="3735360"/>
            <a:ext cx="3997440" cy="473760"/>
            <a:chOff x="2608200" y="3735360"/>
            <a:chExt cx="3997440" cy="473760"/>
          </a:xfrm>
        </p:grpSpPr>
        <p:grpSp>
          <p:nvGrpSpPr>
            <p:cNvPr id="115" name=""/>
            <p:cNvGrpSpPr/>
            <p:nvPr/>
          </p:nvGrpSpPr>
          <p:grpSpPr>
            <a:xfrm>
              <a:off x="4048200" y="3735360"/>
              <a:ext cx="2557440" cy="473760"/>
              <a:chOff x="4048200" y="3735360"/>
              <a:chExt cx="2557440" cy="473760"/>
            </a:xfrm>
          </p:grpSpPr>
          <p:sp>
            <p:nvSpPr>
              <p:cNvPr id="116" name=""/>
              <p:cNvSpPr/>
              <p:nvPr/>
            </p:nvSpPr>
            <p:spPr>
              <a:xfrm>
                <a:off x="4048200" y="3735360"/>
                <a:ext cx="86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398840" y="3749400"/>
                <a:ext cx="220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红装素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flipV="1">
              <a:off x="2608200" y="4012560"/>
              <a:ext cx="1406520" cy="1800"/>
            </a:xfrm>
            <a:prstGeom prst="line">
              <a:avLst/>
            </a:prstGeom>
            <a:ln w="2232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赏析上阕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937260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、上阕描写北国雪景，哪几句是总写？哪几句是分写？分写的内容有一个什么字总领？它领起的内容有哪些？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d60093"/>
                </a:solidFill>
                <a:latin typeface="Arial"/>
              </a:rPr>
              <a:t>北国风光——万里雪飘”是总写，“望长城内外——分外妖娆”是分写。分写的内容由“望”字总领，领起的内容到“欲与天公试比高”。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重要词句的品味：须晴日，看红妆素裹，分外妖娆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（从修辞、字词、含义等方面考虑）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tiangong3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952880" y="2286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幼圆"/>
              </a:rPr>
              <a:t>你看，红日冉冉升起，放射出万道霞光，染红了天边的白云，映红了高原上皑皑白雪。云海茫茫，雪山巍巍，苍松翠柏，郁郁青青。红日白雪交相辉映，祖国就像一位红装素裹的少女，格外妖艳多姿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雪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880" y="380880"/>
            <a:ext cx="8534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江山如此多娇”是承上阕来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了一个“娇”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褒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赞扬。那祖国的江山有那些可赞之景呢？看题目，什么景？在祖国的什么地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42720" y="2590920"/>
            <a:ext cx="42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雪景，在祖国的北方（“北国风光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3680" y="3581280"/>
            <a:ext cx="25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北国风光怎样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17040" y="4495680"/>
            <a:ext cx="40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千里冰封，万里雪飘。”（注意“封”和“飘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;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互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54864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首句创造了一个冰天雪地、广袤无垠的境界，写法上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华文楷体"/>
              </a:rPr>
              <a:t>动静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雪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09480" y="6858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面的内容由哪一个字领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3581280"/>
            <a:ext cx="807732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长城内外，惟余莽莽，大河上下，顿失滔滔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会“惟余”和“顿失”的作用并说出所用的修辞方法是什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27520" y="2060640"/>
            <a:ext cx="4155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从“长城内外，到欲与天公试比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50292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惟余”体现白雪覆盖的范围之广，“顿失”表现冰封速度之快，用了夸张的修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29080" y="685800"/>
            <a:ext cx="8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25960" y="13716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思考：望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13880" y="2590920"/>
            <a:ext cx="41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由此可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阕的结构特点是什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53800" y="3200400"/>
            <a:ext cx="19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先总写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后分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雪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0880" y="41911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上景物确实很美，作者认为还有那种景色是美丽的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304920"/>
            <a:ext cx="84582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山舞银蛇，原驰蜡象，欲与天公试比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山、原都是静止的事物，为何写它们“舞”、“驰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447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山舞银蛇，原驰蜡象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的动态描写都有活泼奔放的气势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.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加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欲与天公试比高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一句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表现“山”“原”与天相连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更有一种奋发的态势和竞争的活力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山、原都是静止的事物，写它们“舞”、“驰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是化静为动的浪漫想像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诗人情感的跃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使他眼前的大自然也显得生气勃勃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生动活跃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62200" y="525780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须晴日，看红装素裹，分外妖娆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99440" y="5867280"/>
            <a:ext cx="50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须”的意思是等到。表明天还没有晴，所以这句话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虚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雪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总结上阕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先总写北方雪景。然后写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眼前实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接着写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想象虚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虚实结合，动静结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写出了“江山如此多娇”。（另：请在课文里标注动静句、想象句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5120" y="202644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江山如此多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32760" y="2286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概括写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2438280"/>
            <a:ext cx="76320" cy="2743200"/>
          </a:xfrm>
          <a:custGeom>
            <a:avLst/>
            <a:gdLst>
              <a:gd name="textAreaLeft" fmla="*/ 48960 w 76320"/>
              <a:gd name="textAreaRight" fmla="*/ 76320 w 763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09080" y="3429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具体写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09080" y="4495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想象写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251460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88720" y="2530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（实写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3400" y="3368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（以动写静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75960" y="4572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（虚写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140320" y="1549080"/>
            <a:ext cx="72900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热爱祖国大好河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15760" y="534996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（写景、抒情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71400" y="768240"/>
            <a:ext cx="78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下阕——评论历史英雄，表达作者的伟大政治抱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46880" y="2610000"/>
            <a:ext cx="1442160" cy="2939400"/>
            <a:chOff x="146880" y="2610000"/>
            <a:chExt cx="1442160" cy="2939400"/>
          </a:xfrm>
        </p:grpSpPr>
        <p:sp>
          <p:nvSpPr>
            <p:cNvPr id="159" name=""/>
            <p:cNvSpPr/>
            <p:nvPr/>
          </p:nvSpPr>
          <p:spPr>
            <a:xfrm>
              <a:off x="146880" y="2610000"/>
              <a:ext cx="911880" cy="25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ff"/>
                  </a:solidFill>
                  <a:latin typeface="Arial"/>
                  <a:ea typeface="楷体_GB2312"/>
                </a:rPr>
                <a:t>江山如此多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7160" y="2626920"/>
              <a:ext cx="911880" cy="29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ff"/>
                  </a:solidFill>
                  <a:latin typeface="Arial"/>
                  <a:ea typeface="楷体_GB2312"/>
                </a:rPr>
                <a:t>引无数英雄竞折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482920" y="3340080"/>
            <a:ext cx="4759200" cy="459720"/>
            <a:chOff x="2482920" y="3340080"/>
            <a:chExt cx="4759200" cy="459720"/>
          </a:xfrm>
        </p:grpSpPr>
        <p:sp>
          <p:nvSpPr>
            <p:cNvPr id="162" name=""/>
            <p:cNvSpPr/>
            <p:nvPr/>
          </p:nvSpPr>
          <p:spPr>
            <a:xfrm>
              <a:off x="2482920" y="3340080"/>
              <a:ext cx="214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成吉思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84560" y="3340080"/>
              <a:ext cx="315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只识弯弓射大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487600" y="2743200"/>
            <a:ext cx="3492360" cy="459720"/>
            <a:chOff x="2487600" y="2743200"/>
            <a:chExt cx="3492360" cy="459720"/>
          </a:xfrm>
        </p:grpSpPr>
        <p:sp>
          <p:nvSpPr>
            <p:cNvPr id="165" name=""/>
            <p:cNvSpPr/>
            <p:nvPr/>
          </p:nvSpPr>
          <p:spPr>
            <a:xfrm>
              <a:off x="2487600" y="2743200"/>
              <a:ext cx="21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唐宗、宋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18040" y="2743200"/>
              <a:ext cx="18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稍逊风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776680" y="4637160"/>
            <a:ext cx="27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今朝风流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630440" y="2768760"/>
            <a:ext cx="620640" cy="2339280"/>
            <a:chOff x="1630440" y="2768760"/>
            <a:chExt cx="620640" cy="2339280"/>
          </a:xfrm>
        </p:grpSpPr>
        <p:sp>
          <p:nvSpPr>
            <p:cNvPr id="169" name=""/>
            <p:cNvSpPr/>
            <p:nvPr/>
          </p:nvSpPr>
          <p:spPr>
            <a:xfrm>
              <a:off x="1874520" y="2768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87480" y="4648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30440" y="2948040"/>
              <a:ext cx="156960" cy="1897200"/>
            </a:xfrm>
            <a:custGeom>
              <a:avLst/>
              <a:gdLst>
                <a:gd name="textAreaLeft" fmla="*/ 100440 w 156960"/>
                <a:gd name="textAreaRight" fmla="*/ 157320 w 156960"/>
                <a:gd name="textAreaTop" fmla="*/ 49320 h 1897200"/>
                <a:gd name="textAreaBottom" fmla="*/ 1847880 h 189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842000" y="4222800"/>
            <a:ext cx="2765160" cy="1191240"/>
            <a:chOff x="4842000" y="4222800"/>
            <a:chExt cx="2765160" cy="1191240"/>
          </a:xfrm>
        </p:grpSpPr>
        <p:sp>
          <p:nvSpPr>
            <p:cNvPr id="173" name=""/>
            <p:cNvSpPr/>
            <p:nvPr/>
          </p:nvSpPr>
          <p:spPr>
            <a:xfrm>
              <a:off x="6046920" y="4222800"/>
              <a:ext cx="1560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文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武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42000" y="4901760"/>
              <a:ext cx="113508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461280" y="2367000"/>
            <a:ext cx="2463480" cy="1260360"/>
            <a:chOff x="6461280" y="2367000"/>
            <a:chExt cx="2463480" cy="1260360"/>
          </a:xfrm>
        </p:grpSpPr>
        <p:sp>
          <p:nvSpPr>
            <p:cNvPr id="176" name=""/>
            <p:cNvSpPr/>
            <p:nvPr/>
          </p:nvSpPr>
          <p:spPr>
            <a:xfrm>
              <a:off x="6676920" y="2756160"/>
              <a:ext cx="224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短于“文治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61280" y="2367000"/>
              <a:ext cx="166680" cy="1260360"/>
            </a:xfrm>
            <a:custGeom>
              <a:avLst/>
              <a:gdLst>
                <a:gd name="textAreaLeft" fmla="*/ 0 w 166680"/>
                <a:gd name="textAreaRight" fmla="*/ 60120 w 166680"/>
                <a:gd name="textAreaTop" fmla="*/ 32760 h 1260360"/>
                <a:gd name="textAreaBottom" fmla="*/ 1227600 h 12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332080" y="2106720"/>
            <a:ext cx="3819600" cy="1601640"/>
            <a:chOff x="2332080" y="2106720"/>
            <a:chExt cx="3819600" cy="1601640"/>
          </a:xfrm>
        </p:grpSpPr>
        <p:sp>
          <p:nvSpPr>
            <p:cNvPr id="179" name=""/>
            <p:cNvSpPr/>
            <p:nvPr/>
          </p:nvSpPr>
          <p:spPr>
            <a:xfrm>
              <a:off x="4118040" y="2106720"/>
              <a:ext cx="20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略输文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2332080" y="2117880"/>
              <a:ext cx="2779560" cy="1590480"/>
              <a:chOff x="2332080" y="2117880"/>
              <a:chExt cx="2779560" cy="1590480"/>
            </a:xfrm>
          </p:grpSpPr>
          <p:sp>
            <p:nvSpPr>
              <p:cNvPr id="181" name=""/>
              <p:cNvSpPr/>
              <p:nvPr/>
            </p:nvSpPr>
            <p:spPr>
              <a:xfrm>
                <a:off x="2471760" y="2117880"/>
                <a:ext cx="2639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秦皇、汉武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332080" y="2273400"/>
                <a:ext cx="120600" cy="1434960"/>
              </a:xfrm>
              <a:custGeom>
                <a:avLst/>
                <a:gdLst>
                  <a:gd name="textAreaLeft" fmla="*/ 77040 w 120600"/>
                  <a:gd name="textAreaRight" fmla="*/ 120960 w 120600"/>
                  <a:gd name="textAreaTop" fmla="*/ 37080 h 1434960"/>
                  <a:gd name="textAreaBottom" fmla="*/ 1397880 h 1434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"/>
          <p:cNvSpPr/>
          <p:nvPr/>
        </p:nvSpPr>
        <p:spPr>
          <a:xfrm>
            <a:off x="593640" y="5280120"/>
            <a:ext cx="71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政治抱负：改造社会，引领时代风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762120"/>
            <a:ext cx="7467480" cy="21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中国出了个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毛泽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毛泽东是一个土生土长、地地道道的中国人，不管是上马挥戈剑的勇武，还是下马草军书的果决，也不管他显示出来的是纵横捭阖的气魄，还是文采风流的才情，都是纯粹中国式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毛泽东的诗词创作自少年始，直至暮年，贯穿其一生。其一生伴随中国革命的发展，其作品堪称浓缩的中国革命诗史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77680" y="5715000"/>
            <a:ext cx="33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著名诗人臧克家说过：“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毛泽东诗词是伟大的篇章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d60093"/>
                </a:solidFill>
                <a:latin typeface="Arial"/>
              </a:rPr>
              <a:t>、诗人是怎样由上阕对祖国山河的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0" lang="zh-CN" sz="2400" spc="-1" strike="noStrike">
                <a:solidFill>
                  <a:srgbClr val="d60093"/>
                </a:solidFill>
                <a:latin typeface="Arial"/>
              </a:rPr>
              <a:t>赞美转入对历史人物的评点的？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江山如此——竞折腰”，承上启下的过渡句。“娇”是一种女性美，正与“红装素裹，分外妖娆”相照应。“引无数英雄竞折腰”引出下文。“竞”字写尽了英雄之间激烈的斗争，写尽英雄之间的相继崛起，“折腰”的形象，最能概括每一个英雄人物的奋斗动机和奋斗姿态。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50200" y="2379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分析下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雪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80880" y="5335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文中提到的英雄分别有什么功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1143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明确：秦始皇（第一次统一中国）、汉武帝（建立强盛西汉）唐太宗（开创贞观之治）、宋太祖（结束五代十国的分裂局面，统一宋朝）、元太祖（武功盖世，统一蒙古，立足中原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3581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于这些英雄人物，作者用了一个“惜”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惜”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490536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明确：“略输文采，稍逊风骚”。“只识弯弓射大雕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雪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33520" y="1752480"/>
            <a:ext cx="8229600" cy="31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惜”中含褒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肯定他们，就是肯定中华民族是一个英雄辈出的民族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惜”中含贬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赞扬他们长于武功的同时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委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指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短于文治的缺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略输、稍逊、只识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惜”中寓志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惜”并不是苛求古前人，蕴含无产阶级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后来居上豪迈气概，及超越历代英雄人物的自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90120" y="609480"/>
            <a:ext cx="465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4.“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惜”中含有哪些意思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04920" y="228600"/>
            <a:ext cx="1295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惜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3276720"/>
            <a:ext cx="914400" cy="304560"/>
          </a:xfrm>
          <a:custGeom>
            <a:avLst/>
            <a:gdLst>
              <a:gd name="textAreaLeft" fmla="*/ 142920 w 914400"/>
              <a:gd name="textAreaRight" fmla="*/ 800280 w 9144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33920" y="685800"/>
            <a:ext cx="304560" cy="4114800"/>
          </a:xfrm>
          <a:custGeom>
            <a:avLst/>
            <a:gdLst>
              <a:gd name="textAreaLeft" fmla="*/ 194760 w 304560"/>
              <a:gd name="textAreaRight" fmla="*/ 304920 w 30456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86200" y="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、肯定这些英雄人物的功绩，他们在中国历史上的巨大影响</a:t>
            </a:r>
            <a:r>
              <a:rPr b="0" lang="zh-CN" sz="3600" spc="-1" strike="noStrike">
                <a:solidFill>
                  <a:srgbClr val="008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7524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、委婉的批评了他们的不足，批评他们短于“文治”，在政治、思想、文化方面建树不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3581280"/>
            <a:ext cx="510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、“惜”字包含后来居上的伟大气概，体现了无产阶级的革命英雄必将胜过前人的坚强信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51055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1295280"/>
            <a:ext cx="20574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秦皇汉武， 略输文采； 唐宗宋祖， 稍逊风骚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代天骄， 成吉思汗；只识弯弓射大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667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陪衬当代英雄为下文歌颂无产阶级英雄作铺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13240" y="478800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60093"/>
                </a:solidFill>
                <a:latin typeface="Arial"/>
              </a:rPr>
              <a:t>目的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71560" y="-831600"/>
            <a:ext cx="729000" cy="63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作者对历史人物的态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95280" y="54936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如何理解“俱往矣，数风流人物，还看今朝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2349360"/>
            <a:ext cx="856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代那些帝王都过去了，要看叱咤风云的人物，还得看现在，看人民群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“数”与“看”两个动词流露出对中国无产阶级的自信，历代英雄人物统统被滚滚的历史洪流席卷而去，只有今天的无产阶级才是推动历史前进的真正动力，才是祖国大好河山当之无愧的主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抒发了作者作为革命家的伟大抱负，歌颂了无产阶级革命英雄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838080" y="1571760"/>
            <a:ext cx="709956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作者为什么要议论评说古代帝王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82640" y="2373480"/>
            <a:ext cx="842796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以“往昔”与“今朝” 对比，“英雄”与“风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物”对比，突出了今朝革命英雄主宰河山的历史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73120" y="5354640"/>
            <a:ext cx="7949520" cy="877680"/>
            <a:chOff x="573120" y="5354640"/>
            <a:chExt cx="7949520" cy="877680"/>
          </a:xfrm>
        </p:grpSpPr>
        <p:sp>
          <p:nvSpPr>
            <p:cNvPr id="210" name=""/>
            <p:cNvSpPr/>
            <p:nvPr/>
          </p:nvSpPr>
          <p:spPr>
            <a:xfrm>
              <a:off x="573120" y="5504040"/>
              <a:ext cx="1591560" cy="4194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3120" y="5898240"/>
              <a:ext cx="1588320" cy="30888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70480" y="5488560"/>
              <a:ext cx="3152160" cy="43488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67960" y="5923800"/>
              <a:ext cx="3154680" cy="3085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67960" y="5739120"/>
              <a:ext cx="6768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69840" y="5739120"/>
              <a:ext cx="7164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78560" y="5739120"/>
              <a:ext cx="7092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67960" y="5788080"/>
              <a:ext cx="30384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67960" y="5877360"/>
              <a:ext cx="30384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26440" y="5739120"/>
              <a:ext cx="6840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29040" y="5739120"/>
              <a:ext cx="7092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37040" y="5739120"/>
              <a:ext cx="7092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45400" y="5739120"/>
              <a:ext cx="7092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53400" y="5739120"/>
              <a:ext cx="71640" cy="20124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61760" y="5750280"/>
              <a:ext cx="70920" cy="207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073000" y="5761440"/>
              <a:ext cx="68400" cy="21816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180640" y="5775120"/>
              <a:ext cx="68400" cy="23652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289000" y="5796360"/>
              <a:ext cx="68400" cy="25992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97720" y="5820120"/>
              <a:ext cx="67680" cy="30168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505360" y="5871960"/>
              <a:ext cx="17280" cy="29772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89720" y="5788080"/>
              <a:ext cx="1132920" cy="14652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89720" y="5877360"/>
              <a:ext cx="1132920" cy="21528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69640" y="5739120"/>
              <a:ext cx="6840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72240" y="5739120"/>
              <a:ext cx="7092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879880" y="5739120"/>
              <a:ext cx="7164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69640" y="5788080"/>
              <a:ext cx="30456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69640" y="5877360"/>
              <a:ext cx="30456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970960" y="5739120"/>
              <a:ext cx="6840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71040" y="5739120"/>
              <a:ext cx="7092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82280" y="5739120"/>
              <a:ext cx="7092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70960" y="5788080"/>
              <a:ext cx="30456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70960" y="5877360"/>
              <a:ext cx="30456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73360" y="5739120"/>
              <a:ext cx="6840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72720" y="5739120"/>
              <a:ext cx="7164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81080" y="5739120"/>
              <a:ext cx="7092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73360" y="5788080"/>
              <a:ext cx="30456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73360" y="5877360"/>
              <a:ext cx="30456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72160" y="5739120"/>
              <a:ext cx="7092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74760" y="5739120"/>
              <a:ext cx="7092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82760" y="5739120"/>
              <a:ext cx="7164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72160" y="5788080"/>
              <a:ext cx="30708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72160" y="5877360"/>
              <a:ext cx="30708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873840" y="5739120"/>
              <a:ext cx="7164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76440" y="5739120"/>
              <a:ext cx="7092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84800" y="5739120"/>
              <a:ext cx="7092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73840" y="5788080"/>
              <a:ext cx="30456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73840" y="5877360"/>
              <a:ext cx="30456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75880" y="5739120"/>
              <a:ext cx="7092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78480" y="5739120"/>
              <a:ext cx="7092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86480" y="5739120"/>
              <a:ext cx="7092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75880" y="5788080"/>
              <a:ext cx="30456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75880" y="5877360"/>
              <a:ext cx="30456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75040" y="5445360"/>
              <a:ext cx="865080" cy="58716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30240" y="5354640"/>
              <a:ext cx="1212480" cy="42912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4680" y="5492880"/>
              <a:ext cx="3203280" cy="43056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35600" y="5477400"/>
              <a:ext cx="500760" cy="4460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1800" y="5610240"/>
              <a:ext cx="1078920" cy="31320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23520" y="5583600"/>
              <a:ext cx="1098720" cy="1861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63480" y="5780880"/>
              <a:ext cx="381600" cy="14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45640" y="5583600"/>
              <a:ext cx="876600" cy="16632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88680" y="5792040"/>
              <a:ext cx="324720" cy="1314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61440" y="5923800"/>
              <a:ext cx="3206520" cy="3085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51680" y="5391000"/>
              <a:ext cx="1238400" cy="28656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63200" y="5479200"/>
              <a:ext cx="1528920" cy="44424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88400" y="5720760"/>
              <a:ext cx="888480" cy="19404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38320" y="5845320"/>
              <a:ext cx="495000" cy="78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38320" y="5716440"/>
              <a:ext cx="210240" cy="12852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09960" y="5742000"/>
              <a:ext cx="381600" cy="1450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81160" y="5730480"/>
              <a:ext cx="12816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51680" y="5442480"/>
              <a:ext cx="1551600" cy="26280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17960" y="5750280"/>
              <a:ext cx="16524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930120" y="5750280"/>
              <a:ext cx="684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05520" y="5750280"/>
              <a:ext cx="6552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10440" y="5750280"/>
              <a:ext cx="10512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42040" y="5750280"/>
              <a:ext cx="4824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38960" y="5750280"/>
              <a:ext cx="4824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99000" y="5576760"/>
              <a:ext cx="76680" cy="277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04120" y="5576760"/>
              <a:ext cx="79920" cy="277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44720" y="5561640"/>
              <a:ext cx="90720" cy="374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01600" y="5595120"/>
              <a:ext cx="495000" cy="12132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25600" y="5889960"/>
              <a:ext cx="196920" cy="2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60440" y="5852160"/>
              <a:ext cx="196200" cy="2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57920" y="5631120"/>
              <a:ext cx="227160" cy="8496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34320" y="5716440"/>
              <a:ext cx="2556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52720" y="5595120"/>
              <a:ext cx="316080" cy="9468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48920" y="5716440"/>
              <a:ext cx="4320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38320" y="5716440"/>
              <a:ext cx="4248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86880" y="5923800"/>
              <a:ext cx="1258200" cy="30852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78440" y="5782320"/>
              <a:ext cx="127800" cy="23760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92480" y="5801760"/>
              <a:ext cx="73440" cy="684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92480" y="5832720"/>
              <a:ext cx="76680" cy="54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92480" y="5824440"/>
              <a:ext cx="76680" cy="396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92480" y="5866200"/>
              <a:ext cx="81720" cy="684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92480" y="5859360"/>
              <a:ext cx="81720" cy="396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6480" y="5448240"/>
              <a:ext cx="865080" cy="62028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81400" y="5362920"/>
              <a:ext cx="1161360" cy="41652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80680" y="5889960"/>
              <a:ext cx="227880" cy="12996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99080" y="5940360"/>
              <a:ext cx="134280" cy="6948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77800" y="2141640"/>
            <a:ext cx="759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全词点明主旨的句子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82480" y="2765520"/>
            <a:ext cx="856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俱往矣，数风流人物，还看今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”由评论历史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落到赞扬当代无产阶级和革命人民，使全词的思想境界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到了高峰，点明了主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22440" y="1133640"/>
            <a:ext cx="67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谁是真正的英雄？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88960" y="178128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今朝的风流人物，是新时代在文治和武功方面都有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杰出才能和更伟大抱负的人，应该是人民群众，也应该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领导人民群众进行斗争的无产阶级革命家，还应该是词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自况。这是词人的自信和自励，是他决心登上历史舞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威武雄壮的宣言。这是全词的主旨所在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510320" y="4362480"/>
            <a:ext cx="1204920" cy="191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04800" y="1335240"/>
            <a:ext cx="78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上阕中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望”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字统领到哪一句？“山舞银蛇，原驰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象”，山脉怎会像银蛇在舞动，高原怎会像白象在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须晴日”三句中，哪个字表明是虚写？试用散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语言描述这三句诗的意境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下阕中“惜”字包含着作者什么感情？评论了哪几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历史人物？“略”、“稍”有什么作用？“略输”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稍逊”和“只识”有什么区别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25320" y="671400"/>
            <a:ext cx="35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品析语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452520" y="838080"/>
            <a:ext cx="855180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上阕中“望”字统领到哪一句？“山舞银蛇，原驰蜡象”，山脉怎会像银蛇在舞动，高原怎会像白象在奔跑？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 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44680" y="2014560"/>
            <a:ext cx="806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望”字统领到“欲与天公试比高”。“望”字以下是雄伟的景观。“长城”、“黄河”是中华民族精神的象征，最能反映北国风貌，而且与“千里”、“万里”相照应，续写地域的辽阔。“山舞银蛇，原驰蜡象”运用比喻拟人手法，把“山”、“原”人格化。雪花飘飞是动态，说“山”在“舞”、“原”在“驰”形象地写出了万里雪飘，变静为动，画面生动活泼，景色壮观无比！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40120" y="819000"/>
            <a:ext cx="5292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毛泽东，字润之，笔名子任。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18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年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12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月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26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日生于湖南湘潭韶山中一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农民家庭。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1976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年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9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月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9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日在北京逝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中国人民的领袖，马克思主义者，伟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的无产阶级革命家、战略家和理论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中国共产党、中国人民解放军和中华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民共和国的主要缔造者和领导人，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人，书法家。 其主要著作收入《毛泽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选集》，其他已公开发行的著作有《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泽东书信选集》、《毛泽东农村调查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集》、《毛泽东新闻工作文选》和《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泽东诗词选》等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2600" y="1994040"/>
            <a:ext cx="2884320" cy="4027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0" t="38163" r="0" b="0"/>
          <a:stretch/>
        </p:blipFill>
        <p:spPr>
          <a:xfrm>
            <a:off x="547560" y="903240"/>
            <a:ext cx="2810160" cy="6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71400" y="1006560"/>
            <a:ext cx="826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须晴日”三句中，哪个字表明是虚写？试用散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语言描述这三句诗的意境。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8280" y="2197080"/>
            <a:ext cx="848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须”表明雪后初晴之景出自作者的想象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看，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冉冉升起，放射出万道霞光，染红了天边的白云，映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高原上皑皑白雪。云海茫茫，雪山巍巍，花松翠柏，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郁青青。红日白雪交相辉映，祖国就像一位红装素裹的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，格外娇艳多姿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712800" y="5640480"/>
            <a:ext cx="784872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04720" y="844560"/>
            <a:ext cx="858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下阕中“惜”字包含着作者什么感情？评论了哪几位历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人物？“略”、“稍”有什么作用？“略输”、“稍逊”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只识”有什么区别？ 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2760" y="2533680"/>
            <a:ext cx="818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个“惜”字委婉准确，有贬有褒，肯定了秦始皇、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武帝、唐太宗、宋太祖、成吉思汗的赫赫战功，也指出了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们缺少文治、文学才华不足的弱点。“略”、“稍”使作者对历史人物的评述客观、准确、不失分寸。“略输”、“稍逊”与“只识”对比，褒贬的程序有差别，“只识”否定程度大于前者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雪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2262960" y="609480"/>
            <a:ext cx="48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结下阕：评论历史英雄人物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歌颂当代无产阶级革命英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7840" y="1747440"/>
            <a:ext cx="72900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引无数英雄竞折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375920" y="4396320"/>
            <a:ext cx="7290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（议论、抒情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38280" y="2743200"/>
            <a:ext cx="228600" cy="3124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3400" y="24382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承上启下，引入论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81200" y="38098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具体评论：“惜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589200" y="51814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歌颂时代英雄：“数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853040" y="1747440"/>
            <a:ext cx="72900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歌颂无产阶级英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AutoShape 6"/>
          <p:cNvSpPr/>
          <p:nvPr/>
        </p:nvSpPr>
        <p:spPr>
          <a:xfrm>
            <a:off x="466560" y="1870200"/>
            <a:ext cx="8209080" cy="416700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ffccff">
                  <a:alpha val="34117"/>
                </a:srgbClr>
              </a:gs>
              <a:gs pos="50000">
                <a:srgbClr val="ffffff"/>
              </a:gs>
              <a:gs pos="100000">
                <a:srgbClr val="ffccff">
                  <a:alpha val="3411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87800" y="3238560"/>
            <a:ext cx="77436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沁园春  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74920" y="2562120"/>
            <a:ext cx="3367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ff"/>
                </a:solidFill>
                <a:latin typeface="宋体"/>
              </a:rPr>
              <a:t>具体实景—动静结合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374920" y="3222720"/>
            <a:ext cx="3511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ff"/>
                </a:solidFill>
                <a:latin typeface="宋体"/>
              </a:rPr>
              <a:t>想像虚景—艳丽多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74920" y="5324400"/>
            <a:ext cx="275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ff"/>
                </a:solidFill>
                <a:latin typeface="宋体"/>
              </a:rPr>
              <a:t>论今—风流人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060560" y="2316240"/>
            <a:ext cx="1577880" cy="3454920"/>
            <a:chOff x="1060560" y="2316240"/>
            <a:chExt cx="1577880" cy="3454920"/>
          </a:xfrm>
        </p:grpSpPr>
        <p:sp>
          <p:nvSpPr>
            <p:cNvPr id="337" name=""/>
            <p:cNvSpPr/>
            <p:nvPr/>
          </p:nvSpPr>
          <p:spPr>
            <a:xfrm>
              <a:off x="1235160" y="2316240"/>
              <a:ext cx="140328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3333ff"/>
                  </a:solidFill>
                  <a:latin typeface="宋体"/>
                </a:rPr>
                <a:t> </a:t>
              </a:r>
              <a:r>
                <a:rPr b="1" lang="zh-CN" sz="2200" spc="-1" strike="noStrike">
                  <a:solidFill>
                    <a:srgbClr val="3333ff"/>
                  </a:solidFill>
                  <a:latin typeface="宋体"/>
                </a:rPr>
                <a:t>上阕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3333ff"/>
                  </a:solidFill>
                  <a:latin typeface="宋体"/>
                </a:rPr>
                <a:t>(</a:t>
              </a:r>
              <a:r>
                <a:rPr b="1" lang="zh-CN" sz="2200" spc="-1" strike="noStrike">
                  <a:solidFill>
                    <a:srgbClr val="3333ff"/>
                  </a:solidFill>
                  <a:latin typeface="宋体"/>
                </a:rPr>
                <a:t>写景</a:t>
              </a:r>
              <a:r>
                <a:rPr b="1" lang="zh-CN" sz="2200" spc="-1" strike="noStrike">
                  <a:solidFill>
                    <a:srgbClr val="3333ff"/>
                  </a:solidFill>
                  <a:latin typeface="宋体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47680" y="4672080"/>
              <a:ext cx="141444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3333ff"/>
                  </a:solidFill>
                  <a:latin typeface="宋体"/>
                </a:rPr>
                <a:t> </a:t>
              </a:r>
              <a:r>
                <a:rPr b="1" lang="zh-CN" sz="2200" spc="-1" strike="noStrike">
                  <a:solidFill>
                    <a:srgbClr val="3333ff"/>
                  </a:solidFill>
                  <a:latin typeface="宋体"/>
                </a:rPr>
                <a:t>下阕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3333ff"/>
                  </a:solidFill>
                  <a:latin typeface="宋体"/>
                </a:rPr>
                <a:t>(</a:t>
              </a:r>
              <a:r>
                <a:rPr b="1" lang="zh-CN" sz="2200" spc="-1" strike="noStrike">
                  <a:solidFill>
                    <a:srgbClr val="3333ff"/>
                  </a:solidFill>
                  <a:latin typeface="宋体"/>
                </a:rPr>
                <a:t>论史</a:t>
              </a:r>
              <a:r>
                <a:rPr b="1" lang="zh-CN" sz="2200" spc="-1" strike="noStrike">
                  <a:solidFill>
                    <a:srgbClr val="3333ff"/>
                  </a:solidFill>
                  <a:latin typeface="宋体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60560" y="2654280"/>
              <a:ext cx="108000" cy="2914560"/>
            </a:xfrm>
            <a:custGeom>
              <a:avLst/>
              <a:gdLst>
                <a:gd name="textAreaLeft" fmla="*/ 69120 w 108000"/>
                <a:gd name="textAreaRight" fmla="*/ 108360 w 108000"/>
                <a:gd name="textAreaTop" fmla="*/ 75960 h 2914560"/>
                <a:gd name="textAreaBottom" fmla="*/ 2838600 h 29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2195640" y="1882800"/>
            <a:ext cx="3854160" cy="1803240"/>
            <a:chOff x="2195640" y="1882800"/>
            <a:chExt cx="3854160" cy="1803240"/>
          </a:xfrm>
        </p:grpSpPr>
        <p:sp>
          <p:nvSpPr>
            <p:cNvPr id="341" name=""/>
            <p:cNvSpPr/>
            <p:nvPr/>
          </p:nvSpPr>
          <p:spPr>
            <a:xfrm>
              <a:off x="2374920" y="1882800"/>
              <a:ext cx="36748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3333ff"/>
                  </a:solidFill>
                  <a:latin typeface="宋体"/>
                </a:rPr>
                <a:t>总写雪景—意境壮阔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195640" y="2178000"/>
              <a:ext cx="168120" cy="1508040"/>
            </a:xfrm>
            <a:custGeom>
              <a:avLst/>
              <a:gdLst>
                <a:gd name="textAreaLeft" fmla="*/ 107640 w 168120"/>
                <a:gd name="textAreaRight" fmla="*/ 168480 w 168120"/>
                <a:gd name="textAreaTop" fmla="*/ 39240 h 1508040"/>
                <a:gd name="textAreaBottom" fmla="*/ 1468800 h 150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2195640" y="4500720"/>
            <a:ext cx="2906640" cy="1260360"/>
            <a:chOff x="2195640" y="4500720"/>
            <a:chExt cx="2906640" cy="1260360"/>
          </a:xfrm>
        </p:grpSpPr>
        <p:sp>
          <p:nvSpPr>
            <p:cNvPr id="344" name=""/>
            <p:cNvSpPr/>
            <p:nvPr/>
          </p:nvSpPr>
          <p:spPr>
            <a:xfrm>
              <a:off x="2374920" y="4500720"/>
              <a:ext cx="2727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3333ff"/>
                  </a:solidFill>
                  <a:latin typeface="宋体"/>
                </a:rPr>
                <a:t>评古—短于文治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95640" y="4776840"/>
              <a:ext cx="158760" cy="984240"/>
            </a:xfrm>
            <a:custGeom>
              <a:avLst/>
              <a:gdLst>
                <a:gd name="textAreaLeft" fmla="*/ 101520 w 158760"/>
                <a:gd name="textAreaRight" fmla="*/ 159120 w 158760"/>
                <a:gd name="textAreaTop" fmla="*/ 25560 h 984240"/>
                <a:gd name="textAreaBottom" fmla="*/ 958680 h 98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106960" y="2220840"/>
            <a:ext cx="2662200" cy="1227240"/>
            <a:chOff x="5106960" y="2220840"/>
            <a:chExt cx="2662200" cy="1227240"/>
          </a:xfrm>
        </p:grpSpPr>
        <p:sp>
          <p:nvSpPr>
            <p:cNvPr id="347" name=""/>
            <p:cNvSpPr/>
            <p:nvPr/>
          </p:nvSpPr>
          <p:spPr>
            <a:xfrm>
              <a:off x="5299200" y="2403360"/>
              <a:ext cx="24699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3333ff"/>
                  </a:solidFill>
                  <a:latin typeface="宋体"/>
                </a:rPr>
                <a:t>江山多娇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106960" y="2220840"/>
              <a:ext cx="209520" cy="1227240"/>
            </a:xfrm>
            <a:custGeom>
              <a:avLst/>
              <a:gdLst>
                <a:gd name="textAreaLeft" fmla="*/ 134280 w 209520"/>
                <a:gd name="textAreaRight" fmla="*/ 210240 w 209520"/>
                <a:gd name="textAreaTop" fmla="*/ 31680 h 1227240"/>
                <a:gd name="textAreaBottom" fmla="*/ 1195560 h 122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6708600" y="2832120"/>
            <a:ext cx="2524320" cy="2373120"/>
            <a:chOff x="6708600" y="2832120"/>
            <a:chExt cx="2524320" cy="2373120"/>
          </a:xfrm>
        </p:grpSpPr>
        <p:sp>
          <p:nvSpPr>
            <p:cNvPr id="350" name=""/>
            <p:cNvSpPr/>
            <p:nvPr/>
          </p:nvSpPr>
          <p:spPr>
            <a:xfrm>
              <a:off x="6824520" y="3368520"/>
              <a:ext cx="240840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3333ff"/>
                  </a:solidFill>
                  <a:latin typeface="宋体"/>
                </a:rPr>
                <a:t>热爱祖国山河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3333ff"/>
                  </a:solidFill>
                  <a:latin typeface="宋体"/>
                </a:rPr>
                <a:t>歌颂当代英雄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6708600" y="2832120"/>
              <a:ext cx="182880" cy="2373120"/>
            </a:xfrm>
            <a:custGeom>
              <a:avLst/>
              <a:gdLst>
                <a:gd name="textAreaLeft" fmla="*/ 117000 w 182880"/>
                <a:gd name="textAreaRight" fmla="*/ 183240 w 182880"/>
                <a:gd name="textAreaTop" fmla="*/ 61560 h 2373120"/>
                <a:gd name="textAreaBottom" fmla="*/ 2311560 h 237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5462640" y="2981160"/>
            <a:ext cx="1297080" cy="1161720"/>
            <a:chOff x="5462640" y="2981160"/>
            <a:chExt cx="1297080" cy="1161720"/>
          </a:xfrm>
        </p:grpSpPr>
        <p:sp>
          <p:nvSpPr>
            <p:cNvPr id="353" name=""/>
            <p:cNvSpPr/>
            <p:nvPr/>
          </p:nvSpPr>
          <p:spPr>
            <a:xfrm>
              <a:off x="5462640" y="3546360"/>
              <a:ext cx="1297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3333ff"/>
                  </a:solidFill>
                  <a:latin typeface="宋体"/>
                </a:rPr>
                <a:t>过渡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94200" y="2981160"/>
              <a:ext cx="0" cy="695520"/>
            </a:xfrm>
            <a:prstGeom prst="line">
              <a:avLst/>
            </a:prstGeom>
            <a:ln w="284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 flipH="1">
            <a:off x="4534920" y="4726080"/>
            <a:ext cx="128520" cy="1030320"/>
          </a:xfrm>
          <a:custGeom>
            <a:avLst/>
            <a:gdLst>
              <a:gd name="textAreaLeft" fmla="*/ 81720 w 128520"/>
              <a:gd name="textAreaRight" fmla="*/ 128520 w 128520"/>
              <a:gd name="textAreaTop" fmla="*/ 26640 h 1030320"/>
              <a:gd name="textAreaBottom" fmla="*/ 1003680 h 103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5187960" y="4202280"/>
            <a:ext cx="2470320" cy="1212480"/>
            <a:chOff x="5187960" y="4202280"/>
            <a:chExt cx="2470320" cy="1212480"/>
          </a:xfrm>
        </p:grpSpPr>
        <p:sp>
          <p:nvSpPr>
            <p:cNvPr id="357" name=""/>
            <p:cNvSpPr/>
            <p:nvPr/>
          </p:nvSpPr>
          <p:spPr>
            <a:xfrm>
              <a:off x="5187960" y="4818240"/>
              <a:ext cx="247032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3333ff"/>
                  </a:solidFill>
                  <a:latin typeface="宋体"/>
                </a:rPr>
                <a:t>英雄折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16520" y="4202280"/>
              <a:ext cx="0" cy="695160"/>
            </a:xfrm>
            <a:prstGeom prst="line">
              <a:avLst/>
            </a:prstGeom>
            <a:ln w="284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9" name="" descr=""/>
          <p:cNvPicPr/>
          <p:nvPr/>
        </p:nvPicPr>
        <p:blipFill>
          <a:blip r:embed="rId1"/>
          <a:srcRect l="0" t="35904" r="0" b="0"/>
          <a:stretch/>
        </p:blipFill>
        <p:spPr>
          <a:xfrm>
            <a:off x="2813040" y="922320"/>
            <a:ext cx="279720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雪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250920" y="239760"/>
            <a:ext cx="8642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上阕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先总写北方雪景，然后写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眼前实景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接着写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想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虚景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上阕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虚实结合，动静结合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写出“江山如此多娇”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9960" y="947160"/>
            <a:ext cx="10335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江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如此多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81440" y="1230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概括写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03280" y="1411200"/>
            <a:ext cx="289080" cy="1297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53000" y="1757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具体写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981440" y="2276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想像写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348000" y="1433520"/>
            <a:ext cx="195480" cy="1274760"/>
          </a:xfrm>
          <a:custGeom>
            <a:avLst/>
            <a:gdLst>
              <a:gd name="textAreaLeft" fmla="*/ 0 w 195480"/>
              <a:gd name="textAreaRight" fmla="*/ 70560 w 195480"/>
              <a:gd name="textAreaTop" fmla="*/ 33120 h 1274760"/>
              <a:gd name="textAreaBottom" fmla="*/ 1241640 h 127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040280" y="1685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（实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773320" y="16858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（以动写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040280" y="2205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（虚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499160" y="1163160"/>
            <a:ext cx="10335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热爱祖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大好河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88720" y="28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（寓情于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19640" y="1844640"/>
            <a:ext cx="360360" cy="216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5280" y="2708280"/>
            <a:ext cx="431640" cy="720720"/>
          </a:xfrm>
          <a:custGeom>
            <a:avLst/>
            <a:gdLst>
              <a:gd name="textAreaLeft" fmla="*/ 57600 w 431640"/>
              <a:gd name="textAreaRight" fmla="*/ 374040 w 43164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265701"/>
                <a:lnTo>
                  <a:pt x="12706" y="20929"/>
                </a:lnTo>
                <a:lnTo>
                  <a:pt x="21600" y="17280"/>
                </a:lnTo>
                <a:lnTo>
                  <a:pt x="12706" y="12289"/>
                </a:lnTo>
                <a:lnTo>
                  <a:pt x="12706" y="14449"/>
                </a:lnTo>
                <a:arcTo wR="21600" hR="7560" stAng="8534299" swAng="190826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635280" y="3119400"/>
            <a:ext cx="525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下阕：评古论今，纵论历代英雄，歌颂当代无产阶级革命英雄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9720" y="3772080"/>
            <a:ext cx="103356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引无数英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竞折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12360" y="40622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承上启下，引入论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142360" y="4581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具体评论：“惜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305080" y="51418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歌颂时代英雄：“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76360" y="422100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40320" y="3713760"/>
            <a:ext cx="1033560" cy="29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歌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无产阶级英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48360" y="4221000"/>
            <a:ext cx="195120" cy="1274760"/>
          </a:xfrm>
          <a:custGeom>
            <a:avLst/>
            <a:gdLst>
              <a:gd name="textAreaLeft" fmla="*/ 0 w 195120"/>
              <a:gd name="textAreaRight" fmla="*/ 70560 w 195120"/>
              <a:gd name="textAreaTop" fmla="*/ 33120 h 1274760"/>
              <a:gd name="textAreaBottom" fmla="*/ 1241640 h 127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88720" y="6021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（寓情于议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95280" y="5732640"/>
            <a:ext cx="431640" cy="720720"/>
          </a:xfrm>
          <a:custGeom>
            <a:avLst/>
            <a:gdLst>
              <a:gd name="textAreaLeft" fmla="*/ 57600 w 431640"/>
              <a:gd name="textAreaRight" fmla="*/ 374040 w 43164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265701"/>
                <a:lnTo>
                  <a:pt x="12706" y="20929"/>
                </a:lnTo>
                <a:lnTo>
                  <a:pt x="21600" y="17280"/>
                </a:lnTo>
                <a:lnTo>
                  <a:pt x="12706" y="12289"/>
                </a:lnTo>
                <a:lnTo>
                  <a:pt x="12706" y="14449"/>
                </a:lnTo>
                <a:arcTo wR="21600" hR="7560" stAng="8534299" swAng="190826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597720" y="4437000"/>
            <a:ext cx="2222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结构内容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手法整理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86" name=""/>
          <p:cNvSpPr/>
          <p:nvPr/>
        </p:nvSpPr>
        <p:spPr>
          <a:xfrm>
            <a:off x="3635280" y="1844640"/>
            <a:ext cx="360360" cy="216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635280" y="2421000"/>
            <a:ext cx="360360" cy="216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124080" y="246708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71400" y="1509840"/>
            <a:ext cx="79502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唐代著名文学家柳宗元写过一首题为《江雪》的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（千山鸟飞绝，万径人踪灭。孤舟蓑笠翁，独钓寒江雪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这首五言绝句描写了冰封雪冻的千山万径，寒江垂钓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孤独渔夫，言简意深，请同学们分析，这首诗与《沁园春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雪》在感情基调上有什么不同？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870120" y="5065560"/>
            <a:ext cx="7457760" cy="12160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rcRect l="0" t="34695" r="0" b="0"/>
          <a:stretch/>
        </p:blipFill>
        <p:spPr>
          <a:xfrm>
            <a:off x="954000" y="952560"/>
            <a:ext cx="2797200" cy="63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41520" y="2216160"/>
            <a:ext cx="82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柳宗元因参加革新运动失败而遭贬，他的政治思想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远大抱负不能实现，内心的苦恼与愤懑反映在诗中，就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那个卓尔不群、孤芳自赏、“独钓寒江雪”的“蓑笠翁”。而毛泽东的词作大气磅礴，格调高亢，充满了热爱祖国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山、以天下为己任的豪情壮志。这种差别，主要是由于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者所处的时代、境遇，特别是胸怀的阔狭造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663480" y="1317600"/>
            <a:ext cx="3230640" cy="8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4800" y="2001960"/>
            <a:ext cx="4998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936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月，抗日战争爆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前，在陕北的清涧县，毛泽东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志登上海拔千米、白雪覆盖的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上视察地形，观赏风光。面对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茫大地，胸中豪情激荡，过后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下了这首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643720" y="1477800"/>
            <a:ext cx="2908080" cy="4075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28560" y="5888160"/>
            <a:ext cx="7828200" cy="304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0" t="36682" r="0" b="0"/>
          <a:stretch/>
        </p:blipFill>
        <p:spPr>
          <a:xfrm>
            <a:off x="689040" y="1176480"/>
            <a:ext cx="2797200" cy="64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61960" y="1874880"/>
            <a:ext cx="858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1945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年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月，抗战胜利后，毛泽东同志亲赴重庆与国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党谈判。其间，柳亚子先生请他写诗，毛泽东同志就把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首《沁园春•雪》抄给他，随后《新民晚报》公开发表，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速在人民当中广为传诵，极大地鼓舞了全国人民的革命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志和胜利的信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691240" y="615960"/>
            <a:ext cx="3365280" cy="841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25320" y="5632560"/>
            <a:ext cx="784872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1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26920" y="907920"/>
            <a:ext cx="2286000" cy="561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508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幼圆"/>
              </a:rPr>
              <a:t>词的特点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幼圆"/>
              <a:ea typeface="幼圆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600200"/>
            <a:ext cx="7848720" cy="26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又叫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长短句、诗余、曲子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。原来可以合乐演唱，句式长短不一。乐谱失传后，只剩下词牌，词牌就是词的调子，每个词牌规定了这首词的字数、句数、平仄声调和韵脚。所以把写词叫做“填词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词牌名与词牌没有必然的联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《沁园春》这个词牌规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1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个字，分上下两阕，上阕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句，下阕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句，句号处必须压韵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沁园”相传是东汉明帝女儿沁水公主的园林，曾被外戚窦宪夺取，后人作诗以咏其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28600" y="1447920"/>
            <a:ext cx="8686800" cy="360"/>
            <a:chOff x="228600" y="1447920"/>
            <a:chExt cx="8686800" cy="360"/>
          </a:xfrm>
        </p:grpSpPr>
        <p:grpSp>
          <p:nvGrpSpPr>
            <p:cNvPr id="60" name=""/>
            <p:cNvGrpSpPr/>
            <p:nvPr/>
          </p:nvGrpSpPr>
          <p:grpSpPr>
            <a:xfrm>
              <a:off x="258480" y="1447920"/>
              <a:ext cx="8626680" cy="360"/>
              <a:chOff x="258480" y="1447920"/>
              <a:chExt cx="8626680" cy="360"/>
            </a:xfrm>
          </p:grpSpPr>
          <p:sp>
            <p:nvSpPr>
              <p:cNvPr id="61" name=""/>
              <p:cNvSpPr/>
              <p:nvPr/>
            </p:nvSpPr>
            <p:spPr>
              <a:xfrm>
                <a:off x="258480" y="1447920"/>
                <a:ext cx="86266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58480" y="1447920"/>
                <a:ext cx="862668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228600" y="1447920"/>
              <a:ext cx="8686800" cy="360"/>
            </a:xfrm>
            <a:prstGeom prst="rect">
              <a:avLst/>
            </a:prstGeom>
            <a:noFill/>
            <a:ln w="61920">
              <a:solidFill>
                <a:srgbClr val="a28c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0" lang="zh-CN" sz="4000" spc="-1" strike="noStrike">
                <a:solidFill>
                  <a:srgbClr val="0000ff"/>
                </a:solidFill>
                <a:latin typeface="宋体"/>
              </a:rPr>
              <a:t>词，又称长短句。最初称“曲词”，是配乐的。后来逐渐跟音乐分离，成为诗的一种。一首词称为一阕；词若有上下两段，就称为上下阕。词可以没有题目，如果有，写在词牌的后面，</a:t>
            </a:r>
            <a:r>
              <a:rPr b="0" lang="zh-CN" sz="40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0" lang="zh-CN" sz="4000" spc="-1" strike="noStrike">
                <a:solidFill>
                  <a:srgbClr val="0000ff"/>
                </a:solidFill>
                <a:latin typeface="宋体"/>
              </a:rPr>
              <a:t>“沁园春”是词牌名，“雪”是这首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词的题目</a:t>
            </a:r>
            <a:r>
              <a:rPr b="0" lang="zh-CN" sz="4000" spc="-1" strike="noStrike">
                <a:solidFill>
                  <a:srgbClr val="0000ff"/>
                </a:solidFill>
                <a:latin typeface="宋体"/>
              </a:rPr>
              <a:t>。这是一首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写景咏怀词</a:t>
            </a:r>
            <a:r>
              <a:rPr b="0" lang="zh-CN" sz="4000" spc="-1" strike="noStrike">
                <a:solidFill>
                  <a:srgbClr val="0000ff"/>
                </a:solidFill>
                <a:latin typeface="宋体"/>
              </a:rPr>
              <a:t>、古典词。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782640" y="1920960"/>
            <a:ext cx="7615080" cy="3879360"/>
            <a:chOff x="782640" y="1920960"/>
            <a:chExt cx="7615080" cy="3879360"/>
          </a:xfrm>
        </p:grpSpPr>
        <p:sp>
          <p:nvSpPr>
            <p:cNvPr id="66" name=""/>
            <p:cNvSpPr/>
            <p:nvPr/>
          </p:nvSpPr>
          <p:spPr>
            <a:xfrm>
              <a:off x="782640" y="1920960"/>
              <a:ext cx="47196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53920" y="2949480"/>
              <a:ext cx="7543800" cy="28508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cc00ff"/>
                  </a:solidFill>
                  <a:uFillTx/>
                  <a:latin typeface="宋体"/>
                </a:rPr>
                <a:t>沁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园春         </a:t>
              </a:r>
              <a:r>
                <a:rPr b="1" lang="zh-CN" sz="2400" spc="-1" strike="noStrike" u="sng">
                  <a:solidFill>
                    <a:srgbClr val="cc00ff"/>
                  </a:solidFill>
                  <a:uFillTx/>
                  <a:latin typeface="宋体"/>
                </a:rPr>
                <a:t>莽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莽        素</a:t>
              </a:r>
              <a:r>
                <a:rPr b="1" lang="zh-CN" sz="2400" spc="-1" strike="noStrike" u="sng">
                  <a:solidFill>
                    <a:srgbClr val="cc00ff"/>
                  </a:solidFill>
                  <a:uFillTx/>
                  <a:latin typeface="宋体"/>
                </a:rPr>
                <a:t>裹  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妖</a:t>
              </a:r>
              <a:r>
                <a:rPr b="1" lang="zh-CN" sz="2400" spc="-1" strike="noStrike" u="sng">
                  <a:solidFill>
                    <a:srgbClr val="cc00ff"/>
                  </a:solidFill>
                  <a:uFillTx/>
                  <a:latin typeface="宋体"/>
                </a:rPr>
                <a:t>娆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           稍</a:t>
              </a:r>
              <a:r>
                <a:rPr b="1" lang="zh-CN" sz="2400" spc="-1" strike="noStrike" u="sng">
                  <a:solidFill>
                    <a:srgbClr val="cc00ff"/>
                  </a:solidFill>
                  <a:uFillTx/>
                  <a:latin typeface="宋体"/>
                </a:rPr>
                <a:t>逊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        </a:t>
              </a:r>
              <a:r>
                <a:rPr b="1" lang="zh-CN" sz="2400" spc="-1" strike="noStrike" u="sng">
                  <a:solidFill>
                    <a:srgbClr val="cc00ff"/>
                  </a:solidFill>
                  <a:uFillTx/>
                  <a:latin typeface="宋体"/>
                </a:rPr>
                <a:t>分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成吉思</a:t>
              </a:r>
              <a:r>
                <a:rPr b="1" lang="zh-CN" sz="2400" spc="-1" strike="noStrike" u="sng">
                  <a:solidFill>
                    <a:srgbClr val="cc00ff"/>
                  </a:solidFill>
                  <a:uFillTx/>
                  <a:latin typeface="宋体"/>
                </a:rPr>
                <a:t>汗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       </a:t>
              </a:r>
              <a:r>
                <a:rPr b="1" lang="zh-CN" sz="2400" spc="-1" strike="noStrike" u="sng">
                  <a:solidFill>
                    <a:srgbClr val="cc00ff"/>
                  </a:solidFill>
                  <a:uFillTx/>
                  <a:latin typeface="宋体"/>
                </a:rPr>
                <a:t>数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风流人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44560" y="2565360"/>
            <a:ext cx="12571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qì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98720" y="2552760"/>
            <a:ext cx="11224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mǎ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16600" y="2543040"/>
            <a:ext cx="10764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ɡu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60640" y="3666960"/>
            <a:ext cx="7221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rá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4320" y="3687840"/>
            <a:ext cx="8236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xù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00600" y="3693960"/>
            <a:ext cx="9399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fè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60400" y="4811760"/>
            <a:ext cx="11368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h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13040" y="4809960"/>
            <a:ext cx="13003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sh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6_1105584051"/>
          <p:cNvPicPr/>
          <p:nvPr/>
        </p:nvPicPr>
        <p:blipFill>
          <a:blip r:embed="rId1"/>
          <a:srcRect l="81964" t="0" r="0" b="818"/>
          <a:stretch/>
        </p:blipFill>
        <p:spPr>
          <a:xfrm>
            <a:off x="7199280" y="2065320"/>
            <a:ext cx="1098720" cy="4024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0" t="36097" r="0" b="0"/>
          <a:stretch/>
        </p:blipFill>
        <p:spPr>
          <a:xfrm>
            <a:off x="806400" y="1096920"/>
            <a:ext cx="2797200" cy="6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05:49:39Z</dcterms:created>
  <dc:creator/>
  <dc:description/>
  <dc:language>en-US</dc:language>
  <cp:lastModifiedBy>备课大师</cp:lastModifiedBy>
  <dcterms:modified xsi:type="dcterms:W3CDTF">2015-08-31T00:46:11Z</dcterms:modified>
  <cp:revision>15</cp:revision>
  <dc:subject/>
  <dc:title>幻灯片 1</dc:title>
</cp:coreProperties>
</file>