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6C7-14AC-4032-A298-3EB80E81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8CF-004B-4F52-8B42-21E436AF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050-9348-4FC5-900F-CD12BE0D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8A2-059D-447D-BCA2-7BFA9CB1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AE7-95EA-42E8-A7C8-65B236A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1D7-0BCD-4C6B-852A-C964461A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8DD-3F99-4779-84EB-980EC88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FB7-EECC-4EFB-8D06-66F5523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CDE-45AA-47AD-A7D0-E338C03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4DF-4E09-47C1-8B1A-CF9D53E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E9D-10C6-4335-80A7-8BD2AEE0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337-11E7-45E8-8A22-9A31A1B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942F-1981-4BD7-95CF-35B98C5A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ture05" descr=""/>
          <p:cNvPicPr/>
          <p:nvPr/>
        </p:nvPicPr>
        <p:blipFill>
          <a:blip r:embed="rId2"/>
          <a:srcRect l="0" t="0" r="0" b="7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826920" y="692280"/>
            <a:ext cx="7561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265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沁园春  雪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0265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《沁园春》这个词牌规定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14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个字，分上下两阕</a:t>
            </a:r>
            <a:r>
              <a:rPr b="1" lang="en-US" sz="4400" spc="-1" strike="noStrike">
                <a:solidFill>
                  <a:srgbClr val="6600ff"/>
                </a:solidFill>
                <a:latin typeface="宋体"/>
              </a:rPr>
              <a:t>qu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，上阕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句，下阕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句，句号处必须压韵。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“沁园”相传是东汉明帝女儿沁水公主的园林，曾被外戚窦宪夺取，后人作诗以咏其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从下阕词中找出三组近义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）稍――略   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）输――逊    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）文采 ――风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51240" y="2209680"/>
            <a:ext cx="548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说说主旨句表达作者的思想感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44720" y="3657600"/>
            <a:ext cx="50576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表达了无产阶级革命家坚定的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抒发了革命领袖的壮志和抱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07241970254355_1[1]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295280"/>
            <a:ext cx="93646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重要词句的品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（从修辞、字词、含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义等方面考虑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0"/>
            <a:ext cx="4171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重点品读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17600"/>
            <a:ext cx="9144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、“山舞银蛇，原驰蜡象”句中“山”、“原”都是静物，却写它们“舞”和“驰”，为什么这样写？试对这两句作点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赏析</a:t>
            </a: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9144000" cy="350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3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1280" y="1154160"/>
            <a:ext cx="8208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山舞银蛇，原驰蜡象”运用比喻、拟人手法，化静为动，有三方面因素：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）视觉因素。作者站得高，看得远，山丘连绵起伏，远看确有山舞原驰的动感。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）精神因素。作者意气风发，因而在他心目中，大自然也生气勃勃。（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）时代因素。中国革命正在蓬勃发展，中国人民正在奋起抗日，赋予群山、高原以顽强的性格，可以体现中华民族不屈不挠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76360" y="18900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山舞银蛇，原驰蜡象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940200"/>
            <a:ext cx="8208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赏析一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：“山舞银蛇，原驰蜡象”赋予群山、高原以动态描写，体现出其活泼奔放的气势。加上“欲与天公试比高”一句，表现“山”“原”与天相连，更有一种奋发的态势和竞争的活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赏析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：“山”、“原”都是静止的事物，写它们“舞”、“驰”是化静为动的浪漫想像，诗人情感的跃动，使他眼前的大自然也显得生气勃勃，生动活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880" y="1405080"/>
            <a:ext cx="8871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沁园春   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936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月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北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风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千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冰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万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雪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望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长城内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惟余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莽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大河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上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顿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滔滔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山舞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银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原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蜡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欲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与天公试比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须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晴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红妆素裹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分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妖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江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如此多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无数英雄竞折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秦皇汉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略输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文采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唐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宋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稍逊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风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一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天骄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成吉思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只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弯弓射大雕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俱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往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风流人物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还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今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0120" y="11592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本着刚刚所说的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一起把这首词朗读一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1557360"/>
            <a:ext cx="7920000" cy="26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中心内容归纳：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这首词大气磅礴，气壮山河，借写景论史，热情赞美祖国大好河山，歌颂无产阶级革命英雄和人民群众，抒发作者坚定的自信和伟大的抱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写作特点归纳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、全词将写景、议论、抒情有机结合。上阕，写景抒情。下阕，议论抒情。写景是议论、抒情的基础；议论、抒情又深化了写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、写实与想象结合，动静结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、运用比喻、拟人、对偶等修辞手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60360" y="333360"/>
            <a:ext cx="21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总结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雪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92" name="030124qycchangsha" descr=""/>
          <p:cNvPicPr/>
          <p:nvPr/>
        </p:nvPicPr>
        <p:blipFill>
          <a:blip r:embed="rId3"/>
          <a:stretch/>
        </p:blipFill>
        <p:spPr>
          <a:xfrm>
            <a:off x="108000" y="1413000"/>
            <a:ext cx="8928000" cy="53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52360" y="189000"/>
            <a:ext cx="244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拓展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62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沁园春  长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205000"/>
            <a:ext cx="583272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独立寒秋，湘江北去，橘子洲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看万山红遍，丛林尽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漫江碧透，百舸争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鹰击长空，鱼翔浅底，万类霜天竞自由。怅寥阔，问苍茫大地，谁主沉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携来百侣曾游，忆往昔峥嵘岁月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恰同学少年，风华正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书生意气，挥斥方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宋体"/>
              </a:rPr>
              <a:t>指点江山，激扬文字，粪土当年万户侯。曾记否，到中流击水 ，浪遏飞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189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925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月，毛泽东从上海回到韶山，从事革命活动，军阀赵恒惕要逮捕他，在韶山人民的掩护下，他秘密离开韶山，到达长沙，并独自来到橘子洲头。事后作《沁园春 长沙》。此时毛泽东正在苦苦寻求救国救民之路，因而发出了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“怅寥阔，问苍茫大地，谁主沉浮？”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的呼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00_0356_rrHSyCPCxTx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457200"/>
            <a:ext cx="617220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沁园春  雪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286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200400"/>
            <a:ext cx="4162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北国风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千里冰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万里雪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LostWave" descr=""/>
          <p:cNvPicPr/>
          <p:nvPr/>
        </p:nvPicPr>
        <p:blipFill>
          <a:blip r:embed="rId2"/>
          <a:stretch/>
        </p:blipFill>
        <p:spPr>
          <a:xfrm>
            <a:off x="45100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雪中长城2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8120" y="1600200"/>
            <a:ext cx="3365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望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长城内外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惟余莽莽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河上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顿失滔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698440" y="342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 Black"/>
              </a:rPr>
              <a:t>山舞银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6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3352680"/>
            <a:ext cx="52675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山舞银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原驰蜡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欲与天公试比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柴门闻犬吠， 风雪夜归人。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刘长卿《逢雪宿芙蓉山主人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．墙角数枝梅， 凌寒独自开。 遥知不是雪， 为有暗香来。 （王安石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梅花》）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孤舟蓑笠翁， 独钓寒江雪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柳宗元：《江雪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4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青海长云暗雪山， 孤城遥望玉门关。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王昌龄：《从军行七首其四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5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欲渡黄河冰塞川， 将登太行雪满山。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李白：《行路难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6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千里黄云白日曛， 北风吹雁雪纷纷。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高适《别董大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7.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窗含西岭千秋雪， 门泊东吴万里船。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杜甫《绝句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781680" y="838080"/>
            <a:ext cx="3200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须晴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看红装素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分外妖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YW0004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657600" y="2209680"/>
            <a:ext cx="586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江山如此多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引无数英雄竞折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雪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12" name="秦始皇" descr=""/>
          <p:cNvPicPr/>
          <p:nvPr/>
        </p:nvPicPr>
        <p:blipFill>
          <a:blip r:embed="rId3"/>
          <a:srcRect l="2197" t="1452" r="0" b="1452"/>
          <a:stretch/>
        </p:blipFill>
        <p:spPr>
          <a:xfrm>
            <a:off x="685800" y="304920"/>
            <a:ext cx="3403440" cy="5105160"/>
          </a:xfrm>
          <a:prstGeom prst="rect">
            <a:avLst/>
          </a:prstGeom>
          <a:ln w="0">
            <a:noFill/>
          </a:ln>
        </p:spPr>
      </p:pic>
      <p:pic>
        <p:nvPicPr>
          <p:cNvPr id="113" name="汉武帝1" descr=""/>
          <p:cNvPicPr/>
          <p:nvPr/>
        </p:nvPicPr>
        <p:blipFill>
          <a:blip r:embed="rId4"/>
          <a:stretch/>
        </p:blipFill>
        <p:spPr>
          <a:xfrm>
            <a:off x="4572000" y="2514600"/>
            <a:ext cx="3828960" cy="396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24280" y="609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1371600"/>
            <a:ext cx="25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秦皇汉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791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略 输 文 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雪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-312480" y="0"/>
            <a:ext cx="3633480" cy="5029200"/>
            <a:chOff x="-312480" y="0"/>
            <a:chExt cx="3633480" cy="5029200"/>
          </a:xfrm>
        </p:grpSpPr>
        <p:pic>
          <p:nvPicPr>
            <p:cNvPr id="119" name="唐太宗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3210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-312480" y="132120"/>
              <a:ext cx="911880" cy="99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唐太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宋太祖1" descr=""/>
          <p:cNvPicPr/>
          <p:nvPr/>
        </p:nvPicPr>
        <p:blipFill>
          <a:blip r:embed="rId4"/>
          <a:srcRect l="0" t="0" r="2282" b="0"/>
          <a:stretch/>
        </p:blipFill>
        <p:spPr>
          <a:xfrm>
            <a:off x="3733920" y="3581280"/>
            <a:ext cx="251460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52578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唐 宗 宋 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稍 逊 风 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成吉思汗2" descr=""/>
          <p:cNvPicPr/>
          <p:nvPr/>
        </p:nvPicPr>
        <p:blipFill>
          <a:blip r:embed="rId5"/>
          <a:stretch/>
        </p:blipFill>
        <p:spPr>
          <a:xfrm>
            <a:off x="3581280" y="0"/>
            <a:ext cx="249552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108920" y="3886200"/>
            <a:ext cx="488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2800" y="304920"/>
            <a:ext cx="18262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代天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成吉思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识弯弓射大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8wenhuamzdf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495680" y="1143000"/>
            <a:ext cx="4648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俱往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数风流人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还看今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雪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5720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沁园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雪》这首词写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月，其中“沁园春”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“雪”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词的上一节又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词的下一节又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这首词的题目是《雪》，哪些诗句是描写雪景的？词中雪景以“白”为特征但又未着一个“白”字，作者用哪些词语将洁白的雪原展现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望”字统领了哪些句子？下阕中与之相对应的词语是哪一个？它又统领哪些句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这首词的上阕总写雪景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分写雪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句子中写到的景物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、    、    、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句运用了拟人的方法。展开想像写景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雪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286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这首词上阕描写了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下阕评论千秋历史，赞 颂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下阕评古论今，承上启下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提到的历史人物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、   、   、   、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词中的“风流人物”是指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江山如此多娇，引无数英雄竞折腰”，作者为什么不用“赞美”而用“折腰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文采”“风骚”“弯弓射大雕”分别指什么？运用了什么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点明作品主旨的句子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483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指出下面的句子各用了哪种修辞方法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长城内外，惟余莽莽；大河上下，顿失滔滔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山舞银蛇，原驰蜡象，欲与天公试比高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须晴日，看红装素裹，分外妖娆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一代天骄，成吉思汗，只识弯弓射大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2883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完成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沁园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雪》这首词写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月，其中“沁园春”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“雪”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词的上一节又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词的下一节又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720" y="2362320"/>
            <a:ext cx="87472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936.2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、  词牌名（作用：规定了词的形式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词的题目（作用：词中描写的内容，相当于一般文章的题目）上阕 、 下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360" y="4267080"/>
            <a:ext cx="870264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这首词的题目是《雪》，哪些诗句是描写雪景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词中雪景以“白”为特征但又未着一个“白”字，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用哪些词语将洁白的雪原展现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4880" y="5791320"/>
            <a:ext cx="54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上阕   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雪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银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"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"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望”字统领了哪些句子？下阕中与之相对应的词语是哪一个？它又统领哪些句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3080" y="982800"/>
            <a:ext cx="37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望长城…试比高”、“惜”、“惜…大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7880" y="1752480"/>
            <a:ext cx="4939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这首词的上阕总写雪景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分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雪景的句子中写到的景物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、    、    、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句运用了拟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方法。展开想像写景的句子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54560"/>
            <a:ext cx="85345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北国风光，千里冰封，万里雪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、长城、黄河、群山、高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山舞银蛇原驰蜡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欲与天公试比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须晴日，看红妆素裹，分外妖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这首词上阕描写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下阕评论千秋历史，赞 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2193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北国风光，展壮丽河山  诗人理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0360" y="2286000"/>
            <a:ext cx="505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下阕评古论今，承上启下的句子是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提到的历史人物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、   、   、   、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词中的“风流人物”是指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86200"/>
            <a:ext cx="703404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江上如此多娇，引无数英雄竞折腰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嬴政、刘彻、李世民、赵匡胤、铁木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能建功立业的英雄人物，无产阶级革命者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0880" y="0"/>
            <a:ext cx="43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江山如此多娇，引无数英雄竞折腰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作者为什么不用“赞美”而用“折腰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914400"/>
            <a:ext cx="839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此句在全词中起到承上启下的作用。“赞美”一词在全词中表达情感比较单薄、单一，并且在音韵上不符合本词要求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。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折腰”本是鞠躬、倾倒的意思，这里有赞颂、赞美之意，且比“赞美”程度更深，更能体现无数英雄为祖国壮丽河山而倾倒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6440" y="3397320"/>
            <a:ext cx="472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文采”“风骚”“弯弓射大雕”分别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运用了什么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840" y="4275000"/>
            <a:ext cx="54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文采”“风骚”指的是文学才华，这里指广义的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即文治；“弯弓射大雕”指武功。都用借代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89520" y="522612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点明作品主旨的句子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57080" y="5783400"/>
            <a:ext cx="324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俱往矣数风流人物还看今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对偶、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比喻、对偶、夸张、拟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比喻、拟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借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指出下面的句子各用了哪种修辞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长城内外，惟余莽莽；大河上下，顿失滔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山舞银蛇，原驰蜡象，欲与天公试比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须晴日，看红装素裹，分外妖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一代天骄，成吉思汗，只识弯弓射大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6:40:14Z</dcterms:created>
  <dc:creator>张恒福</dc:creator>
  <dc:description>张恒福</dc:description>
  <cp:keywords>张恒福</cp:keywords>
  <dc:language>en-US</dc:language>
  <cp:lastModifiedBy>备课大师</cp:lastModifiedBy>
  <dcterms:modified xsi:type="dcterms:W3CDTF">2015-08-31T00:40:30Z</dcterms:modified>
  <cp:revision>87</cp:revision>
  <dc:subject/>
  <dc:title>张恒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