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79A-EDE6-4F9F-973E-06E39A5F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E714-7A01-4EA6-A2BB-C478A30C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9A2-E94D-4F43-B495-1EB46D4F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A35A-E56A-4CE3-AEB4-235C370B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2E4-6420-4163-9165-03AA055B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1A56-5122-442E-8111-28ECF444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A378-7A26-4699-B9B8-E18FADA7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8C0-3968-4F19-AF36-FA46779D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2031-EE9A-4035-B9AE-5B5B6358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7E7A-C67D-4380-940B-6C615158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386-F575-4855-B25E-92C05A45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404E-0988-4F6A-BD23-E7B6F747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0302-150C-453B-9CF1-C2117332C8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YW09180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3880" y="4876920"/>
            <a:ext cx="723924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752480" y="5029200"/>
            <a:ext cx="6858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lin ang="13500000"/>
                </a:gradFill>
                <a:latin typeface="汉鼎简姚体"/>
              </a:rPr>
              <a:t>我的伯父鲁迅先生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lin ang="13500000"/>
              </a:gradFill>
              <a:latin typeface="汉鼎简姚体"/>
              <a:ea typeface="汉鼎简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070760" y="838080"/>
            <a:ext cx="549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4032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的确，伯父就是这样的一个人，他为自己想的少，为别人想得多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那时侯，我有点惊异了，为什么伯父得到这么人的爱戴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比较下面句子，并说一说，哪个句子写得好？为什么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呆呆地望着来来往往吊唁的人，心　里非常悲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呆呆地望着来来往往吊唁的人，想到我就要永远见不到伯父的面了，听不到他的声音了，也得不到他的爱抚了，泪珠就一滴一滴地掉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048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41148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41148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457200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can0008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2361600">
            <a:off x="5830920" y="-68400"/>
            <a:ext cx="2954160" cy="3429000"/>
          </a:xfrm>
          <a:prstGeom prst="cloudCallout">
            <a:avLst>
              <a:gd name="adj1" fmla="val -59601"/>
              <a:gd name="adj2" fmla="val 433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22860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哈哈，还是我的记性好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211932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想，四周围黑洞洞的，还不容易碰壁吗？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20574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四周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205740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黑洞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8051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碰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4T08:44:25Z</dcterms:created>
  <dc:creator>语文大师 xiexingcun.com</dc:creator>
  <dc:description/>
  <dc:language>en-US</dc:language>
  <cp:lastModifiedBy>bnu100</cp:lastModifiedBy>
  <dcterms:modified xsi:type="dcterms:W3CDTF">2014-07-24T01:11:48Z</dcterms:modified>
  <cp:revision>0</cp:revision>
  <dc:subject/>
  <dc:title>语文大师 xiexingcun.com</dc:title>
</cp:coreProperties>
</file>