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1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4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CE99-51AE-415A-9272-CC1295D540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D08D-36F7-4CAF-8A0F-8BBDD0E0B8A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9F5E-CCA5-48E1-BD50-E0F71D0C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009-3EFB-4C22-B26E-64A3D87C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0A2A-04ED-4A3B-8378-7CCDAE39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7E0F-6B58-4E40-91FC-0ADA908C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852A-B5B0-4A03-A802-C3FF92AA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F426-E620-4A14-854A-FFA5A5B6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AA60-2D5E-497E-8909-11F93285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F816-7CE2-4056-9D9A-3B92B406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4D9E-221A-45C8-BDF1-7BDDB39C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F41C-A70D-405D-A054-A6AE3472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3384-BB78-49DC-A3A1-959F09C2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8CE-F9D8-427E-8E63-1FF16FCD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76E6-68FE-4E41-89D4-5F04419A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BDA8-A3D8-419F-8508-84495CB2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F895-8FE0-442F-934F-BCFEB2C9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88DA-F7E0-4825-AE5E-91CF0F07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27F0-E3D9-434C-9A0E-BB438FD6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CB9-71B9-46EF-BE78-BF39AB9B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C54-12AA-434B-A817-696A90E9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9CBF-D308-48AA-9ABB-BA38C065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5E18-626F-41D0-87AE-5CD82D12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B01-D1A5-417E-BEF8-15B31B85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F5D-B392-41D7-8142-70029F2F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9DD-67D6-4C1A-B532-B9934F69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6AED-5121-438B-82DD-A7674E4B5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1593-9762-477F-8BF5-3B860B7B2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4929120" y="250020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华文琥珀"/>
                <a:ea typeface="华文琥珀"/>
              </a:rPr>
              <a:t> </a:t>
            </a:r>
            <a:r>
              <a:rPr b="0" lang="zh-CN" sz="5400" spc="-1" strike="noStrike">
                <a:solidFill>
                  <a:srgbClr val="ff9900"/>
                </a:solidFill>
                <a:latin typeface="华文琥珀"/>
                <a:ea typeface="华文琥珀"/>
              </a:rPr>
              <a:t>金色的鱼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000760" y="385776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小学语文第十二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4"/>
          <p:cNvSpPr/>
          <p:nvPr/>
        </p:nvSpPr>
        <p:spPr>
          <a:xfrm>
            <a:off x="1260360" y="1628640"/>
            <a:ext cx="662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课文中几次描写了老班长的外貌，从课文中摘录出描写老班长外貌的语句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34"/>
          <p:cNvSpPr/>
          <p:nvPr/>
        </p:nvSpPr>
        <p:spPr>
          <a:xfrm>
            <a:off x="1332000" y="263700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一次：炊事班长快四十岁了，个儿挺高，背有点驮，四方脸，高颧骨，脸上布满皱纹，两鬓都斑白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说明了： 这时的炊事班长饱经风霜，然而可敬可亲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二次：他那十分严峻的布满红丝的眼睛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说明了：日夜为小战士们操劳，睡眠不足，老班长的眼里布满了红丝，但丝毫不影响他照顾小红军，表现了他对工作的高度负责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27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41"/>
          <p:cNvSpPr/>
          <p:nvPr/>
        </p:nvSpPr>
        <p:spPr>
          <a:xfrm>
            <a:off x="1835280" y="1916280"/>
            <a:ext cx="5759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课文几次写到了喝鱼汤？每次分别是什么情景？从中看出老班长具有怎样的闪光品质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042"/>
          <p:cNvSpPr/>
          <p:nvPr/>
        </p:nvSpPr>
        <p:spPr>
          <a:xfrm>
            <a:off x="2050920" y="3645000"/>
            <a:ext cx="583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这些情景充分体现了老班长忠于党，忠于革命，舍己为人的崇高品质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小学语文(记叙文）03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836720" y="1886040"/>
            <a:ext cx="57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为什么说“在这个长满了红锈的鱼钩上，闪烁着灿烂的金色的光芒！”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546200" y="2924280"/>
            <a:ext cx="66261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ffff"/>
                </a:solidFill>
                <a:latin typeface="Times New Roman"/>
              </a:rPr>
              <a:t>因为这鱼钩是老班长用来钓鱼给他们吃的，让他们维持生命走出草地的遗物；鱼钩虽然长满了红锈，但老班长舍己为人的革命精神却永远放光芒。小梁把鱼钩小心地包起来，是为了让子孙后代瞻仰革命前辈的遗物，受到革命传统教育，同时也表达了小梁自己永远向老班长学习的决心。最后这句话点明了文章的主题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小学语文(记叙文）06"/>
          <p:cNvPicPr/>
          <p:nvPr/>
        </p:nvPicPr>
        <p:blipFill>
          <a:blip r:embed="rId1"/>
          <a:stretch/>
        </p:blipFill>
        <p:spPr>
          <a:xfrm>
            <a:off x="1116000" y="105408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1905120" y="2060640"/>
            <a:ext cx="6019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长征途中这样的感人故事还很多很多。课外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倔强的小红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来读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21" descr="8"/>
          <p:cNvPicPr/>
          <p:nvPr/>
        </p:nvPicPr>
        <p:blipFill>
          <a:blip r:embed="rId2"/>
          <a:stretch/>
        </p:blipFill>
        <p:spPr>
          <a:xfrm>
            <a:off x="3348000" y="3357720"/>
            <a:ext cx="230364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金色的鱼钩之草地"/>
          <p:cNvPicPr/>
          <p:nvPr/>
        </p:nvPicPr>
        <p:blipFill>
          <a:blip r:embed="rId1"/>
          <a:stretch/>
        </p:blipFill>
        <p:spPr>
          <a:xfrm>
            <a:off x="1547640" y="2060640"/>
            <a:ext cx="6046920" cy="4048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1258920" y="765000"/>
            <a:ext cx="66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1919"/>
                </a:solidFill>
                <a:latin typeface="华文新魏"/>
                <a:ea typeface="华文新魏"/>
              </a:rPr>
              <a:t>红军长征中跋涉的草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8" descr="党徽"/>
          <p:cNvPicPr/>
          <p:nvPr/>
        </p:nvPicPr>
        <p:blipFill>
          <a:blip r:embed="rId2"/>
          <a:stretch/>
        </p:blipFill>
        <p:spPr>
          <a:xfrm>
            <a:off x="468360" y="549360"/>
            <a:ext cx="1270080" cy="10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D:\资源库\9－5\18\媒体素材\课件类\红军当年从这里过草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2209680" y="4255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红军当年从这里过草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D:\资源库\9－5\18\媒体素材\课件类\《长征》剧照——过草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3276720" y="6019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红军过草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D:\资源库\9－5\18\媒体素材\课件类\《长征》剧照——过草地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3276720" y="6019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红军过草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矩形 3" descr=""/>
          <p:cNvPicPr/>
          <p:nvPr/>
        </p:nvPicPr>
        <p:blipFill>
          <a:blip r:embed="rId1"/>
          <a:stretch/>
        </p:blipFill>
        <p:spPr>
          <a:xfrm>
            <a:off x="2286000" y="2090880"/>
            <a:ext cx="4065480" cy="20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5"/>
                </a:solidFill>
                <a:latin typeface="Times New Roman"/>
                <a:ea typeface="华文隶书"/>
              </a:rPr>
              <a:t>金色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的鱼钩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03280" y="3573000"/>
            <a:ext cx="737712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革命回忆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5" descr="金色的鱼钩"/>
          <p:cNvPicPr/>
          <p:nvPr/>
        </p:nvPicPr>
        <p:blipFill>
          <a:blip r:embed="rId1"/>
          <a:stretch/>
        </p:blipFill>
        <p:spPr>
          <a:xfrm>
            <a:off x="539640" y="404640"/>
            <a:ext cx="4321440" cy="590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党旗"/>
          <p:cNvPicPr/>
          <p:nvPr/>
        </p:nvPicPr>
        <p:blipFill>
          <a:blip r:embed="rId2"/>
          <a:stretch/>
        </p:blipFill>
        <p:spPr>
          <a:xfrm>
            <a:off x="6012000" y="4529160"/>
            <a:ext cx="2193840" cy="1438200"/>
          </a:xfrm>
          <a:prstGeom prst="rect">
            <a:avLst/>
          </a:prstGeom>
          <a:ln w="0">
            <a:noFill/>
          </a:ln>
        </p:spPr>
      </p:pic>
      <p:pic>
        <p:nvPicPr>
          <p:cNvPr id="95" name="17金色的鱼钩_0.mp3" descr=""/>
          <p:cNvPicPr/>
          <p:nvPr/>
        </p:nvPicPr>
        <p:blipFill>
          <a:blip r:embed="rId3"/>
          <a:stretch/>
        </p:blipFill>
        <p:spPr>
          <a:xfrm>
            <a:off x="857268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286080" y="571680"/>
            <a:ext cx="265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幼圆"/>
              </a:rPr>
              <a:t>学习生字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57120" y="2133720"/>
            <a:ext cx="8406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搪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瓷碗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收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敛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掣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奄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奄一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590920" y="45720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幼圆"/>
              </a:rPr>
              <a:t>读读下列词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57200" y="1752480"/>
            <a:ext cx="822960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胃病 队伍 炊事班 颧骨 皱纹 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青稞 合不拢 鱼汤 碗筷 喉管 支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弥漫 熬过 鱼饵 蚯蚓 情绪 拧成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疙瘩 搀扶 毅力 俯身 粗糙 抽噎 衣兜 瞻仰 红锈 闪烁 塞了铅块  </a:t>
            </a: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小学语文(记叙文）01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r05"/>
          <p:cNvPicPr/>
          <p:nvPr/>
        </p:nvPicPr>
        <p:blipFill>
          <a:blip r:embed="rId2"/>
          <a:stretch/>
        </p:blipFill>
        <p:spPr>
          <a:xfrm>
            <a:off x="971640" y="2349360"/>
            <a:ext cx="2341440" cy="3911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3708360" y="1700280"/>
            <a:ext cx="46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在这个奇迹的背后，是红军战士历尽的千难万险，是无数可歌可泣的感人故事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金色的鱼钩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就是其中之一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2" descr="小学语文(记叙文）01"/>
          <p:cNvPicPr/>
          <p:nvPr/>
        </p:nvPicPr>
        <p:blipFill>
          <a:blip r:embed="rId1"/>
          <a:stretch/>
        </p:blipFill>
        <p:spPr>
          <a:xfrm>
            <a:off x="857160" y="2142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0"/>
          <p:cNvSpPr/>
          <p:nvPr/>
        </p:nvSpPr>
        <p:spPr>
          <a:xfrm>
            <a:off x="1143000" y="785880"/>
            <a:ext cx="7343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长征是世界军事历史上的一个伟大奇迹──一个由伟大的中国工农红军创造的奇迹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jsdyg_cz.mpg" descr=""/>
          <p:cNvPicPr/>
          <p:nvPr/>
        </p:nvPicPr>
        <p:blipFill>
          <a:blip r:embed="rId2"/>
          <a:stretch/>
        </p:blipFill>
        <p:spPr>
          <a:xfrm>
            <a:off x="785880" y="1785960"/>
            <a:ext cx="7786800" cy="5072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6"/>
          <p:cNvSpPr/>
          <p:nvPr/>
        </p:nvSpPr>
        <p:spPr>
          <a:xfrm>
            <a:off x="2438280" y="644400"/>
            <a:ext cx="434340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用较快的速度读课文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09480" y="1822320"/>
            <a:ext cx="800100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默读课文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了解课文主要讲了一件什么事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理清课文的叙述顺序，各部分主要讲了什么内容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再读课文，什么地方最能打动你，从中你感受到了什么？有感情地读一读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说说你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这个长满了红锈的鱼钩上，闪烁着灿烂的金色的光芒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句话的理解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8"/>
          <p:cNvSpPr/>
          <p:nvPr/>
        </p:nvSpPr>
        <p:spPr>
          <a:xfrm>
            <a:off x="3200400" y="501480"/>
            <a:ext cx="26668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金色的鱼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362320" y="1523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闪烁着灿烂的光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92120" y="3657600"/>
            <a:ext cx="1033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班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1676520" y="27432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057400" y="2514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肩负重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057400" y="30481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弯钩钓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2057400" y="3595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钓鱼不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057400" y="4129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安定情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057400" y="46623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困难重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2057400" y="5195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壮烈牺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Group 20"/>
          <p:cNvGrpSpPr/>
          <p:nvPr/>
        </p:nvGrpSpPr>
        <p:grpSpPr>
          <a:xfrm>
            <a:off x="4876920" y="2514600"/>
            <a:ext cx="3429000" cy="2209680"/>
            <a:chOff x="4876920" y="2514600"/>
            <a:chExt cx="3429000" cy="2209680"/>
          </a:xfrm>
        </p:grpSpPr>
        <p:sp>
          <p:nvSpPr>
            <p:cNvPr id="119" name="AutoShape 18"/>
            <p:cNvSpPr/>
            <p:nvPr/>
          </p:nvSpPr>
          <p:spPr>
            <a:xfrm>
              <a:off x="4876920" y="2514600"/>
              <a:ext cx="3429000" cy="2209680"/>
            </a:xfrm>
            <a:prstGeom prst="wedgeRoundRectCallout">
              <a:avLst>
                <a:gd name="adj1" fmla="val -74212"/>
                <a:gd name="adj2" fmla="val 85273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19"/>
            <p:cNvSpPr/>
            <p:nvPr/>
          </p:nvSpPr>
          <p:spPr>
            <a:xfrm>
              <a:off x="5105520" y="2742840"/>
              <a:ext cx="2895840" cy="1191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忠于革命    忠于党        舍己为人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8"/>
          <p:cNvSpPr/>
          <p:nvPr/>
        </p:nvSpPr>
        <p:spPr>
          <a:xfrm>
            <a:off x="457200" y="914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假如你是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革命烈士纪念馆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的解说员，你怎样向前来参观的人介绍金色的鱼钩的故事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33520" y="2936880"/>
            <a:ext cx="8153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条理要清楚，讲清鱼钩的来历以及围绕鱼钩所发生的故事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注意把课文感人的场面说出来，体现出人物的思想感情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注意用口语讲述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01:20:35Z</dcterms:created>
  <dc:creator>备课大师网——全免费！</dc:creator>
  <dc:description/>
  <dc:language>en-US</dc:language>
  <cp:lastModifiedBy>微软用户</cp:lastModifiedBy>
  <dcterms:modified xsi:type="dcterms:W3CDTF">2014-04-17T01:48:24Z</dcterms:modified>
  <cp:revision>0</cp:revision>
  <dc:subject/>
  <dc:title>备课大师网——全免费！</dc:title>
</cp:coreProperties>
</file>