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49B-82F3-4100-91C8-B95618D2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066-4FB7-499C-B9DE-FA831273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1550-CB4A-4F14-ACBE-491DEAA2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9CB-0159-4FDF-8ABE-5DC196E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A25-C12C-452A-A89B-5DED42D9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482-1873-4052-AE72-D7E250E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124-FF10-49FD-A7EE-FB07777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B7E-147C-4AE9-9D46-23CF919C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7A7-F1A4-4C84-A10C-930DC49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DB4-7D23-44B1-B938-494EC22B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3AD-1DB2-4215-A6AE-77AC6225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1060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38240" y="168120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82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1060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38240" y="3471480"/>
            <a:ext cx="250236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D76-9B62-46EC-A4DE-4741286E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560" y="177480"/>
            <a:ext cx="779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347148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681200"/>
            <a:ext cx="37926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471480"/>
            <a:ext cx="7772400" cy="16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hyperlink" Target="file:///../../&#30446;&#24405;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" Target="slide9.xml"/><Relationship Id="rId8" Type="http://schemas.openxmlformats.org/officeDocument/2006/relationships/image" Target="../media/image5.png"/><Relationship Id="rId9" Type="http://schemas.openxmlformats.org/officeDocument/2006/relationships/slide" Target="slide2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57240" y="469260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0" y="3905280"/>
            <a:ext cx="573120" cy="2556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57240" y="4299120"/>
            <a:ext cx="573120" cy="2552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0" y="1969920"/>
            <a:ext cx="895320" cy="2494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1514520"/>
            <a:ext cx="895320" cy="2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4713120"/>
            <a:ext cx="1359000" cy="95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1160" y="1266840"/>
            <a:ext cx="36828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825480"/>
            <a:ext cx="31680" cy="87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2800" y="1484280"/>
            <a:ext cx="8226360" cy="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7748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1681200"/>
            <a:ext cx="7772400" cy="34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11840" indent="-1872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686960" indent="-1872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1"/>
          </p:nvPr>
        </p:nvSpPr>
        <p:spPr>
          <a:xfrm>
            <a:off x="1162080" y="52023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2"/>
          </p:nvPr>
        </p:nvSpPr>
        <p:spPr>
          <a:xfrm>
            <a:off x="3657240" y="520236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3"/>
          </p:nvPr>
        </p:nvSpPr>
        <p:spPr>
          <a:xfrm>
            <a:off x="7041960" y="520236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07A7-D1DC-4115-9604-0B21C6EFFD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65120" y="1701000"/>
            <a:ext cx="742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　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娲造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4560" y="1317600"/>
            <a:ext cx="7692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背景介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《女娲造人》是根据《风俗通》中有关“女娲造人”的记载改编的。女娲造人的神话故事是在科学技术不发达的远古时代产生的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时的人们无法对人的诞生作出科学的解释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人类又想要掌握自身的起源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就只好借助于想象来解决这个问题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图片5"/>
          <p:cNvPicPr/>
          <p:nvPr/>
        </p:nvPicPr>
        <p:blipFill>
          <a:blip r:embed="rId2"/>
          <a:srcRect l="0" t="52381" r="0" b="0"/>
          <a:stretch/>
        </p:blipFill>
        <p:spPr>
          <a:xfrm>
            <a:off x="7962840" y="155520"/>
            <a:ext cx="990720" cy="63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1716" r="0" b="80554"/>
          <a:stretch/>
        </p:blipFill>
        <p:spPr>
          <a:xfrm>
            <a:off x="3014640" y="0"/>
            <a:ext cx="4376880" cy="78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179360" y="912960"/>
            <a:ext cx="175896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14560" y="1317600"/>
            <a:ext cx="7819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文化常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话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远古人们表现对自然及文化现象的理解与想象的故事。神话并非现实生活的科学反映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而是由于远古时代生产力水平很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人们不能科学地解释世界、自然现象和原始社会文化生活的起源和变化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以他们贫乏的生活经验为基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借助想象和幻想把自然力和客观世界拟人化的结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01720" y="619200"/>
            <a:ext cx="7207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图解课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233360" y="1353960"/>
            <a:ext cx="7336080" cy="28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14560" y="1317600"/>
            <a:ext cx="78199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正音辨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女娲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澄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掘起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掺和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幽光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踪迹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róu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团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mián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延    枯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ténɡ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wā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é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ɡ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chā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yōu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揉　绵　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08080" y="851040"/>
            <a:ext cx="1758960" cy="512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49280" y="20574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57440" y="207000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05640" y="2057400"/>
            <a:ext cx="68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992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7440" y="25779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97600" y="2565360"/>
            <a:ext cx="681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89000" y="70812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据义填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兴致高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情绪热烈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草木丛生的样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疲乏得无法坚持下去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原是佛教用语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指无所不能的力量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今指特别高明的本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高采烈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莽莽榛榛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疲倦不堪　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通广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7160" y="542880"/>
            <a:ext cx="771840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走进文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文章内容概括本文的故事情节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天地无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→造更多的人→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　　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造人　婚姻育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文中的女娲到底是人还是神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Times New Roman"/>
              </a:rPr>
              <a:t>请分析“妈妈”女娲的形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娲是神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是人。神性与人性在女娲身上得到了高度的统一。她勤劳、慈祥、聪明、活泼、情感丰富、有伟大的神力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76400" y="326880"/>
            <a:ext cx="781992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3)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她想出了一个绝妙的创造人类的方法”一句中“绝妙”换成“奇妙”好不好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好。“绝妙”表示方法巧妙到了极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“奇妙”表示方法新奇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人新颖的感觉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文中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妙”更妥帖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文处处洋溢着人类诞生的喜悦感。你能否从选文中找出相关的语句加以说明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案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示例</a:t>
            </a:r>
            <a:r>
              <a:rPr b="1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点溅落的地方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出现了许多小小的叫着跳着的人儿……‘妈妈’‘妈妈’的喊声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响在周围。”写出了人类自身对获得生命的欢呼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50486" r="0" b="29242"/>
          <a:stretch/>
        </p:blipFill>
        <p:spPr>
          <a:xfrm>
            <a:off x="2827440" y="1131840"/>
            <a:ext cx="43765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大师 xiexingcun.com</dc:creator>
  <dc:description> </dc:description>
  <dc:language>en-US</dc:language>
  <cp:lastModifiedBy>书利华教育网（数理化网）</cp:lastModifiedBy>
  <dcterms:modified xsi:type="dcterms:W3CDTF">2014-08-13T05:33:52Z</dcterms:modified>
  <cp:revision>1</cp:revision>
  <dc:subject>语文大师 xiexingcun.com</dc:subject>
  <dc:title>语文大师 xiexingcun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