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ashreg.wav" ContentType="audio/x-wav"/>
  <Override PartName="/ppt/media/hammer.wav" ContentType="audio/x-wav"/>
  <Override PartName="/ppt/media/image12.jpeg" ContentType="image/jpeg"/>
  <Override PartName="/ppt/media/image13.png" ContentType="image/png"/>
  <Override PartName="/ppt/media/image9.gif" ContentType="image/gif"/>
  <Override PartName="/ppt/media/click.wav" ContentType="audio/x-wav"/>
  <Override PartName="/ppt/media/image15.jpeg" ContentType="image/jpeg"/>
  <Override PartName="/ppt/media/image14.jpeg" ContentType="image/jpeg"/>
  <Override PartName="/ppt/media/image2.png" ContentType="image/png"/>
  <Override PartName="/ppt/media/image16.png" ContentType="image/png"/>
  <Override PartName="/ppt/media/chimes.wav" ContentType="audio/x-wav"/>
  <Override PartName="/ppt/media/image6.jpeg" ContentType="image/jpeg"/>
  <Override PartName="/ppt/media/image11.wmf" ContentType="image/x-wmf"/>
  <Override PartName="/ppt/media/image3.jpeg" ContentType="image/jpe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0E91-3D94-4AAC-8523-2B6150CE9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8A66-D97B-4D72-B51E-637057329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868C-197B-443B-B1B9-42AB2DCAB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D723-D2B7-43B3-9630-F834F4B81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4FEE4-B8E8-4B7E-9F25-64051D0B0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AC5BB-8297-45B7-AE3A-062FDD57C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6ABB5-76F5-45AB-882D-6EAD0C5A3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ED30E-0D37-4F2E-BAA3-EFEC63F88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1B9E7-AC09-4462-93B0-A4EECCAC4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8F90A-C8F0-4006-9BB0-BDC0CE110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E394F-1F86-415C-8A0E-8D86413F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F207-5103-44E5-B160-C240FE042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56AF4-6457-4A9F-8CED-A79332EA5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5BA84-6059-42F3-BDD8-DF986D524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8F5BA-89DC-4D1F-A14A-D1318CDCB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B1129-9AA5-430A-894D-4139AB66F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5A605-EDB1-4FE8-AA68-9537B5F22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E24F-2947-469A-8C4D-7C6D8BE85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B693-D857-4151-B5ED-994909772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BB88-2444-4425-937E-BE6177386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5BFB-D936-4D88-989B-1FD96A83A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B1FE-0F4F-477C-B580-782D2192D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25A8-3217-4CA8-A74E-556B4A860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19C5-3034-4349-BA2B-00589BC1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C1A1B-93B9-461E-ABB9-A0D56B1A477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FFCCC-0E1D-4240-8D5C-56C95325DAB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1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lick.wav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&#35753;&#29233;&#20303;&#25105;&#23478;.mp3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v.youku.com/v_show/id_XOTkyNDQ2NTY=.html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-109440"/>
            <a:ext cx="9144000" cy="69674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967760" y="25146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莫怀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09480" y="0"/>
            <a:ext cx="29718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散步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3" name=""/>
          <p:cNvSpPr/>
          <p:nvPr/>
        </p:nvSpPr>
        <p:spPr>
          <a:xfrm>
            <a:off x="5105520" y="579132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实验中学刘运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5720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ff"/>
                </a:solidFill>
                <a:latin typeface="Arial"/>
              </a:rPr>
              <a:t>再读课文，理解亲情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假如您有一束美丽的花，请您把它送给文中的某个人物，并请说说理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800" y="1143000"/>
            <a:ext cx="571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70f30"/>
                </a:solidFill>
                <a:latin typeface="Arial"/>
              </a:rPr>
              <a:t>鲜花献给可敬的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438280" y="3124080"/>
            <a:ext cx="457200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-360" y="6854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70f30"/>
                </a:solidFill>
                <a:latin typeface="Arial"/>
              </a:rPr>
              <a:t>     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80880" y="151920"/>
            <a:ext cx="82296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70f30"/>
                </a:solidFill>
                <a:latin typeface="Arial"/>
              </a:rPr>
              <a:t>我——孝敬、有家庭责任感、讲原则、不宠爱孩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文中的“我”是上有老，下有小，要照顾两头的中年男人。在处理家庭矛盾时候，有时可以兼顾两头，但有时无无法兼顾两头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如文中是走大路还是走小路，无法“两全”，只能顾一头的时候，那么顾那一头呢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决定委屈儿子”就是要顾老一头。</a:t>
            </a:r>
            <a:r>
              <a:rPr b="1" lang="zh-CN" sz="3000" spc="-1" strike="noStrike">
                <a:solidFill>
                  <a:srgbClr val="f70f30"/>
                </a:solidFill>
                <a:latin typeface="Arial"/>
              </a:rPr>
              <a:t>因为陪伴儿子的时间还长，但父母风烛残年，尽孝心的时间不多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所以这里有个家庭伦理道德准则：上有老，下有小，两头无法兼顾时，应该</a:t>
            </a:r>
            <a:r>
              <a:rPr b="1" lang="zh-CN" sz="3000" spc="-1" strike="noStrike">
                <a:solidFill>
                  <a:srgbClr val="f70f30"/>
                </a:solidFill>
                <a:latin typeface="Arial"/>
              </a:rPr>
              <a:t>顾老一头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>
            <a:hlinkClick r:id="rId1" action="ppaction://hlinksldjump"/>
          </p:cNvPr>
          <p:cNvSpPr/>
          <p:nvPr/>
        </p:nvSpPr>
        <p:spPr>
          <a:xfrm>
            <a:off x="8077320" y="6172200"/>
            <a:ext cx="761760" cy="457200"/>
          </a:xfrm>
          <a:custGeom>
            <a:avLst/>
            <a:gdLst>
              <a:gd name="textAreaLeft" fmla="*/ 133200 w 761760"/>
              <a:gd name="textAreaRight" fmla="*/ 552240 w 76176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70f30"/>
                </a:solidFill>
                <a:latin typeface="Arial"/>
              </a:rPr>
              <a:t>母亲——谦让、疼爱孙子、善解人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即使自己行动多不方便，也宠爱孙子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她现在很听我的话，就像我小时候很听她的话一样” ——信赖儿子，尊重儿子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但是母亲摸摸孙子的小脑袋，变了主意：“还 是走小路吧！”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>
            <a:hlinkClick r:id="rId1" action="ppaction://hlinksldjump"/>
          </p:cNvPr>
          <p:cNvSpPr/>
          <p:nvPr/>
        </p:nvSpPr>
        <p:spPr>
          <a:xfrm>
            <a:off x="7238880" y="6095880"/>
            <a:ext cx="1067040" cy="457200"/>
          </a:xfrm>
          <a:custGeom>
            <a:avLst/>
            <a:gdLst>
              <a:gd name="textAreaLeft" fmla="*/ 186480 w 1067040"/>
              <a:gd name="textAreaRight" fmla="*/ 773640 w 106704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6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70f30"/>
                </a:solidFill>
                <a:latin typeface="Arial"/>
              </a:rPr>
              <a:t>妻子——贤良、孝顺、家庭责任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在外面，她总是听我的”——贤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当“我决定委屈儿子”，妻子没有丝毫的执着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我蹲下，背起母亲，妻子也蹲下来，背起了儿子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>
            <a:hlinkClick r:id="rId1" action="ppaction://hlinksldjump"/>
          </p:cNvPr>
          <p:cNvSpPr/>
          <p:nvPr/>
        </p:nvSpPr>
        <p:spPr>
          <a:xfrm>
            <a:off x="6705720" y="5791320"/>
            <a:ext cx="1447560" cy="609480"/>
          </a:xfrm>
          <a:custGeom>
            <a:avLst/>
            <a:gdLst>
              <a:gd name="textAreaLeft" fmla="*/ 253080 w 1447560"/>
              <a:gd name="textAreaRight" fmla="*/ 1049400 w 144756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3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8" dur="10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3" dur="10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8" dur="10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70f30"/>
                </a:solidFill>
                <a:latin typeface="Arial"/>
              </a:rPr>
              <a:t>儿子——调皮、活泼可爱、聪明、听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儿子要走小路，小路有意思”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前面也是妈妈和儿子，后面也是妈妈和儿子”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当“我决定委屈儿子”时，儿子并没有哭闹，对此变现出非常地听话和理解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>
            <a:hlinkClick r:id="rId1" action="ppaction://hlinksldjump"/>
          </p:cNvPr>
          <p:cNvSpPr/>
          <p:nvPr/>
        </p:nvSpPr>
        <p:spPr>
          <a:xfrm>
            <a:off x="7010280" y="5715000"/>
            <a:ext cx="1219320" cy="304920"/>
          </a:xfrm>
          <a:custGeom>
            <a:avLst/>
            <a:gdLst>
              <a:gd name="textAreaLeft" fmla="*/ 213120 w 1219320"/>
              <a:gd name="textAreaRight" fmla="*/ 884160 w 121932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8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8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8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8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8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8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8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8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8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8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8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800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800" fill="hold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800" fill="hold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800" fill="hold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0" y="0"/>
            <a:ext cx="9144000" cy="1523880"/>
          </a:xfrm>
          <a:prstGeom prst="cloudCallout">
            <a:avLst>
              <a:gd name="adj1" fmla="val -1143"/>
              <a:gd name="adj2" fmla="val -1666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669999"/>
                </a:solidFill>
                <a:latin typeface="Arial"/>
                <a:ea typeface="隶书"/>
              </a:rPr>
              <a:t>请为文中的人物戴上合适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669999"/>
                </a:solidFill>
                <a:latin typeface="Arial"/>
                <a:ea typeface="隶书"/>
              </a:rPr>
              <a:t>修饰“帽子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523880" y="4038480"/>
            <a:ext cx="13716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99cc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楷体_GB2312"/>
              </a:rPr>
              <a:t>（）我 </a:t>
            </a:r>
            <a:endParaRPr b="0" lang="en-US" sz="4800" spc="1" strike="noStrike">
              <a:ln w="9360">
                <a:solidFill>
                  <a:srgbClr val="ff0000"/>
                </a:solidFill>
                <a:miter/>
              </a:ln>
              <a:solidFill>
                <a:srgbClr val="ff99cc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733920" y="2209680"/>
            <a:ext cx="1295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99cc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楷体_GB2312"/>
              </a:rPr>
              <a:t>（）母亲</a:t>
            </a:r>
            <a:endParaRPr b="0" lang="en-US" sz="4800" spc="1" strike="noStrike">
              <a:ln w="9360">
                <a:solidFill>
                  <a:srgbClr val="ff0000"/>
                </a:solidFill>
                <a:miter/>
              </a:ln>
              <a:solidFill>
                <a:srgbClr val="ff99cc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172200" y="3962520"/>
            <a:ext cx="12952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99cc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楷体_GB2312"/>
              </a:rPr>
              <a:t>（）妻子</a:t>
            </a:r>
            <a:endParaRPr b="0" lang="en-US" sz="4800" spc="1" strike="noStrike">
              <a:ln w="9360">
                <a:solidFill>
                  <a:srgbClr val="ff0000"/>
                </a:solidFill>
                <a:miter/>
              </a:ln>
              <a:solidFill>
                <a:srgbClr val="ff99cc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733920" y="6019920"/>
            <a:ext cx="1295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99cc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楷体_GB2312"/>
              </a:rPr>
              <a:t>（）儿子</a:t>
            </a:r>
            <a:endParaRPr b="0" lang="en-US" sz="4800" spc="1" strike="noStrike">
              <a:ln w="9360">
                <a:solidFill>
                  <a:srgbClr val="ff0000"/>
                </a:solidFill>
                <a:miter/>
              </a:ln>
              <a:solidFill>
                <a:srgbClr val="ff99cc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rcRect l="0" t="0" r="-1975" b="46406"/>
          <a:stretch/>
        </p:blipFill>
        <p:spPr>
          <a:xfrm>
            <a:off x="2743200" y="3048120"/>
            <a:ext cx="3200400" cy="24001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3200400" y="15238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9999"/>
                </a:solidFill>
                <a:latin typeface="Times New Roman"/>
                <a:ea typeface="华文楷体"/>
              </a:rPr>
              <a:t>（慈爱的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33526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9999"/>
                </a:solidFill>
                <a:latin typeface="Times New Roman"/>
                <a:ea typeface="华文楷体"/>
              </a:rPr>
              <a:t>（孝顺的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867280" y="33526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9999"/>
                </a:solidFill>
                <a:latin typeface="Times New Roman"/>
                <a:ea typeface="华文楷体"/>
              </a:rPr>
              <a:t>（贤惠的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819520" y="541008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9999"/>
                </a:solidFill>
                <a:latin typeface="Times New Roman"/>
                <a:ea typeface="华文楷体"/>
              </a:rPr>
              <a:t>（天真可爱的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152388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填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441360" y="403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363600"/>
            <a:ext cx="938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莫怀戚的《散文》是一篇玲珑剔透，秀美隽永、蕴藉丰富的精美散文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也是一曲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58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字凝成的真善美的颂歌。你觉得这篇散文美在哪里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919520" y="989640"/>
            <a:ext cx="74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"/>
              </a:rPr>
              <a:t>、尊老爱幼的人性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167544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她现在很听我的话，就像我小时候很听她的话一样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28600" y="345744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”蹲下身子，背起了母亲；妻子也蹲下来，背起了儿子。“我和妻子都是慢慢地，稳稳地，走得很仔细，好像我背上的同她背上的加起来，就是整个世界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4648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70f30"/>
                </a:solidFill>
                <a:latin typeface="Arial"/>
              </a:rPr>
              <a:t>夸张、从字面上看，这是形容他们走得小心，走的是小路，唯恐哪一步有闪失，特别是母亲，是经不起摔跌的，非稳当不可。从形象上看，很有象征意义，中年的责任，既要赡养老一代，又要抚养下一代，一个家庭是这样，一个民族，一个国家，全世界又何尝不是这样？</a:t>
            </a:r>
            <a:r>
              <a:rPr b="1" lang="zh-CN" sz="2400" spc="-1" strike="noStrike">
                <a:solidFill>
                  <a:srgbClr val="ff66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2362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70f30"/>
                </a:solidFill>
                <a:latin typeface="Arial"/>
              </a:rPr>
              <a:t>一个“慈母”，“一个孝子”，一个真诚的理解，一个绝对的信任，这种良性的因果循环正反映了古朴的伦理道德之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2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2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2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1" dur="2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2112480" y="151560"/>
            <a:ext cx="8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70f3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f70f30"/>
                </a:solidFill>
                <a:latin typeface="Arial"/>
              </a:rPr>
              <a:t>、景物描写的意境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28600" y="131004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大块大块的新绿”有浓有淡，“树上的嫩芽也密了”，“田野的冬水也咕咕地起了水泡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04920" y="434016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金色的菜花，整齐的桑树，水波粼粼的鱼塘，这是春天在召唤，生命在召唤。”是啊，尽管“今年的春天来得太迟”、“一些老人挺不住”，“但春天总算来了”，母亲也总算“又熬过了一个严冬”，这字里行间流露的正是一种对生活的酷爱、对生命的珍爱。春天来了，一切都要从头开始。正该抖擞精神，以充沛的活力投入新的生活，迎接美好的明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8600" y="220968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70f30"/>
                </a:solidFill>
                <a:latin typeface="Arial"/>
              </a:rPr>
              <a:t>这“新绿”、这“嫩芽”、这“水泡”，分明是春的气息的透露，它显示了不可遏制的生机，这是对生命的高歌，对生命力的礼赞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4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143000" y="2438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写景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200400" y="1981080"/>
            <a:ext cx="152280" cy="1524240"/>
          </a:xfrm>
          <a:custGeom>
            <a:avLst/>
            <a:gdLst>
              <a:gd name="textAreaLeft" fmla="*/ 97200 w 152280"/>
              <a:gd name="textAreaRight" fmla="*/ 152640 w 15228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505320" y="17524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提供环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2590920"/>
            <a:ext cx="414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表情达意、渲染气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657600" y="3352680"/>
            <a:ext cx="36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衬托人物、突出主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2264760" y="151560"/>
            <a:ext cx="8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70f3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f70f30"/>
                </a:solidFill>
                <a:latin typeface="Arial"/>
              </a:rPr>
              <a:t>、平易朴实的语言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28600" y="1219320"/>
            <a:ext cx="8650440" cy="14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、情趣盎然。“她现在很听我的话，就像我小时候很听她的话一样。”母慈子孝，相映成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家伙突然大叫起来：‘前面也是妈妈和儿子，后面也是妈妈和儿子。’我们都笑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两句话充满生活情趣，既表现了小家伙的天真、聪颖，又表现了家庭的幸福和温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04920" y="53352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、反复诵读课文，了解课文内容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、欣赏文章优美的语言，领悟课文深长的意味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、体会文章中流淌着的浓浓的亲情，培养学生的社会责任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学习重点和难点：</a:t>
            </a:r>
            <a:br>
              <a:rPr sz="2600"/>
            </a:b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重点：整体感知课文内容，体会文章所表达的思想感情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难点：理解文中具有象征意义的关键语句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课时安排  ：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课时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）、言浅意深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分析：“我的母亲又熬过了一个严冬”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lang="zh-CN" sz="2100" spc="-1" strike="noStrike">
                <a:solidFill>
                  <a:srgbClr val="006600"/>
                </a:solidFill>
                <a:latin typeface="Arial"/>
              </a:rPr>
              <a:t>a</a:t>
            </a:r>
            <a:r>
              <a:rPr b="1" lang="zh-CN" sz="2100" spc="-1" strike="noStrike">
                <a:solidFill>
                  <a:srgbClr val="006600"/>
                </a:solidFill>
                <a:latin typeface="Arial"/>
              </a:rPr>
              <a:t>、突出身体不好的母亲度过这个冬天的艰难。</a:t>
            </a:r>
            <a:r>
              <a:rPr b="1" lang="zh-CN" sz="2100" spc="-1" strike="noStrike">
                <a:solidFill>
                  <a:srgbClr val="006600"/>
                </a:solidFill>
                <a:latin typeface="Arial"/>
              </a:rPr>
              <a:t>b</a:t>
            </a:r>
            <a:r>
              <a:rPr b="1" lang="zh-CN" sz="2100" spc="-1" strike="noStrike">
                <a:solidFill>
                  <a:srgbClr val="006600"/>
                </a:solidFill>
                <a:latin typeface="Arial"/>
              </a:rPr>
              <a:t>、写出了     “我”为母亲安然度过这个严冬而庆幸。</a:t>
            </a:r>
            <a:r>
              <a:rPr b="1" lang="zh-CN" sz="2100" spc="-1" strike="noStrike">
                <a:solidFill>
                  <a:srgbClr val="006600"/>
                </a:solidFill>
                <a:latin typeface="Arial"/>
              </a:rPr>
              <a:t>C</a:t>
            </a:r>
            <a:r>
              <a:rPr b="1" lang="zh-CN" sz="2100" spc="-1" strike="noStrike">
                <a:solidFill>
                  <a:srgbClr val="006600"/>
                </a:solidFill>
                <a:latin typeface="Arial"/>
              </a:rPr>
              <a:t>、与前文“太迟太迟”与“总算来了”相照应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妻子呢，在外面，她总是听我的。这一句表现了妻子的贤惠。“在外面”这个限制语用得好，令人想起“在家里”很可能“我总是听她的”，这令人想起“男主外，女主内”的俗语。“我的母亲虽然高大，然而是很瘦……好像我背上的同她背上的加起来，就是整个世界。”这句话含义深刻，以轻衬重，突出了“尊老爱幼”的重大意义，还写出了中年人已意识到自己责任的重大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）、于平实中见灵气，在浅易中见哲理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如“母亲要走大路，大路平顺；我的儿子要走小路，小路有意思”。用顶真的修辞格，读起来格外的真切，琅琅上口，  富有韵感受。如“我蹲下来，背起了母亲，妻子也蹲下来，背起了儿子”，“我的母亲虽然高大，然而很瘦，自然不算重；儿子虽然很胖，毕竟幼小，自然很轻”。这种对举在文中比比皆是，它构成了句式的对称美，同时也是为文章的内容服务：作者站在人生的中点上，一边是长辈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一边是后代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也处在生命之链的关节上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这里既有作者强烈的责任感受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又体现了作者挚爱生活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品尝人生甜美的无穷韵味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627200" y="6094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问题讨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642040" y="2286000"/>
            <a:ext cx="4120200" cy="26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宋体"/>
              </a:rPr>
              <a:t>             </a:t>
            </a:r>
            <a:r>
              <a:rPr b="1" lang="zh-CN" sz="3600" spc="-1" strike="noStrike">
                <a:solidFill>
                  <a:srgbClr val="ff33cc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宋体"/>
              </a:rPr>
              <a:t>、问题</a:t>
            </a:r>
            <a:r>
              <a:rPr b="1" lang="zh-CN" sz="3600" spc="-1" strike="noStrike">
                <a:solidFill>
                  <a:srgbClr val="800000"/>
                </a:solidFill>
                <a:latin typeface="宋体"/>
              </a:rPr>
              <a:t>  为什么“好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宋体"/>
              </a:rPr>
              <a:t>                </a:t>
            </a:r>
            <a:r>
              <a:rPr b="1" lang="zh-CN" sz="3600" spc="-1" strike="noStrike">
                <a:solidFill>
                  <a:srgbClr val="800000"/>
                </a:solidFill>
                <a:latin typeface="宋体"/>
              </a:rPr>
              <a:t>我背上的和她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宋体"/>
              </a:rPr>
              <a:t>                </a:t>
            </a:r>
            <a:r>
              <a:rPr b="1" lang="zh-CN" sz="3600" spc="-1" strike="noStrike">
                <a:solidFill>
                  <a:srgbClr val="800000"/>
                </a:solidFill>
                <a:latin typeface="宋体"/>
              </a:rPr>
              <a:t>上的加起是整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宋体"/>
              </a:rPr>
              <a:t>                </a:t>
            </a:r>
            <a:r>
              <a:rPr b="1" lang="zh-CN" sz="3600" spc="-1" strike="noStrike">
                <a:solidFill>
                  <a:srgbClr val="800000"/>
                </a:solidFill>
                <a:latin typeface="宋体"/>
              </a:rPr>
              <a:t>世界”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52280" y="1676520"/>
            <a:ext cx="3353040" cy="43434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193680" y="1752480"/>
            <a:ext cx="3351240" cy="396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8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8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8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8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Box 4"/>
          <p:cNvSpPr/>
          <p:nvPr/>
        </p:nvSpPr>
        <p:spPr>
          <a:xfrm>
            <a:off x="0" y="571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5"/>
          <p:cNvSpPr/>
          <p:nvPr/>
        </p:nvSpPr>
        <p:spPr>
          <a:xfrm>
            <a:off x="0" y="838080"/>
            <a:ext cx="8786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母亲给我们以生命，而儿子又是这生命的延续。这血脉相连的三代紧紧连接在一起，构成了</a:t>
            </a:r>
            <a:r>
              <a:rPr b="1" lang="zh-CN" sz="4000" spc="-1" strike="noStrike">
                <a:solidFill>
                  <a:srgbClr val="f70f30"/>
                </a:solidFill>
                <a:latin typeface="华文楷体"/>
                <a:ea typeface="华文楷体"/>
              </a:rPr>
              <a:t>生命的整体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整个世界也就是由老年人、中年人、孩子组成。“我”和妻子肩负着</a:t>
            </a:r>
            <a:r>
              <a:rPr b="1" lang="zh-CN" sz="4000" spc="-1" strike="noStrike">
                <a:solidFill>
                  <a:srgbClr val="f70f30"/>
                </a:solidFill>
                <a:latin typeface="华文楷体"/>
                <a:ea typeface="华文楷体"/>
              </a:rPr>
              <a:t>承前启后的责任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所以作者说背起的是整个世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55" name=""/>
          <p:cNvGrpSpPr/>
          <p:nvPr/>
        </p:nvGrpSpPr>
        <p:grpSpPr>
          <a:xfrm>
            <a:off x="1600200" y="2514600"/>
            <a:ext cx="2286000" cy="1587600"/>
            <a:chOff x="1600200" y="2514600"/>
            <a:chExt cx="2286000" cy="1587600"/>
          </a:xfrm>
        </p:grpSpPr>
        <p:sp>
          <p:nvSpPr>
            <p:cNvPr id="256" name=""/>
            <p:cNvSpPr/>
            <p:nvPr/>
          </p:nvSpPr>
          <p:spPr>
            <a:xfrm>
              <a:off x="1863360" y="3276720"/>
              <a:ext cx="1080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6600"/>
                  </a:solidFill>
                  <a:latin typeface="Times New Roman"/>
                  <a:ea typeface="华文行楷"/>
                </a:rPr>
                <a:t>(</a:t>
              </a:r>
              <a:r>
                <a:rPr b="0" lang="zh-CN" sz="2400" spc="-1" strike="noStrike">
                  <a:solidFill>
                    <a:srgbClr val="006600"/>
                  </a:solidFill>
                  <a:latin typeface="Times New Roman"/>
                  <a:ea typeface="华文行楷"/>
                </a:rPr>
                <a:t>小事情</a:t>
              </a:r>
              <a:r>
                <a:rPr b="0" lang="zh-CN" sz="2400" spc="-1" strike="noStrike">
                  <a:solidFill>
                    <a:srgbClr val="006600"/>
                  </a:solidFill>
                  <a:latin typeface="Times New Roman"/>
                  <a:ea typeface="华文行楷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600200" y="2514600"/>
              <a:ext cx="2286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00"/>
                  </a:solidFill>
                  <a:latin typeface="Verdana"/>
                  <a:ea typeface="楷体_GB2312"/>
                </a:rPr>
                <a:t>散步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5982120" y="2514600"/>
            <a:ext cx="164376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Verdana"/>
                <a:ea typeface="楷体_GB2312"/>
              </a:rPr>
              <a:t>尊老爱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00"/>
                </a:solidFill>
                <a:latin typeface="Times New Roman"/>
                <a:ea typeface="华文行楷"/>
              </a:rPr>
              <a:t>      </a:t>
            </a:r>
            <a:r>
              <a:rPr b="0" lang="zh-CN" sz="2400" spc="-1" strike="noStrike">
                <a:solidFill>
                  <a:srgbClr val="006600"/>
                </a:solidFill>
                <a:latin typeface="Times New Roman"/>
                <a:ea typeface="华文行楷"/>
              </a:rPr>
              <a:t>(</a:t>
            </a:r>
            <a:r>
              <a:rPr b="0" lang="zh-CN" sz="2400" spc="-1" strike="noStrike">
                <a:solidFill>
                  <a:srgbClr val="006600"/>
                </a:solidFill>
                <a:latin typeface="Times New Roman"/>
                <a:ea typeface="华文行楷"/>
              </a:rPr>
              <a:t>大主题</a:t>
            </a:r>
            <a:r>
              <a:rPr b="0" lang="zh-CN" sz="2400" spc="-1" strike="noStrike">
                <a:solidFill>
                  <a:srgbClr val="006600"/>
                </a:solidFill>
                <a:latin typeface="Times New Roman"/>
                <a:ea typeface="华文行楷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276720" y="2819520"/>
            <a:ext cx="1981080" cy="304560"/>
          </a:xfrm>
          <a:prstGeom prst="rightArrow">
            <a:avLst>
              <a:gd name="adj1" fmla="val 50000"/>
              <a:gd name="adj2" fmla="val 1626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813840" y="1675800"/>
            <a:ext cx="667800" cy="25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以小 见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685800" y="762120"/>
            <a:ext cx="1494000" cy="168588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2209680" y="76212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写法讨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752480" y="5715000"/>
            <a:ext cx="329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借景抒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中心：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这是一篇优美的散文，颂扬了我国人民</a:t>
            </a:r>
            <a:r>
              <a:rPr b="1" lang="zh-CN" sz="2600" spc="-1" strike="noStrike">
                <a:solidFill>
                  <a:srgbClr val="f70f30"/>
                </a:solidFill>
                <a:latin typeface="Arial"/>
              </a:rPr>
              <a:t>尊老爱幼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的传统美德。文章只选取一个三代同堂的普通家庭一次散步的小事来写，但却表现了一个重大的主题。所以同学们对生活中的小事一定要仔细观察，用心感受，才能有真情实感的好文章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其实，在我们经过的平写出凡日子里，都蕴涵了许多令人感动的故事，就像文中提到的那转瞬即逝一幕幕将永远留在我们心底久久回味，从而使我们更爱自己的家人，更珍惜亲情，珍爱生命。这就是今天我要告诉大家的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169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6462000" y="801720"/>
            <a:ext cx="1399320" cy="5867280"/>
          </a:xfrm>
          <a:prstGeom prst="rect">
            <a:avLst/>
          </a:pr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全家四口早春散步互谦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283400" y="801720"/>
            <a:ext cx="1399320" cy="5867280"/>
          </a:xfrm>
          <a:prstGeom prst="rect">
            <a:avLst/>
          </a:pr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祖孙三代风雨人生相依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708360" y="142920"/>
            <a:ext cx="2521080" cy="764280"/>
          </a:xfrm>
          <a:prstGeom prst="rect">
            <a:avLst/>
          </a:prstGeom>
          <a:solidFill>
            <a:srgbClr val="ff00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相亲相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28600" y="45720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对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6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7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8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Arial"/>
              </a:rPr>
              <a:t>孝心无价（节选）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     毕淑敏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Arial"/>
              </a:rPr>
              <a:t>赶快为你的父母尽一份孝心。也许是一处豪宅，也许是一片砖瓦。也许是大洋彼岸的一只鸿雁，也许是近在咫尺的一个口信。也许是一顶纯黑的博士帽，也许是作业簿上一个红五分。也许是一桌山珍海味，也许是一只野果一朵小花。也许是花团锦簇的盛世华衣，也许是一双洁净的旧鞋。也许是数以万计的金钱，也许只是含着体温的一枚硬币。……但“孝”的天平上，它们等值。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700360" y="260280"/>
            <a:ext cx="324000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让爱住我家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110240" y="1197000"/>
            <a:ext cx="23799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我爱我的家 弟弟爸爸妈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爱是不吵架 常常陪我玩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我爱我的家 儿子女儿我的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爱就是忍耐 家庭所有繁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我爱我的家 儿子女儿我亲爱的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爱就是付出 让家不缺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让爱天天住你家 让爱天天住我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没有哭泣 不会惧怕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因为有爱住我们的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让爱天天住你家 让爱天天住我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不分日夜秋冬春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全心全意爱我们的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360400" y="1197000"/>
            <a:ext cx="24454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我爱我的家  弟弟爸爸妈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爱是不嫉妒  弟弟有啥我有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我爱我的家  儿子女儿我的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爱就是感谢  不记任何代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我爱我的家  儿子女儿我亲爱的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爱就是珍惜  时光和年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让爱天天住你家  让爱天天住我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没有哭泣  不会惧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因为有爱住我们的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让爱天天住你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让爱天天住我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不分日夜秋冬春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全心全意爱我们的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群星 - 让爱住我家" descr=""/>
          <p:cNvPicPr/>
          <p:nvPr/>
        </p:nvPicPr>
        <p:blipFill>
          <a:blip r:embed="rId2"/>
          <a:stretch/>
        </p:blipFill>
        <p:spPr>
          <a:xfrm>
            <a:off x="7315200" y="5105520"/>
            <a:ext cx="76212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0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1" dur="178547" fill="hold"/>
                                        <p:tgtEl>
                                          <p:spTgt spid="2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1409400" cy="17650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787320" y="9079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30360" y="40053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住我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276720" y="914400"/>
            <a:ext cx="457200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《让爱住我家》的歌曲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亲爱的同学们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家，是一个幸福的摇篮，需要我们用心灵来呵护。 家，更是一副沉沉的担子，需要我们每个人用责任来担当。只有这样，我们才能撑起一片爱的天空，营造一个幸福的家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0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8" dur="2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2000"/>
                            </p:stCondLst>
                            <p:childTnLst>
                              <p:par>
                                <p:cTn id="6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2" dur="20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4000"/>
                            </p:stCondLst>
                            <p:childTnLst>
                              <p:par>
                                <p:cTn id="6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6" dur="20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6000"/>
                            </p:stCondLst>
                            <p:childTnLst>
                              <p:par>
                                <p:cTn id="63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9" dur="2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8000"/>
                            </p:stCondLst>
                            <p:childTnLst>
                              <p:par>
                                <p:cTn id="64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3" dur="20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7" dur="20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50560" y="980640"/>
            <a:ext cx="6645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6600"/>
                </a:solidFill>
                <a:latin typeface="黑体"/>
                <a:ea typeface="黑体"/>
              </a:rPr>
              <a:t>英国哲学家培根说</a:t>
            </a:r>
            <a:r>
              <a:rPr b="0" lang="zh-CN" sz="4800" spc="-1" strike="noStrike">
                <a:solidFill>
                  <a:srgbClr val="006600"/>
                </a:solidFill>
                <a:latin typeface="黑体"/>
                <a:ea typeface="黑体"/>
              </a:rPr>
              <a:t>: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-36360" y="2852640"/>
            <a:ext cx="9144000" cy="36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9900"/>
                </a:solidFill>
                <a:latin typeface="Arial"/>
              </a:rPr>
              <a:t>         </a:t>
            </a:r>
            <a:r>
              <a:rPr b="1" lang="zh-CN" sz="4500" spc="-1" strike="noStrike">
                <a:solidFill>
                  <a:srgbClr val="ff00ff"/>
                </a:solidFill>
                <a:latin typeface="Arial"/>
              </a:rPr>
              <a:t>“</a:t>
            </a:r>
            <a:r>
              <a:rPr b="1" lang="zh-CN" sz="4500" spc="-1" strike="noStrike">
                <a:solidFill>
                  <a:srgbClr val="ff00ff"/>
                </a:solidFill>
                <a:latin typeface="Arial"/>
              </a:rPr>
              <a:t>哺育子女是动物也有的本能，赡养父母才是人类的文化之举，这个，全世界数中国人做得最好。”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愿同学们把这种我们民族引以为豪的传统美德代代相传，平时身体力行，把它渗透到生活的点点滴滴，用心去孝敬你的父母，体谅他们的每一份苦心。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6881760" y="0"/>
            <a:ext cx="226224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134360" y="4572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作者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1496880"/>
            <a:ext cx="9596160" cy="40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莫怀戚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1951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年出生，重庆人，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中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作家协会会员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笔名：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隶书"/>
                <a:ea typeface="隶书"/>
              </a:rPr>
              <a:t>周平安、章大明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1982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年毕业于四川大学中文系。曾任教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重庆师范学院中文系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著有小说集《诗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大家》、《大律师现实录》、长篇小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《经典关系》、《透支时代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304920" y="304920"/>
            <a:ext cx="794232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ff00ff"/>
                </a:solidFill>
                <a:latin typeface="黑体"/>
                <a:ea typeface="黑体"/>
              </a:rPr>
              <a:t>课堂作业</a:t>
            </a:r>
            <a:br>
              <a:rPr sz="3900"/>
            </a:br>
            <a:r>
              <a:rPr b="1" lang="zh-CN" sz="39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900" spc="-1" strike="noStrike">
                <a:solidFill>
                  <a:srgbClr val="0000ff"/>
                </a:solidFill>
                <a:latin typeface="Arial"/>
              </a:rPr>
              <a:t>、抄写生字词；</a:t>
            </a:r>
            <a:br>
              <a:rPr sz="3900"/>
            </a:br>
            <a:r>
              <a:rPr b="1" lang="zh-CN" sz="39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900" spc="-1" strike="noStrike">
                <a:solidFill>
                  <a:srgbClr val="0000ff"/>
                </a:solidFill>
                <a:latin typeface="Arial"/>
              </a:rPr>
              <a:t>、课后练习</a:t>
            </a:r>
            <a:r>
              <a:rPr b="1" lang="zh-CN" sz="3900" spc="-1" strike="noStrike">
                <a:solidFill>
                  <a:srgbClr val="0000ff"/>
                </a:solidFill>
                <a:latin typeface="Arial"/>
              </a:rPr>
              <a:t>2.</a:t>
            </a:r>
            <a:br>
              <a:rPr sz="3900"/>
            </a:br>
            <a:br>
              <a:rPr sz="3900"/>
            </a:br>
            <a:r>
              <a:rPr b="1" lang="zh-CN" sz="39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39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zh-CN" sz="3900" spc="-1" strike="noStrike">
                <a:solidFill>
                  <a:srgbClr val="1304da"/>
                </a:solidFill>
                <a:latin typeface="Arial"/>
              </a:rPr>
              <a:t>摘抄体现“尊老爱幼”美德的文句</a:t>
            </a:r>
            <a:r>
              <a:rPr b="1" lang="zh-CN" sz="3900" spc="-1" strike="noStrike">
                <a:solidFill>
                  <a:srgbClr val="1304da"/>
                </a:solidFill>
                <a:latin typeface="Arial"/>
              </a:rPr>
              <a:t>3</a:t>
            </a:r>
            <a:r>
              <a:rPr b="1" lang="zh-CN" sz="3900" spc="-1" strike="noStrike">
                <a:solidFill>
                  <a:srgbClr val="1304da"/>
                </a:solidFill>
                <a:latin typeface="Arial"/>
              </a:rPr>
              <a:t>则。</a:t>
            </a:r>
            <a:br>
              <a:rPr sz="3900"/>
            </a:br>
            <a:r>
              <a:rPr b="1" lang="zh-CN" sz="39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900" spc="-1" strike="noStrike">
                <a:solidFill>
                  <a:srgbClr val="1304da"/>
                </a:solidFill>
                <a:latin typeface="Arial"/>
              </a:rPr>
              <a:t>3</a:t>
            </a:r>
            <a:r>
              <a:rPr b="1" lang="zh-CN" sz="3900" spc="-1" strike="noStrike">
                <a:solidFill>
                  <a:srgbClr val="1304da"/>
                </a:solidFill>
                <a:latin typeface="Arial"/>
              </a:rPr>
              <a:t>、学了本文，你一定有万千感慨，请拿出你手中的笔，以“爸爸、妈妈我想对您说”写下你现在最想对爸妈说的话。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90720" y="2362320"/>
            <a:ext cx="66974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7869240" y="0"/>
            <a:ext cx="12747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742840" y="456840"/>
            <a:ext cx="2895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330066"/>
                </a:solidFill>
                <a:latin typeface="Arial"/>
              </a:rPr>
              <a:t>帮妈妈洗脚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129528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70f30"/>
                </a:solidFill>
                <a:latin typeface="Arial"/>
              </a:rPr>
              <a:t>看公益广告，您感受到了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81080" y="2209680"/>
            <a:ext cx="5257800" cy="38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13" descr="UE-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2"/>
          <p:cNvSpPr/>
          <p:nvPr/>
        </p:nvSpPr>
        <p:spPr>
          <a:xfrm>
            <a:off x="395280" y="18828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给划线的汉字注音。</a:t>
            </a:r>
            <a:r>
              <a:rPr b="1" lang="zh-CN" sz="3600" spc="-1" strike="noStrike">
                <a:solidFill>
                  <a:srgbClr val="669999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755640" y="253800"/>
            <a:ext cx="6788160" cy="67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分歧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信服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拆散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霎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     ）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水波粼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粼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嫩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     ）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熬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     ）过</a:t>
            </a:r>
            <a:r>
              <a:rPr b="1" lang="zh-CN" sz="3600" spc="-1" strike="noStrike">
                <a:solidFill>
                  <a:srgbClr val="d8d8ec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3300"/>
                </a:solidFill>
                <a:latin typeface="Arial"/>
              </a:rPr>
              <a:t>酷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冬（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2222640" y="765000"/>
            <a:ext cx="198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fēn  q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2381400" y="1492200"/>
            <a:ext cx="219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xìn  f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2000160" y="2205000"/>
            <a:ext cx="242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chāi  sà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1763640" y="3003480"/>
            <a:ext cx="159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sh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3276720" y="37242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lí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9"/>
          <p:cNvSpPr/>
          <p:nvPr/>
        </p:nvSpPr>
        <p:spPr>
          <a:xfrm>
            <a:off x="1785960" y="4443480"/>
            <a:ext cx="14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nè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0"/>
          <p:cNvSpPr/>
          <p:nvPr/>
        </p:nvSpPr>
        <p:spPr>
          <a:xfrm>
            <a:off x="1884240" y="5229360"/>
            <a:ext cx="103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á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133720" y="60958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i="1" lang="zh-CN" sz="1800" spc="-1" strike="noStrike">
                <a:solidFill>
                  <a:srgbClr val="ff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84360" y="335772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cc00cc"/>
                </a:solidFill>
                <a:uFillTx/>
                <a:latin typeface="Verdana"/>
              </a:rPr>
              <a:t>散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1" lang="zh-CN" sz="3200" spc="-1" strike="noStrike" u="sng">
                <a:solidFill>
                  <a:srgbClr val="cc00cc"/>
                </a:solidFill>
                <a:uFillTx/>
                <a:latin typeface="Verdana"/>
              </a:rPr>
              <a:t>背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1" lang="zh-CN" sz="3200" spc="-1" strike="noStrike" u="sng">
                <a:solidFill>
                  <a:srgbClr val="cc00cc"/>
                </a:solidFill>
                <a:uFillTx/>
                <a:latin typeface="Verdana"/>
              </a:rPr>
              <a:t>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87280" y="2852640"/>
            <a:ext cx="184320" cy="1536840"/>
          </a:xfrm>
          <a:custGeom>
            <a:avLst/>
            <a:gdLst>
              <a:gd name="textAreaLeft" fmla="*/ 117720 w 184320"/>
              <a:gd name="textAreaRight" fmla="*/ 184680 w 184320"/>
              <a:gd name="textAreaTop" fmla="*/ 39960 h 1536840"/>
              <a:gd name="textAreaBottom" fmla="*/ 1496880 h 1536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80000" y="2924280"/>
            <a:ext cx="144360" cy="1584360"/>
          </a:xfrm>
          <a:custGeom>
            <a:avLst/>
            <a:gdLst>
              <a:gd name="textAreaLeft" fmla="*/ 92160 w 144360"/>
              <a:gd name="textAreaRight" fmla="*/ 144360 w 14436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56360" y="2852640"/>
            <a:ext cx="216000" cy="1600200"/>
          </a:xfrm>
          <a:custGeom>
            <a:avLst/>
            <a:gdLst>
              <a:gd name="textAreaLeft" fmla="*/ 137880 w 216000"/>
              <a:gd name="textAreaRight" fmla="*/ 216360 w 2160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05080" y="2565360"/>
            <a:ext cx="871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sǎ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sà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937320" y="2637000"/>
            <a:ext cx="700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bè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bē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302160" y="2565360"/>
            <a:ext cx="1243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zhuǎ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zhuà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55640" y="3500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16520" y="2565360"/>
            <a:ext cx="668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cc00cc"/>
                </a:solidFill>
                <a:uFillTx/>
                <a:latin typeface="Verdana"/>
              </a:rPr>
              <a:t>散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cc00cc"/>
                </a:solidFill>
                <a:uFillTx/>
                <a:latin typeface="Verdana"/>
              </a:rPr>
              <a:t>分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66320" y="2565360"/>
            <a:ext cx="668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cc00cc"/>
                </a:solidFill>
                <a:uFillTx/>
                <a:latin typeface="Verdana"/>
              </a:rPr>
              <a:t>背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cc00cc"/>
                </a:solidFill>
                <a:uFillTx/>
                <a:latin typeface="Verdana"/>
              </a:rPr>
              <a:t>背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545960" y="2565360"/>
            <a:ext cx="668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cc00cc"/>
                </a:solidFill>
                <a:uFillTx/>
                <a:latin typeface="Verdana"/>
              </a:rPr>
              <a:t>转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cc00cc"/>
                </a:solidFill>
                <a:uFillTx/>
                <a:latin typeface="Verdana"/>
              </a:rPr>
              <a:t>旋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0000ff"/>
                </a:solidFill>
                <a:latin typeface="Arial"/>
              </a:rPr>
              <a:t>词义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2286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Arial"/>
              </a:rPr>
              <a:t>分歧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Arial"/>
              </a:rPr>
              <a:t>委屈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Arial"/>
              </a:rPr>
              <a:t>水波粼粼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Arial"/>
              </a:rPr>
              <a:t>各得其所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00000"/>
                </a:solidFill>
                <a:latin typeface="Arial"/>
              </a:rPr>
              <a:t>信服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00000"/>
                </a:solidFill>
                <a:latin typeface="Arial"/>
              </a:rPr>
              <a:t>熬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057400" y="83808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70f30"/>
                </a:solidFill>
                <a:latin typeface="Arial"/>
              </a:rPr>
              <a:t>（思想、意思、记载等等）不一致，有差别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209680" y="1981080"/>
            <a:ext cx="6324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70f30"/>
                </a:solidFill>
                <a:latin typeface="Arial"/>
              </a:rPr>
              <a:t>受到不应有的指责或待遇，心里难过，这里是指使儿子受到委屈的意思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971800" y="312408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70f30"/>
                </a:solidFill>
                <a:latin typeface="Arial"/>
              </a:rPr>
              <a:t>形容水波十分明净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819520" y="38862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70f30"/>
                </a:solidFill>
                <a:latin typeface="Arial"/>
              </a:rPr>
              <a:t>每一个人或者事物都得到合适的安排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2971800" y="495288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相信并佩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8"/>
          <p:cNvSpPr/>
          <p:nvPr/>
        </p:nvSpPr>
        <p:spPr>
          <a:xfrm>
            <a:off x="2286000" y="5486400"/>
            <a:ext cx="63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忍受，艰苦支持。文中指母亲又挺过了一个冬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故事梗概：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、我一家四口在初春去郊外散步，母亲本不愿出去，但在我的劝说下，母亲也出来了。在岔路口，母亲要走大路，儿子要走小路，我顺从了母亲，作出了走大路的决定。但是母亲摸摸孙儿的小脑瓜，改变了主意要走小路。走不过去的地方，我背着后母亲，妻子背着儿子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9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在一次散步中发生了分歧，在一家人的 相互理解、相互尊重，相互包容，共同走向那条开满金色菜花，长着整齐桑树</a:t>
            </a:r>
            <a:r>
              <a:rPr b="1" lang="zh-CN" sz="2900" spc="-1" strike="noStrike">
                <a:solidFill>
                  <a:srgbClr val="000000"/>
                </a:solidFill>
                <a:latin typeface="Arial"/>
              </a:rPr>
              <a:t>的，闪着粼粼水波的 幸福小路。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10" descr="UE-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3"/>
          <p:cNvSpPr/>
          <p:nvPr/>
        </p:nvSpPr>
        <p:spPr>
          <a:xfrm>
            <a:off x="304920" y="12682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幼圆"/>
              </a:rPr>
              <a:t>A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幼圆"/>
              </a:rPr>
              <a:t>、散步的人有：</a:t>
            </a:r>
            <a:r>
              <a:rPr b="0" lang="zh-CN" sz="3600" spc="-1" strike="noStrike" u="sng">
                <a:solidFill>
                  <a:srgbClr val="0000ff"/>
                </a:solidFill>
                <a:uFillTx/>
                <a:latin typeface="Times New Roman"/>
                <a:ea typeface="幼圆"/>
              </a:rPr>
              <a:t>　　　            　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4140360" y="129528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母亲、我、妻子、儿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4356000" y="21337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田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4427640" y="299736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初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5638680" y="4038480"/>
            <a:ext cx="1524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分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949680" y="403920"/>
            <a:ext cx="145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幼圆"/>
              </a:rPr>
              <a:t>快速抢答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1"/>
          <p:cNvSpPr/>
          <p:nvPr/>
        </p:nvSpPr>
        <p:spPr>
          <a:xfrm>
            <a:off x="2438280" y="6019920"/>
            <a:ext cx="53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</a:rPr>
              <a:t>一家人在田野里温馨地散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2"/>
          <p:cNvSpPr/>
          <p:nvPr/>
        </p:nvSpPr>
        <p:spPr>
          <a:xfrm>
            <a:off x="968040" y="5943600"/>
            <a:ext cx="87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Verdana"/>
                <a:ea typeface="幼圆"/>
              </a:rPr>
              <a:t>F</a:t>
            </a:r>
            <a:r>
              <a:rPr b="0" lang="zh-CN" sz="3600" spc="-1" strike="noStrike">
                <a:solidFill>
                  <a:srgbClr val="0000ff"/>
                </a:solidFill>
                <a:latin typeface="Verdana"/>
                <a:ea typeface="幼圆"/>
              </a:rPr>
              <a:t>、结局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幼圆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3"/>
          <p:cNvSpPr/>
          <p:nvPr/>
        </p:nvSpPr>
        <p:spPr>
          <a:xfrm>
            <a:off x="1944360" y="2101680"/>
            <a:ext cx="263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幼圆"/>
              </a:rPr>
              <a:t>B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幼圆"/>
              </a:rPr>
              <a:t>、散步的地点是：</a:t>
            </a:r>
            <a:r>
              <a:rPr b="0" lang="zh-CN" sz="3600" spc="-1" strike="noStrike" u="sng">
                <a:solidFill>
                  <a:srgbClr val="0000ff"/>
                </a:solidFill>
                <a:uFillTx/>
                <a:latin typeface="Times New Roman"/>
                <a:ea typeface="幼圆"/>
              </a:rPr>
              <a:t>　　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4"/>
          <p:cNvSpPr/>
          <p:nvPr/>
        </p:nvSpPr>
        <p:spPr>
          <a:xfrm>
            <a:off x="1944360" y="2970360"/>
            <a:ext cx="217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幼圆"/>
              </a:rPr>
              <a:t>C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幼圆"/>
              </a:rPr>
              <a:t>、散步的季节是：</a:t>
            </a:r>
            <a:r>
              <a:rPr b="0" lang="zh-CN" sz="3600" spc="-1" strike="noStrike" u="sng">
                <a:solidFill>
                  <a:srgbClr val="0000ff"/>
                </a:solidFill>
                <a:uFillTx/>
                <a:latin typeface="Times New Roman"/>
                <a:ea typeface="幼圆"/>
              </a:rPr>
              <a:t>　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5"/>
          <p:cNvSpPr/>
          <p:nvPr/>
        </p:nvSpPr>
        <p:spPr>
          <a:xfrm>
            <a:off x="2738160" y="4648320"/>
            <a:ext cx="16923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幼圆"/>
              </a:rPr>
              <a:t>E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幼圆"/>
              </a:rPr>
              <a:t>、散步的过程中发生了：</a:t>
            </a:r>
            <a:r>
              <a:rPr b="0" lang="zh-CN" sz="3600" spc="-1" strike="noStrike" u="sng">
                <a:solidFill>
                  <a:srgbClr val="0000ff"/>
                </a:solidFill>
                <a:uFillTx/>
                <a:latin typeface="Times New Roman"/>
                <a:ea typeface="幼圆"/>
              </a:rPr>
              <a:t>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幼圆"/>
              </a:rPr>
              <a:t>（用原文中的一个词来回答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3809880"/>
            <a:ext cx="39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、记叙的事情是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343400" y="38862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70f30"/>
                </a:solidFill>
                <a:latin typeface="Arial"/>
              </a:rPr>
              <a:t>祖孙三代初春在田野里散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8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3-12-01T11:53:59Z</dcterms:modified>
  <cp:revision>194</cp:revision>
  <dc:subject/>
  <dc:title>备课大师——免费备课第一站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