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hammer.wav" ContentType="audio/x-wav"/>
  <Override PartName="/ppt/media/image12.jpeg" ContentType="image/jpeg"/>
  <Override PartName="/ppt/media/image13.png" ContentType="image/png"/>
  <Override PartName="/ppt/media/image9.gif" ContentType="image/gif"/>
  <Override PartName="/ppt/media/click.wav" ContentType="audio/x-wav"/>
  <Override PartName="/ppt/media/image15.jpeg" ContentType="image/jpeg"/>
  <Override PartName="/ppt/media/image14.jpeg" ContentType="image/jpeg"/>
  <Override PartName="/ppt/media/image2.png" ContentType="image/png"/>
  <Override PartName="/ppt/media/image16.png" ContentType="image/png"/>
  <Override PartName="/ppt/media/chimes.wav" ContentType="audio/x-wav"/>
  <Override PartName="/ppt/media/image6.jpeg" ContentType="image/jpeg"/>
  <Override PartName="/ppt/media/image11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A3F-175E-4A0B-A68D-15565B21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CB6-2F22-4F90-A296-DEA6AF5B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1D4-C930-4A15-951A-D90B9B88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E64-2ABB-452C-B649-6128E8C1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6937-7C26-41AD-966B-06445E32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5072-AA0D-4FE6-BE59-96469BFC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C5CB-BEF2-492C-ABD7-0012A17A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DC49-5A83-48ED-9C62-8F47094F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FAA8-2CA7-4D39-8761-5D53436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52E6-DFD0-4127-8D18-7250367C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DCCB-0389-42B2-B12F-CA1B803E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2AF-E6E7-49C2-B6C4-4474C98C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A158-EDFD-42B2-82AE-9FEDC259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299A-9AD0-4B24-9017-FC831979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295-51FB-47ED-A8BD-C139B7A8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7E0B-6029-420D-BA59-448F7DC0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0917-C46F-475D-846A-0C135F10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6F9-5749-4BF9-B0C7-8FEDB5E2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CC6-17FC-45A7-8A4F-3F946430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235-32C4-43B1-935A-86866006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9DF-5B63-4A27-987D-C744C654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95D-94C5-461C-8583-92174092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266-4B38-4143-A24F-E2696971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37C-8D85-4057-BADF-2E067FD2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298D-8F1F-461A-B410-A509BE5DB7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B14A-8FE7-43D8-8DB8-5DB04D8D86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lick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35753;&#29233;&#20303;&#25105;&#23478;.mp3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.youku.com/v_show/id_XOTkyNDQ2NTY=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6776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莫怀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散步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5791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实验中学刘运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再读课文，理解亲情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假如您有一束美丽的花，请您把它送给文中的某个人物，并请说说理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1143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0f30"/>
                </a:solidFill>
                <a:latin typeface="Arial"/>
              </a:rPr>
              <a:t>鲜花献给可敬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57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    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0f30"/>
                </a:solidFill>
                <a:latin typeface="Arial"/>
              </a:rPr>
              <a:t>我——孝敬、有家庭责任感、讲原则、不宠爱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文中的“我”是上有老，下有小，要照顾两头的中年男人。在处理家庭矛盾时候，有时可以兼顾两头，但有时无无法兼顾两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文中是走大路还是走小路，无法“两全”，只能顾一头的时候，那么顾那一头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决定委屈儿子”就是要顾老一头。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因为陪伴儿子的时间还长，但父母风烛残年，尽孝心的时间不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所以这里有个家庭伦理道德准则：上有老，下有小，两头无法兼顾时，应该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顾老一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133200 w 761760"/>
              <a:gd name="textAreaRight" fmla="*/ 552240 w 7617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母亲——谦让、疼爱孙子、善解人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即使自己行动多不方便，也宠爱孙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” ——信赖儿子，尊重儿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但是母亲摸摸孙子的小脑袋，变了主意：“还 是走小路吧！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238880" y="6095880"/>
            <a:ext cx="1067040" cy="45720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妻子——贤良、孝顺、家庭责任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外面，她总是听我的”——贤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，妻子没有丝毫的执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蹲下，背起母亲，妻子也蹲下来，背起了儿子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6705720" y="5791320"/>
            <a:ext cx="1447560" cy="60948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儿子——调皮、活泼可爱、聪明、听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儿子要走小路，小路有意思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前面也是妈妈和儿子，后面也是妈妈和儿子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时，儿子并没有哭闹，对此变现出非常地听话和理解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010280" y="5715000"/>
            <a:ext cx="1219320" cy="30492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1523880"/>
          </a:xfrm>
          <a:prstGeom prst="cloudCallout">
            <a:avLst>
              <a:gd name="adj1" fmla="val -1143"/>
              <a:gd name="adj2" fmla="val -166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69999"/>
                </a:solidFill>
                <a:latin typeface="Arial"/>
                <a:ea typeface="隶书"/>
              </a:rPr>
              <a:t>请为文中的人物戴上合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69999"/>
                </a:solidFill>
                <a:latin typeface="Arial"/>
                <a:ea typeface="隶书"/>
              </a:rPr>
              <a:t>修饰“帽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4038480"/>
            <a:ext cx="1371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我 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33920" y="22096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母亲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72200" y="3962520"/>
            <a:ext cx="129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妻子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33920" y="6019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儿子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0" t="0" r="-1975" b="46406"/>
          <a:stretch/>
        </p:blipFill>
        <p:spPr>
          <a:xfrm>
            <a:off x="2743200" y="3048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00400" y="152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慈爱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孝顺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贤惠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5410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天真可爱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4136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63600"/>
            <a:ext cx="93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莫怀戚的《散文》是一篇玲珑剔透，秀美隽永、蕴藉丰富的精美散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一曲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凝成的真善美的颂歌。你觉得这篇散文美在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19520" y="989640"/>
            <a:ext cx="7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、尊老爱幼的人性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67544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4574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蹲下身子，背起了母亲；妻子也蹲下来，背起了儿子。“我和妻子都是慢慢地，稳稳地，走得很仔细，好像我背上的同她背上的加起来，就是整个世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夸张、从字面上看，这是形容他们走得小心，走的是小路，唯恐哪一步有闪失，特别是母亲，是经不起摔跌的，非稳当不可。从形象上看，很有象征意义，中年的责任，既要赡养老一代，又要抚养下一代，一个家庭是这样，一个民族，一个国家，全世界又何尝不是这样？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一个“慈母”，“一个孝子”，一个真诚的理解，一个绝对的信任，这种良性的因果循环正反映了古朴的伦理道德之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12480" y="15156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、景物描写的意境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3100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块大块的新绿”有浓有淡，“树上的嫩芽也密了”，“田野的冬水也咕咕地起了水泡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34016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色的菜花，整齐的桑树，水波粼粼的鱼塘，这是春天在召唤，生命在召唤。”是啊，尽管“今年的春天来得太迟”、“一些老人挺不住”，“但春天总算来了”，母亲也总算“又熬过了一个严冬”，这字里行间流露的正是一种对生活的酷爱、对生命的珍爱。春天来了，一切都要从头开始。正该抖擞精神，以充沛的活力投入新的生活，迎接美好的明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2096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这“新绿”、这“嫩芽”、这“水泡”，分明是春的气息的透露，它显示了不可遏制的生机，这是对生命的高歌，对生命力的礼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2438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写景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19810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提供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590920"/>
            <a:ext cx="41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情达意、渲染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3526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衬托人物、突出主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64760" y="15156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、平易朴实的语言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219320"/>
            <a:ext cx="86504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情趣盎然。“她现在很听我的话，就像我小时候很听她的话一样。”母慈子孝，相映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家伙突然大叫起来：‘前面也是妈妈和儿子，后面也是妈妈和儿子。’我们都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句话充满生活情趣，既表现了小家伙的天真、聪颖，又表现了家庭的幸福和温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反复诵读课文，了解课文内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欣赏文章优美的语言，领悟课文深长的意味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体会文章中流淌着的浓浓的亲情，培养学生的社会责任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重点和难点：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重点：整体感知课文内容，体会文章所表达的思想感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难点：理解文中具有象征意义的关键语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课时安排  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课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）、言浅意深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分析：“我的母亲又熬过了一个严冬”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突出身体不好的母亲度过这个冬天的艰难。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b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写出了     “我”为母亲安然度过这个严冬而庆幸。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与前文“太迟太迟”与“总算来了”相照应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妻子呢，在外面，她总是听我的。这一句表现了妻子的贤惠。“在外面”这个限制语用得好，令人想起“在家里”很可能“我总是听她的”，这令人想起“男主外，女主内”的俗语。“我的母亲虽然高大，然而是很瘦……好像我背上的同她背上的加起来，就是整个世界。”这句话含义深刻，以轻衬重，突出了“尊老爱幼”的重大意义，还写出了中年人已意识到自己责任的重大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）、于平实中见灵气，在浅易中见哲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如“母亲要走大路，大路平顺；我的儿子要走小路，小路有意思”。用顶真的修辞格，读起来格外的真切，琅琅上口，  富有韵感受。如“我蹲下来，背起了母亲，妻子也蹲下来，背起了儿子”，“我的母亲虽然高大，然而很瘦，自然不算重；儿子虽然很胖，毕竟幼小，自然很轻”。这种对举在文中比比皆是，它构成了句式的对称美，同时也是为文章的内容服务：作者站在人生的中点上，一边是长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一边是后代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也处在生命之链的关节上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这里既有作者强烈的责任感受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又体现了作者挚爱生活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品尝人生甜美的无穷韵味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27200" y="609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问题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42040" y="2286000"/>
            <a:ext cx="41202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             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、问题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为什么“好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我背上的和她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上的加起是整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世界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353040" cy="4343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3680" y="1752480"/>
            <a:ext cx="33512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4"/>
          <p:cNvSpPr/>
          <p:nvPr/>
        </p:nvSpPr>
        <p:spPr>
          <a:xfrm>
            <a:off x="0" y="571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0" y="83808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亲给我们以生命，而儿子又是这生命的延续。这血脉相连的三代紧紧连接在一起，构成了</a:t>
            </a:r>
            <a:r>
              <a:rPr b="1" lang="zh-CN" sz="4000" spc="-1" strike="noStrike">
                <a:solidFill>
                  <a:srgbClr val="f70f30"/>
                </a:solidFill>
                <a:latin typeface="华文楷体"/>
                <a:ea typeface="华文楷体"/>
              </a:rPr>
              <a:t>生命的整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整个世界也就是由老年人、中年人、孩子组成。“我”和妻子肩负着</a:t>
            </a:r>
            <a:r>
              <a:rPr b="1" lang="zh-CN" sz="4000" spc="-1" strike="noStrike">
                <a:solidFill>
                  <a:srgbClr val="f70f30"/>
                </a:solidFill>
                <a:latin typeface="华文楷体"/>
                <a:ea typeface="华文楷体"/>
              </a:rPr>
              <a:t>承前启后的责任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所以作者说背起的是整个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1600200" y="2514600"/>
            <a:ext cx="2286000" cy="1587600"/>
            <a:chOff x="1600200" y="2514600"/>
            <a:chExt cx="2286000" cy="1587600"/>
          </a:xfrm>
        </p:grpSpPr>
        <p:sp>
          <p:nvSpPr>
            <p:cNvPr id="256" name=""/>
            <p:cNvSpPr/>
            <p:nvPr/>
          </p:nvSpPr>
          <p:spPr>
            <a:xfrm>
              <a:off x="1863360" y="3276720"/>
              <a:ext cx="108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(</a:t>
              </a: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小事情</a:t>
              </a: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0200" y="2514600"/>
              <a:ext cx="22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Verdana"/>
                  <a:ea typeface="楷体_GB2312"/>
                </a:rPr>
                <a:t>散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982120" y="2514600"/>
            <a:ext cx="164376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尊老爱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(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大主题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819520"/>
            <a:ext cx="1981080" cy="304560"/>
          </a:xfrm>
          <a:prstGeom prst="rightArrow">
            <a:avLst>
              <a:gd name="adj1" fmla="val 50000"/>
              <a:gd name="adj2" fmla="val 1626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3840" y="1675800"/>
            <a:ext cx="66780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以小 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09680" y="762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法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57150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借景抒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中心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这是一篇优美的散文，颂扬了我国人民</a:t>
            </a:r>
            <a:r>
              <a:rPr b="1" lang="zh-CN" sz="2600" spc="-1" strike="noStrike">
                <a:solidFill>
                  <a:srgbClr val="f70f30"/>
                </a:solidFill>
                <a:latin typeface="Arial"/>
              </a:rPr>
              <a:t>尊老爱幼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传统美德。文章只选取一个三代同堂的普通家庭一次散步的小事来写，但却表现了一个重大的主题。所以同学们对生活中的小事一定要仔细观察，用心感受，才能有真情实感的好文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其实，在我们经过的平写出凡日子里，都蕴涵了许多令人感动的故事，就像文中提到的那转瞬即逝一幕幕将永远留在我们心底久久回味，从而使我们更爱自己的家人，更珍惜亲情，珍爱生命。这就是今天我要告诉大家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6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4620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全家四口早春散步互谦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834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祖孙三代风雨人生相依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08360" y="142920"/>
            <a:ext cx="2521080" cy="764280"/>
          </a:xfrm>
          <a:prstGeom prst="rect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相亲相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457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孝心无价（节选）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  毕淑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赶快为你的父母尽一份孝心。也许是一处豪宅，也许是一片砖瓦。也许是大洋彼岸的一只鸿雁，也许是近在咫尺的一个口信。也许是一顶纯黑的博士帽，也许是作业簿上一个红五分。也许是一桌山珍海味，也许是一只野果一朵小花。也许是花团锦簇的盛世华衣，也许是一双洁净的旧鞋。也许是数以万计的金钱，也许只是含着体温的一枚硬币。……但“孝”的天平上，它们等值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00360" y="260280"/>
            <a:ext cx="324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让爱住我家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0240" y="1197000"/>
            <a:ext cx="2379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是不吵架 常常陪我玩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忍耐 家庭所有繁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付出 让家不缺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没有哭泣 不会惧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0400" y="1197000"/>
            <a:ext cx="2445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是不嫉妒  弟弟有啥我有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感谢  不记任何代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珍惜  时光和年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没有哭泣  不会惧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群星 - 让爱住我家" descr=""/>
          <p:cNvPicPr/>
          <p:nvPr/>
        </p:nvPicPr>
        <p:blipFill>
          <a:blip r:embed="rId2"/>
          <a:stretch/>
        </p:blipFill>
        <p:spPr>
          <a:xfrm>
            <a:off x="7315200" y="5105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178547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409400" cy="1765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8732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036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住我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914400"/>
            <a:ext cx="4572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让爱住我家》的歌曲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亲爱的同学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家，是一个幸福的摇篮，需要我们用心灵来呵护。 家，更是一副沉沉的担子，需要我们每个人用责任来担当。只有这样，我们才能撑起一片爱的天空，营造一个幸福的家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66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英国哲学家培根说</a:t>
            </a: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: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360" y="2852640"/>
            <a:ext cx="91440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哺育子女是动物也有的本能，赡养父母才是人类的文化之举，这个，全世界数中国人做得最好。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愿同学们把这种我们民族引以为豪的传统美德代代相传，平时身体力行，把它渗透到生活的点点滴滴，用心去孝敬你的父母，体谅他们的每一份苦心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81760" y="0"/>
            <a:ext cx="22622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3436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496880"/>
            <a:ext cx="959616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莫怀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出生，重庆人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作家协会会员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笔名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周平安、章大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8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毕业于四川大学中文系。曾任教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重庆师范学院中文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著有小说集《诗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大家》、《大律师现实录》、长篇小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《经典关系》、《透支时代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304920"/>
            <a:ext cx="7942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ff"/>
                </a:solidFill>
                <a:latin typeface="黑体"/>
                <a:ea typeface="黑体"/>
              </a:rPr>
              <a:t>课堂作业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抄写生字词；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课后练习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2.</a:t>
            </a:r>
            <a:br>
              <a:rPr sz="3900"/>
            </a:b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摘抄体现“尊老爱幼”美德的文句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则。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、学了本文，你一定有万千感慨，请拿出你手中的笔，以“爸爸、妈妈我想对您说”写下你现在最想对爸妈说的话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362320"/>
            <a:ext cx="669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Arial"/>
              </a:rPr>
              <a:t>帮妈妈洗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看公益广告，您感受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209680"/>
            <a:ext cx="5257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395280" y="188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划线的汉字注音。</a:t>
            </a:r>
            <a:r>
              <a:rPr b="1" lang="zh-CN" sz="3600" spc="-1" strike="noStrike">
                <a:solidFill>
                  <a:srgbClr val="6699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755640" y="253800"/>
            <a:ext cx="6788160" cy="67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分歧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信服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拆散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霎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水波粼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粼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嫩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熬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过</a:t>
            </a:r>
            <a:r>
              <a:rPr b="1" lang="zh-CN" sz="3600" spc="-1" strike="noStrike">
                <a:solidFill>
                  <a:srgbClr val="d8d8e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冬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222640" y="76500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ēn  q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381400" y="149220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ìn  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000160" y="220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āi  s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763640" y="3003480"/>
            <a:ext cx="15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276720" y="3724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85960" y="44434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884240" y="5229360"/>
            <a:ext cx="1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6095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3357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散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2852640"/>
            <a:ext cx="184320" cy="1536840"/>
          </a:xfrm>
          <a:custGeom>
            <a:avLst/>
            <a:gdLst>
              <a:gd name="textAreaLeft" fmla="*/ 117720 w 184320"/>
              <a:gd name="textAreaRight" fmla="*/ 184680 w 18432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2924280"/>
            <a:ext cx="144360" cy="15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2852640"/>
            <a:ext cx="216000" cy="16002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5080" y="2565360"/>
            <a:ext cx="871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37320" y="2637000"/>
            <a:ext cx="70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2160" y="2565360"/>
            <a:ext cx="124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zhu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z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35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652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散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分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632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96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转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旋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ff"/>
                </a:solidFill>
                <a:latin typeface="Arial"/>
              </a:rPr>
              <a:t>词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28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分歧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委屈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水波粼粼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各得其所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信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熬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838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（思想、意思、记载等等）不一致，有差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198108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受到不应有的指责或待遇，心里难过，这里是指使儿子受到委屈的意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124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形容水波十分明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886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每一个人或者事物都得到合适的安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971800" y="49528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相信并佩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286000" y="548640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忍受，艰苦支持。文中指母亲又挺过了一个冬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故事梗概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、我一家四口在初春去郊外散步，母亲本不愿出去，但在我的劝说下，母亲也出来了。在岔路口，母亲要走大路，儿子要走小路，我顺从了母亲，作出了走大路的决定。但是母亲摸摸孙儿的小脑瓜，改变了主意要走小路。走不过去的地方，我背着后母亲，妻子背着儿子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在一次散步中发生了分歧，在一家人的 相互理解、相互尊重，相互包容，共同走向那条开满金色菜花，长着整齐桑树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的，闪着粼粼水波的 幸福小路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04920" y="126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人有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            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14036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560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427640" y="2997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638680" y="403848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949680" y="40392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幼圆"/>
              </a:rPr>
              <a:t>快速抢答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438280" y="6019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家人在田野里温馨地散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968040" y="594360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F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、结局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幼圆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944360" y="21016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地点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1944360" y="297036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季节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738160" y="4648320"/>
            <a:ext cx="169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过程中发生了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（用原文中的一个词来回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8098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记叙的事情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886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祖孙三代初春在田野里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2-01T11:53:59Z</dcterms:modified>
  <cp:revision>194</cp:revision>
  <dc:subject/>
  <dc:title>备课大师——免费备课第一站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