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9.gif" ContentType="image/gif"/>
  <Override PartName="/ppt/media/click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11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3CF-0611-4208-98FF-C68FBC89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92A-1CA3-4093-B092-490DC2A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78D-9765-4CD9-B1C1-A62ABA81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DE9-E3DA-4EAD-B5B6-9856E6A4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B2DC-90AC-4272-AF65-0DC8EC15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2DE-AF8E-4DEE-B761-FC60815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95D-BA78-471F-B6E7-701D88C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1FC5-D646-4992-9FD5-EA312DE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94F2-F353-437B-BFB5-F7B353C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0166-A177-45F1-B9ED-6DFE4BD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72A2-B59D-4BA0-AB58-FA6E19C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BDB-BB81-4A9E-A395-BCEDD6BC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EDE8-318F-4E0A-8345-61B87E2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F17-829F-485E-8BAF-B67AE19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866-6E83-4CC2-B1B2-99304CAF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96BF-7C25-4C00-8F1A-4C8C0A18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94F-8C95-4308-ABEE-1676EDFA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76D-8DBD-44DC-A901-05DEA7D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44E-B206-49C7-84E0-125CC95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D2B-8624-4C04-BB42-BA80B00C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6E5-D01D-49C6-94CA-0D5DEF0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15E-DF51-46B8-9384-2C244D2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76B-C5FE-43A6-80A3-DEBEB21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F66-5F7A-4A88-ADF1-E41362C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9C0A-22A5-4A43-A867-851FC14F3C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1322-FFA2-4F11-9121-6ADF53F055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35753;&#29233;&#20303;&#25105;&#23478;.mp3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OTkyNDQ2NTY=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6776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莫怀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散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791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实验中学刘运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再读课文，理解亲情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我——孝敬、有家庭责任感、讲原则、不宠爱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小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母亲——谦让、疼爱孙子、善解人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——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妻子——贤良、孝顺、家庭责任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——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儿子——调皮、活泼可爱、聪明、听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523880"/>
          </a:xfrm>
          <a:prstGeom prst="cloudCallout">
            <a:avLst>
              <a:gd name="adj1" fmla="val -1143"/>
              <a:gd name="adj2" fmla="val -16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请为文中的人物戴上合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修饰“帽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4038480"/>
            <a:ext cx="1371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我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33920" y="22096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母亲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72200" y="396252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妻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33920" y="6019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儿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-1975" b="46406"/>
          <a:stretch/>
        </p:blipFill>
        <p:spPr>
          <a:xfrm>
            <a:off x="2743200" y="3048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04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慈爱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孝顺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贤惠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5410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天真可爱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136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63600"/>
            <a:ext cx="93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莫怀戚的《散文》是一篇玲珑剔透，秀美隽永、蕴藉丰富的精美散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曲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凝成的真善美的颂歌。你觉得这篇散文美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19520" y="989640"/>
            <a:ext cx="7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、尊老爱幼的人性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754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4574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蹲下身子，背起了母亲；妻子也蹲下来，背起了儿子。“我和妻子都是慢慢地，稳稳地，走得很仔细，好像我背上的同她背上的加起来，就是整个世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夸张、从字面上看，这是形容他们走得小心，走的是小路，唯恐哪一步有闪失，特别是母亲，是经不起摔跌的，非稳当不可。从形象上看，很有象征意义，中年的责任，既要赡养老一代，又要抚养下一代，一个家庭是这样，一个民族，一个国家，全世界又何尝不是这样？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一个“慈母”，“一个孝子”，一个真诚的理解，一个绝对的信任，这种良性的因果循环正反映了古朴的伦理道德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1248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景物描写的意境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3100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块大块的新绿”有浓有淡，“树上的嫩芽也密了”，“田野的冬水也咕咕地起了水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3401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色的菜花，整齐的桑树，水波粼粼的鱼塘，这是春天在召唤，生命在召唤。”是啊，尽管“今年的春天来得太迟”、“一些老人挺不住”，“但春天总算来了”，母亲也总算“又熬过了一个严冬”，这字里行间流露的正是一种对生活的酷爱、对生命的珍爱。春天来了，一切都要从头开始。正该抖擞精神，以充沛的活力投入新的生活，迎接美好的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209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这“新绿”、这“嫩芽”、这“水泡”，分明是春的气息的透露，它显示了不可遏制的生机，这是对生命的高歌，对生命力的礼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写景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9810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提供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5909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情达意、渲染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3526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衬托人物、突出主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476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平易朴实的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219320"/>
            <a:ext cx="8650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情趣盎然。“她现在很听我的话，就像我小时候很听她的话一样。”母慈子孝，相映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家伙突然大叫起来：‘前面也是妈妈和儿子，后面也是妈妈和儿子。’我们都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句话充满生活情趣，既表现了小家伙的天真、聪颖，又表现了家庭的幸福和温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反复诵读课文，了解课文内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欣赏文章优美的语言，领悟课文深长的意味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体会文章中流淌着的浓浓的亲情，培养学生的社会责任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重点和难点：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重点：整体感知课文内容，体会文章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难点：理解文中具有象征意义的关键语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时安排  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课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言浅意深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分析：“我的母亲又熬过了一个严冬”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突出身体不好的母亲度过这个冬天的艰难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b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写出了     “我”为母亲安然度过这个严冬而庆幸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与前文“太迟太迟”与“总算来了”相照应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妻子呢，在外面，她总是听我的。这一句表现了妻子的贤惠。“在外面”这个限制语用得好，令人想起“在家里”很可能“我总是听她的”，这令人想起“男主外，女主内”的俗语。“我的母亲虽然高大，然而是很瘦……好像我背上的同她背上的加起来，就是整个世界。”这句话含义深刻，以轻衬重，突出了“尊老爱幼”的重大意义，还写出了中年人已意识到自己责任的重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于平实中见灵气，在浅易中见哲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如“母亲要走大路，大路平顺；我的儿子要走小路，小路有意思”。用顶真的修辞格，读起来格外的真切，琅琅上口，  富有韵感受。如“我蹲下来，背起了母亲，妻子也蹲下来，背起了儿子”，“我的母亲虽然高大，然而很瘦，自然不算重；儿子虽然很胖，毕竟幼小，自然很轻”。这种对举在文中比比皆是，它构成了句式的对称美，同时也是为文章的内容服务：作者站在人生的中点上，一边是长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一边是后代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也处在生命之链的关节上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这里既有作者强烈的责任感受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又体现了作者挚爱生活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品尝人生甜美的无穷韵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272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问题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42040" y="2286000"/>
            <a:ext cx="41202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、问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为什么“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我背上的和她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上的加起是整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世界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3680" y="1752480"/>
            <a:ext cx="33512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4"/>
          <p:cNvSpPr/>
          <p:nvPr/>
        </p:nvSpPr>
        <p:spPr>
          <a:xfrm>
            <a:off x="0" y="571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0" y="83808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给我们以生命，而儿子又是这生命的延续。这血脉相连的三代紧紧连接在一起，构成了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生命的整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整个世界也就是由老年人、中年人、孩子组成。“我”和妻子肩负着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承前启后的责任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所以作者说背起的是整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00200" y="2514600"/>
            <a:ext cx="2286000" cy="1587600"/>
            <a:chOff x="1600200" y="2514600"/>
            <a:chExt cx="2286000" cy="1587600"/>
          </a:xfrm>
        </p:grpSpPr>
        <p:sp>
          <p:nvSpPr>
            <p:cNvPr id="256" name=""/>
            <p:cNvSpPr/>
            <p:nvPr/>
          </p:nvSpPr>
          <p:spPr>
            <a:xfrm>
              <a:off x="1863360" y="3276720"/>
              <a:ext cx="108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(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小事情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251460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Verdana"/>
                  <a:ea typeface="楷体_GB2312"/>
                </a:rPr>
                <a:t>散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82120" y="2514600"/>
            <a:ext cx="164376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尊老爱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大主题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81952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3840" y="1675800"/>
            <a:ext cx="6678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以小 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096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法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7150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借景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中心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这是一篇优美的散文，颂扬了我国人民</a:t>
            </a:r>
            <a:r>
              <a:rPr b="1" lang="zh-CN" sz="2600" spc="-1" strike="noStrike">
                <a:solidFill>
                  <a:srgbClr val="f70f30"/>
                </a:solidFill>
                <a:latin typeface="Arial"/>
              </a:rPr>
              <a:t>尊老爱幼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传统美德。文章只选取一个三代同堂的普通家庭一次散步的小事来写，但却表现了一个重大的主题。所以同学们对生活中的小事一定要仔细观察，用心感受，才能有真情实感的好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实，在我们经过的平写出凡日子里，都蕴涵了许多令人感动的故事，就像文中提到的那转瞬即逝一幕幕将永远留在我们心底久久回味，从而使我们更爱自己的家人，更珍惜亲情，珍爱生命。这就是今天我要告诉大家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57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孝心无价（节选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毕淑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赶快为你的父母尽一份孝心。也许是一处豪宅，也许是一片砖瓦。也许是大洋彼岸的一只鸿雁，也许是近在咫尺的一个口信。也许是一顶纯黑的博士帽，也许是作业簿上一个红五分。也许是一桌山珍海味，也许是一只野果一朵小花。也许是花团锦簇的盛世华衣，也许是一双洁净的旧鞋。也许是数以万计的金钱，也许只是含着体温的一枚硬币。……但“孝”的天平上，它们等值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让爱住我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0240" y="1197000"/>
            <a:ext cx="2379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吵架 常常陪我玩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忍耐 家庭所有繁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付出 让家不缺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不会惧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0400" y="1197000"/>
            <a:ext cx="244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嫉妒  弟弟有啥我有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感谢  不记任何代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珍惜  时光和年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 不会惧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群星 - 让爱住我家" descr=""/>
          <p:cNvPicPr/>
          <p:nvPr/>
        </p:nvPicPr>
        <p:blipFill>
          <a:blip r:embed="rId2"/>
          <a:stretch/>
        </p:blipFill>
        <p:spPr>
          <a:xfrm>
            <a:off x="7315200" y="5105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78547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914400"/>
            <a:ext cx="4572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让爱住我家》的歌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英国哲学家培根说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360" y="2852640"/>
            <a:ext cx="91440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愿同学们把这种我们民族引以为豪的传统美德代代相传，平时身体力行，把它渗透到生活的点点滴滴，用心去孝敬你的父母，体谅他们的每一份苦心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3436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6880"/>
            <a:ext cx="95961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莫怀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出生，重庆人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家协会会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笔名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周平安、章大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毕业于四川大学中文系。曾任教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重庆师范学院中文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著有小说集《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》、《大律师现实录》、长篇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《经典关系》、《透支时代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304920"/>
            <a:ext cx="7942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课堂作业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抄写生字词；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课后练习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.</a:t>
            </a:r>
            <a:br>
              <a:rPr sz="3900"/>
            </a:b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摘抄体现“尊老爱幼”美德的文句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则。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、学了本文，你一定有万千感慨，请拿出你手中的笔，以“爸爸、妈妈我想对您说”写下你现在最想对爸妈说的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帮妈妈洗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2096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395280" y="18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划线的汉字注音。</a:t>
            </a:r>
            <a:r>
              <a:rPr b="1" lang="zh-CN" sz="3600" spc="-1" strike="noStrike">
                <a:solidFill>
                  <a:srgbClr val="6699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55640" y="253800"/>
            <a:ext cx="6788160" cy="67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分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信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拆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波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粼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过</a:t>
            </a:r>
            <a:r>
              <a:rPr b="1" lang="zh-CN" sz="3600" spc="-1" strike="noStrike">
                <a:solidFill>
                  <a:srgbClr val="d8d8e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冬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222640" y="7650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ēn  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381400" y="149220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 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000160" y="220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āi  s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63640" y="30034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76720" y="3724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85960" y="44434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884240" y="522936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095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357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852640"/>
            <a:ext cx="184320" cy="1536840"/>
          </a:xfrm>
          <a:custGeom>
            <a:avLst/>
            <a:gdLst>
              <a:gd name="textAreaLeft" fmla="*/ 117720 w 184320"/>
              <a:gd name="textAreaRight" fmla="*/ 184680 w 18432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292428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2852640"/>
            <a:ext cx="216000" cy="1600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5080" y="2565360"/>
            <a:ext cx="87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37320" y="2637000"/>
            <a:ext cx="70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2160" y="2565360"/>
            <a:ext cx="124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65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分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63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96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词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8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分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委屈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水波粼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各得其所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信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熬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（思想、意思、记载等等）不一致，有差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9810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受到不应有的指责或待遇，心里难过，这里是指使儿子受到委屈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形容水波十分明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886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每一个人或者事物都得到合适的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971800" y="4952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信并佩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286000" y="54864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忍受，艰苦支持。文中指母亲又挺过了一个冬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故事梗概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我一家四口在初春去郊外散步，母亲本不愿出去，但在我的劝说下，母亲也出来了。在岔路口，母亲要走大路，儿子要走小路，我顺从了母亲，作出了走大路的决定。但是母亲摸摸孙儿的小脑瓜，改变了主意要走小路。走不过去的地方，我背着后母亲，妻子背着儿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理解、相互尊重，相互包容，共同走向那条开满金色菜花，长着整齐桑树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，闪着粼粼水波的 幸福小路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438280" y="6019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968040" y="5943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F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、结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38160" y="464832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1T11:53:59Z</dcterms:modified>
  <cp:revision>194</cp:revision>
  <dc:subject/>
  <dc:title>备课大师——免费备课第一站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