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9.png" ContentType="image/png"/>
  <Override PartName="/ppt/media/image6.gif" ContentType="image/gif"/>
  <Override PartName="/ppt/media/image26.gif" ContentType="image/gif"/>
  <Override PartName="/ppt/media/image20.jpeg" ContentType="image/jpeg"/>
  <Override PartName="/ppt/media/image22.gif" ContentType="image/gif"/>
  <Override PartName="/ppt/media/image21.gif" ContentType="image/gif"/>
  <Override PartName="/ppt/media/image8.jpeg" ContentType="image/jpeg"/>
  <Override PartName="/ppt/media/image28.gif" ContentType="image/gif"/>
  <Override PartName="/ppt/media/image33.png" ContentType="image/png"/>
  <Override PartName="/ppt/media/image19.gif" ContentType="image/gif"/>
  <Override PartName="/ppt/media/image14.jpeg" ContentType="image/jpeg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13.jpeg" ContentType="image/jpeg"/>
  <Override PartName="/ppt/media/image2.gif" ContentType="image/gif"/>
  <Override PartName="/ppt/media/image32.gif" ContentType="image/gif"/>
  <Override PartName="/ppt/media/image36.png" ContentType="image/png"/>
  <Override PartName="/ppt/media/image37.gif" ContentType="image/gif"/>
  <Override PartName="/ppt/media/image30.png" ContentType="image/png"/>
  <Override PartName="/ppt/media/image3.jpeg" ContentType="image/jpeg"/>
  <Override PartName="/ppt/media/image9.jpeg" ContentType="image/jpeg"/>
  <Override PartName="/ppt/media/image11.png" ContentType="image/png"/>
  <Override PartName="/ppt/media/image5.gif" ContentType="image/gif"/>
  <Override PartName="/ppt/media/image35.gif" ContentType="image/gif"/>
  <Override PartName="/ppt/media/image7.jpeg" ContentType="image/jpeg"/>
  <Override PartName="/ppt/media/image25.gif" ContentType="image/gif"/>
  <Override PartName="/ppt/media/image18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3ED-889C-4077-B804-AC11A104F7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前提测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检查预习情况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段落层次划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9A0-4D32-4C77-A5A2-EE1C0F9A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027-B56F-4B51-BC5C-4559150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702-1DB9-4369-8A93-4D58942F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000-8D0D-44E6-926A-14002B53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3681-33B1-4D0E-8F97-E91544FD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2676-C8EA-4D96-AD41-369F87B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C105-593A-476B-9027-AC020BC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8D65-6725-45A4-8C2F-FBD68712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9795-1644-474D-B777-52CC2979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F88E-E078-4628-95D6-9EF514A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ADBB-9D83-401E-AB45-4C5D522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CC0-1882-40AF-A9EB-B3680D46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BF1-C798-47D0-B750-98F0513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602C-F9C4-4CFA-B6F4-AB8A57A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A9A7-5869-4714-839B-5DF79525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DFA3-2D93-4709-82AE-5F3F3FDF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190512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2860560"/>
            <a:ext cx="250236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EFF-8AF8-4AF8-8939-15B9223B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F7E-969D-4F54-867B-B3BC33F1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584-0011-45B6-914F-80A4B19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3AB-13DB-4AD1-80E3-9DAF2DD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380880"/>
            <a:ext cx="7792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FD4-9CAD-44EF-A015-EFE1D84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698-70D4-4233-84F2-0027650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286056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7D1-03CE-4DFD-9F16-D95AF75F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264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05120"/>
            <a:ext cx="37926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2860560"/>
            <a:ext cx="7772400" cy="8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FA-76C8-45A1-B587-C8090B12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6DA-9DD5-4408-A40A-D21092080F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D83-B46B-45B1-A90E-B63E7FEF5F0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26920" y="-171360"/>
            <a:ext cx="5329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对联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421000"/>
            <a:ext cx="757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）民间疾苦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笔底波澜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世上疮痍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诗中圣哲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）满眼河山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大地早非唐李有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一腔君国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草堂犹是杜陵春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）草堂留后世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诗圣著千秋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0876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疏通文意： 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9280" y="1773360"/>
            <a:ext cx="8381880" cy="4770360"/>
            <a:chOff x="179280" y="1773360"/>
            <a:chExt cx="8381880" cy="4770360"/>
          </a:xfrm>
        </p:grpSpPr>
        <p:sp>
          <p:nvSpPr>
            <p:cNvPr id="207" name=""/>
            <p:cNvSpPr/>
            <p:nvPr/>
          </p:nvSpPr>
          <p:spPr>
            <a:xfrm>
              <a:off x="4146120" y="1773360"/>
              <a:ext cx="10814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、画出难懂的句子，与同桌交流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然后举手发问。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35760" y="4837320"/>
              <a:ext cx="66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准备复述故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5635440" y="4075200"/>
              <a:ext cx="292572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179280" y="3694320"/>
              <a:ext cx="55260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179280" y="1967040"/>
              <a:ext cx="53352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179280" y="5065920"/>
              <a:ext cx="5526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023920" y="3465720"/>
              <a:ext cx="41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翻译课文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14400" y="762120"/>
            <a:ext cx="80265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傍晚时分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投宿到石壕村，遇到有差役趁着夜色来抓人。老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听到声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便越墙逃跑了，老妇走出屋去应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差役叫得多么凶狠，老妇啼哭得多么痛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我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听到老妇走上前说：我有三个儿子都去戍守邺城了。一个儿子捎信回来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两个儿子最近战死了。活着的不过是苟且活着，死了的就永远完结了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家里再没有别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男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人了，只有个还在吃奶的孙子。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有孙子在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所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他的母亲还没有离去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可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出出进进没有一件完整的衣服。我这老太婆虽然已年迈力尽，请让我今晚跟你们一起回营去。赶快到河阳去服役，还能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赶上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准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明天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早晨做饭。到了深夜，说话的声音没有了，好像听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有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低声哭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等到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天亮登程赶路时，只有同那个老头告别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 rot="5400000">
            <a:off x="-787320" y="2595240"/>
            <a:ext cx="33051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石壕吏译文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586440" y="746280"/>
            <a:ext cx="7033680" cy="5121000"/>
            <a:chOff x="586440" y="746280"/>
            <a:chExt cx="7033680" cy="5121000"/>
          </a:xfrm>
        </p:grpSpPr>
        <p:sp>
          <p:nvSpPr>
            <p:cNvPr id="218" name=""/>
            <p:cNvSpPr/>
            <p:nvPr/>
          </p:nvSpPr>
          <p:spPr>
            <a:xfrm>
              <a:off x="3162960" y="1279440"/>
              <a:ext cx="322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9900"/>
                  </a:solidFill>
                  <a:latin typeface="Times New Roman"/>
                  <a:ea typeface="方正舒体"/>
                </a:rPr>
                <a:t>复述故事：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39920" y="2774880"/>
              <a:ext cx="5886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zh-CN" sz="5400" spc="-1" strike="noStrike">
                  <a:solidFill>
                    <a:srgbClr val="0000ff"/>
                  </a:solidFill>
                  <a:latin typeface="Times New Roman"/>
                </a:rPr>
                <a:t>不要求逐字逐句翻译，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ff"/>
                  </a:solidFill>
                  <a:latin typeface="Times New Roman"/>
                </a:rPr>
                <a:t>说出大意就可以了。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752480" y="4952880"/>
              <a:ext cx="5867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86440" y="746280"/>
              <a:ext cx="271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Times New Roman"/>
                  <a:ea typeface="方正舒体"/>
                </a:rPr>
                <a:t>走进石壕村</a:t>
              </a:r>
              <a:r>
                <a:rPr b="0" lang="en-US" sz="4000" spc="-1" strike="noStrike">
                  <a:solidFill>
                    <a:srgbClr val="cc3300"/>
                  </a:solidFill>
                  <a:latin typeface="Times New Roman"/>
                  <a:ea typeface="方正舒体"/>
                </a:rPr>
                <a:t>—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文章开头四句是故事的发生，写了几个人几件事？哪一句预示有一场灾难降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20960" y="5715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有吏夜捉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15280" y="48769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四个人，四件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04920" y="228600"/>
            <a:ext cx="8001000" cy="3581280"/>
            <a:chOff x="304920" y="228600"/>
            <a:chExt cx="8001000" cy="3581280"/>
          </a:xfrm>
        </p:grpSpPr>
        <p:sp>
          <p:nvSpPr>
            <p:cNvPr id="228" name=""/>
            <p:cNvSpPr/>
            <p:nvPr/>
          </p:nvSpPr>
          <p:spPr>
            <a:xfrm>
              <a:off x="4479840" y="304812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62120" y="1055520"/>
              <a:ext cx="180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228600"/>
              <a:ext cx="2209680" cy="1828800"/>
            </a:xfrm>
            <a:prstGeom prst="cloudCallout">
              <a:avLst>
                <a:gd name="adj1" fmla="val 78162"/>
                <a:gd name="adj2" fmla="val 82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33520" y="685800"/>
              <a:ext cx="171432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隶书"/>
                </a:rPr>
                <a:t>想一想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745400" y="762120"/>
              <a:ext cx="56052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024080" y="182880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Times New Roman"/>
                  <a:ea typeface="华文行楷"/>
                </a:rPr>
                <a:t>（齐读第一节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36" name=""/>
          <p:cNvSpPr/>
          <p:nvPr/>
        </p:nvSpPr>
        <p:spPr>
          <a:xfrm>
            <a:off x="29844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这里老翁、老妇分别有怎样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举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657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全篇围绕哪两个字展开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34240" y="46483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31320" y="54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捉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74040" y="990720"/>
            <a:ext cx="731880" cy="4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985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8954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23520" y="48006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家三男被征　二男新战死　寡媳衣不遮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560" y="5867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听妇前致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04920" y="228600"/>
            <a:ext cx="5313240" cy="2379960"/>
            <a:chOff x="304920" y="228600"/>
            <a:chExt cx="5313240" cy="2379960"/>
          </a:xfrm>
        </p:grpSpPr>
        <p:sp>
          <p:nvSpPr>
            <p:cNvPr id="249" name=""/>
            <p:cNvSpPr txBox="1"/>
            <p:nvPr/>
          </p:nvSpPr>
          <p:spPr>
            <a:xfrm>
              <a:off x="533520" y="685800"/>
              <a:ext cx="171432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隶书"/>
                </a:rPr>
                <a:t>想一想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4920" y="228600"/>
              <a:ext cx="2209680" cy="1828800"/>
            </a:xfrm>
            <a:prstGeom prst="cloudCallout">
              <a:avLst>
                <a:gd name="adj1" fmla="val 78162"/>
                <a:gd name="adj2" fmla="val 82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720" y="190512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cc3300"/>
                  </a:solidFill>
                  <a:latin typeface="Times New Roman"/>
                  <a:ea typeface="华文琥珀"/>
                </a:rPr>
                <a:t>（齐读第三节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54" name=""/>
          <p:cNvSpPr/>
          <p:nvPr/>
        </p:nvSpPr>
        <p:spPr>
          <a:xfrm>
            <a:off x="2013480" y="251460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老妇一家三男被征，说明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三男已死二男，又说明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9680" y="4662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说明兵役之苛酷及战争之惨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124080" y="19717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16000" y="1413000"/>
            <a:ext cx="670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588000" y="404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84360" y="692280"/>
            <a:ext cx="467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宋体"/>
              </a:rPr>
              <a:t>插上想象的翅膀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328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老妇的话不是一口气说出来的，而是吏一步步逼问出来的。试据此想象吏与老妇对话的情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-15840"/>
            <a:ext cx="9144000" cy="6873840"/>
            <a:chOff x="0" y="-15840"/>
            <a:chExt cx="9144000" cy="687384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189080" y="-15840"/>
              <a:ext cx="2009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9900"/>
                  </a:solidFill>
                  <a:latin typeface="Times New Roman"/>
                  <a:ea typeface="华文琥珀"/>
                </a:rPr>
                <a:t>课文插图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04920" y="228600"/>
            <a:ext cx="7985160" cy="5838120"/>
            <a:chOff x="304920" y="228600"/>
            <a:chExt cx="7985160" cy="5838120"/>
          </a:xfrm>
        </p:grpSpPr>
        <p:sp>
          <p:nvSpPr>
            <p:cNvPr id="267" name=""/>
            <p:cNvSpPr/>
            <p:nvPr/>
          </p:nvSpPr>
          <p:spPr>
            <a:xfrm>
              <a:off x="304920" y="228600"/>
              <a:ext cx="2209680" cy="1828800"/>
            </a:xfrm>
            <a:prstGeom prst="cloudCallout">
              <a:avLst>
                <a:gd name="adj1" fmla="val 78162"/>
                <a:gd name="adj2" fmla="val 82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38160" y="3048120"/>
              <a:ext cx="5886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“</a:t>
              </a: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夜久语声绝，如闻泣幽咽。”中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“</a:t>
              </a: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如”字用得很含蓄，假如没人哭，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作者为何有此感觉？假如有人在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哭，那么会是谁在哭呢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7924680" y="685800"/>
              <a:ext cx="36540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230720" y="1752480"/>
              <a:ext cx="86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（齐读最后一节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533520" y="685800"/>
              <a:ext cx="171432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隶书"/>
                </a:rPr>
                <a:t>想一想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  <a:ea typeface="隶书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3429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7160" y="14238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石壕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7600" y="41601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杜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2200" y="57531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衡水市九中  李学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73920" y="400464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天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告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结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46280" y="198828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投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开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6280" y="263628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住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――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发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3357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高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53920" y="5157720"/>
            <a:ext cx="18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线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诗人的行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2276640"/>
            <a:ext cx="936720" cy="2304720"/>
          </a:xfrm>
          <a:prstGeom prst="downArrow">
            <a:avLst>
              <a:gd name="adj1" fmla="val 50000"/>
              <a:gd name="adj2" fmla="val 615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 rot="5400000">
            <a:off x="678960" y="3144600"/>
            <a:ext cx="175248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时间顺序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有吏夜捉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26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听妇前致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3357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请从吏夜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4005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独与老翁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33037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夜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443640" y="5084640"/>
            <a:ext cx="2133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24000" y="549360"/>
            <a:ext cx="807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98900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通过这个故事表达了作者怎样的思想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　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请在文中找出语言根据来说明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476360" cy="14004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战争给老百姓带来巨大的灾难深表同情，对统治者压迫老百姓的残暴行径极为不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71640" y="0"/>
            <a:ext cx="216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4210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4966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诗通过对有吏夜捉人的形象地描绘，揭露了官吏的残暴，反映了人民的苦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9720" y="92160"/>
            <a:ext cx="350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你说我说</a:t>
            </a: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60520" y="2514600"/>
            <a:ext cx="567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耳闻目睹了石壕吏捉人的全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但他始终却做了一个旁观者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你如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评价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205160" y="5097600"/>
            <a:ext cx="135756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39640" y="765000"/>
            <a:ext cx="43927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拓展延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3" name=""/>
          <p:cNvSpPr/>
          <p:nvPr/>
        </p:nvSpPr>
        <p:spPr>
          <a:xfrm>
            <a:off x="1751040" y="3068640"/>
            <a:ext cx="570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这个故事反映了战争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人民带来的巨大灾难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那么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你如何看待战争与和平呢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372360" y="40464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48640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95480" y="0"/>
            <a:ext cx="180036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914400" y="2590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1916280"/>
            <a:ext cx="5832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战争会给人民带来数不清的疾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道不完的灾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我们要珍惜和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保卫和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让白鸽飞遍全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让全世界的人民生活在和平安定的幸福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576160" y="46656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 u="sng">
                <a:solidFill>
                  <a:srgbClr val="ff00ff"/>
                </a:solidFill>
                <a:uFillTx/>
                <a:latin typeface="Times New Roman"/>
                <a:ea typeface="方正舒体"/>
              </a:rPr>
              <a:t>集体背诵全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09480" y="2438280"/>
              <a:ext cx="8077320" cy="26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幼圆"/>
                  <a:ea typeface="幼圆"/>
                </a:rPr>
                <a:t>一、背诵并默写全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幼圆"/>
                  <a:ea typeface="幼圆"/>
                </a:rPr>
                <a:t>二、把《石壕吏》改写成一篇记叙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幼圆"/>
                  <a:ea typeface="幼圆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[</a:t>
              </a: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提示</a:t>
              </a: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石壕史和老妇人是诗中的主要人物，要善于运用想象来刻画他们各自的动作、语言和神态；还要补充一些事实上已经发生却被诗人隐去的故事情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6553080" y="533520"/>
              <a:ext cx="2133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914400" y="380880"/>
              <a:ext cx="3225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9900"/>
                  </a:solidFill>
                  <a:latin typeface="Times New Roman"/>
                  <a:ea typeface="华文行楷"/>
                </a:rPr>
                <a:t>作业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13760" y="272880"/>
            <a:ext cx="4110840" cy="5943600"/>
            <a:chOff x="1013760" y="272880"/>
            <a:chExt cx="4110840" cy="5943600"/>
          </a:xfrm>
        </p:grpSpPr>
        <p:sp>
          <p:nvSpPr>
            <p:cNvPr id="108" name=""/>
            <p:cNvSpPr/>
            <p:nvPr/>
          </p:nvSpPr>
          <p:spPr>
            <a:xfrm>
              <a:off x="1013760" y="272880"/>
              <a:ext cx="3198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教学目标</a:t>
              </a:r>
              <a:r>
                <a:rPr b="1" lang="en-US" sz="6600" spc="-1" strike="noStrike">
                  <a:solidFill>
                    <a:srgbClr val="ff9900"/>
                  </a:solidFill>
                  <a:latin typeface="Times New Roman"/>
                  <a:ea typeface="楷体_GB2312"/>
                </a:rPr>
                <a:t>——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93880" y="1860480"/>
              <a:ext cx="15307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9900"/>
                  </a:solidFill>
                  <a:latin typeface="华文琥珀"/>
                  <a:ea typeface="华文琥珀"/>
                </a:rPr>
                <a:t>1</a:t>
              </a:r>
              <a:r>
                <a:rPr b="1" lang="zh-CN" sz="4800" spc="-1" strike="noStrike">
                  <a:solidFill>
                    <a:srgbClr val="009900"/>
                  </a:solidFill>
                  <a:latin typeface="华文琥珀"/>
                  <a:ea typeface="华文琥珀"/>
                </a:rPr>
                <a:t>、熟读、背诵这首诗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9900"/>
                  </a:solidFill>
                  <a:latin typeface="华文琥珀"/>
                  <a:ea typeface="华文琥珀"/>
                </a:rPr>
                <a:t>2</a:t>
              </a:r>
              <a:r>
                <a:rPr b="1" lang="zh-CN" sz="4800" spc="-1" strike="noStrike">
                  <a:solidFill>
                    <a:srgbClr val="009900"/>
                  </a:solidFill>
                  <a:latin typeface="华文琥珀"/>
                  <a:ea typeface="华文琥珀"/>
                </a:rPr>
                <a:t>、理解诗歌的思想内容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962520" y="5334120"/>
              <a:ext cx="1009440" cy="882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16160" y="12794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方正舒体"/>
              </a:rPr>
              <a:t>学法指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0080" y="2911320"/>
            <a:ext cx="84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在理解的基础上提高记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78920" y="40384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在记忆的过程中加深理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5425920"/>
            <a:ext cx="12193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685800"/>
            <a:ext cx="9009000" cy="5551560"/>
            <a:chOff x="0" y="685800"/>
            <a:chExt cx="9009000" cy="5551560"/>
          </a:xfrm>
        </p:grpSpPr>
        <p:sp>
          <p:nvSpPr>
            <p:cNvPr id="117" name=""/>
            <p:cNvSpPr/>
            <p:nvPr/>
          </p:nvSpPr>
          <p:spPr>
            <a:xfrm>
              <a:off x="1619280" y="1916280"/>
              <a:ext cx="6400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9640" y="836640"/>
              <a:ext cx="182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300a"/>
                  </a:solidFill>
                  <a:latin typeface="Tahoma"/>
                  <a:ea typeface="隶书"/>
                </a:rPr>
                <a:t>杜  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84720" y="2276640"/>
              <a:ext cx="272268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95280" y="1717560"/>
              <a:ext cx="5491080" cy="37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c3302"/>
                  </a:solidFill>
                  <a:latin typeface="Times New Roman"/>
                </a:rPr>
                <a:t>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杜甫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(</a:t>
              </a:r>
              <a:r>
                <a:rPr b="0" lang="en-US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712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－</a:t>
              </a:r>
              <a:r>
                <a:rPr b="0" lang="en-US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770),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字子美，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唐朝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伟大的现实主义诗人</a:t>
              </a:r>
              <a:r>
                <a:rPr b="0" lang="zh-CN" sz="2400" spc="-1" strike="noStrike">
                  <a:solidFill>
                    <a:srgbClr val="4c3302"/>
                  </a:solidFill>
                  <a:latin typeface="华文中宋"/>
                  <a:ea typeface="华文中宋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华文中宋"/>
                  <a:ea typeface="华文中宋"/>
                </a:rPr>
                <a:t>　　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他的诗歌风格沉郁悲壮，语言瑰丽精确，成为我国古代现实主义诗歌的高峰，杜甫则被后世尊为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“诗圣”</a:t>
              </a:r>
              <a:r>
                <a:rPr b="0" lang="zh-CN" sz="2400" spc="-1" strike="noStrike">
                  <a:solidFill>
                    <a:srgbClr val="006600"/>
                  </a:solidFill>
                  <a:latin typeface="华文中宋"/>
                  <a:ea typeface="华文中宋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华文中宋"/>
                  <a:ea typeface="华文中宋"/>
                </a:rPr>
                <a:t>　　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他的诗作今存</a:t>
              </a:r>
              <a:r>
                <a:rPr b="0" lang="en-US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1400</a:t>
              </a:r>
              <a:r>
                <a:rPr b="0" lang="zh-CN" sz="2400" spc="-1" strike="noStrike">
                  <a:solidFill>
                    <a:srgbClr val="660033"/>
                  </a:solidFill>
                  <a:latin typeface="华文中宋"/>
                  <a:ea typeface="华文中宋"/>
                </a:rPr>
                <a:t>多首，真实深刻地反映了唐王朝由盛而衰这转折过程中的种种社会现象，反映了人民的疾苦，谴责了统治阶级的残暴，揭示了尖锐的社会矛盾，历来被誉为</a:t>
              </a:r>
              <a:r>
                <a:rPr b="0" lang="zh-CN" sz="2400" spc="-1" strike="noStrike">
                  <a:solidFill>
                    <a:srgbClr val="663300"/>
                  </a:solidFill>
                  <a:latin typeface="华文中宋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诗史</a:t>
              </a:r>
              <a:r>
                <a:rPr b="0" lang="zh-CN" sz="2400" spc="-1" strike="noStrike">
                  <a:solidFill>
                    <a:srgbClr val="663300"/>
                  </a:solidFill>
                  <a:latin typeface="华文中宋"/>
                  <a:ea typeface="华文中宋"/>
                </a:rPr>
                <a:t>”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华文中宋"/>
                  <a:ea typeface="华文中宋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765000"/>
              <a:ext cx="9009000" cy="1052640"/>
              <a:chOff x="0" y="765000"/>
              <a:chExt cx="9009000" cy="105264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290520" y="873000"/>
                <a:ext cx="711360" cy="474840"/>
                <a:chOff x="290520" y="873000"/>
                <a:chExt cx="711360" cy="4748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0520" y="873000"/>
                  <a:ext cx="437400" cy="4748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3560" y="873000"/>
                  <a:ext cx="328320" cy="474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14360" y="1295280"/>
                <a:ext cx="737640" cy="474840"/>
                <a:chOff x="414360" y="1295280"/>
                <a:chExt cx="737640" cy="4748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14360" y="1295280"/>
                  <a:ext cx="421560" cy="474840"/>
                </a:xfrm>
                <a:prstGeom prst="rect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3000" y="1295280"/>
                  <a:ext cx="369000" cy="474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f0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0" y="1222200"/>
                <a:ext cx="560520" cy="422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5040" y="765000"/>
                <a:ext cx="31680" cy="10526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16080" y="1587240"/>
                <a:ext cx="8692920" cy="55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219320" y="685800"/>
              <a:ext cx="2743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Tahoma"/>
                  <a:ea typeface="隶书"/>
                </a:rPr>
                <a:t>作者介绍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35000" y="549360"/>
            <a:ext cx="9009000" cy="1052280"/>
            <a:chOff x="135000" y="549360"/>
            <a:chExt cx="9009000" cy="1052280"/>
          </a:xfrm>
        </p:grpSpPr>
        <p:grpSp>
          <p:nvGrpSpPr>
            <p:cNvPr id="133" name=""/>
            <p:cNvGrpSpPr/>
            <p:nvPr/>
          </p:nvGrpSpPr>
          <p:grpSpPr>
            <a:xfrm>
              <a:off x="425520" y="657000"/>
              <a:ext cx="711360" cy="474480"/>
              <a:chOff x="425520" y="657000"/>
              <a:chExt cx="711360" cy="4744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5520" y="6570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8560" y="657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49360" y="1079280"/>
              <a:ext cx="737640" cy="474480"/>
              <a:chOff x="549360" y="1079280"/>
              <a:chExt cx="737640" cy="4744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9360" y="10792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18000" y="107928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35000" y="100620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0040" y="54936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51080" y="137052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77080" y="5084640"/>
            <a:ext cx="1871640" cy="1225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75160" y="5013360"/>
            <a:ext cx="38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吏”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新安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石壕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潼关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566100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别”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新婚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垂老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无家别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8360" y="549360"/>
            <a:ext cx="8136000" cy="2349360"/>
            <a:chOff x="468360" y="549360"/>
            <a:chExt cx="8136000" cy="2349360"/>
          </a:xfrm>
        </p:grpSpPr>
        <p:sp>
          <p:nvSpPr>
            <p:cNvPr id="146" name=""/>
            <p:cNvSpPr/>
            <p:nvPr/>
          </p:nvSpPr>
          <p:spPr>
            <a:xfrm>
              <a:off x="1332000" y="549360"/>
              <a:ext cx="27432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Tahoma"/>
                  <a:ea typeface="隶书"/>
                </a:rPr>
                <a:t>写作背景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1700280"/>
              <a:ext cx="44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石壕吏</a:t>
              </a:r>
              <a:r>
                <a:rPr b="1" lang="en-US" sz="28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的写作背景是唐朝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安史之乱</a:t>
              </a:r>
              <a:r>
                <a:rPr b="1" lang="zh-CN" sz="28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时期</a:t>
              </a:r>
              <a:r>
                <a:rPr b="1" lang="zh-CN" sz="3200" spc="-1" strike="noStrike">
                  <a:solidFill>
                    <a:srgbClr val="621404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360" y="2421000"/>
              <a:ext cx="8136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唐肃宗乾元元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(758)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冬末，杜甫回到洛阳，看看战乱后的故乡。可是不到两个月，形势发生逆转，唐军在邺城大败，郭子仪退守河阳，洛阳一带又骚动起来。诗人这时被迫离去，经新安、石壕、潼关等地回到华州。一路上他所看到的都是征夫怨妇们的愁眉苦脸，所听到的是别家出征时的哭声。杜甫这番经历写成了著名的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“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三吏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”“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三别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”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。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956720" y="69228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e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35000" y="333360"/>
            <a:ext cx="9009000" cy="1052640"/>
            <a:chOff x="135000" y="333360"/>
            <a:chExt cx="9009000" cy="1052640"/>
          </a:xfrm>
        </p:grpSpPr>
        <p:grpSp>
          <p:nvGrpSpPr>
            <p:cNvPr id="151" name=""/>
            <p:cNvGrpSpPr/>
            <p:nvPr/>
          </p:nvGrpSpPr>
          <p:grpSpPr>
            <a:xfrm>
              <a:off x="425520" y="441360"/>
              <a:ext cx="711360" cy="474840"/>
              <a:chOff x="425520" y="441360"/>
              <a:chExt cx="711360" cy="474840"/>
            </a:xfrm>
          </p:grpSpPr>
          <p:sp>
            <p:nvSpPr>
              <p:cNvPr id="152" name=""/>
              <p:cNvSpPr/>
              <p:nvPr/>
            </p:nvSpPr>
            <p:spPr>
              <a:xfrm>
                <a:off x="425520" y="44136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8560" y="4413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49360" y="863640"/>
              <a:ext cx="737640" cy="474840"/>
              <a:chOff x="549360" y="863640"/>
              <a:chExt cx="737640" cy="474840"/>
            </a:xfrm>
          </p:grpSpPr>
          <p:sp>
            <p:nvSpPr>
              <p:cNvPr id="155" name=""/>
              <p:cNvSpPr/>
              <p:nvPr/>
            </p:nvSpPr>
            <p:spPr>
              <a:xfrm>
                <a:off x="549360" y="86364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18000" y="8636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35000" y="790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0040" y="333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1080" y="1155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28600" y="189000"/>
            <a:ext cx="8574120" cy="6669000"/>
            <a:chOff x="228600" y="189000"/>
            <a:chExt cx="8574120" cy="6669000"/>
          </a:xfrm>
        </p:grpSpPr>
        <p:sp>
          <p:nvSpPr>
            <p:cNvPr id="161" name=""/>
            <p:cNvSpPr/>
            <p:nvPr/>
          </p:nvSpPr>
          <p:spPr>
            <a:xfrm>
              <a:off x="609480" y="1828800"/>
              <a:ext cx="7315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189000"/>
              <a:ext cx="1839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石壕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1268280"/>
              <a:ext cx="3870360" cy="5139720"/>
            </a:xfrm>
            <a:prstGeom prst="rect">
              <a:avLst/>
            </a:prstGeom>
            <a:solidFill>
              <a:srgbClr val="f6ed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暮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投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石壕村，有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吏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夜捉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老翁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逾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墙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走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，老妇出门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吏呼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一何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怒！妇啼一何苦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听妇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前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致词：三男邺城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戍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一男附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书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至，二男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新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战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存者且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偷生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，死者长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已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矣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室中更无人，惟有乳下孙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有孙母未去，出入无完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裙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老妪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力虽衰，请从吏夜归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争应河阳役，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犹得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备晨炊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夜久语声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绝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，如闻泣幽咽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天明</a:t>
              </a:r>
              <a:r>
                <a:rPr b="1" lang="zh-CN" sz="2400" spc="-1" strike="noStrike">
                  <a:solidFill>
                    <a:srgbClr val="ff33cc"/>
                  </a:solidFill>
                  <a:latin typeface="Times New Roman"/>
                  <a:ea typeface="楷体_GB2312"/>
                </a:rPr>
                <a:t>登</a:t>
              </a: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前途，独与老翁别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32560" y="673200"/>
              <a:ext cx="13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杜  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258920" y="692280"/>
              <a:ext cx="86508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28600" y="1295280"/>
              <a:ext cx="46800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228600" y="1295280"/>
              <a:ext cx="46800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228600" y="1295280"/>
              <a:ext cx="46800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304920" y="1371600"/>
              <a:ext cx="460836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"/>
            <a:stretch/>
          </p:blipFill>
          <p:spPr>
            <a:xfrm>
              <a:off x="228600" y="1295280"/>
              <a:ext cx="460836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7"/>
            <a:stretch/>
          </p:blipFill>
          <p:spPr>
            <a:xfrm>
              <a:off x="228600" y="1295280"/>
              <a:ext cx="4708440" cy="556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58316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0920" y="380880"/>
            <a:ext cx="8569080" cy="2588400"/>
            <a:chOff x="250920" y="380880"/>
            <a:chExt cx="8569080" cy="2588400"/>
          </a:xfrm>
        </p:grpSpPr>
        <p:sp>
          <p:nvSpPr>
            <p:cNvPr id="175" name=""/>
            <p:cNvSpPr/>
            <p:nvPr/>
          </p:nvSpPr>
          <p:spPr>
            <a:xfrm>
              <a:off x="1763640" y="593640"/>
              <a:ext cx="705636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250920" y="476280"/>
              <a:ext cx="151128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68360" y="2205000"/>
              <a:ext cx="828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00"/>
                  </a:solidFill>
                  <a:latin typeface="Times New Roman"/>
                </a:rPr>
                <a:t>这首诗叙述了一个怎样的故事</a:t>
              </a:r>
              <a:r>
                <a:rPr b="1" lang="zh-CN" sz="4000" spc="-1" strike="noStrike">
                  <a:solidFill>
                    <a:srgbClr val="ff99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362320" y="380880"/>
              <a:ext cx="3240000" cy="11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255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体感知</a:t>
              </a:r>
              <a:endParaRPr b="0" lang="en-US" sz="2400" spc="1" strike="noStrike">
                <a:ln w="255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7366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5600" y="3716280"/>
            <a:ext cx="592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叙述了差人乘夜来捉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衰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妇人也被抓去服役的惨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11120" y="35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19280" y="191628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184" name=""/>
            <p:cNvGrpSpPr/>
            <p:nvPr/>
          </p:nvGrpSpPr>
          <p:grpSpPr>
            <a:xfrm>
              <a:off x="290520" y="873000"/>
              <a:ext cx="711360" cy="474840"/>
              <a:chOff x="290520" y="873000"/>
              <a:chExt cx="711360" cy="474840"/>
            </a:xfrm>
          </p:grpSpPr>
          <p:sp>
            <p:nvSpPr>
              <p:cNvPr id="185" name=""/>
              <p:cNvSpPr/>
              <p:nvPr/>
            </p:nvSpPr>
            <p:spPr>
              <a:xfrm>
                <a:off x="290520" y="8730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3560" y="873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360" y="1295280"/>
              <a:ext cx="737640" cy="474840"/>
              <a:chOff x="414360" y="1295280"/>
              <a:chExt cx="737640" cy="474840"/>
            </a:xfrm>
          </p:grpSpPr>
          <p:sp>
            <p:nvSpPr>
              <p:cNvPr id="188" name=""/>
              <p:cNvSpPr/>
              <p:nvPr/>
            </p:nvSpPr>
            <p:spPr>
              <a:xfrm>
                <a:off x="414360" y="12952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3000" y="1295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16080" y="1587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011240" y="652320"/>
            <a:ext cx="593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Times New Roman"/>
              </a:rPr>
              <a:t>给下列字注音</a:t>
            </a:r>
            <a:r>
              <a:rPr b="1" lang="en-US" sz="60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184464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3-03-18T00:53:19Z</dcterms:modified>
  <cp:revision>77</cp:revision>
  <dc:subject/>
  <dc:title>PowerPoint Presentation</dc:title>
</cp:coreProperties>
</file>