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ADB2-3BE6-4D31-B75E-78135CCB70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南唐保大末年至中兴初年建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名“南禅寺”。北宋景德四年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07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赐名承天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其规模仅次于开元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闽南三大丛林之一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因寺宇第一山门横匾上有金光闪烁的“月台”两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故又名月台寺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A0A-36F6-4D1F-91DF-FADD295B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22F-61E2-40E0-BE4A-92F5034D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6DC-E0E3-45E6-8C15-62A9E6E4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9E4-6B8C-4222-AC11-07977273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CDB-1901-4571-A148-F28AFA84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E06-38BB-4E65-91B6-977CD43C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72F-9569-4983-A95F-6FA20298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7AA-7C11-4645-A56D-2BA0A0E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A84-8045-40BA-A09D-0580EB9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1B3-19E9-4DE3-8F7C-98572E9B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71A-E7F5-4AA8-8E4E-2149227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318-130E-4297-9B11-F4433A8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5DB5-2234-4749-B445-D0A0EA7AB9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90792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读准字音，读出节奏和感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遂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寝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ǐ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藻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ǎ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荇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ì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念／无与为乐者，遂／至承天寺／寻张怀民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怀民／亦未寝，相与／步于中庭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庭下／如积水空明，水中／藻、荇交横，盖／竹柏影也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1080" y="2476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请注意这些词语的含义或用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379520"/>
            <a:ext cx="6705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无与为乐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至承天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相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步于中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怀民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亦未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盖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竹柏影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少闲人如吾两人者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1800" y="1447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考虑，想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74240" y="3886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只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48240" y="2438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共同，一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544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睡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304920" y="2971800"/>
            <a:ext cx="380880" cy="38088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原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74240" y="247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翻译下列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413000"/>
            <a:ext cx="6705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268280"/>
            <a:ext cx="6697800" cy="435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念无与为乐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想到没有可以交谈取乐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庭下如积水空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庭院中的月光像一泓积水一样清澈透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水中藻荇交横，盖竹柏影也。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水中水藻，荇菜纵横交错，原来是那绿竹和翠柏的影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但少闲人如吾两人者耳。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不过缺少有像我们这样清闲的人罢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  <a:ea typeface="楷体_GB2312"/>
              </a:rPr>
              <a:t>翻译下列句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5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庭下如积水空明，水中藻荇交横，盖竹柏影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色撒满庭院，如同积水充满院落，清澈透明，水中水藻、荇菜交叉错杂，原来那是竹子、柏树的影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  <a:ea typeface="楷体_GB2312"/>
              </a:rPr>
              <a:t>翻译下列句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何夜无月？何处无竹柏？但少闲人如吾两人者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哪个夜晚没有月色？哪个地方没有竹子和柏树？只不过少有像我们这样的闲人罢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内容：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、简叙作者的写作思路。（作者夜游承天寺的行踪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-675000"/>
            <a:ext cx="9144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27664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91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简叙作者的写作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708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欲睡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→寻张怀民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与步于中庭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→绘景→抒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860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者夜游承天寺的行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72428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起行——至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承天寺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张怀民）——步（中庭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08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、作者为什么想着在初冬的夜里走出户外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270828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2492280"/>
            <a:ext cx="78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方面作者被贬，心情郁闷，想出去走走，另一方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月色很美，想去赏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本文中最传神的语句是哪几句？抄下来，说说你的理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17520" y="1051560"/>
            <a:ext cx="1794600" cy="76428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读书：</a:t>
            </a:r>
            <a:r>
              <a:rPr b="1" lang="zh-CN" sz="4400" spc="-1" strike="noStrike">
                <a:solidFill>
                  <a:srgbClr val="0000cc"/>
                </a:solidFill>
                <a:latin typeface="方正粗宋简体"/>
                <a:ea typeface="方正粗宋简体"/>
              </a:rPr>
              <a:t>闭门书史丛，少有凌云志。</a:t>
            </a:r>
            <a:r>
              <a:rPr b="1" lang="zh-CN" sz="44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1360" y="2132640"/>
            <a:ext cx="2626560" cy="76428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工作：</a:t>
            </a:r>
            <a:r>
              <a:rPr b="1" lang="zh-CN" sz="4400" spc="-1" strike="noStrike">
                <a:solidFill>
                  <a:srgbClr val="0000cc"/>
                </a:solidFill>
                <a:latin typeface="方正粗宋简体"/>
                <a:ea typeface="方正粗宋简体"/>
              </a:rPr>
              <a:t>平生五千卷，一字不救饥。</a:t>
            </a:r>
            <a:r>
              <a:rPr b="1" lang="zh-CN" sz="44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240" y="4009320"/>
            <a:ext cx="485640" cy="70344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427720"/>
            <a:ext cx="184320" cy="762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440" y="33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有一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4653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生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“起舞弄清影，何似在人间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0686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态度：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人有悲欢离合，月有阴晴圆缺，此事古难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05360"/>
            <a:ext cx="82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51664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你能根据以上的提示猜出他是谁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42920" y="54936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庭下如积水空明，水中藻荇 交横，盖竹柏影也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773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中无一个“月” 字，却无处不是写皎洁的月光。作者用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积水空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四字，比喻庭院中月光的清澈透明。给人以一池春水静谧之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357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藻荇交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”四字，比喻月下美丽的竹柏倒影。以竹柏倒影来烘托月光，给人以水草摇曳的动态之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013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这个世界映照出作者光明磊落，无尘俗的胸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9506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是如何描写月色的？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ahoma"/>
                <a:ea typeface="隶书"/>
              </a:rPr>
              <a:t>庭下如积水空明，水中藻荇交横，盖竹柏影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色—积水空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竹柏—藻荇交横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4941720"/>
            <a:ext cx="2665440" cy="191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比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981080"/>
            <a:ext cx="463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积水空明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藻荇交横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竹柏影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18288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皎洁、空灵、清丽、淡雅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29280" y="260280"/>
            <a:ext cx="4914720" cy="14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月光如水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0212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874872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作者为什么要夜游承天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是作者被贬，心情郁闷、孤独；二是因为月色很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找出本文写景的句子，说说写出了景物的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何夜无月？何处无竹柏？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闲人如吾两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人者耳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抒发了作者怎样的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276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庭下如积水空明，水中藻、荇交横，盖竹柏影也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284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者以高度凝练的笔墨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染出一个空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澄澈、疏影摇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似真似幻的美妙境界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3640" y="522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寥寥数语，意味隽永：贬谪的悲凉，人生的感慨，赏月的欣喜，漫步的悠闲──种种难言的感情尽在其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情感：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、文中哪些句子表达了作者的情感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、你认为“闲人”是指什么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、“闲人”指谁？为何自称“闲人”？ “闲人”二字表现了苏轼怎样的复杂情感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夜游过程中，作者的心情有怎样的变化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581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欣然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念无与为乐者” “遂”、“寻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怀民亦未寝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与步于中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676520"/>
            <a:ext cx="40388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欣喜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有点遗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假思索中有点激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心有灵犀的喜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从容  闲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952880"/>
            <a:ext cx="73152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闲人”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赏月的欣喜，漫步的悠闲、贬谪的落寞、自我排遣的达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自谓闲人，文中哪些语句与“闲”字有关，含蓄地表达了作者怎样的心境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819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月色入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门庭冷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念无与乐者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交游之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隶书"/>
              </a:rPr>
              <a:t>但少闲人如吾两人者耳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楷体_GB2312"/>
              </a:rPr>
              <a:t>——点明其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欣然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贬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表现作者乐观旷达的胸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371600"/>
            <a:ext cx="1371600" cy="76320"/>
          </a:xfrm>
          <a:prstGeom prst="leftRightArrow">
            <a:avLst>
              <a:gd name="adj1" fmla="val 50000"/>
              <a:gd name="adj2" fmla="val 3577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1295280"/>
            <a:ext cx="1447920" cy="76320"/>
          </a:xfrm>
          <a:prstGeom prst="leftRightArrow">
            <a:avLst>
              <a:gd name="adj1" fmla="val 50000"/>
              <a:gd name="adj2" fmla="val 3776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1219320"/>
            <a:ext cx="1295280" cy="228600"/>
          </a:xfrm>
          <a:prstGeom prst="leftRightArrow">
            <a:avLst>
              <a:gd name="adj1" fmla="val 50000"/>
              <a:gd name="adj2" fmla="val 1127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黑体"/>
              </a:rPr>
              <a:t>反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←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743200"/>
            <a:ext cx="3352680" cy="838080"/>
          </a:xfrm>
          <a:prstGeom prst="leftRightArrow">
            <a:avLst>
              <a:gd name="adj1" fmla="val 50000"/>
              <a:gd name="adj2" fmla="val 79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隶书"/>
              </a:rPr>
              <a:t>但少闲人如吾两人者耳”是全文的点睛之笔，请你说出它的深刻含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隶书"/>
              </a:rPr>
              <a:t>（结合作者当时的处境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两层意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现自我安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心境，透出自己不能为朝廷尽忠的抱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讽刺那些追名逐利的人，趋炎附势，奔走钻营，无法自拔，也无暇领略这清虚冷月的仙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0"/>
            <a:ext cx="8569080" cy="57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苏轼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37—1101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号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朝代）四川眉山人，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其父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其弟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称“三苏”，为“唐宋八大 家”之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692280"/>
            <a:ext cx="228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191628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子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1844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东坡居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637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北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3357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苏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429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苏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出文中抒情议论的语句，领悟文章主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5244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何夜无月？何处无竹柏？但少闲人如吾两人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25836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只要放宽心态，美景无处不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3352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尾句看似多余，但仔细品味则又感到文章因此而意味更深一层，是不可缺少的，十分精彩的一笔。这两句话所传达的思想感情相当复杂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既有欣喜愉悦，又有落寞孤寂，还透出某种鄙视尘俗的自慰之情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种复杂的心情，一方面是由于苏轼政治上失意，内心苦闷才放情山水，在江山风月中寻找寄托；另一方面，大自然的美所给予人的无穷愉悦，是那些追逐名利的世俗之人所无法领受的。苏轼得到一种世人难以得到的满足和愉悦，这是身处逆境的苏轼聊以自慰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句话是抒怀。略带凄清的月夜美景与作者旷达而幽冷的心境浑然一体，达到完美和谐的至境，令人回味不已。确实做到了文短而意深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2b2b2"/>
                </a:solidFill>
                <a:latin typeface="Times New Roman"/>
              </a:rPr>
              <a:t>周新华老师著作中的评价：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“闲人”既有被置闲之悲，又有得闲之喜；有傲视尘俗的自豪，又有启人深思之理趣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试想一个胸有大志、才智过人之士，却被迫成为投闲置散之人，只好放情山水，借江上风月化解内心的孤独与苦闷，实在可悲！但正因为贬谪，使他被抛出了名利是非场，才有了闲暇的时间与机会，尽情欣赏这绝色美景，因此又是因祸得福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东坡不以贬谪为苦为累，却有闲情逸致“游目骋怀”，享受自然美景之愉悦，成为江山风月的主人，足以自豪自傲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79840" y="3098880"/>
            <a:ext cx="1843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98880"/>
            <a:ext cx="1843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新华老师著作中的评价</a:t>
            </a:r>
            <a:br>
              <a:rPr sz="4000"/>
            </a:br>
            <a:r>
              <a:rPr b="1" lang="zh-CN" sz="40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那些斤斤计较个人名利得失，为眼前俗务而忧虑不止的人，即便走进东坡笔下的情境之中，也会一无所见，茫然无所得。换言之，要想获得东坡式的“闲中趣”，首先就要从得失荣辱的物累之中解放出来，保持精神的自由与“余裕”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闲人”之表层意义，它委婉地反映了苏轼宦途失意的苦闷；从另一个方面来看，月光至美，竹影至丽，而人不能识，唯此二人能有幸领略，岂非快事！苏轼的思想横跨儒释道三家，这便使他的处世态度有极大的包容性，可以说是宠辱不惊，进退自如。当然，他在逆境中的篇章更能折射出他的人格魅力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出作者笔下的景物，体味作者寄托的情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思家乡 念亲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邀志同道合友  享恬淡优美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竹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君子  高洁  坚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志趣高洁  笑对人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02200" y="182880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王国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一切景语，皆情语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677520" cy="6859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4360" y="4995720"/>
            <a:ext cx="91440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隶书"/>
              </a:rPr>
              <a:t>春风又绿江南岸，明月何时照我还”  （北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隶书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隶书"/>
              </a:rPr>
              <a:t>王安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8720" y="5554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关于“月亮”的诗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677520" cy="6867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-36360" y="762120"/>
            <a:ext cx="189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海上生明月，天涯共此时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唐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·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张九龄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422440" y="0"/>
            <a:ext cx="54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036800" y="0"/>
            <a:ext cx="263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举杯邀明月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饮成三人。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9528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我寄愁心与明月，随君直到夜郎西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.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李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304920" y="1295280"/>
            <a:ext cx="35877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2520" y="533520"/>
            <a:ext cx="51814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苏轼生活的时代大兴“新法”，改革之风大盛。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于他反对王安石“新法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而被调离出京。神宗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丰二年（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1079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年），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御史李定、何正臣等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他写诗讽刺了“新法”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被捕入狱。这就是当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有名的“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乌台诗案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”（乌台，指当时的御史府）。出狱后贬为黄州团练副使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zxx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篇文章通过对庭中优美月色的描绘，让我们感受到苏轼热爱生活、追求美好事物的执着，面对逆境达观处世、潇洒人生的难能可贵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97560" y="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拓展一下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6206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初，张咏在成都，闻准①入相，谓其僚属曰：“寇公奇材，惜学术不足尔。”及准出陕，咏适自成都罢还，准严②供帐，大为具待③。咏将去，准送之郊，问曰：“何以教准？”咏徐曰：“《霍光传》④不可不读也。”准莫谕其意，归，取其传读之，至“不学无术”，笑曰：“此张公谓我矣。” （选自《宋史•寇准传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注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] 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准：寇准，北宋政治家，景德元年任宰相。 ②严：敬重。  ③具待：具，备办；待，接待。 ④《霍光传》：载《汉书》，传末有“然光不学无术，暗于大理”之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解释下列句子中红色词语的含义。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闻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准入相                        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咏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成都罢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准莫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其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请将下面句子翻译成现代汉语。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此张公谓我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译文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从文中可以看出寇准具有哪些品质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35520" y="3919680"/>
            <a:ext cx="3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听说、听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7280" y="3932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恰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13280" y="4292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67080" y="5300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张公（在）说我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2240" y="61657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寇准具有宽容大度、谦虚谨慎、不耻下问、有自知之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43000" y="1905120"/>
            <a:ext cx="7543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搜集有关“月”的诗句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请同学们也来写一段景色描写，不要直接出现写自己的心情的词语，但要能够让读者通过阅读你的描写看出你的心情，或是愉快的，或是郁闷的，等等，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体现“一切景语皆情语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4080" y="544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布置作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7280" y="3808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记承天寺夜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666880"/>
            <a:ext cx="180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元丰六年十月十二日夜，解衣欲睡，月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入户，欣然起行。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念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无与为乐者，遂至承天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寻张怀民。怀民亦未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寝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相与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步于中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庭下如积水空明，水中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藻、荇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交横，盖竹柏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何夜无月？何处无竹柏？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但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少闲人如吾两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者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219320"/>
            <a:ext cx="14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990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随笔式小品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754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39640" y="765000"/>
            <a:ext cx="4173480" cy="3473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32000" y="4797360"/>
            <a:ext cx="28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4941720"/>
            <a:ext cx="2833920" cy="7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承天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04640"/>
            <a:ext cx="37432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位于今湖北省黄冈市南，南唐初年建寺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初名“南禅寺”。北宋景德四年（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1007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赐名承天寺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其规模仅次于开元寺因寺宇第一山门横匾上有金光闪烁的“月台”两字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故又名月台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-96840"/>
            <a:ext cx="4343400" cy="3129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249800" cy="306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763640" y="3500280"/>
            <a:ext cx="532944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55640" y="2997360"/>
            <a:ext cx="2833560" cy="457200"/>
            <a:chOff x="755640" y="2997360"/>
            <a:chExt cx="2833560" cy="457200"/>
          </a:xfrm>
        </p:grpSpPr>
        <p:sp>
          <p:nvSpPr>
            <p:cNvPr id="83" name=""/>
            <p:cNvSpPr/>
            <p:nvPr/>
          </p:nvSpPr>
          <p:spPr>
            <a:xfrm>
              <a:off x="755640" y="2997360"/>
              <a:ext cx="28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640" y="2997360"/>
              <a:ext cx="28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承天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292720" y="2924280"/>
            <a:ext cx="3382920" cy="575640"/>
            <a:chOff x="5292720" y="2924280"/>
            <a:chExt cx="3382920" cy="575640"/>
          </a:xfrm>
        </p:grpSpPr>
        <p:sp>
          <p:nvSpPr>
            <p:cNvPr id="86" name=""/>
            <p:cNvSpPr/>
            <p:nvPr/>
          </p:nvSpPr>
          <p:spPr>
            <a:xfrm>
              <a:off x="5292720" y="2924280"/>
              <a:ext cx="3382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2720" y="2924280"/>
              <a:ext cx="3382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承天寺大雄宝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04920" y="396252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承天寺甬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44500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承天寺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28000" y="4365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陀罗尼经幢（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4572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445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0:09:45Z</dcterms:created>
  <dc:creator>语文备课大师 www.xiexingcun.com【全免费】</dc:creator>
  <dc:description>语文备课大师 www.xiexingcun.com【全免费】</dc:description>
  <dc:language>en-US</dc:language>
  <cp:lastModifiedBy>User</cp:lastModifiedBy>
  <dcterms:modified xsi:type="dcterms:W3CDTF">2015-01-10T00:05:03Z</dcterms:modified>
  <cp:revision>0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d000000000001024120</vt:lpwstr>
  </property>
</Properties>
</file>