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B47-8239-4DF1-A60B-44B615FB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4F2-81B6-461C-868C-300EA0F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BF9-3251-42AA-B57E-FC5ACB1A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DA6-0AE5-4A2B-B8C2-39F17366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D14-8701-47C7-B8B3-9601C20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CD7-11A9-46A4-9D1F-7CF6F959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8E4-FBB9-4A13-AFEF-037390A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C20-0CA6-4954-86D3-222D3330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F90-6C9A-4365-9C0B-14907C6C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307-5CDE-4CA0-A6F1-97DE348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763-4C55-4A10-8228-CEAC149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02D-4D13-4734-B497-7C046C5F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C7ED-9CF3-4D70-A15E-964533B1B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076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79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4054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们，学过《三峡》，我们无不为三峡的雄奇险拔、清幽秀色所陶醉。其实，我们伟大的祖国哪儿不是神奇如画呢？不信，就请你细细品读陶弘景的写景小品文《答谢中书书》，读完后你一定会觉得江南的山水真是一幅清丽的山水画，是一首流动的山水诗呢！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500720" cy="659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19640" y="47628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清流见底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89000"/>
            <a:ext cx="107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392360" cy="640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33336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a181b"/>
                </a:solidFill>
                <a:latin typeface="Times New Roman"/>
                <a:ea typeface="楷体_GB2312"/>
              </a:rPr>
              <a:t>高峰入云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3200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5462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354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ffb53"/>
                </a:solidFill>
                <a:latin typeface="Times New Roman"/>
                <a:ea typeface="楷体_GB2312"/>
              </a:rPr>
              <a:t>两岸石壁，五色交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333360"/>
            <a:ext cx="86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ffb53"/>
                </a:solidFill>
                <a:latin typeface="Times New Roman"/>
              </a:rPr>
              <a:t>青林翠竹，四时俱备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28440" y="0"/>
            <a:ext cx="9208800" cy="695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4292640"/>
            <a:ext cx="50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晓雾将歇，猿鸟乱鸣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685800"/>
            <a:ext cx="895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Times New Roman"/>
              </a:rPr>
              <a:t>夕日欲颓，沉鳞竞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实是欲界之仙都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自康乐以来，未复有能与其奇者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1197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川之美，古来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共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292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峰入云，清流见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781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山川景色的美丽，自古以来就是文人雅士共同赞叹的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30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巍峨的山峰耸入云端，明净的溪流清澈见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198864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一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19155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谈论，欣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987640" y="26028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解词译文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12747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岸石壁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五色    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交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两岸的石壁色彩斑斓，交相辉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205992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色彩斑斓。交相辉映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林翠竹，</a:t>
            </a:r>
            <a:r>
              <a:rPr b="1" lang="zh-CN" sz="3600" spc="-1" strike="noStrike" u="sng">
                <a:solidFill>
                  <a:srgbClr val="990000"/>
                </a:solidFill>
                <a:uFillTx/>
                <a:latin typeface="Times New Roman"/>
                <a:ea typeface="楷体_GB2312"/>
              </a:rPr>
              <a:t>四时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俱      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373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青葱的林木，翠绿的竹丛，四季长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458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四季。 都。存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87640" y="26028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解词译文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341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雾将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猿鸟乱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357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夕日欲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沉鳞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竞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 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133720"/>
            <a:ext cx="81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清晨的薄雾将要消散的时候，传来猿、鸟此起彼伏的鸣叫声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夕阳快要落山的时候，潜游在水中的鱼儿争相跳出水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341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清晨。消散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2919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坠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005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潜在水中的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鳞，借代鱼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360" y="4220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争相。跳出水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987640" y="26028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解词译文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26360" y="260280"/>
            <a:ext cx="31064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ffb53"/>
                </a:solidFill>
                <a:latin typeface="Times New Roman"/>
                <a:ea typeface="隶书"/>
              </a:rPr>
              <a:t>答谢中书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920" y="3789360"/>
            <a:ext cx="2009160" cy="23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ffb53"/>
                </a:solidFill>
                <a:latin typeface="Times New Roman"/>
                <a:ea typeface="隶书"/>
              </a:rPr>
              <a:t>陶弘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76280"/>
            <a:ext cx="2592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fb53"/>
                </a:solidFill>
                <a:latin typeface="Times New Roman"/>
              </a:rPr>
              <a:t>山水小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1197360"/>
            <a:ext cx="83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是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欲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仙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自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康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来，未复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奇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698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这里实在是人间的仙境啊。自从南朝的谢灵运以来，就再也没有人能够欣赏这种奇丽景色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4880" y="19155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指人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92320" y="19155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指仙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6800" y="2060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南朝的谢灵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5080" y="299664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参与，这里指欣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87640" y="26028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解词译文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32000" y="40464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结构</a:t>
            </a:r>
            <a:endParaRPr b="1" lang="en-US" sz="66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9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总写。以感慨发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068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分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32713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描绘了秀美的山川景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797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抒情、议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1600" y="48031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感慨收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3284640"/>
            <a:ext cx="865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236000" y="4730760"/>
            <a:ext cx="865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6000" y="1916280"/>
            <a:ext cx="865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6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42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15638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山川之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美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古来共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739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高雅情怀的自豪感以及期望与古往今来的林泉高士相比肩之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34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总写，以感慨发端。包含作者什么感情？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132000" y="189000"/>
            <a:ext cx="28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分析课文</a:t>
            </a:r>
            <a:endParaRPr b="1" lang="en-US" sz="66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157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”：是山川风物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客观形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也是作者对山川风物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审美感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──愉悦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28880" y="739800"/>
            <a:ext cx="22478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峰入云，清流见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87560"/>
            <a:ext cx="2305080" cy="2043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两岸石壁，                  五色交辉。                          青林翠竹，                         四时俱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148280"/>
            <a:ext cx="23925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晓雾将歇，                  猿鸟乱鸣。                    夕日欲颓，                        沉鳞竞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6912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力描写山之高，水之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619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仰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42320" y="2203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2320" y="306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50680" y="1987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22320" y="465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30480" y="38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朝夕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89840" y="4507560"/>
            <a:ext cx="77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00" y="3249720"/>
            <a:ext cx="667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绘了秀美的山川景色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979560"/>
            <a:ext cx="287280" cy="43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9080" y="12654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俯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618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呈现出绚烂辉煌的气象，万物勃发的生命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5041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的活动，为画面增添了灵动感，传达了生命气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907920"/>
            <a:ext cx="431640" cy="2737080"/>
          </a:xfrm>
          <a:custGeom>
            <a:avLst/>
            <a:gdLst>
              <a:gd name="textAreaLeft" fmla="*/ 0 w 431640"/>
              <a:gd name="textAreaRight" fmla="*/ 155880 w 4316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2852640"/>
            <a:ext cx="215640" cy="1656000"/>
          </a:xfrm>
          <a:prstGeom prst="downArrow">
            <a:avLst>
              <a:gd name="adj1" fmla="val 50000"/>
              <a:gd name="adj2" fmla="val 191987"/>
            </a:avLst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4360" y="8233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作者描写景物有什么特点？这样写有什么好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277000"/>
            <a:ext cx="81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角度：由仰而俯；（高低，远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物形象：由显而微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物状态：由静而动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感官调动：视听结合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交代：由朝而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49480" y="54450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山川景物和谐、完整、统一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2420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抒情、议论，以感慨收束。表达了作者怎样的思想感情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96624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实是欲界之仙都。自康乐以来，未复有能与其奇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4338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达了作者沉醉山水的愉悦之情；与古今知音共赏美景的得意之感；与谢公比肩的自豪之感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00000" y="155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文章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382176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了作者沉醉山水的愉悦之情，酷爱自然归隐林泉的志趣，与古今知音共赏美景的得意之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50560" y="69156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文是在是一篇美文。试分析美在何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265480"/>
            <a:ext cx="78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意境美。风光绮丽，融入感情，形成优美的意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水相映之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彩配合之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晨昏变化之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静相衬之美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2817360"/>
            <a:ext cx="842472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结构美。全文分三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川之美，古来共谈”总领全文，以“美”点明全文中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间部分具体叙写山川之美。文中的写景部分，仰视再俯瞰，复平看，最后又分“晓”与“夕来写，次第井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以感叹总括前文，首尾呼应，议叙结合，使文章主体部分更为鲜明突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50920" y="69156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文是在是一篇美文。试分析美在何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0920" y="69156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文是在是一篇美文。试分析美在何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548080"/>
            <a:ext cx="770400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语言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言简意赅，多用对称四字句，配以长句收束；修饰词语使颜色、声音、动作的状态表露无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50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95280" y="1989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即书信，古人的书信又叫“尺牍”或曰“信札”，是一种应用性文体，多记事陈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33336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508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《答谢中书书》是陶弘景回复朋友谢中书的一封书信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169992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总领全文的一句话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640" y="2852280"/>
            <a:ext cx="612144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川之美，古来共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400536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全文围绕哪个字展开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78880" y="5040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95640" y="333360"/>
            <a:ext cx="432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合作探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1372320"/>
            <a:ext cx="8064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分析“晓雾将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Times New Roman"/>
              </a:rPr>
              <a:t>歇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猿鸟乱鸣；夕日欲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Times New Roman"/>
              </a:rPr>
              <a:t>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沉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Times New Roman"/>
              </a:rPr>
              <a:t>鳞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竞跃。”加点词语的表达作用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852640"/>
            <a:ext cx="777744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歇”“颓”拟人，赋予事物以人的感情和行为，有过程，激发人的想像，充满生命气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鳞”字是用借代，避俗，增加了语言表现力，文学色彩浓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620640"/>
            <a:ext cx="842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、最能体现作者思想感情的语句是什么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6200" y="1341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是欲界之仙都。自康乐以来，未复有能与其奇者。”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781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运用仰观俯察两种视角，写白云高山流水三重风物的对偶句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5960" y="436572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峰入云，清流见底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62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讲究色彩搭配，表现一年之美，呈现出一派绚烂辉煌的气象景象的对偶句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51680" y="24210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岸石壁，五色交辉。青林翠竹，四时俱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833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将听觉、视觉结合，由静入动，表现一日之美，传达了生命气息的对偶句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77960" y="522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晓雾将歇，猿鸟乱鸣；夕日欲颓，沉鳞竞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0235" descr=""/>
          <p:cNvPicPr/>
          <p:nvPr/>
        </p:nvPicPr>
        <p:blipFill>
          <a:blip r:embed="rId2"/>
          <a:srcRect l="33253" t="3323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335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ZRFJ0006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7775280" cy="4140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3220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11240" y="3046320"/>
            <a:ext cx="5429160" cy="360"/>
            <a:chOff x="1911240" y="3046320"/>
            <a:chExt cx="5429160" cy="360"/>
          </a:xfrm>
        </p:grpSpPr>
        <p:sp>
          <p:nvSpPr>
            <p:cNvPr id="210" name=""/>
            <p:cNvSpPr/>
            <p:nvPr/>
          </p:nvSpPr>
          <p:spPr>
            <a:xfrm>
              <a:off x="1911240" y="30463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11240" y="304632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2920" y="549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能力训练：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美丽的风景勾起了我们的暇思。让我们拿起笔，书写心中流淌而过的乐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14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05120" y="4876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0235" descr=""/>
          <p:cNvPicPr/>
          <p:nvPr/>
        </p:nvPicPr>
        <p:blipFill>
          <a:blip r:embed="rId3"/>
          <a:srcRect l="33253" t="3323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982880" y="2651040"/>
            <a:ext cx="5429160" cy="360"/>
            <a:chOff x="1982880" y="2651040"/>
            <a:chExt cx="5429160" cy="360"/>
          </a:xfrm>
        </p:grpSpPr>
        <p:sp>
          <p:nvSpPr>
            <p:cNvPr id="220" name=""/>
            <p:cNvSpPr/>
            <p:nvPr/>
          </p:nvSpPr>
          <p:spPr>
            <a:xfrm>
              <a:off x="1982880" y="265104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2880" y="265104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9280" y="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　 映入眼帘的是蓝天白云的画面，空气里只有快乐的气息，什么烦恼都随着微风飘走了。湖面像镜子一样平静，岸边的小船好像睡着了，一动也不动地躺着。整个天空都映在湖里了，蓝天碧水融合为一体。两岸连山围绕着湖，似乎为这里的宁静而感到喜悦。茂盛的小草依傍着山，虽然天空只有白云，可蓝天下还有美丽的景象陪伴着，才不至于感到寂寞。偶尔有几声鸟叫声，犹如为这宁静增添欢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ZRFJ0006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7993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1125360"/>
            <a:ext cx="763272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能力提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你敏感的心灵发现自然的生命美了吗？好吧，下载一幅你 喜欢的风景图片，用今天学习的景 物描写的技巧与方法，用优美的文字、心灵的感受描绘出大自然的鬼斧神工，表达自己与自然相融合的生命愉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2880" y="2651040"/>
            <a:ext cx="5429160" cy="360"/>
            <a:chOff x="1982880" y="2651040"/>
            <a:chExt cx="5429160" cy="360"/>
          </a:xfrm>
        </p:grpSpPr>
        <p:sp>
          <p:nvSpPr>
            <p:cNvPr id="226" name=""/>
            <p:cNvSpPr/>
            <p:nvPr/>
          </p:nvSpPr>
          <p:spPr>
            <a:xfrm>
              <a:off x="1982880" y="265104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2880" y="265104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40360" y="404640"/>
            <a:ext cx="453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陶弘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朝人，字通明，号华阳隐居。丹阳秣陵人，去官隐居茅山，人称“山中宰相”。有《陶隐居集》。本文是六朝山水小品名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270240" cy="4751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9640" y="551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与南朝吴均的《与朱元思书》可称双璧，同为六朝山水名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765000"/>
            <a:ext cx="849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陶弘景――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山中宰相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br>
              <a:rPr sz="2400"/>
            </a:b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――齐高帝曾经召他进宫陪伴太子读书。后来，陶弘景远离尘世，隐居曲山（今茅山）。他精通阴阳五行、山川地理、天文气象。梁武帝继位后，他“礼聘不出”。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隶书"/>
                <a:ea typeface="隶书"/>
              </a:rPr>
              <a:t>因此，每逢有凶吉、祭祀、征讨大事，朝廷都要派人进山向他请教，故称他为“山中宰相”。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陶一生好松。每当轻风吹拂松枝，发出“沙沙”的声响时，他就象听到仙乐一样如痴如狂。有时，他竟一人进山，专去听山野松涛之声，人又称之“仙人”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作品背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南北朝时，因政局动荡，矛盾尖锐，不少文人往往遁迹山林从自然美中寻求精神上的解脱。因而他们在书信中常常描山绘水。表明自己所好，并作为对友人的安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8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自《全上古三代秦汉三国六朝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全梁文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04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答谢中书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692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南朝    陶弘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1341360"/>
            <a:ext cx="34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75000" y="1341360"/>
            <a:ext cx="32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9177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2920" y="1917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251136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2920" y="2511360"/>
            <a:ext cx="36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14560" y="308772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2920" y="3087720"/>
            <a:ext cx="323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俱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366408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2920" y="36640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猿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鸣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85840" y="42940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夕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42940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沉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8880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界之仙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5445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康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602136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复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与其奇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268280"/>
            <a:ext cx="828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让我们伴随着音乐，通过朗读领略文章的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方法：看清字，读准音，口齿清楚，缓急有秩，轻重有度，感情充沛，一气呵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83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63376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40464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a181b"/>
                </a:solidFill>
                <a:latin typeface="楷体_GB2312"/>
                <a:ea typeface="楷体_GB2312"/>
              </a:rPr>
              <a:t>山川之美</a:t>
            </a:r>
            <a:r>
              <a:rPr b="1" lang="zh-CN" sz="6600" spc="-1" strike="noStrike">
                <a:solidFill>
                  <a:srgbClr val="9a181b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9a181b"/>
                </a:solidFill>
                <a:latin typeface="楷体_GB2312"/>
                <a:ea typeface="楷体_GB2312"/>
              </a:rPr>
              <a:t>古来共谈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404640"/>
            <a:ext cx="9144000" cy="6453360"/>
            <a:chOff x="0" y="404640"/>
            <a:chExt cx="9144000" cy="645336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822240"/>
              <a:ext cx="914400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5280" y="404640"/>
              <a:ext cx="8458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9a181b"/>
                  </a:solidFill>
                  <a:latin typeface="楷体_GB2312"/>
                  <a:ea typeface="楷体_GB2312"/>
                </a:rPr>
                <a:t>山川之美</a:t>
              </a:r>
              <a:r>
                <a:rPr b="1" lang="zh-CN" sz="6600" spc="-1" strike="noStrike">
                  <a:solidFill>
                    <a:srgbClr val="9a181b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6600" spc="-1" strike="noStrike">
                  <a:solidFill>
                    <a:srgbClr val="9a181b"/>
                  </a:solidFill>
                  <a:latin typeface="楷体_GB2312"/>
                  <a:ea typeface="楷体_GB2312"/>
                </a:rPr>
                <a:t>古来共谈。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53:04Z</dcterms:created>
  <dc:creator>shao</dc:creator>
  <dc:description/>
  <dc:language>en-US</dc:language>
  <cp:lastModifiedBy>微软用户</cp:lastModifiedBy>
  <dcterms:modified xsi:type="dcterms:W3CDTF">2007-12-14T03:48:41Z</dcterms:modified>
  <cp:revision>31</cp:revision>
  <dc:subject>课件</dc:subject>
  <dc:title>27答谢中书书</dc:title>
</cp:coreProperties>
</file>