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5DF-D31D-42A3-A57A-2D62FFC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008-0FD9-4C32-A822-F759C5D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AA9-B4D9-4A6D-A5CA-25F037D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54D-4EEB-4DD8-91AB-05183FE5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A49-041E-448E-8EF8-F99D0C4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038-DB8F-4058-8945-7EF23AE4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AE7-272C-453E-AB3D-2CBA430F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7EA-8138-4F22-A099-B35C7BA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A21-E641-404B-8CB2-DDB40F4A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59F-F504-4CCC-B3C0-BE00E67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713-3BBD-43B6-91AF-346D526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B53-1A54-4227-B145-2AA432A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B9CD-F42C-40D2-8A8C-B0E55F119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9120" y="1222200"/>
            <a:ext cx="11905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1125360"/>
            <a:ext cx="7056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诗四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3040200" y="5121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76280"/>
            <a:ext cx="784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(701—76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字摩诘，他的诗写得好，看他的诗，就像看画；他的画也画得好，欣赏他的画，就像读诗。所以称赞他的诗画是“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诗中有画，画中有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11280" y="1700280"/>
            <a:ext cx="67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单车欲问边，属国过居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征蓬出汉塞，归雁入胡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大漠孤烟直，长河落日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萧关逢候骑，都护在燕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8366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新魏"/>
              </a:rPr>
              <a:t>使至塞上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8360" y="23652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使至塞上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结构思路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8064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首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车欲问边，属国过居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997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单车欲问边”，轻车前往，向哪里去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属国过居延”，居延在今甘肃张掖县西北，远在西北边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新魏"/>
              </a:rPr>
              <a:t>写使者进入边塞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89308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Arial"/>
                <a:ea typeface="华文新魏"/>
              </a:rPr>
              <a:t>颔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蓬出汉塞，归雁入胡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征蓬出汉塞，归雁人胡天”，诗人以“蓬”、“雁”自比，说自己像随风而去的蓬草一样出临“汉塞”，像振翮北飞的“归雁”一样进入“胡天”。古诗中多用飞蓬比喻漂流在外的游子，这里却是比喻一个负有朝廷使命的大臣，正是暗写诗人内心的激愤和抑郁。与首句的“单车”相呼应。万里行程只用了十个字轻轻带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以“蓬” “雁”自比暗写内心郁愤</a:t>
            </a: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7650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红楼梦》第四十八回，对于“大漠孤烟直，长河落日圆”，香菱说：“这‘直’字似无理，‘圆’字似太俗。合上书一想，倒像是见了这景的。若说再找两个换这两个，竟再找不出两个字来。”你认为香菱对这两句诗的体味有没有道理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357336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道理。香菱虽没能说清楚这两个字到底好在哪里，但是凭直觉感到它们描写孤烟与落日非常形象，不可替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141300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大漠孤烟直，长河落日圆”被王国维赞叹为“千古壮观”的名句，谈谈你对此的认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58920" y="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Arial"/>
                <a:ea typeface="华文新魏"/>
              </a:rPr>
              <a:t>颈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882000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漠孤烟直，长河落日圆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抓住沙漠中的典型景物进行刻画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进入边塞后所看到的塞外奇特壮丽的风光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面开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意境雄浑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“圆”字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“直”字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仅准确地描绘沙漠的景象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且表现了作者的深切感受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叙事写景入画中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幽微难言内心情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cc0066"/>
                </a:solidFill>
                <a:latin typeface="华文新魏"/>
                <a:ea typeface="华文新魏"/>
              </a:rPr>
              <a:t>描绘沙漠中的典型景物“孤烟” “落日”</a:t>
            </a:r>
            <a:r>
              <a:rPr b="1" lang="zh-CN" sz="40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20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边疆沙漠，浩瀚无边，所以用了“大漠”的“大”字。边塞荒凉，没有什么奇观异景，烽火台燃起的那一股浓烟就显得格外醒目，因此称作“孤烟”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一个“孤”字写出了景物的单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紧接一个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“直”字，却又表现了它的劲拔、坚毅之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沙漠上没有山峦林木，那横贯其间的黄河，就非用一个“长”字不能表达诗人的感觉。落日，本来容易给人以感伤的印象，这里用一“圆”字，却给人以亲切温暖而又苍茫的感觉。一个“圆”字，一个“直”字，不仅准确地描绘了沙漠的景象，而且表现了作者的深切的感受。诗人把自己的孤寂情绪巧妙地溶化在广阔的自然景象的描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484360" y="1700280"/>
            <a:ext cx="43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归园田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(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其三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)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981000"/>
            <a:ext cx="124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渊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602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新魏"/>
              </a:rPr>
              <a:t>大漠孤烟直，长河落日圆”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这两句诗充分体现了诗中有画的特色，非常讲究景物的画面感。首先，它有画一样的构图，从天边的落日到空中的烽烟到地下的河流，从近处的烽烟到远处的夕阳到绵延无边的大漠，画面上的景物虽不多，但是空间阔大，层次很丰富。其次，它有画一样讲究的线条，一望无际的大漠上，纵的是烟，横的是河，圆的是落日，寥寥几笔，就用简约的线条勾勒出景物的基本形态，概括性极强，仿佛抽象派的作品。第三，这两句在色彩上也很丰富，广阔无垠的大漠黄沙漫漫，黄昏橘红色的夕阳收敛了光辉，静静地居于天际，辉映着波澜不惊的闪着白光的河水，沙漠上升起一缕白色的烽烟，直上高空，雄浑寥廓的边塞风光如在目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47640" y="476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Arial"/>
                <a:ea typeface="华文新魏"/>
              </a:rPr>
              <a:t>尾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16280"/>
            <a:ext cx="88376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萧关逢候骑，都护在燕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到边关看见骑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骑兵说将领还在前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写诗人到达边塞所见情景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05264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10000"/>
                </a:solidFill>
                <a:latin typeface="Arial"/>
                <a:ea typeface="华文新魏"/>
              </a:rPr>
              <a:t>思想内容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  <a:ea typeface="楷体_GB2312"/>
              </a:rPr>
              <a:t>《使至塞上》这首诗，通过作者叙述出使边塞的经历和沿途风光，抒发了作者内心的激愤和抑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3886200" cy="86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71640" y="1773360"/>
            <a:ext cx="456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莫笑农家腊酒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丰年留客足鸡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山重水复疑无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柳暗花明又一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箫鼓追随春社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衣冠简朴古风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从今若许闲乘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拄杖无时夜叩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1197000"/>
            <a:ext cx="5616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游山西村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"/>
          <p:cNvSpPr/>
          <p:nvPr/>
        </p:nvSpPr>
        <p:spPr>
          <a:xfrm>
            <a:off x="864360" y="4122720"/>
            <a:ext cx="21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作者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陆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16360" y="260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陆游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(11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210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字务观，号放翁，南宋爱国诗人，平生作诗近万首，是古代诗人中创作作品最多的，其作品多强烈抒发自己的政治抱负和炽热的爱国热情，同时鞭挞投降派，同情人民疾苦，思想性很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63640" y="1125360"/>
            <a:ext cx="58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题目为《游山西村》，八句却无一个“游”字，而处处切“游”，游兴十足，游意不尽，请结合诗句作一番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诗歌三四句，有人认为是回忆来村的经历，有人认为是入村后所见到的景致，你觉得哪种说法更切合语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诗人为什么结尾写道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今若许闲乘月，拄杖无时夜叩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？是什么使诗人如此留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836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诗流露了诗人什么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096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表现感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农家热情好客，淳厚质朴，诗人陶醉于在山野风光和农村 的人情里，表现了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田园生活的喜爱和恋恋不舍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981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佳句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060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山重水复疑无路，柳暗花明又一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852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既写出山西村山环水绕，花团锦簇，春光无限，另一方面它又富于哲理，表现了人生变化发展的某种规律性，令人回味无穷。现在多用来比喻人在遇到困境时会生出许多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476360" y="1052640"/>
            <a:ext cx="640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渡荆门送别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	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陶渊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少时颇有壮志，博学能文，任性不羁。当时社会动乱不安，他有志不得展。他做过小官，由于不满官场的丑恶，弃官回乡，这时他四十一岁，从此过着“躬耕自资”的隐居生活。忧愤、饥寒、劳累、疾病一起折磨着他，六十三岁去世。后称靖节先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7336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陶渊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诗文，内容多描写农村生活，表现了优美的自然风光，抒发他热爱田园生活、乐于和农民来往和不愿与统治者同流合污的高尚感情；但也包含了乐天知命、消极遁世的因素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zxx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35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白（７０１－７６２），字太白，号青莲居士。李白的诗歌现存九百九十多首，豪迈奔放，别具一格。像著名的组诗《古风》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批判朝政弊端，感慨有志之士不能展抱负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府《行路难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梁甫吟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将进酒》等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是抒发怀才不遇的悲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《秋登宣城谢朓北楼》、《望庐山瀑布》、《梦游天姥吟留别》等诗篇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以充满想象的神奇之笔描绘祖国的壮丽山河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尽管李白有的诗歌也隐含着人生如梦、纵酒狂欢的颓丧情绪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但不满于社会和政治的黑暗，追求心身自由和解放的昂扬向上的精神是他诗篇的主旋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      李白是中国文学史上最伟大的诗人之一，与杜甫并称“李杜”，对后代的诗歌创作产生过深远的影响</a:t>
            </a:r>
            <a:r>
              <a:rPr b="1" lang="zh-CN" sz="3200" spc="-1" strike="noStrike">
                <a:solidFill>
                  <a:srgbClr val="ccec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79640" y="692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66ff"/>
                </a:solidFill>
                <a:latin typeface="Arial"/>
                <a:ea typeface="隶书"/>
              </a:rPr>
              <a:t>渡荆门送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205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渡远荆门外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从楚国游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随平野尽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入大荒流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下飞天镜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生结海楼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仍怜故乡水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里送行舟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76240" y="549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介绍创作情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9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白青少年时期是在蜀中度过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蜀地当作自己的故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他有不少诗篇反映出对蜀中生活的怀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85264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次从三峡出蜀，面对江汉平原，眼界大开，心旷神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由得即景抒情，写下了这首广为传诵的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五言律诗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Arial"/>
                <a:ea typeface="华文中宋"/>
              </a:rPr>
              <a:t>首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华文细黑"/>
                <a:ea typeface="华文细黑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渡远荆门外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来从楚国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6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渡远：远渡。　　楚国：楚地。　　平野：平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　　大荒：广阔无际的原野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诗歌从乘舟远游写起，第一、二句点题：诗人远离四川，乘船沿江游览楚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叙送别缘起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中宋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颔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山随平野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江入大荒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060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野：平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大荒：广阔无际的原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绘山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860640"/>
            <a:ext cx="81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颈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下飞天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云生结海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写水中映月画于天边云霞图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间四句对仗，描写景物，描绘长江之水出山之后的壮阔气象：长江出山，水面宽广，景象雄奇，使人顿感前程开阔。清晨，玉兔西沉，有如天上飞下的一面明镜；朝云簇生，云层里出现海市蜃楼奇观。写景层次分明，且景中寓情，既反映出年轻的李白初离蜀地寻求理想的志向与热情，又充溢着诗人对故乡的深深依恋与挚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1253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990033"/>
                </a:solidFill>
                <a:latin typeface="黑体"/>
                <a:ea typeface="黑体"/>
              </a:rPr>
              <a:t>中间四句对偶本诗工稳，“平   野”对“大荒”，“天镜”对“海楼”，佳句佳对。赋予了江水以人的浓厚的感情，这水情意真挚地把诗人送到楚国。这真是诗意盎然，情景交融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尾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华文新魏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仍怜故乡水</a:t>
            </a: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万里送行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1773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抒深沉思乡之情</a:t>
            </a:r>
            <a:r>
              <a:rPr b="1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7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尾二句，诗人发出由衷的心声：这长江是故乡的水啊，所以它才不远万里把我送到江汉平原。诗人抒发了爱祖国、爱自然、爱故乡的深挚的感情。诗中写的长江之水，是来自故乡的水，它在蜀楚交界的荆门山送别诗人，把李白送入了更加广阔的天地之中。在这一描写中，表现了初离蜀地的诗人对家乡的深深依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3640" y="2349360"/>
            <a:ext cx="56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这首诗歌最打动你的是什么？请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19280" y="15573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种豆／南山下，草盛／豆苗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晨兴／理荒秽，带月／荷锄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道狭／草木长，夕露／沾我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衣沾／不足惜，但使／愿无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26828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归园田居（其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5640" y="620640"/>
            <a:ext cx="633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黑体"/>
              </a:rPr>
              <a:t>思想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主要表现久居异地之人的思乡之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28464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写作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叙事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写景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抒情结合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浑然一体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1197000"/>
            <a:ext cx="7559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荒秽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(huì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杂草丛生。带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顶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月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荷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(hè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：扛着锄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道狭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xiá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：道窄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草木长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：草木丛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沾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zhān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：沾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但使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只要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愿无违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wéi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不违反自己的意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2871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《归园田居》表现了作者弃官回家后垦荒耕种的生活，充满了对田园生活细致传神的体味和对隐居生活的恬然自适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2133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诗歌的末句“但使愿无违”的“愿”具体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归园田居（其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少无适俗韵，性本爱丘山。误落尘网中，一去三十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羁鸟恋旧林，池鱼思故渊。开荒南野际，守拙归园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方宅十余亩，草屋八九间。榆柳荫后檐，桃李罗堂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暧暧远人村，依依墟里烟。狗吠深巷中，鸡鸣桑树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户庭无尘杂，虚室有余闲。久在樊笼里，复得返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765000"/>
            <a:ext cx="3527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饮　酒（其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结庐在人境，而无车马喧。问君何能尔，心远地自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采菊东篱下，悠然见南山。山气日夕佳，飞鸟相与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中有真意，欲辨已忘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627280" y="2133720"/>
            <a:ext cx="4249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使至塞上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4" name=""/>
          <p:cNvSpPr/>
          <p:nvPr/>
        </p:nvSpPr>
        <p:spPr>
          <a:xfrm>
            <a:off x="760320" y="704520"/>
            <a:ext cx="11858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作者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0:24:52Z</dcterms:created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01-10T00:05:03Z</dcterms:modified>
  <cp:revision>0</cp:revision>
  <dc:subject/>
  <dc:title>语文备课大师 www.xiexingcun.com【全免费】</dc:title>
</cp:coreProperties>
</file>