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projcto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0BB-0092-405F-9F3F-69D005AC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BD26-79A9-428F-8114-25914508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E69A-A64B-4D24-B712-99F8FE15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9ABE-B089-440C-B548-53B7A9BA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5CD9-CC71-47F0-B791-E3DD3541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926-F005-44D6-A4CC-B3C317C2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E55-3629-4192-9E98-16131587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3712-257E-4EEE-9B8D-1C465AE5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DBE8-95EC-4DE9-943E-71AFBE38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29E0-BDC4-4EFE-9636-3174E2D8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3E79-8C8E-447A-8DAB-67DA6B13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306-527C-463E-B074-BF28D248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C4B2-2A25-4733-A8BE-64975C263C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60600" y="1962000"/>
            <a:ext cx="24544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Times New Roman"/>
                <a:ea typeface="黑体"/>
              </a:rPr>
              <a:t>繁    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巴  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60600" y="1962000"/>
            <a:ext cx="24544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Times New Roman"/>
                <a:ea typeface="黑体"/>
              </a:rPr>
              <a:t>繁    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巴  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1125360"/>
            <a:ext cx="87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课前学习任务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．解决字词障碍，了解作者，朗读课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．找出作者看繁星的时间、地点和情景，体会作者的感受和蕴含的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．找出文中运用比喻、拟人、排比等修辞手法的句子，体会这些句子的精妙之处，并说说其表达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．谈谈自己有过的看繁星的经历或者说说你对星星、星空了解多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04920"/>
            <a:ext cx="85150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者简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巴金，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现代著名作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原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李尧棠，字芾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巴金”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他的笔名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国后曾担任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国文联副主席，中国作家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副主席、主席，作协上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会主席，上海文联主席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《收获》主编。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主要作品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长篇小说《爱情三部曲》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华文楷体"/>
                <a:ea typeface="华文楷体"/>
              </a:rPr>
              <a:t>《雾》《雨》《电》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《激流三部曲》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华文楷体"/>
                <a:ea typeface="华文楷体"/>
              </a:rPr>
              <a:t>《家》《春》《秋》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中篇小说，《憩园》《寒夜》；散文、小说、特写集《新声集》、《赞歌集》，还有不少短篇小说、童话、杂文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48080" y="-533520"/>
            <a:ext cx="46054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90560" y="4762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你会读吗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92360" y="2276640"/>
            <a:ext cx="6767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纳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凉（    ）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模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糊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半明半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昧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霎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摇摇欲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坠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3640" y="2276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  <a:ea typeface="幼圆"/>
              </a:rPr>
              <a:t>n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54560" y="228276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  <a:ea typeface="幼圆"/>
              </a:rPr>
              <a:t>m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314172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  <a:ea typeface="幼圆"/>
              </a:rPr>
              <a:t>mè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32720" y="3068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  <a:ea typeface="幼圆"/>
              </a:rPr>
              <a:t>sh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51280" y="4005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  <a:ea typeface="幼圆"/>
              </a:rPr>
              <a:t>zhu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260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课前学习任务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83664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．找出作者看繁星的时间、地点和情景，体会作者的感受和蕴含的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4360" y="1916280"/>
          <a:ext cx="8223120" cy="4941720"/>
        </p:xfrm>
        <a:graphic>
          <a:graphicData uri="http://schemas.openxmlformats.org/drawingml/2006/table">
            <a:tbl>
              <a:tblPr/>
              <a:tblGrid>
                <a:gridCol w="914400"/>
                <a:gridCol w="1188720"/>
                <a:gridCol w="1224000"/>
                <a:gridCol w="1943280"/>
                <a:gridCol w="295272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 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地    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感     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蕴含的感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一              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三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84360" y="2060640"/>
            <a:ext cx="9144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242100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76360" y="3357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从前七八月的夜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472428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年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5734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    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3213000"/>
            <a:ext cx="1447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家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庭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4437000"/>
            <a:ext cx="1447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南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住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16360" y="5805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海  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27640" y="321300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达对星天的依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458136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达与星星的伙伴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24360" y="5877000"/>
            <a:ext cx="5105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达与星星的知心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3213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甜蜜、温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11640" y="4653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亲密、投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40360" y="587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惬意、信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0800" y="1916280"/>
            <a:ext cx="7902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类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前学习任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找出文中运用比喻、拟人、排比等修辞手法的句子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会这些句子的精妙之处，并说说其表达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1628640"/>
            <a:ext cx="828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渐渐地我的眼睛模糊了，我好象看见无数的萤火虫在我的周围飞舞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2421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句把“无数星星”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（本体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作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数的萤火虫在我的周围飞舞”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喻体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28464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生动形象地写出了眼睛模糊时看见无数星星摇摇欲坠的情态，富有情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07664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望着那许多认识的星，我仿佛看见它们在对我霎眼，我仿佛听见它们在小声说话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494172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赋予星星以人的动作（说话）、 神态（霎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2060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4508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拟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537372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生动形象地写出了模糊的眼中群星闪烁的景象，使人如临其境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闻其声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产生遐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26920" y="47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课前学习任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找出文中运用比喻、拟人、排比等修辞手法的句子，体会这些句子的精妙之处，并说说其表达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3716280"/>
            <a:ext cx="7704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强调海上的夜，充分渲染了海上的夜的柔美、静谧和奇妙，使读者受到强烈的感染。增强语言的气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2421000"/>
            <a:ext cx="82436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海上的夜是柔和的，是静寂的，是梦幻的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00720" y="3141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排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3640" y="981000"/>
            <a:ext cx="7272360" cy="30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课前学习任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请谈谈自己有过的看繁星的经历或者说说你对星星、星空了解多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10920" y="76500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领会一些词语在语言环境中的意义和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星光在我们的眼里虽然微小，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·····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光明无处不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为什么星光虽小，光明却无处不在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我觉得自己是一个小孩子，现在睡在母亲的怀里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为什么要用“觉得”两个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看，那个巨人还在跑呢！ “跑”有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备课大师网</dc:creator>
  <dc:description/>
  <dc:language>en-US</dc:language>
  <cp:lastModifiedBy>微软用户</cp:lastModifiedBy>
  <dcterms:modified xsi:type="dcterms:W3CDTF">2013-10-19T00:54:29Z</dcterms:modified>
  <cp:revision>0</cp:revision>
  <dc:subject/>
  <dc:title>备课大师网</dc:title>
</cp:coreProperties>
</file>