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click.wav" ContentType="audio/x-wav"/>
  <Override PartName="/ppt/media/image7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.png" ContentType="image/png"/>
  <Override PartName="/ppt/media/image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61F8-78B8-4E4D-AC45-0D935AAB2E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127-D923-40BE-BE50-9A5905D4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5FC-0497-440B-94D5-61D42A98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691-A395-42B0-836E-36E5DDA7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B58-84F4-4356-92FA-E0BB1ED1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0EFC-4839-4A72-BCC6-F24829FC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DBC-37D9-4FB9-AE76-DF1A7450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5DD-AE39-4103-8B6B-6C3610EB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6DA-1782-493F-BF2B-5289F04F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941-BB48-40BE-B8B4-18345B03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04D-7D7C-4DDA-8219-417B25F8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152-628E-4FA2-8BE6-B96F3AAF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F60-360E-4F06-B804-8D3E263C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5828-1A2A-4D44-957C-C2C69E07DA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63640" y="3933720"/>
            <a:ext cx="73803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一年中除了秋季还有哪几个季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20600" y="1268280"/>
            <a:ext cx="23752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现在是什么季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781360"/>
            <a:ext cx="3746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从哪些地方能看出是秋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094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3" name="chimes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02760" y="2492280"/>
            <a:ext cx="4295520" cy="19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草芽为什么说他就是春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你还从哪些地方知道春天来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32000" y="2205000"/>
            <a:ext cx="4572000" cy="283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荷叶圆圆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他对青蛙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我是夏天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16640" y="601560"/>
            <a:ext cx="866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读一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0400" y="5445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思考：这一句写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85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297000"/>
            <a:ext cx="8748720" cy="65610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949560" y="692280"/>
            <a:ext cx="2590920" cy="1224000"/>
            <a:chOff x="3949560" y="692280"/>
            <a:chExt cx="2590920" cy="1224000"/>
          </a:xfrm>
        </p:grpSpPr>
        <p:sp>
          <p:nvSpPr>
            <p:cNvPr id="97" name=""/>
            <p:cNvSpPr/>
            <p:nvPr/>
          </p:nvSpPr>
          <p:spPr>
            <a:xfrm>
              <a:off x="3949560" y="692280"/>
              <a:ext cx="2590920" cy="1224000"/>
            </a:xfrm>
            <a:prstGeom prst="cloudCallout">
              <a:avLst>
                <a:gd name="adj1" fmla="val -82412"/>
                <a:gd name="adj2" fmla="val 7464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47360" y="90792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6561f"/>
                  </a:solidFill>
                  <a:latin typeface="Arial"/>
                  <a:ea typeface="楷体_GB2312"/>
                </a:rPr>
                <a:t>我是夏天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1960" y="278136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荷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3" name="chimes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297000"/>
            <a:ext cx="8748720" cy="6561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51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3" name="chimes.wav"/>
      </p:stSnd>
    </p:sndAc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30520" y="2133720"/>
            <a:ext cx="4295520" cy="19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荷叶为什么说他就是夏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你还从哪些地方知道夏天来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32000" y="2205000"/>
            <a:ext cx="4572000" cy="283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谷穗弯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他鞠着躬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我是秋天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5600" y="620640"/>
            <a:ext cx="866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读一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0400" y="530064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思考：这一句写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00"/>
                            </p:stCondLst>
                            <p:childTnLst>
                              <p:par>
                                <p:cTn id="2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5280" y="295200"/>
            <a:ext cx="8748720" cy="65484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3851280" y="620640"/>
            <a:ext cx="2590920" cy="1224000"/>
            <a:chOff x="3851280" y="620640"/>
            <a:chExt cx="2590920" cy="1224000"/>
          </a:xfrm>
        </p:grpSpPr>
        <p:sp>
          <p:nvSpPr>
            <p:cNvPr id="113" name=""/>
            <p:cNvSpPr/>
            <p:nvPr/>
          </p:nvSpPr>
          <p:spPr>
            <a:xfrm>
              <a:off x="3851280" y="620640"/>
              <a:ext cx="2590920" cy="1224000"/>
            </a:xfrm>
            <a:prstGeom prst="cloudCallout">
              <a:avLst>
                <a:gd name="adj1" fmla="val -77268"/>
                <a:gd name="adj2" fmla="val 8307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49080" y="83664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6561f"/>
                  </a:solidFill>
                  <a:latin typeface="Arial"/>
                  <a:ea typeface="楷体_GB2312"/>
                </a:rPr>
                <a:t>我是秋天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1040" y="24210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谷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3" name="chimes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820000" cy="6615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26920" y="2204640"/>
            <a:ext cx="4321080" cy="1973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四季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512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54936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人教新课标 一年级 语文 上册 第四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568440"/>
            <a:ext cx="8964720" cy="6289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  <p:sndAc>
      <p:stSnd>
        <p:snd r:embed="rId3" name="chimes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02760" y="2492280"/>
            <a:ext cx="4295520" cy="19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谷穗为什么说他就是秋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你还从哪些地方知道秋天来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32000" y="2205000"/>
            <a:ext cx="4572000" cy="283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雪人大肚子一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他顽皮地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我就是冬天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16640" y="601560"/>
            <a:ext cx="866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读一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9760" y="5877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思考：这一句写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8360" y="351000"/>
            <a:ext cx="8675640" cy="6507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851280" y="620640"/>
            <a:ext cx="3025800" cy="1224000"/>
            <a:chOff x="3851280" y="620640"/>
            <a:chExt cx="3025800" cy="1224000"/>
          </a:xfrm>
        </p:grpSpPr>
        <p:sp>
          <p:nvSpPr>
            <p:cNvPr id="130" name=""/>
            <p:cNvSpPr/>
            <p:nvPr/>
          </p:nvSpPr>
          <p:spPr>
            <a:xfrm>
              <a:off x="3851280" y="620640"/>
              <a:ext cx="3025800" cy="1224000"/>
            </a:xfrm>
            <a:prstGeom prst="cloudCallout">
              <a:avLst>
                <a:gd name="adj1" fmla="val -33055"/>
                <a:gd name="adj2" fmla="val 11887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78400" y="83664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6561f"/>
                  </a:solidFill>
                  <a:latin typeface="Arial"/>
                  <a:ea typeface="楷体_GB2312"/>
                </a:rPr>
                <a:t>我就是冬天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893040" y="42210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雪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3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297000"/>
            <a:ext cx="8748720" cy="6561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himes.wav"/>
      </p:stSnd>
    </p:sndAc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5280" y="365040"/>
            <a:ext cx="8748720" cy="6492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02760" y="2492280"/>
            <a:ext cx="4295520" cy="19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雪人为什么说他就是冬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你还从哪些地方知道冬天来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273560" y="620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</a:rPr>
              <a:t>会写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11280" y="2924280"/>
            <a:ext cx="4897440" cy="1260360"/>
            <a:chOff x="2411280" y="2924280"/>
            <a:chExt cx="4897440" cy="1260360"/>
          </a:xfrm>
        </p:grpSpPr>
        <p:grpSp>
          <p:nvGrpSpPr>
            <p:cNvPr id="141" name=""/>
            <p:cNvGrpSpPr/>
            <p:nvPr/>
          </p:nvGrpSpPr>
          <p:grpSpPr>
            <a:xfrm>
              <a:off x="3637080" y="2960640"/>
              <a:ext cx="1224000" cy="1224000"/>
              <a:chOff x="3637080" y="2960640"/>
              <a:chExt cx="1224000" cy="1224000"/>
            </a:xfrm>
          </p:grpSpPr>
          <p:sp>
            <p:nvSpPr>
              <p:cNvPr id="142" name=""/>
              <p:cNvSpPr/>
              <p:nvPr/>
            </p:nvSpPr>
            <p:spPr>
              <a:xfrm>
                <a:off x="3637080" y="296064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637080" y="357264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49440" y="2990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860720" y="2960640"/>
              <a:ext cx="1224000" cy="1224000"/>
              <a:chOff x="4860720" y="2960640"/>
              <a:chExt cx="1224000" cy="1224000"/>
            </a:xfrm>
          </p:grpSpPr>
          <p:sp>
            <p:nvSpPr>
              <p:cNvPr id="146" name=""/>
              <p:cNvSpPr/>
              <p:nvPr/>
            </p:nvSpPr>
            <p:spPr>
              <a:xfrm>
                <a:off x="4861080" y="2960640"/>
                <a:ext cx="122364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4860720" y="3572640"/>
                <a:ext cx="12236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73080" y="2990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084720" y="2960640"/>
              <a:ext cx="1224000" cy="1224000"/>
              <a:chOff x="6084720" y="2960640"/>
              <a:chExt cx="1224000" cy="1224000"/>
            </a:xfrm>
          </p:grpSpPr>
          <p:sp>
            <p:nvSpPr>
              <p:cNvPr id="150" name=""/>
              <p:cNvSpPr/>
              <p:nvPr/>
            </p:nvSpPr>
            <p:spPr>
              <a:xfrm>
                <a:off x="6084720" y="296064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6084720" y="357264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97080" y="2990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411280" y="2960640"/>
              <a:ext cx="1224000" cy="1224000"/>
              <a:chOff x="2411280" y="2960640"/>
              <a:chExt cx="1224000" cy="1224000"/>
            </a:xfrm>
          </p:grpSpPr>
          <p:sp>
            <p:nvSpPr>
              <p:cNvPr id="154" name=""/>
              <p:cNvSpPr/>
              <p:nvPr/>
            </p:nvSpPr>
            <p:spPr>
              <a:xfrm>
                <a:off x="2411280" y="296064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411280" y="357264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023640" y="2990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484360" y="2924280"/>
              <a:ext cx="48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七儿九天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736360" y="2924280"/>
            <a:ext cx="37468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你最喜欢哪个季节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把你最喜欢的季节画一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75920" y="1341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知识拓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094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xit" presetID="3" presetSubtype="10">
                                  <p:stCondLst>
                                    <p:cond delay="32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2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9">
                                  <p:stCondLst>
                                    <p:cond delay="16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4" presetSubtype="32">
                                  <p:stCondLst>
                                    <p:cond delay="600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3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42920" y="1706400"/>
            <a:ext cx="34578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草芽尖尖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他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对</a:t>
            </a:r>
            <a:r>
              <a:rPr b="1" lang="zh-CN" sz="36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小鸟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说</a:t>
            </a:r>
            <a:r>
              <a:rPr b="1" lang="zh-CN" sz="36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</a:t>
            </a:r>
            <a:r>
              <a:rPr b="1" lang="zh-CN" sz="36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春天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荷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叶圆</a:t>
            </a:r>
            <a:r>
              <a:rPr b="1" lang="zh-CN" sz="36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圆</a:t>
            </a:r>
            <a:r>
              <a:rPr b="1" lang="zh-CN" sz="36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他对青蛙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我是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夏</a:t>
            </a:r>
            <a:r>
              <a:rPr b="1" lang="zh-CN" sz="36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天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6200" y="1706400"/>
            <a:ext cx="248472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谷穗弯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他鞠着躬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我是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秋</a:t>
            </a: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天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雪</a:t>
            </a: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人</a:t>
            </a:r>
            <a:r>
              <a:rPr b="1" lang="zh-CN" sz="36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大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肚</a:t>
            </a:r>
            <a:r>
              <a:rPr b="1" lang="zh-CN" sz="36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子</a:t>
            </a: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一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他顽皮地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</a:t>
            </a: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是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冬</a:t>
            </a: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天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08240" y="5904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楷体_GB2312"/>
                <a:ea typeface="楷体_GB2312"/>
              </a:rPr>
              <a:t>四  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48440" y="2421000"/>
            <a:ext cx="7861680" cy="28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duì   shu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</a:rPr>
              <a:t>ō  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 shì      yè    yu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</a:rPr>
              <a:t>á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n   xi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</a:rPr>
              <a:t>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对   说   是   叶   圆   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qi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</a:rPr>
              <a:t>ū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     xu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</a:rPr>
              <a:t>ě   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 dù      jiù   d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</a:rPr>
              <a:t>ō</a:t>
            </a:r>
            <a:r>
              <a:rPr b="1" lang="zh-CN" sz="3200" spc="-1" strike="noStrike">
                <a:solidFill>
                  <a:srgbClr val="06561f"/>
                </a:solidFill>
                <a:latin typeface="Arial"/>
                <a:ea typeface="楷体_GB2312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秋   雪   肚   就   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55880" y="1052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</a:rPr>
              <a:t>会认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35280" y="2852640"/>
            <a:ext cx="69134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61f"/>
                </a:solidFill>
                <a:latin typeface="Times New Roman"/>
                <a:ea typeface="楷体_GB2312"/>
              </a:rPr>
              <a:t>不对        就是         荷叶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35280" y="3892680"/>
            <a:ext cx="68245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61f"/>
                </a:solidFill>
                <a:latin typeface="Times New Roman"/>
                <a:ea typeface="楷体_GB2312"/>
              </a:rPr>
              <a:t>圆圆       夏天          秋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70200" y="4971960"/>
            <a:ext cx="6588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6561f"/>
                </a:solidFill>
                <a:latin typeface="Times New Roman"/>
                <a:ea typeface="楷体_GB2312"/>
              </a:rPr>
              <a:t>雪人        肚子         冬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9240" y="588960"/>
            <a:ext cx="740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32000" y="2205000"/>
            <a:ext cx="4572000" cy="283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草芽尖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他对小鸟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6561f"/>
                </a:solidFill>
                <a:latin typeface="Arial"/>
                <a:ea typeface="楷体_GB2312"/>
              </a:rPr>
              <a:t>我是春天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36640" y="78408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0400" y="5445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思考：这一句写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243000"/>
            <a:ext cx="8820000" cy="66150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1042920" y="2492280"/>
            <a:ext cx="2590920" cy="1224000"/>
            <a:chOff x="1042920" y="2492280"/>
            <a:chExt cx="2590920" cy="1224000"/>
          </a:xfrm>
        </p:grpSpPr>
        <p:sp>
          <p:nvSpPr>
            <p:cNvPr id="81" name=""/>
            <p:cNvSpPr/>
            <p:nvPr/>
          </p:nvSpPr>
          <p:spPr>
            <a:xfrm>
              <a:off x="1042920" y="2492280"/>
              <a:ext cx="2590920" cy="1224000"/>
            </a:xfrm>
            <a:prstGeom prst="cloudCallout">
              <a:avLst>
                <a:gd name="adj1" fmla="val 6004"/>
                <a:gd name="adj2" fmla="val 11134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40720" y="270828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6561f"/>
                  </a:solidFill>
                  <a:latin typeface="Arial"/>
                  <a:ea typeface="楷体_GB2312"/>
                </a:rPr>
                <a:t>我是春天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027600" y="501336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草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3" name="chimes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297000"/>
            <a:ext cx="8748720" cy="6561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  <p:sndAc>
      <p:stSnd>
        <p:snd r:embed="rId3" name="chimes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语文大师 xiexingcun.com</dc:creator>
  <dc:description>语文大师 xiexingcun.com</dc:description>
  <dc:language>en-US</dc:language>
  <cp:lastModifiedBy>liuwl</cp:lastModifiedBy>
  <dcterms:modified xsi:type="dcterms:W3CDTF">2014-08-01T20:08:10Z</dcterms:modified>
  <cp:revision>0</cp:revision>
  <dc:subject/>
  <dc:title>语文大师 xiexingcun.com</dc:title>
</cp:coreProperties>
</file>