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750-9655-4B2B-9365-ECDCA683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94E-F29E-4C17-89C0-F2EB675D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18B-94A9-47AC-93B3-2F5B694E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10A-8056-426D-A397-0841703D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0179-ED2A-4B50-90D7-35AAB9E2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6242-A0C1-4DDE-A89D-E0A154D9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4B23-FD51-4D8A-9086-B0780E40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47A8-BE42-488E-A093-78BF7F02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5DF3-3CF2-4069-B0EB-39D0D27B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20A2-4272-402E-A3B4-D9A623BA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4135-E2D3-403E-AFFF-5747730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492-DAB4-4941-9529-5AF0FA7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707C-8F7C-4D13-9EAD-D707A2E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2426-B5B6-462F-9DE8-62AE33F2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372B-51A8-43D7-9C1C-FFB01C10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7EA8-4A62-446B-8021-91BFC946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19A8-DEAA-4DD4-98B4-A4CA0AC5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AB0-0580-4B99-98D2-0CA93C3A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AB2-F7AE-4DA8-8B3D-1B99EE22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8C8-DDEE-4F14-8654-08C34CEA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55D-079F-4EAB-A48D-AD8D705D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847-6A64-413B-9E67-A3D9FD21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65F-4CD1-4846-98B5-08F8BB6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ED4-15FD-4701-8D04-489CECB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DA5C-2A5A-4558-8CD4-001765A32E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40EB-504C-46A9-B00B-ED123397A3C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9" name="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jcpdag.gov.cn/YongYuan/20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jcpdag.gov.cn/YongYuan/20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inqiao.gov.cn/publish/news/2004-5-20328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有这样一个人……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他一心一意的想着人民。有一次，他冒雨去沈阳，路上，他看见一位妇女背着一个小孩，手里还领着一个小女孩正在艰难地向车站走去。他脱下身上的雨衣披在大嫂身上，又抱起小女孩陪他们一起来到车站。上车后，他见小女孩冷得直发抖，就脱下自己的贴身衣服给小女孩穿上，又拿出自己带的馒头给她们吃。火车到了沈阳，天还在下雨，他又一直把她们送到家里。那位妇女感激地说：“同志，我可怎么感谢你呀！”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357200" y="404280"/>
            <a:ext cx="778680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小溪说：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昨天，他曾路过这里，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抱着迷路的孩子，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冒着蒙蒙的细雨。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瞧，那泥泞路上的脚窝，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就是他留下的足迹。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学习指导：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１、小组成员各读一遍三、四小节。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２、组内说说在哪找到了雷锋叔叔，雷锋叔叔正在干什么？你想对雷锋叔叔说什么？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３、小组合作感情朗读三、四小节。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４、展示小组读朗成果。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  <a:ea typeface="楷体_GB2312"/>
              </a:rPr>
              <a:t>哪里需要爱心，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  <a:ea typeface="楷体_GB2312"/>
              </a:rPr>
              <a:t>雷锋叔叔就出现在哪里。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637000"/>
            <a:ext cx="2722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338560" y="1916280"/>
            <a:ext cx="4320720" cy="2160360"/>
            <a:chOff x="2338560" y="1916280"/>
            <a:chExt cx="4320720" cy="2160360"/>
          </a:xfrm>
        </p:grpSpPr>
        <p:grpSp>
          <p:nvGrpSpPr>
            <p:cNvPr id="163" name=""/>
            <p:cNvGrpSpPr/>
            <p:nvPr/>
          </p:nvGrpSpPr>
          <p:grpSpPr>
            <a:xfrm>
              <a:off x="2338560" y="1916280"/>
              <a:ext cx="2160360" cy="2160360"/>
              <a:chOff x="2338560" y="1916280"/>
              <a:chExt cx="2160360" cy="2160360"/>
            </a:xfrm>
          </p:grpSpPr>
          <p:sp>
            <p:nvSpPr>
              <p:cNvPr id="164" name=""/>
              <p:cNvSpPr/>
              <p:nvPr/>
            </p:nvSpPr>
            <p:spPr>
              <a:xfrm>
                <a:off x="2860560" y="198900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雷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2338560" y="1916280"/>
                <a:ext cx="2160360" cy="2160360"/>
                <a:chOff x="2338560" y="1916280"/>
                <a:chExt cx="2160360" cy="2160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38560" y="191628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419640" y="191628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11640" y="299736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4498920" y="1916280"/>
              <a:ext cx="2160360" cy="2160360"/>
              <a:chOff x="4498920" y="1916280"/>
              <a:chExt cx="2160360" cy="2160360"/>
            </a:xfrm>
          </p:grpSpPr>
          <p:sp>
            <p:nvSpPr>
              <p:cNvPr id="170" name=""/>
              <p:cNvSpPr/>
              <p:nvPr/>
            </p:nvSpPr>
            <p:spPr>
              <a:xfrm>
                <a:off x="5020920" y="198900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需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4498920" y="1916280"/>
                <a:ext cx="2160360" cy="2160360"/>
                <a:chOff x="4498920" y="1916280"/>
                <a:chExt cx="2160360" cy="21603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498920" y="191628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80000" y="191628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72000" y="299736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5" name=""/>
          <p:cNvGrpSpPr/>
          <p:nvPr/>
        </p:nvGrpSpPr>
        <p:grpSpPr>
          <a:xfrm>
            <a:off x="1258920" y="4076640"/>
            <a:ext cx="6481440" cy="2160360"/>
            <a:chOff x="1258920" y="4076640"/>
            <a:chExt cx="6481440" cy="2160360"/>
          </a:xfrm>
        </p:grpSpPr>
        <p:grpSp>
          <p:nvGrpSpPr>
            <p:cNvPr id="176" name=""/>
            <p:cNvGrpSpPr/>
            <p:nvPr/>
          </p:nvGrpSpPr>
          <p:grpSpPr>
            <a:xfrm>
              <a:off x="1258920" y="4076640"/>
              <a:ext cx="2160360" cy="2160360"/>
              <a:chOff x="1258920" y="4076640"/>
              <a:chExt cx="2160360" cy="2160360"/>
            </a:xfrm>
          </p:grpSpPr>
          <p:sp>
            <p:nvSpPr>
              <p:cNvPr id="177" name=""/>
              <p:cNvSpPr/>
              <p:nvPr/>
            </p:nvSpPr>
            <p:spPr>
              <a:xfrm>
                <a:off x="1780920" y="414936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迹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1258920" y="4076640"/>
                <a:ext cx="2160360" cy="2160360"/>
                <a:chOff x="1258920" y="4076640"/>
                <a:chExt cx="2160360" cy="21603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258920" y="407664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340000" y="407664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332000" y="515772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3419280" y="4076640"/>
              <a:ext cx="2160360" cy="2160360"/>
              <a:chOff x="3419280" y="4076640"/>
              <a:chExt cx="2160360" cy="2160360"/>
            </a:xfrm>
          </p:grpSpPr>
          <p:sp>
            <p:nvSpPr>
              <p:cNvPr id="183" name=""/>
              <p:cNvSpPr/>
              <p:nvPr/>
            </p:nvSpPr>
            <p:spPr>
              <a:xfrm>
                <a:off x="3941280" y="414936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迈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3419280" y="4076640"/>
                <a:ext cx="2160360" cy="2160360"/>
                <a:chOff x="3419280" y="4076640"/>
                <a:chExt cx="2160360" cy="21603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419280" y="407664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00360" y="407664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492360" y="515772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5580000" y="4076640"/>
              <a:ext cx="2160360" cy="2160360"/>
              <a:chOff x="5580000" y="4076640"/>
              <a:chExt cx="2160360" cy="2160360"/>
            </a:xfrm>
          </p:grpSpPr>
          <p:sp>
            <p:nvSpPr>
              <p:cNvPr id="189" name=""/>
              <p:cNvSpPr/>
              <p:nvPr/>
            </p:nvSpPr>
            <p:spPr>
              <a:xfrm>
                <a:off x="6102000" y="414936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迷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5580000" y="4076640"/>
                <a:ext cx="2160360" cy="2160360"/>
                <a:chOff x="5580000" y="4076640"/>
                <a:chExt cx="2160360" cy="21603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80000" y="407664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61080" y="407664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653080" y="515772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411280" y="1916280"/>
            <a:ext cx="4321080" cy="4320720"/>
            <a:chOff x="2411280" y="1916280"/>
            <a:chExt cx="4321080" cy="4320720"/>
          </a:xfrm>
        </p:grpSpPr>
        <p:grpSp>
          <p:nvGrpSpPr>
            <p:cNvPr id="195" name=""/>
            <p:cNvGrpSpPr/>
            <p:nvPr/>
          </p:nvGrpSpPr>
          <p:grpSpPr>
            <a:xfrm>
              <a:off x="4572000" y="4076640"/>
              <a:ext cx="2160360" cy="2160360"/>
              <a:chOff x="4572000" y="4076640"/>
              <a:chExt cx="2160360" cy="2160360"/>
            </a:xfrm>
          </p:grpSpPr>
          <p:sp>
            <p:nvSpPr>
              <p:cNvPr id="196" name=""/>
              <p:cNvSpPr/>
              <p:nvPr/>
            </p:nvSpPr>
            <p:spPr>
              <a:xfrm>
                <a:off x="5094000" y="414936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泞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4572000" y="4076640"/>
                <a:ext cx="2160360" cy="2160360"/>
                <a:chOff x="4572000" y="4076640"/>
                <a:chExt cx="2160360" cy="2160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72000" y="407664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653080" y="407664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45080" y="515772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572000" y="1917720"/>
              <a:ext cx="2160360" cy="2160360"/>
              <a:chOff x="4572000" y="1917720"/>
              <a:chExt cx="2160360" cy="216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094000" y="199044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洒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572000" y="1917720"/>
                <a:ext cx="2160360" cy="2160360"/>
                <a:chOff x="4572000" y="1917720"/>
                <a:chExt cx="2160360" cy="2160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572000" y="191772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53080" y="191772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645080" y="299880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2411280" y="4076640"/>
              <a:ext cx="2160360" cy="2160360"/>
              <a:chOff x="2411280" y="4076640"/>
              <a:chExt cx="2160360" cy="2160360"/>
            </a:xfrm>
          </p:grpSpPr>
          <p:sp>
            <p:nvSpPr>
              <p:cNvPr id="208" name=""/>
              <p:cNvSpPr/>
              <p:nvPr/>
            </p:nvSpPr>
            <p:spPr>
              <a:xfrm>
                <a:off x="2933280" y="414936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泥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411280" y="4076640"/>
                <a:ext cx="2160360" cy="2160360"/>
                <a:chOff x="2411280" y="4076640"/>
                <a:chExt cx="2160360" cy="2160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411280" y="407664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492360" y="407664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484360" y="515772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2411280" y="1916280"/>
              <a:ext cx="2160360" cy="2160360"/>
              <a:chOff x="2411280" y="1916280"/>
              <a:chExt cx="2160360" cy="2160360"/>
            </a:xfrm>
          </p:grpSpPr>
          <p:sp>
            <p:nvSpPr>
              <p:cNvPr id="214" name=""/>
              <p:cNvSpPr/>
              <p:nvPr/>
            </p:nvSpPr>
            <p:spPr>
              <a:xfrm>
                <a:off x="2933280" y="1989000"/>
                <a:ext cx="10951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滴</a:t>
                </a:r>
                <a:endParaRPr b="0" lang="en-US" sz="1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2411280" y="1916280"/>
                <a:ext cx="2160360" cy="2160360"/>
                <a:chOff x="2411280" y="1916280"/>
                <a:chExt cx="2160360" cy="2160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411280" y="1916280"/>
                  <a:ext cx="2160360" cy="216036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492360" y="1916280"/>
                  <a:ext cx="0" cy="208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84360" y="2997360"/>
                  <a:ext cx="2087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　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雷锋叔叔曾冒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着细雨，送迷路的孩子回家；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曾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踏着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荆棘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，背年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迈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的大娘行路。那泥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泞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路上的脚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窝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，还深深地留在我们的记忆里；那洒在花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瓣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上的汗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滴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，将永远闪烁着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雷锋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的光辉。我们将永远寻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觅雷锋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精神，因为我们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需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要它。</a:t>
            </a:r>
            <a:endParaRPr b="0" lang="en-US" sz="4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读读记记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67564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弯弯的（　）　长长的（　） 　</a:t>
            </a:r>
            <a:endParaRPr b="0" lang="en-US" sz="4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蒙蒙的（　）  温暖的（　）</a:t>
            </a:r>
            <a:endParaRPr b="0" lang="en-US" sz="4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楷体_GB2312"/>
              </a:rPr>
              <a:t>晶莹的（　）</a:t>
            </a:r>
            <a:endParaRPr b="0" lang="en-US" sz="48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64120" y="1628640"/>
            <a:ext cx="5182560" cy="2522880"/>
            <a:chOff x="3264120" y="1628640"/>
            <a:chExt cx="5182560" cy="2522880"/>
          </a:xfrm>
        </p:grpSpPr>
        <p:sp>
          <p:nvSpPr>
            <p:cNvPr id="223" name=""/>
            <p:cNvSpPr/>
            <p:nvPr/>
          </p:nvSpPr>
          <p:spPr>
            <a:xfrm>
              <a:off x="3264120" y="16477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小路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64120" y="2492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细雨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56480" y="2492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春风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13560" y="1628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小溪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86080" y="34480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露珠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名句积累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雷锋出差一千里，好事做了一火车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11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一个人做一件好事并不难，难的是一辈子做好事，不做坏事。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0" name=""/>
          <p:cNvSpPr/>
          <p:nvPr/>
        </p:nvSpPr>
        <p:spPr>
          <a:xfrm flipV="1" rot="10929600">
            <a:off x="8581680" y="209088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华文行楷"/>
              </a:rPr>
              <a:t>人教版小语二年级下册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华文行楷"/>
              </a:rPr>
              <a:t>制作：李红枫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85920" cy="2805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763640" y="24206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宋体"/>
                <a:ea typeface="楷体_GB2312"/>
              </a:rPr>
              <a:t>叔叔，你在哪里</a:t>
            </a:r>
            <a:endParaRPr b="0" lang="en-US" sz="5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小小资料袋：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雷锋叔叔是一名解放军战士，只活了２２岁。他为人民做了许多好事。当时流传着这样一句话：“雷锋出差一千里，好事做了一火车。”</a:t>
            </a: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100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雷锋叔叔牺牲以后，好几位国家领导人为他题词。毛泽东主席的题词是：“向雷锋同志学习。”</a:t>
            </a: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549360"/>
            <a:ext cx="3933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33360"/>
            <a:ext cx="3967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  <a:ea typeface="楷体_GB2312"/>
              </a:rPr>
              <a:t>锋 叔</a:t>
            </a:r>
            <a:r>
              <a:rPr b="0" lang="zh-CN" sz="8800" spc="-1" strike="noStrike">
                <a:solidFill>
                  <a:srgbClr val="ffffff"/>
                </a:solidFill>
                <a:latin typeface="宋体"/>
                <a:ea typeface="楷体_GB2312"/>
              </a:rPr>
              <a:t>曾 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  <a:ea typeface="楷体_GB2312"/>
              </a:rPr>
              <a:t>泞 </a:t>
            </a:r>
            <a:r>
              <a:rPr b="0" lang="zh-CN" sz="8800" spc="-1" strike="noStrike">
                <a:solidFill>
                  <a:srgbClr val="ffffff"/>
                </a:solidFill>
                <a:latin typeface="宋体"/>
                <a:ea typeface="楷体_GB2312"/>
              </a:rPr>
              <a:t>窝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  <a:ea typeface="楷体_GB2312"/>
              </a:rPr>
              <a:t>迈</a:t>
            </a:r>
            <a:endParaRPr b="0" lang="en-US" sz="88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宋体"/>
                <a:ea typeface="楷体_GB2312"/>
              </a:rPr>
              <a:t>荆 棘瓣 莹 觅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  <a:ea typeface="楷体_GB2312"/>
              </a:rPr>
              <a:t>需</a:t>
            </a:r>
            <a:endParaRPr b="0" lang="en-US" sz="88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4000" y="765000"/>
            <a:ext cx="8424720" cy="216000"/>
            <a:chOff x="324000" y="765000"/>
            <a:chExt cx="8424720" cy="216000"/>
          </a:xfrm>
        </p:grpSpPr>
        <p:sp>
          <p:nvSpPr>
            <p:cNvPr id="119" name=""/>
            <p:cNvSpPr/>
            <p:nvPr/>
          </p:nvSpPr>
          <p:spPr>
            <a:xfrm>
              <a:off x="324000" y="765000"/>
              <a:ext cx="842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000" y="981000"/>
              <a:ext cx="842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95280" y="3860640"/>
            <a:ext cx="8424720" cy="216000"/>
            <a:chOff x="395280" y="3860640"/>
            <a:chExt cx="8424720" cy="216000"/>
          </a:xfrm>
        </p:grpSpPr>
        <p:sp>
          <p:nvSpPr>
            <p:cNvPr id="122" name=""/>
            <p:cNvSpPr/>
            <p:nvPr/>
          </p:nvSpPr>
          <p:spPr>
            <a:xfrm>
              <a:off x="395280" y="3860640"/>
              <a:ext cx="842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280" y="4076640"/>
              <a:ext cx="842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12480" y="4842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fē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1400" y="422280"/>
            <a:ext cx="94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3080" y="47628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é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7440" y="4762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nì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73200" y="47628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13200" y="47628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mà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7120" y="357336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jī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00160" y="35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j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0480" y="3573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à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3440" y="3573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í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86600" y="35733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m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4400" y="357336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x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15640"/>
            <a:ext cx="8964720" cy="64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冲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锋 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锋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利  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叔叔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  表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叔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曾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经  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曾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几何时    泥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泞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脚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窝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  心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窝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迈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进  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迈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步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荆棘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荆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条  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棘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手  花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瓣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豆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瓣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  晶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莹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  寻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觅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觅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食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需</a:t>
            </a: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要  必</a:t>
            </a:r>
            <a:r>
              <a:rPr b="1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需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086360" y="22766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Arial"/>
                <a:ea typeface="楷体_GB2312"/>
              </a:rPr>
              <a:t>冒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94360" y="234936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Arial"/>
                <a:ea typeface="楷体_GB2312"/>
              </a:rPr>
              <a:t>叔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7480" y="69228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fē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13280" y="593640"/>
            <a:ext cx="14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shū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60200" y="62064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mà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1280" y="2276640"/>
            <a:ext cx="2160360" cy="2160360"/>
            <a:chOff x="611280" y="2276640"/>
            <a:chExt cx="2160360" cy="2160360"/>
          </a:xfrm>
        </p:grpSpPr>
        <p:sp>
          <p:nvSpPr>
            <p:cNvPr id="143" name=""/>
            <p:cNvSpPr/>
            <p:nvPr/>
          </p:nvSpPr>
          <p:spPr>
            <a:xfrm>
              <a:off x="1133280" y="2349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锋</a:t>
              </a:r>
              <a:endParaRPr b="0" lang="en-US" sz="1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11280" y="2276640"/>
              <a:ext cx="2160360" cy="2160360"/>
              <a:chOff x="611280" y="2276640"/>
              <a:chExt cx="2160360" cy="21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611280" y="2276640"/>
                <a:ext cx="2160360" cy="216036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692360" y="2276640"/>
                <a:ext cx="0" cy="20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4360" y="3357720"/>
                <a:ext cx="2087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6300720" y="2276640"/>
            <a:ext cx="2160360" cy="2160360"/>
            <a:chOff x="6300720" y="2276640"/>
            <a:chExt cx="2160360" cy="2160360"/>
          </a:xfrm>
        </p:grpSpPr>
        <p:sp>
          <p:nvSpPr>
            <p:cNvPr id="149" name=""/>
            <p:cNvSpPr/>
            <p:nvPr/>
          </p:nvSpPr>
          <p:spPr>
            <a:xfrm>
              <a:off x="6300720" y="2276640"/>
              <a:ext cx="2160360" cy="216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81800" y="2276640"/>
              <a:ext cx="0" cy="2089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73800" y="3357720"/>
              <a:ext cx="20872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564000" y="2133720"/>
            <a:ext cx="2160360" cy="2160360"/>
            <a:chOff x="3564000" y="2133720"/>
            <a:chExt cx="2160360" cy="2160360"/>
          </a:xfrm>
        </p:grpSpPr>
        <p:sp>
          <p:nvSpPr>
            <p:cNvPr id="153" name=""/>
            <p:cNvSpPr/>
            <p:nvPr/>
          </p:nvSpPr>
          <p:spPr>
            <a:xfrm>
              <a:off x="3564000" y="2133720"/>
              <a:ext cx="2160360" cy="216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5080" y="2133720"/>
              <a:ext cx="0" cy="2089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7080" y="3214800"/>
              <a:ext cx="20872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280" y="1744200"/>
            <a:ext cx="7885080" cy="48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沿着长长的小溪，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寻找雷锋的足迹。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雷锋叔叔，你在哪里，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  <a:ea typeface="楷体_GB2312"/>
              </a:rPr>
              <a:t>你在哪里？</a:t>
            </a:r>
            <a:endParaRPr b="0" lang="en-US" sz="6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1:45:00Z</dcterms:created>
  <dc:creator>语文大师 xiexingcun.com</dc:creator>
  <dc:description/>
  <dc:language>en-US</dc:language>
  <cp:lastModifiedBy>user</cp:lastModifiedBy>
  <dcterms:modified xsi:type="dcterms:W3CDTF">2014-07-21T18:57:51Z</dcterms:modified>
  <cp:revision>0</cp:revision>
  <dc:subject/>
  <dc:title>语文大师 xiexingcun.com</dc:title>
</cp:coreProperties>
</file>