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D8F-5679-4462-B7A3-40A193E2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A5D-DDD6-4EEC-B2EA-3077F9D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010-54EF-4B7F-BEAA-BAF6C77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649-153E-4CD0-80D9-DA834547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D51-A630-418D-B4B2-375167C9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DF7-18B0-43F3-81F1-811771C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0ED-2E23-4527-8C34-EB5E506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E6C-401F-47FB-B646-5BDA4A7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25B-073F-4AEE-B7D1-C623C6A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139-CBFA-4DDA-85D7-34381D5D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1B8-0E1E-41AF-B11C-1F0140CD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674-3C94-4170-97EB-1332C6D1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D5CC-88C1-4C9F-B7C6-82B092E9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E95-FE4E-404D-8F2F-BC78F80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8BEC-013E-4DD1-A60D-9EE6E866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5571-738D-45BC-ADA3-616D7C2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CF3-D464-4B49-891B-2B7B2E1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E038-BD9B-48A6-85A6-081F8E3C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C37-FD34-4147-9BF4-05664E1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FDDA-94AF-4C2B-8822-65FAB6F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F6C8-AD94-491E-BA9C-5C50315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32ED-0820-4662-9C84-0301DF21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19AD-FF2C-4B3A-BDC6-5851BFE4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FD7-D974-4E27-A4D1-B2E6006A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E94C-8F80-4DE5-8375-8966218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4A9A-CAD6-48A1-82B7-D563A9C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5B0E-FB91-4EC9-BC8E-DF3F1D8D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D0A4-BABE-441F-A93E-3083324F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21D4-EB83-4318-A600-06A5B8F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6F28-A25D-4300-A535-FF4E318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D1CF-A735-4674-A10F-6CFA7CD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682B-38E6-491C-92B7-80AF6FA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7BE2-1B6A-4E97-95EE-406FEFC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6482-31DA-4D31-B159-C37CF122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DD43-41BC-414D-B2D2-5612CD9B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D8A4-44FF-4888-8337-5C48459D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4C86-4D68-4384-A287-9F3D643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ABD6-269B-4DAD-B565-3286B6DE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CDE4-33F0-4949-B6EB-9A05C937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0C3B-3AE0-42DA-A820-4385AC5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23F7-782E-4B00-8F41-046C4F72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44F4-BDFF-418F-B03C-6CFB1977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8EEA-C0CB-4B8C-99A8-B304FCC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FB4A-4394-49AE-B064-83E89B3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34EB-48F7-4AA6-9CED-395D2BC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DA67-703D-4B85-AB67-7ECBEDA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8C4E-5999-46BC-BA76-12744A88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50AD-A367-452E-9B38-9CF7D566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  <p:sp>
        <p:nvSpPr>
          <p:cNvPr id="4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1CA9-33BE-4613-BD0C-7BE643C06E8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DB7-3BC5-44A4-B317-4FAE668C83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6B5-D5C1-412F-A5AD-1D13CA5FC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B5A0-7474-4FDF-877F-C0F134598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3"/>
          <p:cNvSpPr/>
          <p:nvPr/>
        </p:nvSpPr>
        <p:spPr>
          <a:xfrm>
            <a:off x="2916360" y="1989000"/>
            <a:ext cx="6227640" cy="237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276720" y="2432160"/>
            <a:ext cx="57880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第</a:t>
            </a:r>
            <a:r>
              <a:rPr b="1" lang="en-US" sz="5500" spc="-1" strike="noStrike">
                <a:solidFill>
                  <a:srgbClr val="f79646"/>
                </a:solidFill>
                <a:latin typeface="黑体"/>
                <a:ea typeface="黑体"/>
              </a:rPr>
              <a:t>1</a:t>
            </a: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课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林黛玉进贾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276720" y="443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黑体"/>
                <a:ea typeface="黑体"/>
              </a:rPr>
              <a:t>作者：曹雪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4" descr=""/>
          <p:cNvPicPr/>
          <p:nvPr/>
        </p:nvPicPr>
        <p:blipFill>
          <a:blip r:embed="rId1"/>
          <a:stretch/>
        </p:blipFill>
        <p:spPr>
          <a:xfrm>
            <a:off x="0" y="1967040"/>
            <a:ext cx="29163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066680" y="1927080"/>
          <a:ext cx="7010280" cy="4092480"/>
        </p:xfrm>
        <a:graphic>
          <a:graphicData uri="http://schemas.openxmlformats.org/drawingml/2006/table">
            <a:tbl>
              <a:tblPr/>
              <a:tblGrid>
                <a:gridCol w="1981080"/>
                <a:gridCol w="5029200"/>
              </a:tblGrid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    法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 Box 29"/>
          <p:cNvSpPr/>
          <p:nvPr/>
        </p:nvSpPr>
        <p:spPr>
          <a:xfrm>
            <a:off x="1143000" y="2743200"/>
            <a:ext cx="1523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4343400" y="1981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    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1295280" y="25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  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914400" y="3124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略  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91440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  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4"/>
          <p:cNvSpPr/>
          <p:nvPr/>
        </p:nvSpPr>
        <p:spPr>
          <a:xfrm>
            <a:off x="457200" y="4267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虚  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5"/>
          <p:cNvSpPr/>
          <p:nvPr/>
        </p:nvSpPr>
        <p:spPr>
          <a:xfrm>
            <a:off x="83808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独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1066680" y="5410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集体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505320" y="25401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贾宝玉、王熙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429000" y="3124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夫人、邢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2666880" y="3733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贾宝玉、王熙凤、贾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3352680" y="5029200"/>
            <a:ext cx="4343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3200400" y="48308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熙凤、贾宝玉、林黛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3124080" y="54403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迎春、探春、惜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27672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贾赦、    贾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685800" y="105084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围绕中心事件用多种方法描写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002"/>
          <p:cNvPicPr/>
          <p:nvPr/>
        </p:nvPicPr>
        <p:blipFill>
          <a:blip r:embed="rId1"/>
          <a:srcRect l="9260" t="6125" r="31652" b="0"/>
          <a:stretch/>
        </p:blipFill>
        <p:spPr>
          <a:xfrm>
            <a:off x="5867280" y="1125360"/>
            <a:ext cx="2895840" cy="3598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04920" y="106668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　　    是一个精明能干，惯于玩弄权术的人。为人刁钻狡黠，明是一盆火，暗是一把刀。由于对上善于阿谀奉承，因此博得贾母的欢心，从而独揽了贾府大权，成为贾府的实际统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-53352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从四个方面展示她的性格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215160" y="548640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写出场、绘肖像、见黛玉、回王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666360" y="1030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王熙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6320" y="1447920"/>
            <a:ext cx="899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人物与众不同的出场（对比手法），既能看出人物特殊的地位身分，又能看出放诞无礼，泼辣的性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贾母的“泼皮破落户”“凤辣子”的戏谑之语，虽是开玩笑，说明了她性格的泼辣之外，更说明她是深得贾母宠爱的特殊人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肖像描写（服饰和容貌两方面）不仅表现了王熙凤的年轻、貌美，一身的华贵之气，“三角眼”“吊梢眉”表现出美丽的外表后边隐藏着的精明与狡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王熙凤见林黛玉，先是恭维，而后“便用帕拭泪”，接着“忙转悲为喜”，还“亲为捧茶捧果”，差人打扫房间。王熙凤察颜观色，善于逢迎贾母的性格，被刻画得入木三分，淋漓尽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王夫人的话，虽是一带而过的情节，却也是刻画人物的重要一笔，它不仅表现了王熙凤善于机变逢迎的性格，也表现了她的精明能干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24920" y="867960"/>
            <a:ext cx="825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出场：未见其人，先闻其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100"/>
          <p:cNvPicPr/>
          <p:nvPr/>
        </p:nvPicPr>
        <p:blipFill>
          <a:blip r:embed="rId1"/>
          <a:stretch/>
        </p:blipFill>
        <p:spPr>
          <a:xfrm>
            <a:off x="249120" y="12193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2971800" y="9144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　　在黛玉眼中，             是一个眉清目秀、英俊多情的年轻公子。他具有反对封建束缚，要求自由平等的思想。他蔑视世俗，卓然独立的种种表现，正反映了他对封建礼教和封建道德和封建秩序的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880" y="4373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本文对宝玉的描写，主要有哪三个重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200" y="483084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出场前的侧面勾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出场后的肖像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西江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词的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516720" y="83808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贾宝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51920" y="1460160"/>
            <a:ext cx="89154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物出场之前，作者是从两个方面对贾宝玉作侧面描写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7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是王夫人在嘱咐林黛玉时，说贾宝玉是“孽根祸     胎”“混世魔王”，意思是说贾宝玉是给全家人带来灾害的祸根。还说“他嘴里一时甜言蜜语，一时有天无 日，一时又疯疯傻傻”，意思是说贾宝玉喜怒无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7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是林黛玉原先在自己家时曾听母亲说，贾宝玉“顽劣异常，极恶读书，最喜在内帏厮混”。贾府内外这些人贬斥贾宝玉的话，充分表现了他反封建的叛逆性格。人们把他说得这样坏，是因为他的所作所为不符合封建正统人物的要求，违背了封建正统的世俗常情。由此可 见，贾宝玉是封建阶级的叛逆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7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欲扬先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150480" y="609120"/>
            <a:ext cx="80024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侧面烘托和正面描写相结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89154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贾宝玉出场之后，作者从三个方面对他作了正面描写，一是外貌描写，二是用两首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西江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词来揭示人物性格，三是通过摔玉的情节进一步刻画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外貌描写。宝玉出场后，作者首先从黛玉眼中所见来着力描写他的外貌，先写衣着打扮，后写神态表情。在黛玉看来，宝玉并不是什么“惫懒人物，懵懂顽童”，而是一个眉目清秀、英俊多情的年轻公子，并一见如故，产生亲切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75960" y="990360"/>
            <a:ext cx="92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人物出场之后，作者是怎样从正面描写贾宝玉的？这些描写表现了贾宝玉怎样的性格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9172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江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词。作者用“后人”的两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江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表现贾宝玉的性格。这两首词模拟封建正统派人物的口吻，运用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明贬暗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写法，表面上看好像是嘲讽、批判，实际上是在歌颂，既揭示了贾宝玉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叛逆性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也表达了作者曹雪芹愤世嫉俗的思想感   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首词着重在概括贾宝玉的性格特点。“不通世务”“怕读文章”是贾宝玉的最主要，也是最可贵的性格，贾宝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封建礼教的反抗精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集中体现在这里。“不通世务”是说他在结交仕人、应酬官府、遵守礼教等方面一概不通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符合封建正统派人物的要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“怕读文章”是说他对封建统治阶级奉为经典的儒家著作，对猎取功名利禄的敲门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股文章毫无兴趣。这样一个“愚顽”的“蠢物”，自然被封建统治阶级视为大逆不道的人，说他“行为偏僻性乖张”，然而，这正是贾宝玉的可贵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首词着重在从批评告诫的角度，正文反作，进一步歌颂贾宝玉的叛逆性格。贾宝玉既不听从封建统治者对他的要求，去“通世务”“读文章”，也不安于封建统治者规定的本分，既“偏僻”，又“乖张”，所以，在那些人眼中，贾宝玉既“无能”，又“不肖”，而且天下第一。其实，这正反映了贾宝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封建正统思想的不满和反抗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499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摔玉的情节。在别人看来是他的“命根子”的通灵宝玉，贾宝玉自己却全不放在心上，只要“发作起痴狂病来”，就“摘下那玉，狠命摔去”。用王夫人的话说，就是“一时甜言密语，一时有天无日，一时又疯疯傻傻”。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西江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的词句，就是“无故寻愁觅恨，有时似傻如狂”。其实，这也是贾宝玉对封建思想不满和反抗的一种形式。应该说，摔玉的情节也不仅表现了贾宝玉的叛逆性格，也突出了这一人物的真性情与在贾府中的特殊地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003"/>
          <p:cNvPicPr/>
          <p:nvPr/>
        </p:nvPicPr>
        <p:blipFill>
          <a:blip r:embed="rId1"/>
          <a:stretch/>
        </p:blipFill>
        <p:spPr>
          <a:xfrm>
            <a:off x="304920" y="1162080"/>
            <a:ext cx="2438280" cy="25718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2887560" y="1066680"/>
            <a:ext cx="19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林黛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819520" y="1066680"/>
            <a:ext cx="6019560" cy="14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在母亲去世后投奔外婆家的，虽然贾母十分疼爱，她却总有寄人篱下之感，所以，进贾府后始终是“步步留心，时时在意，不肯轻易多说一句话，多行一步路，唯恐被人耻笑了去”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细心、多虑、自尊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是她的性格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63600" y="5587920"/>
            <a:ext cx="96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请举例分析课文是怎样刻画这些特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28240" y="1994040"/>
            <a:ext cx="8839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确：林黛玉是在母亲去世后投奔外婆家的，虽然贾母十分疼爱，她却总有寄人篱下之感，所以，进贾府后始终是“步步留心，时时在意，不肯轻易多说一句话，多行一步路，惟恐被人耻笑了他去”，细心、多虑、自 尊。比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邢夫人处。邢夫人“苦留吃过晚饭去”，黛玉婉言拒绝了，她说：“舅母爱惜赐饭，原不应辞，只是还要过去拜见二舅舅，恐领了赐去不恭，异日再领，未为不可。望舅母容谅。”这一番十分得体的话，既表达了对邢夫人的感激和尊敬，又表现了自己懂礼节、识大 体，可以看出林黛玉做事处处留心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9075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预习提示”告诉我们，林黛玉的性格特点是“细心、多虑与自尊”，请分析课文是怎样刻画出这些特点的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990720" y="1558800"/>
            <a:ext cx="8001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个是阆苑仙葩，一个是美玉无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若说没奇缘，今生偏又遇着他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若说有奇缘，如何心事终虚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个枉自嗟呀，一个空劳牵挂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个是水中月，一个是镜中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想眼中能有多少泪珠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怎经得秋流到冬尽，春流到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648960" y="838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枉凝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王夫人房里。王夫人坐在西边下首，见黛玉来  了，便往东让。“黛玉心中料定这是贾政之位。因见挨炕一溜三张椅子，也搭着半旧的弹墨椅袱，黛玉便向椅上坐了。王夫人再四携他上炕，他方挨王夫人坐了。”连坐在什么地方都不肯轻易从事，可见黛玉行事的谨慎小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贾母房中吃晚饭时，“熙凤忙拉了黛玉在左边第一张椅上坐了，黛玉十分推让”，直到贾母说明了理 由，“黛玉方告了座，坐了。”饭后喝茶、漱口之类的事不合家中之事，便“一一改了过来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贾母问黛玉读什么书时，黛玉回答是“念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  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但当宝玉问她念什么书时，她却说“不曾读，只上了一年学，些须认得几个字”。先说读过书，后说不曾读，是因为她听贾母说“读的什么书，不过是认得两个字，不是睁眼的瞎子罢了”之后，才改口的，可见她多思多虑，作事小心谨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2971440"/>
            <a:ext cx="7005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明确：小说有三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众人眼里的黛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王熙凤眼里的黛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宝玉眼里的黛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56390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找出描写林黛玉外貌的句子，分析黛玉的外貌特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23a51a001c3addd609fa930d"/>
          <p:cNvPicPr/>
          <p:nvPr/>
        </p:nvPicPr>
        <p:blipFill>
          <a:blip r:embed="rId1"/>
          <a:stretch/>
        </p:blipFill>
        <p:spPr>
          <a:xfrm>
            <a:off x="5732640" y="1295280"/>
            <a:ext cx="29541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众人眼里：黛玉身体孤弱多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凤姐眼里：容貌标致、气度不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她们更多地注意到黛玉的外在形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宝玉眼里：弱不禁风，多愁善感，美丽多情，姿容俏丽，极富神韵，宝玉主要看到的是黛玉超凡不俗的精神气质。而她给宝玉最深的印象是“眉尖若蹙”，这难于舒展的眉头、愁眉抑郁的心情，将伴随她的一生，成为女主人公性格的一种基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71640" y="2593800"/>
            <a:ext cx="751680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美貌多情、体弱多病、心态复杂、知书达理、有教养、为人处处小心谨慎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78920" y="1294920"/>
            <a:ext cx="324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归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627120" y="973080"/>
          <a:ext cx="8083440" cy="5165640"/>
        </p:xfrm>
        <a:graphic>
          <a:graphicData uri="http://schemas.openxmlformats.org/drawingml/2006/table">
            <a:tbl>
              <a:tblPr/>
              <a:tblGrid>
                <a:gridCol w="1538280"/>
                <a:gridCol w="2849400"/>
                <a:gridCol w="369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词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古　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今　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偏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偏激　不端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偏远交通不便之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便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价钱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态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事情的看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风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风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功绩又有文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才学而不拘礼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风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容俏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妇女举止轻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可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值得怜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怜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值得一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IMG0001"/>
          <p:cNvPicPr/>
          <p:nvPr/>
        </p:nvPicPr>
        <p:blipFill>
          <a:blip r:embed="rId1"/>
          <a:stretch/>
        </p:blipFill>
        <p:spPr>
          <a:xfrm>
            <a:off x="1219320" y="304920"/>
            <a:ext cx="7010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曹雪芹7"/>
          <p:cNvPicPr/>
          <p:nvPr/>
        </p:nvPicPr>
        <p:blipFill>
          <a:blip r:embed="rId1"/>
          <a:stretch/>
        </p:blipFill>
        <p:spPr>
          <a:xfrm>
            <a:off x="339840" y="1143000"/>
            <a:ext cx="2174760" cy="2819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266688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14600" y="10317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曹雪芹，名霑，号雪芹。曹雪芹的一生经历了曹家由兴衰到衰败的过程，早年过着豪华的公子生活，晚年却穷愁潦倒，卖画度日，生活于贫困之中。这种天壤之别的生活变化，促使曹雪芹深刻地思考自己的经历，对社会上种种黑暗产生了不满，这就为创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红楼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打下了良好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2001-04-02_14-04-36"/>
          <p:cNvPicPr/>
          <p:nvPr/>
        </p:nvPicPr>
        <p:blipFill>
          <a:blip r:embed="rId2"/>
          <a:stretch/>
        </p:blipFill>
        <p:spPr>
          <a:xfrm>
            <a:off x="5715000" y="4419720"/>
            <a:ext cx="313524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窝"/>
          <p:cNvPicPr/>
          <p:nvPr/>
        </p:nvPicPr>
        <p:blipFill>
          <a:blip r:embed="rId1"/>
          <a:stretch/>
        </p:blipFill>
        <p:spPr>
          <a:xfrm>
            <a:off x="228600" y="122544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房"/>
          <p:cNvPicPr/>
          <p:nvPr/>
        </p:nvPicPr>
        <p:blipFill>
          <a:blip r:embed="rId2"/>
          <a:stretch/>
        </p:blipFill>
        <p:spPr>
          <a:xfrm>
            <a:off x="2133720" y="16765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建筑"/>
          <p:cNvPicPr/>
          <p:nvPr/>
        </p:nvPicPr>
        <p:blipFill>
          <a:blip r:embed="rId3"/>
          <a:stretch/>
        </p:blipFill>
        <p:spPr>
          <a:xfrm>
            <a:off x="228600" y="40384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北京"/>
          <p:cNvPicPr/>
          <p:nvPr/>
        </p:nvPicPr>
        <p:blipFill>
          <a:blip r:embed="rId4"/>
          <a:stretch/>
        </p:blipFill>
        <p:spPr>
          <a:xfrm>
            <a:off x="2133720" y="46483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4114800" y="1066680"/>
            <a:ext cx="48006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红楼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又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石头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是一部具有高度思想性和艺术性的伟大作品，在我国文学史和世界文学史上都占有重要的地位。全书以林黛玉和贾宝玉的爱情故事为中心，揭示了封建社会必然崩溃的历史发展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8720" y="1994040"/>
            <a:ext cx="83012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52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第一回</a:t>
            </a:r>
            <a:r>
              <a:rPr b="1" lang="en-US" sz="4400" spc="-1" strike="noStrike">
                <a:solidFill>
                  <a:srgbClr val="00b0f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女娲补天   木石前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52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第二回</a:t>
            </a:r>
            <a:r>
              <a:rPr b="1" lang="en-US" sz="4400" spc="-1" strike="noStrike">
                <a:solidFill>
                  <a:srgbClr val="00b0f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贾府人物   上下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52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第三回</a:t>
            </a:r>
            <a:r>
              <a:rPr b="1" lang="en-US" sz="4400" spc="-1" strike="noStrike">
                <a:solidFill>
                  <a:srgbClr val="00b0f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黛玉进府   典型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52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第四回</a:t>
            </a:r>
            <a:r>
              <a:rPr b="1" lang="en-US" sz="4400" spc="-1" strike="noStrike">
                <a:solidFill>
                  <a:srgbClr val="00b0f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贾史王薛   社会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52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第五回</a:t>
            </a:r>
            <a:r>
              <a:rPr b="1" lang="en-US" sz="4400" spc="-1" strike="noStrike">
                <a:solidFill>
                  <a:srgbClr val="00b0f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b0f0"/>
                </a:solidFill>
                <a:latin typeface="宋体"/>
              </a:rPr>
              <a:t>太虚梦游   隐喻结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-76680" y="1142640"/>
            <a:ext cx="906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红楼梦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前五回的内容和在小说中的作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图片1"/>
          <p:cNvPicPr/>
          <p:nvPr/>
        </p:nvPicPr>
        <p:blipFill>
          <a:blip r:embed="rId1"/>
          <a:stretch/>
        </p:blipFill>
        <p:spPr>
          <a:xfrm>
            <a:off x="2843280" y="2583000"/>
            <a:ext cx="3176640" cy="2598480"/>
          </a:xfrm>
          <a:prstGeom prst="rect">
            <a:avLst/>
          </a:prstGeom>
          <a:ln w="0">
            <a:noFill/>
          </a:ln>
        </p:spPr>
      </p:pic>
      <p:sp>
        <p:nvSpPr>
          <p:cNvPr id="261" name="WordArt 4"/>
          <p:cNvSpPr txBox="1"/>
          <p:nvPr/>
        </p:nvSpPr>
        <p:spPr>
          <a:xfrm>
            <a:off x="2819520" y="10666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林黛玉进贾府</a:t>
            </a:r>
            <a:endParaRPr b="1" lang="en-US" sz="4800" spc="1" strike="noStrike"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28560" y="5310360"/>
            <a:ext cx="66243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宋体"/>
              </a:rPr>
              <a:t>红楼梦不以情节取胜，我们直接来把握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典型环境</a:t>
            </a:r>
            <a:r>
              <a:rPr b="1" lang="zh-CN" sz="4000" spc="-1" strike="noStrike">
                <a:solidFill>
                  <a:srgbClr val="00b0f0"/>
                </a:solidFill>
                <a:latin typeface="宋体"/>
              </a:rPr>
              <a:t>中的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典型人物</a:t>
            </a:r>
            <a:r>
              <a:rPr b="1" lang="zh-CN" sz="4000" spc="-1" strike="noStrike">
                <a:solidFill>
                  <a:srgbClr val="00b0f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第三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金陵城起复贾雨村  荣国府收养林黛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838080" y="1371600"/>
            <a:ext cx="74678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贾府的环境是通过黛玉的眼睛来描绘的。就让我们随着黛玉到贾府看一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思考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贾府给我们的印象如何（贾府是个怎样的大家庭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6"/>
          <p:cNvSpPr/>
          <p:nvPr/>
        </p:nvSpPr>
        <p:spPr>
          <a:xfrm>
            <a:off x="1447920" y="1066680"/>
            <a:ext cx="734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观宏伟 ：处于繁华热闹、人烟阜盛之中，“敕造”，皇帝御笔所赐的匾额，显示了簪缨世家的气派，也暗示了贾府显赫高贵的社会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布局讲究：庄严肃穆，表现出豪门贵族气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583000" y="3597120"/>
            <a:ext cx="640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饰非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礼仪繁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级森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质矜持高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43600" y="1989000"/>
            <a:ext cx="7898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环境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668240" y="1076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硬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701720" y="359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软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9:57:02Z</dcterms:created>
  <dc:creator>语文备课大师 www.xiexingcun.com【全免费】</dc:creator>
  <dc:description>语文备课大师 www.xiexingcun.com【全免费】</dc:description>
  <cp:keywords/>
  <dc:language>en-US</dc:language>
  <cp:lastModifiedBy>备课大师</cp:lastModifiedBy>
  <dcterms:modified xsi:type="dcterms:W3CDTF">2015-06-06T18:50:59Z</dcterms:modified>
  <cp:revision>0</cp:revision>
  <dc:subject> 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Version">
    <vt:r8>1</vt:r8>
  </property>
</Properties>
</file>