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F321-5E42-4561-89D0-C9546B35B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C03-5A66-4031-B131-03437796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64D3-64AF-4178-A0FE-0A43E4FE9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8EC9-44F6-45A5-89FF-1C312F626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E740-CBD5-4A56-9489-49DBEA2C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E31B-2346-4A9F-8632-6327F4FB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5A09-EA4E-4EB9-A1F1-D935377D2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5234-82D5-4383-B581-964DE506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E3E5-1641-439E-A8A5-7519917BE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97EE-342C-48F6-9910-7C258C4D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DC60-DE25-470C-A49E-59E6C8E1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BD71-CD2B-4724-8187-CF71A92C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A5B9-F0CE-4CAD-AE08-52D8FE2C524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7809" t="9832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541800" y="476280"/>
            <a:ext cx="3313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红</a:t>
            </a:r>
            <a:br>
              <a:rPr sz="7200"/>
            </a:b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楼</a:t>
            </a:r>
            <a:br>
              <a:rPr sz="7200"/>
            </a:b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第一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这几个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三等仆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吃穿用度，已是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不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从纱窗向外瞧了一瞧，其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街市之繁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人烟之阜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自与别处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忽见街北蹲着两个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大石狮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三间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兽头大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门前列坐着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十来个华冠丽服之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正门却不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，只有东西两角门有人出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正门之上有一个匾，匾上大书“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楷体_GB2312"/>
              </a:rPr>
              <a:t>敕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宁国府”五个大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5280" y="530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宏伟的外观——尽显贵族的威严显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进了垂花门，两边是抄手游廊，当中是穿堂，当地放着一个紫檀架子大理石的大插屏。转过插屏，小小的三间厅，厅后就是后面的正房大院。正面的五间上房，皆雕梁画栋，两边穿山游廊厢房，挂着各色鹦鹉、画眉等鸟雀。台矶之上，坐着几个穿红着绿的丫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第二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4941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讲究的格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第三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仪门内大院落，上面五间大正房，两边厢房鹿顶耳房钻山，四通八达，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轩昂壮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比贾母处不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进入堂屋中，抬头迎面先看见一个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赤金九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青地大匾，匾上写着斗大的三个大字，是“荣禧堂”，后有一行小字：“某年月日，书赐荣国公贾源”，又有“万几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宸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之宝”。大紫檀雕螭案上，设着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三尺来高青绿古铜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悬着待漏随朝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墨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画，一边是金蜼彝，一边是玻璃   。地下两溜十六张楠木交椅，又有一副对联，乃乌木联牌，镶着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錾银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字迹……</a:t>
            </a:r>
            <a:r>
              <a:rPr b="1" lang="zh-CN" sz="28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东安郡王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穆莳拜手书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显赫的地位，华贵的陈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49636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四五个才总角的小厮）都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垂手待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贾珠之妻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李氏捧饭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熙凤安箸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王夫人进羹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贾母正面榻上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独坐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两边四张空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黛玉方告了座，坐了。贾母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王夫人坐了。迎春姊妹三个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告了座方上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迎春便坐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右手第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探春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左第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惜春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右第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旁边丫环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执着拂尘、漱盂、巾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李、凤二人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立于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案旁布让。外间伺候之媳妇丫环虽多，却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连一声咳嗽不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饭毕，各有丫环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用小茶盘捧上茶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……早见人又捧过漱盂来，黛玉也照样漱了口。盥水毕，</a:t>
            </a: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楷体_GB2312"/>
              </a:rPr>
              <a:t>又捧上茶来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这方是吃的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黑体"/>
              </a:rPr>
              <a:t>问题三：文中如何描写贾家的一顿便饭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522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繁文缛节，等级森严——渲染贾母的无上地位，又见剥削阶级的奢侈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60360" y="765000"/>
            <a:ext cx="8604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贾府“与别家不同”的典型环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宏伟的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仿宋_GB2312"/>
              </a:rPr>
              <a:t>外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，说的是贾府建筑的外部观感；讲究的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仿宋_GB2312"/>
              </a:rPr>
              <a:t>布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，说的是贾府建筑的内部结构；华贵的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仿宋_GB2312"/>
              </a:rPr>
              <a:t>陈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，说的是荣禧堂为主的装修器物。这都是社会环境的折射，是贾府地位的反映。还有第四点，就是这第三回中集中描叙的那些礼仪繁复、上尊下卑、等级森严的贵族王侯家族的独特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仿宋_GB2312"/>
              </a:rPr>
              <a:t>人际关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，这更是社会环境的主要方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29624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走近作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743280" y="475920"/>
            <a:ext cx="540072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曹雪芹（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1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6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名霑，字梦阮，号雪芹，又号芹圃、芹溪。祖籍辽阳，生长在南京，少年时代曾经历过一段富贵繁华的贵族生活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2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曹家被抄，他随全家迁回北京。回京后，境遇潦倒，生活艰难。晚年移居北京西郊，生活更加穷苦，“满径蓬蒿”，“举家食粥”。他以坚韧的毅力，专心致志地从事《红楼梦》的写作与修订。“于悼红轩中披阅十载，增删五次”，自谓“字字看来皆是血，十年辛苦不寻常”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6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除夕，终因贫病交加而离开人世，遗留下来的只有一部未完成的《红楼梦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6301" t="13217" r="21062" b="18981"/>
          <a:stretch/>
        </p:blipFill>
        <p:spPr>
          <a:xfrm>
            <a:off x="250920" y="1341360"/>
            <a:ext cx="36003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11280" y="907920"/>
            <a:ext cx="1152360" cy="1152720"/>
          </a:xfrm>
          <a:prstGeom prst="rect">
            <a:avLst/>
          </a:prstGeom>
          <a:solidFill>
            <a:srgbClr val="bbe0e3"/>
          </a:solidFill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50920" y="606600"/>
            <a:ext cx="694692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也曾金马玉堂，我也曾瓦灶绳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笑我名门落拓，一腔惆怅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怎知我看透了天上人间世态炎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褴裳藏傲骨，愤世写群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字皆血泪，十年不寻常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身前身后漫评量，今世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真真切切，虚虚幻幻，悲悲啼啼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千古文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5200" y="1341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73960" y="13413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73960" y="8510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9240" y="836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68360" y="476280"/>
            <a:ext cx="296208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走近作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5640" y="134136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《红楼梦》是我国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18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世纪中期出现的一部古典小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      “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红楼”即朱门之意，是豪门贵族的代称，“红楼梦”意为无论多么煊赫的权势，到头来无非是南柯一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393372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以贾、史、王、薛四大家族的兴衰为背景，以林黛玉和贾宝玉的爱情故事为中心；是中国封建社会的百科全书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是中国古典小说的最高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395280" y="189000"/>
            <a:ext cx="8497800" cy="6172200"/>
            <a:chOff x="395280" y="189000"/>
            <a:chExt cx="8497800" cy="6172200"/>
          </a:xfrm>
        </p:grpSpPr>
        <p:sp>
          <p:nvSpPr>
            <p:cNvPr id="62" name=""/>
            <p:cNvSpPr/>
            <p:nvPr/>
          </p:nvSpPr>
          <p:spPr>
            <a:xfrm>
              <a:off x="468360" y="692280"/>
              <a:ext cx="3276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贾演－贾代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408480" y="490680"/>
              <a:ext cx="183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74920" y="630360"/>
              <a:ext cx="144720" cy="63792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16560 h 637920"/>
                <a:gd name="textAreaBottom" fmla="*/ 621360 h 63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419640" y="260280"/>
              <a:ext cx="1547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贾　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419640" y="841320"/>
              <a:ext cx="1618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贾　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995720" y="768240"/>
              <a:ext cx="152640" cy="762120"/>
            </a:xfrm>
            <a:custGeom>
              <a:avLst/>
              <a:gdLst>
                <a:gd name="textAreaLeft" fmla="*/ 97560 w 152640"/>
                <a:gd name="textAreaRight" fmla="*/ 153000 w 15264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292720" y="189000"/>
              <a:ext cx="1622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贾　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22960" y="1120680"/>
              <a:ext cx="1522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贾惜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107120" y="768240"/>
              <a:ext cx="164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仿宋_GB2312"/>
                </a:rPr>
                <a:t>秦可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4440" y="3224160"/>
              <a:ext cx="3230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贾源－贾代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63640" y="365616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77777"/>
                  </a:solidFill>
                  <a:latin typeface="Times New Roman"/>
                  <a:ea typeface="仿宋_GB2312"/>
                </a:rPr>
                <a:t>贾　母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26000" y="2170080"/>
              <a:ext cx="487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821040" y="3008160"/>
              <a:ext cx="358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03640" y="2289240"/>
              <a:ext cx="288720" cy="3382920"/>
            </a:xfrm>
            <a:custGeom>
              <a:avLst/>
              <a:gdLst>
                <a:gd name="textAreaLeft" fmla="*/ 184680 w 288720"/>
                <a:gd name="textAreaRight" fmla="*/ 289080 w 288720"/>
                <a:gd name="textAreaTop" fmla="*/ 88200 h 3382920"/>
                <a:gd name="textAreaBottom" fmla="*/ 3294720 h 338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6096"/>
                  </a:lnTo>
                  <a:cubicBezTo>
                    <a:pt x="10800" y="6996"/>
                    <a:pt x="5400" y="7896"/>
                    <a:pt x="0" y="7896"/>
                  </a:cubicBezTo>
                  <a:cubicBezTo>
                    <a:pt x="5400" y="7896"/>
                    <a:pt x="10800" y="8796"/>
                    <a:pt x="10800" y="969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348000" y="2017800"/>
              <a:ext cx="1619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贾　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54560" y="2475000"/>
              <a:ext cx="1555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仿宋_GB2312"/>
                </a:rPr>
                <a:t>邢夫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376960" y="2017800"/>
              <a:ext cx="25905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008680" y="2004840"/>
              <a:ext cx="139680" cy="1003320"/>
            </a:xfrm>
            <a:custGeom>
              <a:avLst/>
              <a:gdLst>
                <a:gd name="textAreaLeft" fmla="*/ 89280 w 139680"/>
                <a:gd name="textAreaRight" fmla="*/ 140040 w 139680"/>
                <a:gd name="textAreaTop" fmla="*/ 25920 h 1003320"/>
                <a:gd name="textAreaBottom" fmla="*/ 977400 h 100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10360" y="1789200"/>
              <a:ext cx="160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贾　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2170080"/>
              <a:ext cx="153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仿宋_GB2312"/>
                </a:rPr>
                <a:t>王熙凤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742080" y="1628640"/>
              <a:ext cx="184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16840" y="2017800"/>
              <a:ext cx="1447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巧　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0360" y="2703600"/>
              <a:ext cx="163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贾迎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24320" y="3657600"/>
              <a:ext cx="1542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贾　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454560" y="4089240"/>
              <a:ext cx="158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仿宋_GB2312"/>
                </a:rPr>
                <a:t>王夫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52920" y="3533760"/>
              <a:ext cx="23623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008680" y="3457440"/>
              <a:ext cx="210960" cy="1711440"/>
            </a:xfrm>
            <a:custGeom>
              <a:avLst/>
              <a:gdLst>
                <a:gd name="textAreaLeft" fmla="*/ 135000 w 210960"/>
                <a:gd name="textAreaRight" fmla="*/ 211320 w 210960"/>
                <a:gd name="textAreaTop" fmla="*/ 44640 h 1711440"/>
                <a:gd name="textAreaBottom" fmla="*/ 1666800 h 171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5058"/>
                  </a:lnTo>
                  <a:cubicBezTo>
                    <a:pt x="10800" y="5958"/>
                    <a:pt x="5400" y="6858"/>
                    <a:pt x="0" y="6858"/>
                  </a:cubicBezTo>
                  <a:cubicBezTo>
                    <a:pt x="5400" y="6858"/>
                    <a:pt x="10800" y="7758"/>
                    <a:pt x="10800" y="865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310360" y="3305160"/>
              <a:ext cx="152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贾　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292720" y="371628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仿宋_GB2312"/>
                </a:rPr>
                <a:t>李　纨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61200" y="3220920"/>
              <a:ext cx="183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93080" y="3457440"/>
              <a:ext cx="1573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贾　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92720" y="4143240"/>
              <a:ext cx="164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贾元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03880" y="452124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贾宝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03880" y="4941720"/>
              <a:ext cx="358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贾探春</a:t>
              </a:r>
              <a:r>
                <a:rPr b="1" lang="zh-CN" sz="2800" spc="-1" strike="noStrike">
                  <a:solidFill>
                    <a:srgbClr val="777777"/>
                  </a:solidFill>
                  <a:latin typeface="Times New Roman"/>
                  <a:ea typeface="仿宋_GB2312"/>
                </a:rPr>
                <a:t>（赵姨娘生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424320" y="5311800"/>
              <a:ext cx="1687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贾　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454560" y="5743440"/>
              <a:ext cx="194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  <a:ea typeface="仿宋_GB2312"/>
                </a:rPr>
                <a:t>林如海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297400" y="5781600"/>
              <a:ext cx="9144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227560" y="5529240"/>
              <a:ext cx="1905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林黛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6440" y="112536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宁国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6440" y="365616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新魏"/>
                </a:rPr>
                <a:t>荣国公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120080" y="336600"/>
              <a:ext cx="169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贾　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742080" y="22874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62880" y="38005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859280" y="581652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32720" y="8413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5280" y="5157720"/>
              <a:ext cx="2808360" cy="106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仿宋_GB2312"/>
                </a:rPr>
                <a:t>贾雨村 冷子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仿宋_GB2312"/>
                </a:rPr>
                <a:t>贾代儒 妙　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92720" y="62064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Arial"/>
                  <a:ea typeface="仿宋_GB2312"/>
                </a:rPr>
                <a:t>尤　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95280" y="1844640"/>
              <a:ext cx="2843280" cy="106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仿宋_GB2312"/>
                </a:rPr>
                <a:t>尤二姐 尤三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Arial"/>
                  <a:ea typeface="仿宋_GB2312"/>
                </a:rPr>
                <a:t>秦　业 秦　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5740200" cy="4305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40000" y="274320"/>
            <a:ext cx="634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林黛玉进贾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51280" y="2133720"/>
            <a:ext cx="439272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随黛玉之步进贾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借黛玉之眼观贾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4941720"/>
            <a:ext cx="91440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00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黑体"/>
                <a:ea typeface="黑体"/>
              </a:rPr>
              <a:t>问题一：黛玉怀着怎样的心思进贾府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4360" y="40428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林黛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8560" y="1484280"/>
            <a:ext cx="590544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贾敏之女，贾母的外孙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幼丧母，父亲无力抚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幼体弱多病，有不足之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投靠祖母，寄人篱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6300720" y="4292640"/>
            <a:ext cx="2664000" cy="2389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755640" y="4508640"/>
            <a:ext cx="453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步步留心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          时时在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5491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5560920"/>
            <a:ext cx="856944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  <a:ea typeface="黑体"/>
              </a:rPr>
              <a:t>问题二：找出关于贾府的几处环境描写，并说说这些描写的作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1280" y="52560"/>
            <a:ext cx="9001440" cy="6752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rcRect l="9314" t="5170" r="11957" b="6484"/>
          <a:stretch/>
        </p:blipFill>
        <p:spPr>
          <a:xfrm>
            <a:off x="1908000" y="77760"/>
            <a:ext cx="6120000" cy="6597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 flipH="1">
            <a:off x="3130200" y="6531120"/>
            <a:ext cx="5181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3160800" y="2957400"/>
            <a:ext cx="7920" cy="35179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82840" y="3084480"/>
            <a:ext cx="0" cy="365760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9160" y="6742080"/>
            <a:ext cx="4038480" cy="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397640" y="3236400"/>
            <a:ext cx="0" cy="3505320"/>
          </a:xfrm>
          <a:prstGeom prst="line">
            <a:avLst/>
          </a:prstGeom>
          <a:ln w="381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36000" y="3141720"/>
            <a:ext cx="0" cy="3429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269880" y="6602400"/>
            <a:ext cx="382284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059280" y="4514400"/>
            <a:ext cx="0" cy="21337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78280" y="4456080"/>
            <a:ext cx="251460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492880" y="3160800"/>
            <a:ext cx="0" cy="121896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645160" y="3160800"/>
            <a:ext cx="5335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6178680" y="1407600"/>
            <a:ext cx="0" cy="167652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2825280" y="1407960"/>
            <a:ext cx="312444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25640" y="1560600"/>
            <a:ext cx="0" cy="10666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90360" y="620640"/>
            <a:ext cx="1277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是不是这样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4:23:33Z</dcterms:created>
  <dc:creator>备课大师网</dc:creator>
  <dc:description/>
  <dc:language>en-US</dc:language>
  <cp:lastModifiedBy>a</cp:lastModifiedBy>
  <dcterms:modified xsi:type="dcterms:W3CDTF">2013-11-02T05:24:44Z</dcterms:modified>
  <cp:revision>0</cp:revision>
  <dc:subject/>
  <dc:title>备课大师网</dc:title>
</cp:coreProperties>
</file>