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1.wmf" ContentType="image/x-wmf"/>
  <Override PartName="/ppt/media/image29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8ED-7239-4E0F-8409-D6F0AD63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C9E-706F-4618-A403-621346BA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9AEC6-05E7-421F-8760-8BA0DADD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46677-C72A-4DBA-9D5B-9813C141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2F37B-DCA6-472B-966F-8DAA02F7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99FBE-7FB7-49C9-B2CB-95458F8B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1527E-033A-42BC-B5DF-731D4DCA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E01E1-7F8E-4E1A-9A93-494DE606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2B73F-F92C-424B-88C3-091E75BC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D45C7-CA55-4EB0-80E0-31EF1547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BD337-C06F-48B8-91B2-570EA7C2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48C22-92D2-4575-A144-1B660C6C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86C-C782-45DD-A962-475BC287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7E05D-4B52-4B1E-9607-3C8B92F4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5FDA4-DB35-455B-8FEF-CB107504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CE0B6-0B17-41E7-BA12-D02A6987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51589-FB05-4939-B499-870A239E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7E28B-9208-4F1F-90F7-88D63F90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EFE05-4C98-4847-AF6D-DC9535E2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CFC2D-E8EA-4017-B713-0BC8745D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487C6-C98A-4AA7-8CE6-DF3B2A05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0D09B-D9A5-46AD-9789-683384A5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C06B8-9F31-4074-903D-11E27C8F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2BD-2DE8-42F0-9C79-C34FBC43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D908A-2FA1-4311-8F86-4000B27E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D3852-DA25-4506-A5E6-0CA233F0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3B519-2217-4A57-82A4-5CFCF878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64AA1-2566-4ADE-AC4A-D853051F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4CD46-F4F2-43E6-AEDE-E12CEA9C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C57D2-D1E2-4EFF-AC8A-9E062990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BAF4C-44AC-4F2F-BD8E-0D580114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B45D8-DCB9-4F04-B8A8-9E9FFEBE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DAF76-B015-4CBF-BC1C-E769047F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7DD27-8E8F-4D87-A58B-A68C83DB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3576-DC23-4869-A24E-60C62C9B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E9EE6-AA56-486E-B6AF-0641ED5E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8F99B-1826-4F72-8283-87329CEE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F8A0A-D5A7-4795-8BB0-180892DB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AB69-E167-4D28-82BE-5F7D0BEE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199D-BBA1-4EDD-AA5F-9ABE0B31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88BA-6860-4F7B-9EC9-365D48A8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CB7C-F9FD-43C0-AD17-1B4D1616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72B2-7D6E-4535-A42D-B1E4EA7E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076C-9CFF-4584-A01B-DA827983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4C4-3369-48CC-B3C4-E7A98BA5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7936-E5CC-4FD3-AD3A-624CD0DD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A998-B260-4665-90C1-7C1C79B7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8BE1-D139-4026-8FDC-29B1C055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0CD9-8ADB-4FE9-9DE6-050970A6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F8AF-A873-4728-A748-A36CDC4E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F519C-45F0-4013-AE73-9F01B819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76CA1-1A19-4DC1-A674-4F4F37D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9555-9FED-4BEE-8738-F61C6973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396F-FA28-4190-A454-56087B1D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506B-C3EC-47E7-BF42-E77B47A4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EB0E-BDE8-4E98-B3F8-98734006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3E71-2146-437A-8D23-0361D231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EBB5-C4D3-4145-967E-E774D69C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D6FAA-D1B3-4445-AC99-B814977B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8FFCA-242E-43DF-8D9E-2393771F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37F5-D1A1-49F2-9FBE-4E870F2E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7766-9011-45E4-88A8-80ADB464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07DF8-EA75-4F83-B01D-BAE82636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FFFD-0834-4914-B71C-967C17DC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E9EAB-40ED-4672-840B-8F171ECC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A5C1E-466F-4076-A605-624C4915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BB3A-BD2E-4208-BDDA-D50D8BD5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B244-1046-4197-B53B-A1F28BD9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44EB-A3B9-4452-A797-39452FE0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D89F-1410-4BEC-A143-F9E6277A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79F6F-A323-40B4-982E-6223829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BBC8A-66F4-45D7-9E83-3A39494F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2BE3A-8B7E-4E77-8414-A8CD932A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F1FDE-B8DE-453E-9DDA-71C74F00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BD6D-F55A-47C5-ABFD-B29D642E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4CE9D-0BDD-4FA5-BBCC-D3FC7BCB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9A679-BB45-48D6-AB4A-54401283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C5B-BA53-4CD6-A17A-F84AE22F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BA85C-2F48-499E-8EA5-4E28821A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D020A-896D-45D4-969F-4E88F8B0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E4D64-7FBD-4D6A-9B69-15CEC9D4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F600F-27DB-45B2-8CE7-A675DAB7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62A3C-DD1E-4BC9-8EDF-017B738B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F6CF5-2565-4DE0-9CC1-25C31D1D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6A009-251A-4237-B2BA-0E5C8F1E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526DF-1883-460D-81A4-2E26D626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6EE1E-FC5D-4BCC-8B58-CD2B7AEE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CC92-7071-4CFB-A464-818AB7F1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E83-3EE3-4DA2-8CBE-BF9C6972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53F71-BE62-435A-9A78-95C58F56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1CF0D-95AE-42C0-8898-A028BAFC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EDD1C-4FF6-4EE1-B970-97ABD91F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653ED-F970-43F4-BEF4-31771806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01D13-C43B-490A-9719-14409DEA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B8531-2700-4EBF-BD04-62A98B27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AEA9A-B6FB-45AD-8ED7-4276322A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AE951-B63E-4629-A8FC-5EE13C09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D2232-9FA3-48BA-9E93-5087BEC7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0A0C0-FAE3-4D9F-BCA4-EFD04B68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BA7-20E3-4CF7-9E6F-07958ED0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39FB0-B46C-49E1-8AF2-517AC313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1CAFD-0483-411D-8731-BC58E94E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45A10-99F1-4F37-8DB7-97738BCF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5FE51-8D34-41E0-BA07-C246DEB5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19700-A215-470F-B143-F9F40559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493B4-96CD-4509-B7EF-56415C1F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D93B8-D17D-494D-AD91-9F73BFBE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8B46A-C246-4FA8-8BAC-44C74E36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6C8C2-78F4-44C2-BB1A-267726F6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DABC5-B1AC-480C-B944-AA9C6EDD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44A-7EF2-458A-B04C-F10FF269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334FB-5A0D-4994-AE29-5D936329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B1353-CC72-4063-83BA-070EF44C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39FF2-7A5F-493B-96EB-6B883B1F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C5F17-5394-4A0C-A887-4CC9C4A3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C193C-FFA9-4645-B050-736F7341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91587-A67F-4CBD-A2DC-88FA2541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F5887-7EFB-45BB-9B04-3E5A8127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F625C-E054-46A3-BFBA-A3371D4A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1CDC2-BE0B-4026-9E16-7FFA39B6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46676-F390-4153-BB38-C8618E1A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B8A-2604-40DD-B101-1AF2BC08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15CA4-F6D4-4B6E-B7C1-19D950B9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356FD-DE1D-49ED-B65F-C1941947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4452C-5205-47CA-B316-66CE6E0C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A87F5-1C43-4580-940E-D68803FA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AC2B1-7FA9-4CE4-B407-3DE2FD11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37EAD-B290-47B6-B5D1-2DFAF8BD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9BB20-FE55-4F16-AABF-C62B5115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DC1F1-8897-47D0-88AB-0D4FADBC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5A3AA-330A-409B-B47D-325F1734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ABE8C-79C7-4F37-A2A2-75FC3E1D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3E16-CB80-4F55-9F34-9917D0030F05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3DE3-F236-4942-98A3-38E8AB8F1E1F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3318-3964-4C7E-959B-50D0AC85D7CA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36AE-0046-447C-A957-8B7184BE439F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438B-A80A-4E6B-BFBB-82D0C0E3B934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8D8F-A812-4153-9B65-1D5314167AF8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1069-516A-49F0-BCD4-9D18517C3128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15F3-4011-458F-812B-994913C5314C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AF48-F565-4EBD-80DA-42E6A3BEE9E2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A21B-AEE7-4C8E-970D-CE1DD44050E8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228E-3D4B-465F-A796-6D9771AB6F49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3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3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3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3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3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3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3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3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3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3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3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3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3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Object 4" descr=""/>
          <p:cNvPicPr/>
          <p:nvPr/>
        </p:nvPicPr>
        <p:blipFill>
          <a:blip r:embed="rId1"/>
          <a:stretch/>
        </p:blipFill>
        <p:spPr>
          <a:xfrm>
            <a:off x="34920" y="3213000"/>
            <a:ext cx="8128080" cy="6876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Object 2" descr=""/>
          <p:cNvPicPr/>
          <p:nvPr/>
        </p:nvPicPr>
        <p:blipFill>
          <a:blip r:embed="rId1"/>
          <a:stretch/>
        </p:blipFill>
        <p:spPr>
          <a:xfrm>
            <a:off x="507960" y="971640"/>
            <a:ext cx="81280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Object 2" descr=""/>
          <p:cNvPicPr/>
          <p:nvPr/>
        </p:nvPicPr>
        <p:blipFill>
          <a:blip r:embed="rId1"/>
          <a:stretch/>
        </p:blipFill>
        <p:spPr>
          <a:xfrm>
            <a:off x="571680" y="1071720"/>
            <a:ext cx="8127720" cy="4987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Object 2" descr=""/>
          <p:cNvPicPr/>
          <p:nvPr/>
        </p:nvPicPr>
        <p:blipFill>
          <a:blip r:embed="rId1"/>
          <a:stretch/>
        </p:blipFill>
        <p:spPr>
          <a:xfrm>
            <a:off x="507960" y="1527120"/>
            <a:ext cx="8128080" cy="4057560"/>
          </a:xfrm>
          <a:prstGeom prst="rect">
            <a:avLst/>
          </a:prstGeom>
          <a:ln w="0">
            <a:noFill/>
          </a:ln>
        </p:spPr>
      </p:pic>
      <p:sp>
        <p:nvSpPr>
          <p:cNvPr id="533" name="矩形 2"/>
          <p:cNvSpPr/>
          <p:nvPr/>
        </p:nvSpPr>
        <p:spPr>
          <a:xfrm>
            <a:off x="3922560" y="2271600"/>
            <a:ext cx="5065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3"/>
          <p:cNvSpPr/>
          <p:nvPr/>
        </p:nvSpPr>
        <p:spPr>
          <a:xfrm>
            <a:off x="1428840" y="2643120"/>
            <a:ext cx="5061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Object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8128080" cy="3690720"/>
          </a:xfrm>
          <a:prstGeom prst="rect">
            <a:avLst/>
          </a:prstGeom>
          <a:ln w="0">
            <a:noFill/>
          </a:ln>
        </p:spPr>
      </p:pic>
      <p:sp>
        <p:nvSpPr>
          <p:cNvPr id="536" name="矩形 2"/>
          <p:cNvSpPr/>
          <p:nvPr/>
        </p:nvSpPr>
        <p:spPr>
          <a:xfrm>
            <a:off x="2452680" y="2092320"/>
            <a:ext cx="9698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3"/>
          <p:cNvSpPr/>
          <p:nvPr/>
        </p:nvSpPr>
        <p:spPr>
          <a:xfrm>
            <a:off x="2649600" y="2459160"/>
            <a:ext cx="96984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对象 1" descr=""/>
          <p:cNvPicPr/>
          <p:nvPr/>
        </p:nvPicPr>
        <p:blipFill>
          <a:blip r:embed="rId1"/>
          <a:stretch/>
        </p:blipFill>
        <p:spPr>
          <a:xfrm>
            <a:off x="507960" y="3132000"/>
            <a:ext cx="8128080" cy="849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对象 1" descr=""/>
          <p:cNvPicPr/>
          <p:nvPr/>
        </p:nvPicPr>
        <p:blipFill>
          <a:blip r:embed="rId1"/>
          <a:stretch/>
        </p:blipFill>
        <p:spPr>
          <a:xfrm>
            <a:off x="507960" y="1793880"/>
            <a:ext cx="8128080" cy="3524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Object 2" descr=""/>
          <p:cNvPicPr/>
          <p:nvPr/>
        </p:nvPicPr>
        <p:blipFill>
          <a:blip r:embed="rId1"/>
          <a:stretch/>
        </p:blipFill>
        <p:spPr>
          <a:xfrm>
            <a:off x="509760" y="1052640"/>
            <a:ext cx="8113680" cy="49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Object 2" descr=""/>
          <p:cNvPicPr/>
          <p:nvPr/>
        </p:nvPicPr>
        <p:blipFill>
          <a:blip r:embed="rId1"/>
          <a:stretch/>
        </p:blipFill>
        <p:spPr>
          <a:xfrm>
            <a:off x="507960" y="1444680"/>
            <a:ext cx="8128080" cy="42228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Object 2" descr=""/>
          <p:cNvPicPr/>
          <p:nvPr/>
        </p:nvPicPr>
        <p:blipFill>
          <a:blip r:embed="rId1"/>
          <a:stretch/>
        </p:blipFill>
        <p:spPr>
          <a:xfrm>
            <a:off x="507960" y="2211480"/>
            <a:ext cx="8128080" cy="268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Object 2" descr=""/>
          <p:cNvPicPr/>
          <p:nvPr/>
        </p:nvPicPr>
        <p:blipFill>
          <a:blip r:embed="rId1"/>
          <a:stretch/>
        </p:blipFill>
        <p:spPr>
          <a:xfrm>
            <a:off x="507960" y="870120"/>
            <a:ext cx="812808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Object 2" descr=""/>
          <p:cNvPicPr/>
          <p:nvPr/>
        </p:nvPicPr>
        <p:blipFill>
          <a:blip r:embed="rId1"/>
          <a:stretch/>
        </p:blipFill>
        <p:spPr>
          <a:xfrm>
            <a:off x="507960" y="1974960"/>
            <a:ext cx="8128080" cy="31622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对象 1" descr=""/>
          <p:cNvPicPr/>
          <p:nvPr/>
        </p:nvPicPr>
        <p:blipFill>
          <a:blip r:embed="rId1"/>
          <a:stretch/>
        </p:blipFill>
        <p:spPr>
          <a:xfrm>
            <a:off x="507960" y="1484280"/>
            <a:ext cx="8128080" cy="3908520"/>
          </a:xfrm>
          <a:prstGeom prst="rect">
            <a:avLst/>
          </a:prstGeom>
          <a:ln w="0">
            <a:noFill/>
          </a:ln>
        </p:spPr>
      </p:pic>
      <p:sp>
        <p:nvSpPr>
          <p:cNvPr id="545" name="矩形 4"/>
          <p:cNvSpPr/>
          <p:nvPr/>
        </p:nvSpPr>
        <p:spPr>
          <a:xfrm>
            <a:off x="422280" y="3139920"/>
            <a:ext cx="8255160" cy="338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Object 2" descr=""/>
          <p:cNvPicPr/>
          <p:nvPr/>
        </p:nvPicPr>
        <p:blipFill>
          <a:blip r:embed="rId1"/>
          <a:stretch/>
        </p:blipFill>
        <p:spPr>
          <a:xfrm>
            <a:off x="509760" y="1536840"/>
            <a:ext cx="8113680" cy="3981240"/>
          </a:xfrm>
          <a:prstGeom prst="rect">
            <a:avLst/>
          </a:prstGeom>
          <a:ln w="0">
            <a:noFill/>
          </a:ln>
        </p:spPr>
      </p:pic>
      <p:sp>
        <p:nvSpPr>
          <p:cNvPr id="547" name="矩形 2"/>
          <p:cNvSpPr/>
          <p:nvPr/>
        </p:nvSpPr>
        <p:spPr>
          <a:xfrm>
            <a:off x="433440" y="2301840"/>
            <a:ext cx="8254800" cy="31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Object 2" descr=""/>
          <p:cNvPicPr/>
          <p:nvPr/>
        </p:nvPicPr>
        <p:blipFill>
          <a:blip r:embed="rId1"/>
          <a:stretch/>
        </p:blipFill>
        <p:spPr>
          <a:xfrm>
            <a:off x="507960" y="870120"/>
            <a:ext cx="8128080" cy="5371920"/>
          </a:xfrm>
          <a:prstGeom prst="rect">
            <a:avLst/>
          </a:prstGeom>
          <a:ln w="0">
            <a:noFill/>
          </a:ln>
        </p:spPr>
      </p:pic>
      <p:sp>
        <p:nvSpPr>
          <p:cNvPr id="549" name="矩形 2"/>
          <p:cNvSpPr/>
          <p:nvPr/>
        </p:nvSpPr>
        <p:spPr>
          <a:xfrm>
            <a:off x="444600" y="1643040"/>
            <a:ext cx="8254800" cy="471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对象 1" descr=""/>
          <p:cNvPicPr/>
          <p:nvPr/>
        </p:nvPicPr>
        <p:blipFill>
          <a:blip r:embed="rId1"/>
          <a:stretch/>
        </p:blipFill>
        <p:spPr>
          <a:xfrm>
            <a:off x="507960" y="1641600"/>
            <a:ext cx="8128080" cy="38289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对象 1" descr=""/>
          <p:cNvPicPr/>
          <p:nvPr/>
        </p:nvPicPr>
        <p:blipFill>
          <a:blip r:embed="rId1"/>
          <a:stretch/>
        </p:blipFill>
        <p:spPr>
          <a:xfrm>
            <a:off x="507960" y="2557440"/>
            <a:ext cx="8128080" cy="1995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Object 2" descr=""/>
          <p:cNvPicPr/>
          <p:nvPr/>
        </p:nvPicPr>
        <p:blipFill>
          <a:blip r:embed="rId1"/>
          <a:stretch/>
        </p:blipFill>
        <p:spPr>
          <a:xfrm>
            <a:off x="507960" y="1828800"/>
            <a:ext cx="8128080" cy="345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Object 2" descr=""/>
          <p:cNvPicPr/>
          <p:nvPr/>
        </p:nvPicPr>
        <p:blipFill>
          <a:blip r:embed="rId1"/>
          <a:stretch/>
        </p:blipFill>
        <p:spPr>
          <a:xfrm>
            <a:off x="507960" y="2403360"/>
            <a:ext cx="812808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Object 2" descr=""/>
          <p:cNvPicPr/>
          <p:nvPr/>
        </p:nvPicPr>
        <p:blipFill>
          <a:blip r:embed="rId1"/>
          <a:stretch/>
        </p:blipFill>
        <p:spPr>
          <a:xfrm>
            <a:off x="507960" y="2019240"/>
            <a:ext cx="8128080" cy="3073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对象 1" descr=""/>
          <p:cNvPicPr/>
          <p:nvPr/>
        </p:nvPicPr>
        <p:blipFill>
          <a:blip r:embed="rId1"/>
          <a:stretch/>
        </p:blipFill>
        <p:spPr>
          <a:xfrm>
            <a:off x="507960" y="3132000"/>
            <a:ext cx="8128080" cy="84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对象 1" descr=""/>
          <p:cNvPicPr/>
          <p:nvPr/>
        </p:nvPicPr>
        <p:blipFill>
          <a:blip r:embed="rId1"/>
          <a:stretch/>
        </p:blipFill>
        <p:spPr>
          <a:xfrm>
            <a:off x="512640" y="1106640"/>
            <a:ext cx="8118720" cy="5275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对象 1" descr=""/>
          <p:cNvPicPr/>
          <p:nvPr/>
        </p:nvPicPr>
        <p:blipFill>
          <a:blip r:embed="rId1"/>
          <a:stretch/>
        </p:blipFill>
        <p:spPr>
          <a:xfrm>
            <a:off x="507960" y="3132000"/>
            <a:ext cx="8128080" cy="849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Object 2" descr=""/>
          <p:cNvPicPr/>
          <p:nvPr/>
        </p:nvPicPr>
        <p:blipFill>
          <a:blip r:embed="rId1"/>
          <a:stretch/>
        </p:blipFill>
        <p:spPr>
          <a:xfrm>
            <a:off x="509760" y="3127320"/>
            <a:ext cx="8113680" cy="949320"/>
          </a:xfrm>
          <a:prstGeom prst="rect">
            <a:avLst/>
          </a:prstGeom>
          <a:ln w="0">
            <a:noFill/>
          </a:ln>
        </p:spPr>
      </p:pic>
      <p:sp>
        <p:nvSpPr>
          <p:cNvPr id="558" name="矩形 3"/>
          <p:cNvSpPr/>
          <p:nvPr/>
        </p:nvSpPr>
        <p:spPr>
          <a:xfrm>
            <a:off x="428760" y="3573360"/>
            <a:ext cx="77151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Object 2" descr=""/>
          <p:cNvPicPr/>
          <p:nvPr/>
        </p:nvPicPr>
        <p:blipFill>
          <a:blip r:embed="rId1"/>
          <a:stretch/>
        </p:blipFill>
        <p:spPr>
          <a:xfrm>
            <a:off x="507960" y="1335240"/>
            <a:ext cx="8128080" cy="444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Object 2" descr=""/>
          <p:cNvPicPr/>
          <p:nvPr/>
        </p:nvPicPr>
        <p:blipFill>
          <a:blip r:embed="rId1"/>
          <a:stretch/>
        </p:blipFill>
        <p:spPr>
          <a:xfrm>
            <a:off x="507960" y="2597040"/>
            <a:ext cx="8128080" cy="1917720"/>
          </a:xfrm>
          <a:prstGeom prst="rect">
            <a:avLst/>
          </a:prstGeom>
          <a:ln w="0">
            <a:noFill/>
          </a:ln>
        </p:spPr>
      </p:pic>
      <p:sp>
        <p:nvSpPr>
          <p:cNvPr id="561" name="矩形 2"/>
          <p:cNvSpPr/>
          <p:nvPr/>
        </p:nvSpPr>
        <p:spPr>
          <a:xfrm>
            <a:off x="428760" y="3000240"/>
            <a:ext cx="8254800" cy="16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Object 2" descr=""/>
          <p:cNvPicPr/>
          <p:nvPr/>
        </p:nvPicPr>
        <p:blipFill>
          <a:blip r:embed="rId1"/>
          <a:stretch/>
        </p:blipFill>
        <p:spPr>
          <a:xfrm>
            <a:off x="507960" y="1593720"/>
            <a:ext cx="812808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Object 2" descr=""/>
          <p:cNvPicPr/>
          <p:nvPr/>
        </p:nvPicPr>
        <p:blipFill>
          <a:blip r:embed="rId1"/>
          <a:stretch/>
        </p:blipFill>
        <p:spPr>
          <a:xfrm>
            <a:off x="507960" y="2597040"/>
            <a:ext cx="8128080" cy="1917720"/>
          </a:xfrm>
          <a:prstGeom prst="rect">
            <a:avLst/>
          </a:prstGeom>
          <a:ln w="0">
            <a:noFill/>
          </a:ln>
        </p:spPr>
      </p:pic>
      <p:sp>
        <p:nvSpPr>
          <p:cNvPr id="564" name="矩形 2"/>
          <p:cNvSpPr/>
          <p:nvPr/>
        </p:nvSpPr>
        <p:spPr>
          <a:xfrm>
            <a:off x="428760" y="3017880"/>
            <a:ext cx="8254800" cy="16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Object 2" descr=""/>
          <p:cNvPicPr/>
          <p:nvPr/>
        </p:nvPicPr>
        <p:blipFill>
          <a:blip r:embed="rId1"/>
          <a:stretch/>
        </p:blipFill>
        <p:spPr>
          <a:xfrm>
            <a:off x="507960" y="1403280"/>
            <a:ext cx="8128080" cy="430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Object 2" descr=""/>
          <p:cNvPicPr/>
          <p:nvPr/>
        </p:nvPicPr>
        <p:blipFill>
          <a:blip r:embed="rId1"/>
          <a:stretch/>
        </p:blipFill>
        <p:spPr>
          <a:xfrm>
            <a:off x="507960" y="2981160"/>
            <a:ext cx="8128080" cy="1149480"/>
          </a:xfrm>
          <a:prstGeom prst="rect">
            <a:avLst/>
          </a:prstGeom>
          <a:ln w="0">
            <a:noFill/>
          </a:ln>
        </p:spPr>
      </p:pic>
      <p:sp>
        <p:nvSpPr>
          <p:cNvPr id="567" name="矩形 2"/>
          <p:cNvSpPr/>
          <p:nvPr/>
        </p:nvSpPr>
        <p:spPr>
          <a:xfrm>
            <a:off x="357120" y="3346560"/>
            <a:ext cx="8255160" cy="92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Object 2" descr=""/>
          <p:cNvPicPr/>
          <p:nvPr/>
        </p:nvPicPr>
        <p:blipFill>
          <a:blip r:embed="rId1"/>
          <a:stretch/>
        </p:blipFill>
        <p:spPr>
          <a:xfrm>
            <a:off x="507960" y="1041480"/>
            <a:ext cx="8128080" cy="5029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Object 2" descr=""/>
          <p:cNvPicPr/>
          <p:nvPr/>
        </p:nvPicPr>
        <p:blipFill>
          <a:blip r:embed="rId1"/>
          <a:stretch/>
        </p:blipFill>
        <p:spPr>
          <a:xfrm>
            <a:off x="507960" y="1252440"/>
            <a:ext cx="8128080" cy="4606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Object 2" descr=""/>
          <p:cNvPicPr/>
          <p:nvPr/>
        </p:nvPicPr>
        <p:blipFill>
          <a:blip r:embed="rId1"/>
          <a:stretch/>
        </p:blipFill>
        <p:spPr>
          <a:xfrm>
            <a:off x="509760" y="2171880"/>
            <a:ext cx="8124480" cy="2336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对象 1" descr=""/>
          <p:cNvPicPr/>
          <p:nvPr/>
        </p:nvPicPr>
        <p:blipFill>
          <a:blip r:embed="rId1"/>
          <a:stretch/>
        </p:blipFill>
        <p:spPr>
          <a:xfrm>
            <a:off x="507960" y="3132000"/>
            <a:ext cx="812808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Object 2" descr=""/>
          <p:cNvPicPr/>
          <p:nvPr/>
        </p:nvPicPr>
        <p:blipFill>
          <a:blip r:embed="rId1"/>
          <a:stretch/>
        </p:blipFill>
        <p:spPr>
          <a:xfrm>
            <a:off x="509760" y="2146320"/>
            <a:ext cx="8113680" cy="2579760"/>
          </a:xfrm>
          <a:prstGeom prst="rect">
            <a:avLst/>
          </a:prstGeom>
          <a:ln w="0">
            <a:noFill/>
          </a:ln>
        </p:spPr>
      </p:pic>
      <p:sp>
        <p:nvSpPr>
          <p:cNvPr id="572" name="矩形 2"/>
          <p:cNvSpPr/>
          <p:nvPr/>
        </p:nvSpPr>
        <p:spPr>
          <a:xfrm>
            <a:off x="428760" y="2637000"/>
            <a:ext cx="8254800" cy="84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3"/>
          <p:cNvSpPr/>
          <p:nvPr/>
        </p:nvSpPr>
        <p:spPr>
          <a:xfrm>
            <a:off x="420840" y="3471840"/>
            <a:ext cx="8254800" cy="13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Object 2" descr=""/>
          <p:cNvPicPr/>
          <p:nvPr/>
        </p:nvPicPr>
        <p:blipFill>
          <a:blip r:embed="rId1"/>
          <a:stretch/>
        </p:blipFill>
        <p:spPr>
          <a:xfrm>
            <a:off x="507960" y="2170080"/>
            <a:ext cx="8128080" cy="2771640"/>
          </a:xfrm>
          <a:prstGeom prst="rect">
            <a:avLst/>
          </a:prstGeom>
          <a:ln w="0">
            <a:noFill/>
          </a:ln>
        </p:spPr>
      </p:pic>
      <p:sp>
        <p:nvSpPr>
          <p:cNvPr id="575" name="矩形 2"/>
          <p:cNvSpPr/>
          <p:nvPr/>
        </p:nvSpPr>
        <p:spPr>
          <a:xfrm>
            <a:off x="428760" y="2962440"/>
            <a:ext cx="8254800" cy="84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3"/>
          <p:cNvSpPr/>
          <p:nvPr/>
        </p:nvSpPr>
        <p:spPr>
          <a:xfrm>
            <a:off x="428760" y="3835440"/>
            <a:ext cx="8254800" cy="12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Object 2" descr=""/>
          <p:cNvPicPr/>
          <p:nvPr/>
        </p:nvPicPr>
        <p:blipFill>
          <a:blip r:embed="rId1"/>
          <a:stretch/>
        </p:blipFill>
        <p:spPr>
          <a:xfrm>
            <a:off x="507960" y="1763640"/>
            <a:ext cx="8128080" cy="3584520"/>
          </a:xfrm>
          <a:prstGeom prst="rect">
            <a:avLst/>
          </a:prstGeom>
          <a:ln w="0">
            <a:noFill/>
          </a:ln>
        </p:spPr>
      </p:pic>
      <p:sp>
        <p:nvSpPr>
          <p:cNvPr id="578" name="矩形 2"/>
          <p:cNvSpPr/>
          <p:nvPr/>
        </p:nvSpPr>
        <p:spPr>
          <a:xfrm>
            <a:off x="357120" y="3000240"/>
            <a:ext cx="8358120" cy="1214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3"/>
          <p:cNvSpPr/>
          <p:nvPr/>
        </p:nvSpPr>
        <p:spPr>
          <a:xfrm>
            <a:off x="357120" y="4253040"/>
            <a:ext cx="8358120" cy="12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Object 2" descr=""/>
          <p:cNvPicPr/>
          <p:nvPr/>
        </p:nvPicPr>
        <p:blipFill>
          <a:blip r:embed="rId1"/>
          <a:stretch/>
        </p:blipFill>
        <p:spPr>
          <a:xfrm>
            <a:off x="507960" y="1359000"/>
            <a:ext cx="8128080" cy="4394160"/>
          </a:xfrm>
          <a:prstGeom prst="rect">
            <a:avLst/>
          </a:prstGeom>
          <a:ln w="0">
            <a:noFill/>
          </a:ln>
        </p:spPr>
      </p:pic>
      <p:sp>
        <p:nvSpPr>
          <p:cNvPr id="581" name="矩形 2"/>
          <p:cNvSpPr/>
          <p:nvPr/>
        </p:nvSpPr>
        <p:spPr>
          <a:xfrm>
            <a:off x="336600" y="3068640"/>
            <a:ext cx="8342280" cy="194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3"/>
          <p:cNvSpPr/>
          <p:nvPr/>
        </p:nvSpPr>
        <p:spPr>
          <a:xfrm>
            <a:off x="466560" y="5013360"/>
            <a:ext cx="8344080" cy="78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对象 1" descr=""/>
          <p:cNvPicPr/>
          <p:nvPr/>
        </p:nvPicPr>
        <p:blipFill>
          <a:blip r:embed="rId1"/>
          <a:stretch/>
        </p:blipFill>
        <p:spPr>
          <a:xfrm>
            <a:off x="507960" y="3068640"/>
            <a:ext cx="8128080" cy="849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对象 1" descr=""/>
          <p:cNvPicPr/>
          <p:nvPr/>
        </p:nvPicPr>
        <p:blipFill>
          <a:blip r:embed="rId1"/>
          <a:stretch/>
        </p:blipFill>
        <p:spPr>
          <a:xfrm>
            <a:off x="507960" y="1411200"/>
            <a:ext cx="8128080" cy="4291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Object 2" descr=""/>
          <p:cNvPicPr/>
          <p:nvPr/>
        </p:nvPicPr>
        <p:blipFill>
          <a:blip r:embed="rId1"/>
          <a:stretch/>
        </p:blipFill>
        <p:spPr>
          <a:xfrm>
            <a:off x="507960" y="1828800"/>
            <a:ext cx="8128080" cy="345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Object 2" descr=""/>
          <p:cNvPicPr/>
          <p:nvPr/>
        </p:nvPicPr>
        <p:blipFill>
          <a:blip r:embed="rId1"/>
          <a:stretch/>
        </p:blipFill>
        <p:spPr>
          <a:xfrm>
            <a:off x="507960" y="1278000"/>
            <a:ext cx="8128080" cy="42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Object 2" descr=""/>
          <p:cNvPicPr/>
          <p:nvPr/>
        </p:nvPicPr>
        <p:blipFill>
          <a:blip r:embed="rId1"/>
          <a:stretch/>
        </p:blipFill>
        <p:spPr>
          <a:xfrm>
            <a:off x="507960" y="2403360"/>
            <a:ext cx="8128080" cy="2305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Object 2" descr=""/>
          <p:cNvPicPr/>
          <p:nvPr/>
        </p:nvPicPr>
        <p:blipFill>
          <a:blip r:embed="rId1"/>
          <a:stretch/>
        </p:blipFill>
        <p:spPr>
          <a:xfrm>
            <a:off x="507960" y="1444680"/>
            <a:ext cx="8128080" cy="4222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Object 2" descr=""/>
          <p:cNvPicPr/>
          <p:nvPr/>
        </p:nvPicPr>
        <p:blipFill>
          <a:blip r:embed="rId1"/>
          <a:stretch/>
        </p:blipFill>
        <p:spPr>
          <a:xfrm>
            <a:off x="512640" y="1700280"/>
            <a:ext cx="8088480" cy="38084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对象 1" descr=""/>
          <p:cNvPicPr/>
          <p:nvPr/>
        </p:nvPicPr>
        <p:blipFill>
          <a:blip r:embed="rId1"/>
          <a:stretch/>
        </p:blipFill>
        <p:spPr>
          <a:xfrm>
            <a:off x="507960" y="2367000"/>
            <a:ext cx="8128080" cy="2378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Object 2" descr=""/>
          <p:cNvPicPr/>
          <p:nvPr/>
        </p:nvPicPr>
        <p:blipFill>
          <a:blip r:embed="rId1"/>
          <a:stretch/>
        </p:blipFill>
        <p:spPr>
          <a:xfrm>
            <a:off x="507960" y="2019240"/>
            <a:ext cx="8128080" cy="3073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Object 2" descr=""/>
          <p:cNvPicPr/>
          <p:nvPr/>
        </p:nvPicPr>
        <p:blipFill>
          <a:blip r:embed="rId1"/>
          <a:stretch/>
        </p:blipFill>
        <p:spPr>
          <a:xfrm>
            <a:off x="507960" y="2019240"/>
            <a:ext cx="8128080" cy="3073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Object 2" descr=""/>
          <p:cNvPicPr/>
          <p:nvPr/>
        </p:nvPicPr>
        <p:blipFill>
          <a:blip r:embed="rId1"/>
          <a:stretch/>
        </p:blipFill>
        <p:spPr>
          <a:xfrm>
            <a:off x="507960" y="1636560"/>
            <a:ext cx="8128080" cy="383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Object 2" descr=""/>
          <p:cNvPicPr/>
          <p:nvPr/>
        </p:nvPicPr>
        <p:blipFill>
          <a:blip r:embed="rId1"/>
          <a:stretch/>
        </p:blipFill>
        <p:spPr>
          <a:xfrm>
            <a:off x="507960" y="2403360"/>
            <a:ext cx="8128080" cy="230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Object 2" descr=""/>
          <p:cNvPicPr/>
          <p:nvPr/>
        </p:nvPicPr>
        <p:blipFill>
          <a:blip r:embed="rId1"/>
          <a:stretch/>
        </p:blipFill>
        <p:spPr>
          <a:xfrm>
            <a:off x="507960" y="2981160"/>
            <a:ext cx="8128080" cy="1149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对象 1" descr=""/>
          <p:cNvPicPr/>
          <p:nvPr/>
        </p:nvPicPr>
        <p:blipFill>
          <a:blip r:embed="rId1"/>
          <a:stretch/>
        </p:blipFill>
        <p:spPr>
          <a:xfrm>
            <a:off x="507960" y="2924280"/>
            <a:ext cx="8128080" cy="849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Object 2" descr=""/>
          <p:cNvPicPr/>
          <p:nvPr/>
        </p:nvPicPr>
        <p:blipFill>
          <a:blip r:embed="rId1"/>
          <a:stretch/>
        </p:blipFill>
        <p:spPr>
          <a:xfrm>
            <a:off x="507960" y="895320"/>
            <a:ext cx="8128080" cy="5321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22:09:00Z</dcterms:created>
  <dc:creator>语文备课大师网</dc:creator>
  <dc:description/>
  <cp:keywords/>
  <dc:language>en-US</dc:language>
  <cp:lastModifiedBy>微软用户</cp:lastModifiedBy>
  <dcterms:modified xsi:type="dcterms:W3CDTF">2014-03-17T03:58:29Z</dcterms:modified>
  <cp:revision>11</cp:revision>
  <dc:subject/>
  <dc:title>语文备课大师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