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DD9-6C2B-47FC-8AB8-5A0004EA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DAA-CC64-48A0-B8F9-2213D506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9DE-7251-4B79-9BBB-0FFA5E75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8D7-98C3-494D-9E8A-44C22E75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981-59B6-4348-9FC3-9626E650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421-FF26-4820-B463-27C72F76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551-8D96-4C22-BCE4-933A93D4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E75-5945-48E2-9264-E9D6DE1D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6BF-1305-4E2F-A845-370A0B47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D41-DBA5-40B9-9DC8-6ACEBE9D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F9F-D6F9-4AF0-941D-7B3B7D98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687-B099-4E79-99CE-274BAC0B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DD3-D4B2-4E7B-ABE5-803E1A1D03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59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琵琶行　并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第2单元1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1970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76212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虾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红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西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银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嘲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呕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唧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289" t="0" r="48462" b="16106"/>
          <a:stretch/>
        </p:blipFill>
        <p:spPr>
          <a:xfrm>
            <a:off x="762120" y="2819520"/>
            <a:ext cx="6718320" cy="1218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4038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钿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diàn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帛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bó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虾蟆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há ma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敛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liǎn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绡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xiāo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舫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fǎnɡ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篦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bì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阑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lán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嘲哳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zhāo zhā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呕哑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ōu yā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唧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j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10412" r="78631" b="0"/>
          <a:stretch/>
        </p:blipFill>
        <p:spPr>
          <a:xfrm>
            <a:off x="914400" y="4851360"/>
            <a:ext cx="266688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848" t="0" r="33017" b="0"/>
          <a:stretch/>
        </p:blipFill>
        <p:spPr>
          <a:xfrm>
            <a:off x="762120" y="676440"/>
            <a:ext cx="7772400" cy="442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14800" y="220968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3733920"/>
            <a:ext cx="32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90720" y="4724280"/>
            <a:ext cx="6553080" cy="1600200"/>
            <a:chOff x="990720" y="4724280"/>
            <a:chExt cx="6553080" cy="1600200"/>
          </a:xfrm>
        </p:grpSpPr>
        <p:pic>
          <p:nvPicPr>
            <p:cNvPr id="66" name="" descr=""/>
            <p:cNvPicPr/>
            <p:nvPr/>
          </p:nvPicPr>
          <p:blipFill>
            <a:blip r:embed="rId2"/>
            <a:srcRect l="4484" t="2674" r="48697" b="-1337"/>
            <a:stretch/>
          </p:blipFill>
          <p:spPr>
            <a:xfrm>
              <a:off x="990720" y="4724280"/>
              <a:ext cx="65530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181480" y="4724280"/>
              <a:ext cx="609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宋体"/>
                </a:rPr>
                <a:t>s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写汉字" descr=""/>
          <p:cNvPicPr/>
          <p:nvPr/>
        </p:nvPicPr>
        <p:blipFill>
          <a:blip r:embed="rId1"/>
          <a:stretch/>
        </p:blipFill>
        <p:spPr>
          <a:xfrm>
            <a:off x="852480" y="752400"/>
            <a:ext cx="2728800" cy="619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47270" b="78978"/>
          <a:stretch/>
        </p:blipFill>
        <p:spPr>
          <a:xfrm>
            <a:off x="380880" y="1571760"/>
            <a:ext cx="7315200" cy="942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0" r="38484" b="0"/>
          <a:stretch/>
        </p:blipFill>
        <p:spPr>
          <a:xfrm>
            <a:off x="990720" y="2462040"/>
            <a:ext cx="7391160" cy="1784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19920" y="2590920"/>
            <a:ext cx="2438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219320" y="4343400"/>
            <a:ext cx="2438280" cy="461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962520" y="4191120"/>
            <a:ext cx="1981080" cy="16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解词义" descr=""/>
          <p:cNvPicPr/>
          <p:nvPr/>
        </p:nvPicPr>
        <p:blipFill>
          <a:blip r:embed="rId1"/>
          <a:stretch/>
        </p:blipFill>
        <p:spPr>
          <a:xfrm>
            <a:off x="990720" y="706320"/>
            <a:ext cx="2590560" cy="588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" y="1447920"/>
            <a:ext cx="7620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予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左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江郡司马　左迁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委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贾人妇　　委身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感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言　　　斯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凡六百一十六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言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曰《琵琶行》　 命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弦弦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掩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声声思　掩抑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69584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左迁：贬官，降职。　委身：托身，这里是嫁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斯：这。  言：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命：命名，题名。       掩抑：低沉抑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884160"/>
            <a:ext cx="822960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间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莺语花底滑　间关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曲终收拨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心画　　当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坊第一部　　属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暮去朝来颜色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故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6576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间关：形容鸟声婉转。  当：对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属：归属，隶属。  故：衰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979560"/>
            <a:ext cx="800100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从去年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帝京　　辞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往往取酒还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独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独倾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莫辞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更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一曲　更坐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君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翻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琵琶行》　翻作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373392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辞：离开，辞别。  独倾：独自饮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更坐：再坐下来。  翻作：写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辨用法" descr=""/>
          <p:cNvPicPr/>
          <p:nvPr/>
        </p:nvPicPr>
        <p:blipFill>
          <a:blip r:embed="rId1"/>
          <a:stretch/>
        </p:blipFill>
        <p:spPr>
          <a:xfrm>
            <a:off x="623880" y="785880"/>
            <a:ext cx="2576520" cy="585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1528920"/>
            <a:ext cx="7924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委身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贾人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霓裳》后《六幺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尝学琵琶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穆、曹二善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徙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江湖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487692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为：①为：动词，做。②为：动词，弹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于：①于：介词，跟。②介词，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762120"/>
            <a:ext cx="6400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　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歌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赠之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309564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以　之　以　连词，表目的，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之：代词，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遂：副词，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分古今" descr=""/>
          <p:cNvPicPr/>
          <p:nvPr/>
        </p:nvPicPr>
        <p:blipFill>
          <a:blip r:embed="rId1"/>
          <a:stretch/>
        </p:blipFill>
        <p:spPr>
          <a:xfrm>
            <a:off x="609480" y="689040"/>
            <a:ext cx="2667240" cy="60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19320" y="1295280"/>
            <a:ext cx="739116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明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秋，送客湓浦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古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今义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因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长句，歌以赠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古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今义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老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嫁作商人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古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今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3434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古义：第二年；今义：今年的第二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古义：是副词和动词构成的两个词，这里是“因此作”的意思；今义：表原因的连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古义：年龄大；今义：兄弟排序第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762120"/>
            <a:ext cx="79246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梦啼妆泪红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阑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古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今义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铁骑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突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刀枪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古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今义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整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衣裳起敛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古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今义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凄凄不似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向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古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今义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暮去朝来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颜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古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今义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138400"/>
            <a:ext cx="884232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990720"/>
            <a:ext cx="769608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④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古义：纵横散乱、参差错杂；今义：用竹、石、金属专制成的拦挡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⑤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古义：突然出现；今义：超出一般，冲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⑥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古义：整理，理一理；今义：使不健全的健全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⑦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古义：原来的，先前的；今义：是介词和方位名词构成的一个词，向前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⑧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古义：容颜；今义：色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判活用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2362320" cy="536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90720" y="1523880"/>
            <a:ext cx="6095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闻舟中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琵琶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遂命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商人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离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32479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夜：名词做状语，在夜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酒：名词作动词，摆酒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重、轻：形容词作动词，看重，轻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析句式" descr=""/>
          <p:cNvPicPr/>
          <p:nvPr/>
        </p:nvPicPr>
        <p:blipFill>
          <a:blip r:embed="rId1"/>
          <a:stretch/>
        </p:blipFill>
        <p:spPr>
          <a:xfrm>
            <a:off x="685800" y="708120"/>
            <a:ext cx="259092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480" y="1295280"/>
            <a:ext cx="67820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人下马客在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为《霓裳》后《六幺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长安倡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快弹数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送客湓浦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感斯人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沉吟放拨插弦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徙于江湖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尝学琵琶于穆、曹二善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816120"/>
            <a:ext cx="8458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互文，“主人下马”和“客在船”在文义上互文见义。主人和客人都下马到了船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省略句，承前省掉“为”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省略谓语，“本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长安倡女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④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省略“之”，“使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快弹数曲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⑤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省略“于”，“送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湓浦口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⑥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省略“于”，“感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斯人言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⑦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省略句。省略“于”，在，“沉吟放拨插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弦中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⑧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介宾短语后置。应为“于江湖间转徙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介宾短语后置。应为“尝于穆、曹二善才学琵琶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积名句10" descr=""/>
          <p:cNvPicPr/>
          <p:nvPr/>
        </p:nvPicPr>
        <p:blipFill>
          <a:blip r:embed="rId1"/>
          <a:stretch/>
        </p:blipFill>
        <p:spPr>
          <a:xfrm>
            <a:off x="685800" y="733320"/>
            <a:ext cx="2743200" cy="623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154296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醉不成欢惨将别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琵琶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呼万唤始出来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琵琶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轴拨弦三两声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琵琶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弦弦掩抑声声思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琵琶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嘈嘈切切错杂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琵琶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31496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别时茫茫江浸月　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犹抱琵琶半遮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未成曲调先有情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似诉平生不得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大珠小珠落玉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33480"/>
            <a:ext cx="7924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6)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此时无声胜有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琵琶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东船西舫悄无言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琵琶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去来江口守空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琵琶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9)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相逢何必曾相识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琵琶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0)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心忧炭贱愿天寒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《卖炭翁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地愿为连理枝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白居易《长恨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26708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6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别有幽愁暗恨生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7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唯见江心秋月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8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绕船月明江水寒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9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同是天涯沦落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10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可怜身上衣正单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1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在天愿做比翼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762120"/>
            <a:ext cx="8229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2)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春风吹又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赋得古原草送别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3)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谁家新燕啄春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钱塘湖春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试玉要烧三日满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放言五首其三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间四月芳菲尽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大林寺桃花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6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道残阳铺水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暮江吟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7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乱花渐欲迷人眼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《钱塘湖春行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162320"/>
            <a:ext cx="6477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1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野火烧不尽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13)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几处早莺争暖树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14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辨材须待七年期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15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山寺桃花始盛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16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半江瑟瑟半江红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17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浅草才能没马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通语篇11" descr=""/>
          <p:cNvPicPr/>
          <p:nvPr/>
        </p:nvPicPr>
        <p:blipFill>
          <a:blip r:embed="rId1"/>
          <a:stretch/>
        </p:blipFill>
        <p:spPr>
          <a:xfrm>
            <a:off x="623880" y="744480"/>
            <a:ext cx="2881440" cy="652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1363680"/>
            <a:ext cx="7848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文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演奏为主线：第一次演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暗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诗人送客闻琴，第二次演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第三次明写“感我此言”“却坐促弦”“江洲司马青衫湿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侧面烘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段浔阳江边闻琵琶。“浔阳江头夜送客”，交代了故事发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地点、人物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再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渲染出一种悲凉的气氛，为全诗定下了基调。“主人”四句，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的凄凉情景。“举酒欲饮无管弦”，“醉不成欢惨将别”，一个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点出了凄凉环境。最后借江边月影，烘托出主客相对无言，黯然神伤的心情。“忽闻”两句对忽然传来的琵琶声悠然神往，从感情上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引起下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505480"/>
            <a:ext cx="8229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三　江心聆听琵琶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时间　事件　枫叶荻花秋瑟瑟　饯别　惨　忧　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955800"/>
            <a:ext cx="7848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琵琶女的第二次演奏过程可分为三个阶段：第一阶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轴拨弦三两声，未成曲调先有情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琵琶女演奏之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并已进入乐曲的境界中。第二阶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弦弦掩抑声声思……说尽心中无限事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琵琶演奏大概根据当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定的一支曲子，写出了琵琶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第三阶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轻拢慢捻抹复桃……四弦一声如裂帛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琵琶女演奏名曲《霓裳羽衣曲》和《六幺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640" y="4572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调弦　心绪　技艺的娴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716040"/>
            <a:ext cx="78487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琵琶女第三次演奏的调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与《霓裳》、《六幺》不同，从“满座重闻皆掩泣”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看出，作者是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音乐的艺术效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首诗是一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诗，主要记叙白居易贬谪江州时，月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巧遇琵琶女一事。诗中主要塑造了两个人物形象：琵琶女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前者为主，后者为宾。既表达了对琵琶女晚年沉沦遭遇的同情，也表达了诗人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心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6483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悲凉　江州司马青衫湿　侧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叙事　送客江边　诗人自己　凄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1676520"/>
            <a:ext cx="678204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邯郸冬至夜思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居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邯郸驿里逢冬至，抱膝灯前影伴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得家中夜深坐，还应说着远行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译原文12" descr=""/>
          <p:cNvPicPr/>
          <p:nvPr/>
        </p:nvPicPr>
        <p:blipFill>
          <a:blip r:embed="rId1"/>
          <a:stretch/>
        </p:blipFill>
        <p:spPr>
          <a:xfrm>
            <a:off x="609480" y="901800"/>
            <a:ext cx="2971800" cy="67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1946160"/>
            <a:ext cx="8001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原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和十年，予左迁九江郡司马。明年秋，送客湓浦口，闻舟中夜弹琵琶者，听其音，铮铮然有京都声。问其人，本长安倡女。尝学琵琶于穆、曹二善才，年长色衰，委身为贾人妇。遂命酒，使快弹数曲。曲罢悯然，自叙少小时欢乐事，今漂沦憔悴，转徙于江湖间。予出官二年，恬然自安，感斯人言，是夕始觉有迁谪意。因为长句，歌以赠之，凡六百一十六言，命曰《琵琶行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685800"/>
            <a:ext cx="8229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译文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元和十年，我被贬为九江郡司马。第二年秋天，我送客到湓浦口，听到船中有夜弹琵琶的，听那乐音，铮铮的竟有京城流行的乐曲声韵。询问那个人，原来是长安的歌女，曾经跟穆、曹两位名师学弹琵琶，后来年岁增长，容貌衰老，就嫁给一个商人做妻子。我于是叫人摆上酒席，让她尽情地弹几支曲子。曲子弹完后，她显得十分忧郁，自己叙述了年轻时欢乐的往事，可如今漂泊流落，面容憔悴，辗转于各地。我离开京城调到外地做官已经两年，心境平静，安于现状，却被这个歌女的话所触动，这天晚上才觉得有了被贬谪的意味。因此写了这首七言古诗，吟咏并赠送给她，一共六百一十六字，取名叫《琵琶行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101600"/>
            <a:ext cx="769608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原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浔阳江头夜送客，枫叶荻花秋瑟瑟。主人下马客在船，举酒欲饮无管弦。醉不成欢惨将别，别时茫茫江浸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译文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夜晚来临，我来到浔阳江边为客人送行，枫叶和荻花在秋风中瑟瑟作响。我和客人一同下了马来到船上，举起酒杯想畅饮却没有音乐相伴助兴。喝醉了，心情却并不愉快，我怀着悲伤的心情要与朋友分别，其时月影沉浸在茫茫的江水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746280"/>
            <a:ext cx="7696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原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忽闻水上琵琶声，主人忘归客不发。寻声暗问弹者谁？琵琶声停欲语迟。移船相近邀相见，添酒回灯重开宴。千呼万唤始出来，犹抱琵琶半遮面。转轴拨弦三两声，未成曲调先有情。弦弦掩抑声声思，似诉平生不得志。低眉信手续续弹，说尽心中无限事。轻拢慢捻抹复挑，初为《霓裳》后《六幺》。大弦嘈嘈如急雨，小弦切切如私语。嘈嘈切切错杂弹，大珠小珠落玉盘。间关莺语花底滑，幽咽泉流冰下难。冰泉冷涩弦凝绝，凝绝不通声暂歇。别有幽愁暗恨生，此时无声胜有声。银瓶乍破水浆迸，铁骑突出刀枪鸣。曲终收拨当心画，四弦一声如裂帛。东船西舫悄无言，唯见江心秋月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066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译文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这时，忽视听到水面上传来琵琶声，我忘记了回家，客人也忘记了开船出发。我追寻着声音悄悄问弹琵琶的是谁？琵琶声停了下来，琵琶女想要答话却又有些迟疑。我移近船只请她过来见面，添上酒把灯光拨亮些，再一次摆开酒宴。千呼万唤琵琶女才走出船舱来，还怀抱着琵琶羞涩地遮住半边脸庞。她拧转琴轴，拨动丝弦，试弹了三两声，还没有奏出曲调就先有了情意。声声弦音低沉抑郁，充满愁思，好像在诉说自己一生不幸的遭遇。她低着眉头随手连续地弹，说尽了心中无限伤心的往事。轻轻地拢，慢慢地捻，一会儿抹，一会儿挑，先奏《霓裳》后奏《六幺》。大弦声音浊杂粗重犹如暴雨，小弦声音轻细好似窃窃私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838080"/>
            <a:ext cx="7925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粗重轻细的声音交错弹奏，如同大珠小珠散落在玉盘里发出清脆圆润的声音。那音一会儿像黄莺在花下啼鸣婉转流利，一会儿似泉水在冰下流动滞涩不畅。像正在凝成冰的泉水又冷又涩不能畅流，弦似乎凝结不动，弦凝结不动声音暂时停歇了下来。停歇中另有一种幽愁暗恨在产生，此时无声却胜过有声。突然如同银瓶破裂水浆溅射，又像铁甲骑兵突然杀出，刀枪碰撞轰鸣作响。乐曲终了，琵琶女用拨子对着琵琶中心划了一下，四根弦同时发出如同撕裂丝绸一样的声音。东船西舫悄然无声，只见倒映在江心的秋月又白又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30080" y="1143000"/>
            <a:ext cx="7728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原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沉吟放拨插弦中，整顿衣裳起敛容。自言本是京城女，家在虾蟆陵下住。十三学得琵琶成，名属教坊第一部。曲罢曾教善才服，妆成每被秋娘妒。五陵年少争缠头，一曲红绡不知数。钿头银篦击节碎，血色罗裙翻酒污。今年欢笑复明年，秋月春风等闲度。弟走从军阿姨死，暮去朝来颜色故。门前冷落鞍马稀，老大嫁作商人妇。商人重利轻别离，前月浮梁买茶去。去来江口守空船，绕船月明江水寒。夜深忽梦少年事，梦啼妆泪红阑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679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译文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琵琶女迟疑一下，放下拨子插入弦中，然后整理好衣裳，起身站立显出庄重的神色。她自说本来是京城的女子，家住在虾蟆陵下。十三岁就学会了弹奏琵琶，名字编在教坊第一队里。一曲弹罢曾让琵琶师们佩服，梳妆好了常常被同行歌伎嫉妒。京城富贵子弟竞相赠送缠头，弹完了一支曲子得到的红绡不知其数。上端镶着金花的银钗因随着乐曲打拍子而被敲碎，猩红的罗裙因泼翻了酒而被沾污。欢乐的日子一年又一年，美好的岁月就这样白白地虚度了。弟弟从军去了，鸨母也死了，随着时光的流逝容貌衰老了。门前冷清下来，很少有车马光顾，年纪大了，出嫁作了商人的妻子。商人看重钱财不在乎别离，上个月去浮梁县买茶做生意去了。去浮梁以后，我在江口独守空船，绕船伴我的只有这明亮的月亮和寒冷的江水，深夜里我忽然梦见年轻时候的往事，梦中哭得搽了脂粉的脸上红色泪痕纵横交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371600"/>
            <a:ext cx="77724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原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闻琵琶已叹息，又闻此语重唧唧。同是天涯沦落人，相逢何必曾相识！我从去年辞帝京，谪居卧病浔阳城。浔阳地僻无音乐，终岁不闻丝竹声。住近湓江地低湿，黄芦苦竹绕宅生。其间旦暮闻何物？杜鹃啼血猿哀鸣。春江花朝秋月夜，往往取酒还独倾。岂无山歌与村笛，呕哑嘲哳难为听。今夜闻君琵琶语，如听仙乐耳暂明。莫辞更坐弹一曲，为君翻作《琵琶行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77800" y="685800"/>
            <a:ext cx="8185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译文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听了琵琶声已经深为叹息了，又听到了这一番话更加感叹不已。同样是沦落天涯遭遇不幸的人，今天既然相逢在一起，何必要曾经互相认识呢！我从去年离开京城，被贬职居住在浔阳城，又加染上了疾病。浔阳地处偏僻，没有音乐，终年听不到丝竹之声。住宅靠近湓江，地势低洼潮湿，只有芦苇苦竹绕宅而生。这里早晚能听见是什么？只有杜鹃的悲啼、猿猴的哀鸣。不管是春天江边鲜花盛开的早晨，还是秋月朗照的夜晚，常常拿出酒来独自酌饮。难道这里没有樵夫的山歌与牧童的笛声，可那声音单调嘈杂太难听了。今夜听到你琵琶弹奏的乐曲，如同听到仙界的音乐，耳目顿时清朗明净。你不要推辞，再坐下来弹上一曲，我为你写作《琵琶行》的歌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8762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바탕"/>
                <a:ea typeface="바탕"/>
              </a:rPr>
              <a:t>☞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鉴赏：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第一句叙客中度节，已植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思家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之根。第二句写他在客店里过节。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抱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二字，活画出枯坐的神态。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灯前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二字，既烘染环境，又点出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，托出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影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。一个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伴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字，把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身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与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影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联系起来，并赋予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影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以人的感情。只有抱膝枯坐的影子陪伴着抱膝枯坐的身子，其孤寂之感，思家之情，已溢于言表。三、四两句，正面写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思家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。其感人之处是：他在思家之时想象出来的那幅情景，却是家里人如何想念自己。这个冬至佳节，由于自己离家远行，所以家里人一定也过得很不愉快。当自己抱膝灯前，想念家人，直想到深夜的时候，家里人大约同样还没有睡，坐在灯前，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说着远行人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吧！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说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仿宋_GB2312"/>
              </a:rPr>
              <a:t>了些什么呢？这就给读者留下了驰骋想象的广阔天地。每一个享过天伦之乐的人，有过类似经历的人，都可以根据自己的生活体验，想得很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1066680"/>
            <a:ext cx="79246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原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感我此言良久立，却坐促弦弦转急。凄凄不似向前声，满座重闻皆掩泣。座中泣下谁最多？江州司马青衫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译文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她被我这翻话感动，站立了许久，随后退回原处坐下把弦拧紧，弦音变得更急促。凄凄切切不像刚才的声音，在座所有的人重新听到那音乐都掩面哭泣。在座的谁的眼泪流得最多？我这个江州司马的青衫已被泪水湿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884232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6858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导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琵琶行》是一首叙事诗，它的情节结构是按照什么线索展开的？又是怎样体现出浓浓的感伤情调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133720"/>
            <a:ext cx="8153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第一条线索是“乐”。“举酒欲饮无管弦”，这是从反面落笔，随即从“忽闻水上琵琶声”到“四弦一声如裂帛”，集中写“乐”；琵琶女自诉身世，述及学成琵琶，曲伏善才，是概述其音乐才能。诗人倾诉悲怀，述及“浔阳地僻无音乐，终岁不闻丝竹声”，又是从反面强调，为“今夜闻君琵琶语，如闻仙乐耳暂明”张本。“莫辞更坐弹一曲，为君翻作《琵琶行》”，是前面主要乐段的继续，又起到了点题的作用，而在写法上，前者是实写，后者是虚写，二者对比鲜明，相映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1066680"/>
            <a:ext cx="792504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第二条线索是“情”。“醉不成欢惨将别”“未成曲调先有情”“梦啼妆泪红阑干”，分别是相关段落“情”的主调，接着以闻乐“叹息”、闻语“唧唧”进入感情的高潮，最后以“江州司马青衫湿”的浓浓情语作结。在这感情线索中，琵琶女之情与诗人之情是始终难解难分地交织在一起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第三条线索是“事”。这是叙事诗必不可少的线索，然而巧妙的是其间重点穿插了琵琶女和诗人自言身世遭遇的片断，极大地充实了叙事的情和事，凸现了“同是天涯沦落人”的主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8161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第四条线索是“景”。本诗是以江月为景的主要线索的。先写“别时茫茫江浸月”，诗人把离情别绪物化在清冷无声的茫茫秋月江水之中，这种寂静又有效地反衬出有声的琵琶“铮铮然”而起。当演奏结束时，则是“东船西舫悄无言，唯见江心秋月白”，曲终而声未绝，欣赏者仍沉浸在神情恍惚之中，乐境似乎已经化为江月寂寥的无声的画面，这也是以“此时无声胜有声”的手法来写音乐的魅力。继而在琵琶女自述身世后，有“绕船月明江水寒”句，再次照应江月，一个“寒”字概括了琵琶女的凄凉身世。最后，诗人在寂寞心境时写的“春江花朝秋月夜，往往取酒还独倾”，也以“江月”为景，同样以孤寒为其基调。这些景语，前后照应，一线贯穿，犹如电影中蒙太奇的组接，丰富了长诗的画面和情调，成功地协调了“乐”“情”“事”三条线索的发展与交叉，增进了作品的感伤情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609480"/>
            <a:ext cx="8305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音乐形象的塑造是异常困难的，白居易是用什么方法把琵琶女的琴声展现得淋漓尽致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447920"/>
            <a:ext cx="82296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写琵琶女演奏名曲《霓裳羽衣曲》和《六幺》，这原是一件难事，但诗人写得很巧妙：他只写了三个有代表性的乐段，并运用生动的比喻同时诉诸读者的视觉和听觉，使读者在想象中亲聆琵琶的美妙乐音和旋律的发展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第一乐段兼用比喻和摹声分写大弦和小弦，二者交错进行而有“大珠小珠落玉盘”之声，表现了急切而愉悦的情调。第二乐段用花底莺语的间关之声作比，再著一个“滑”字，使读者觉察到旋律变得轻快流畅了；接着又逐渐缓慢下来，仿佛进入了半终止状态——这“无声”的音乐又使读者去寻味“幽愁暗恨”，并期待着变化的到来。果然，第三乐段一开始就是“银瓶乍破水浆迸”，这是高潮到来的信号；它发展得很快，接着就出现了“铁骑突出刀枪鸣”的热烈而紧张的场面。读了这一段文字，掩卷沉思，会有“余音绕梁”之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5280" y="990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诗人与琵琶女的感情是怎样产生共鸣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603440"/>
            <a:ext cx="7848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诗人听完琵琶曲，了解了琵琶女的身世后，不由自主发出了“同是天涯沦落人，相逢何必曾相识”的感慨。看来琵琶女昔日在京城里“曲罢曾教善才服，妆成每被秋娘妒”的情况和作者被贬以前的情况有相通之处。同样，他被贬以后的处境和琵琶女“老大嫁作商人妇”以后的处境有类似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777960"/>
            <a:ext cx="78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诗歌前后贯穿了几处风物描写的文字，这些风物有什么作用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763640"/>
            <a:ext cx="792468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篇首的“浔阳江头夜送客，枫叶荻花秋瑟瑟”，叙述了江东送客时的环境。秋夜的江水、枫叶、荻花，构成清晰如画的意境，令人顿感秋凉袭身，曲曲传达出诗人凄凉愁惨的心情，为全诗奠定了感情基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别时茫茫江浸月”，叙述别时景象，景中含情。茫茫江水，溶溶月色，无不弥散着诗人的离愁别绪，仿佛诗人的心情融化其中，与自然风物有了感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838080"/>
            <a:ext cx="807696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唯见江心秋月白”，写音乐结束时寂静的环境。音乐结束，但其感情仍在扩散，一直渗入被秋月照亮的江心，又仿佛江心秋月也在为音乐中的感情所打动。情景交融，烘托了音乐效果，形成令人回味的意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另外如“绕船月明江水寒”，写琵琶女独守空船时的环境，渲染了琵琶女冷落凄凉的心情；“黄芦苦竹绕宅生”，写诗人的生活环境，渲染诗人被贬后的孤寂悲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总之，一枝一叶总关情。诗歌中的风物成了溢满感情的意象，叠加在一起，使《琵琶行》整个诗境恍若沉浸在浔阳江头那一派忧郁的月光里，凄美哀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4526" r="51976" b="5540"/>
          <a:stretch/>
        </p:blipFill>
        <p:spPr>
          <a:xfrm>
            <a:off x="2738520" y="685800"/>
            <a:ext cx="4833720" cy="5715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35720" y="2927520"/>
            <a:ext cx="3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00080" y="762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构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68680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762120"/>
            <a:ext cx="80769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法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节曲折，波澜起伏：在“醉不成欢惨将别”的时候，便“忽闻水上琵琶声，主人忘归客不发”，将情节推向另一个境界。第一次琵琶演奏已毕，“东船西舫悄无言”，似乎可以结束了，忽然又“沉吟”、“敛容”，琵琶女要诉说自己的身世了。琵琶女诉说一完，诗人便抒发自己的感慨，将自己的遭遇与琵琶女的遭遇联系起来，推动了故事情节的发展。更奏一曲，乐声进入了高潮，但诗人不再作正面描写，只说其声“凄凄”，并“不似向前”，写到这里，就戛然而止。这样，既能使人感慨不已，又能使人产生意深境远的感觉。这种曲折多变的情节，使琵琶女富于戏剧性的遭遇得到突出表现，她的琵琶绝技也得到了细致的描绘；而作者的心情和感慨也能淋漓尽致地表达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709560"/>
            <a:ext cx="83822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景物烘托感情氛围：如秋江夜别“枫叶荻花秋瑟瑟”“别时茫茫江浸月”，这种萧瑟的秋景对离情别绪是有力的烘托。“住近湓江地低湿，黄芦苦竹绕宅生。其间旦暮闻何物？杜鹃啼血猿哀鸣。”四句描写了环境的恶劣，有力地烘托了“天涯沦落”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叙事抒情水乳交融：本诗所叙之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秋夜江头送客、琵琶女的悲剧命运、作者的贬谪生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饱含的感情成分；景物的描写，气氛的烘托；人物的动作，心理的细致描写；人物以抒情方式倾诉悲怀；精当的说明和议论的巧妙穿插，“未成曲调先有情”、“似诉平生不得志”、“说尽心中无限事”、“初为《霓裳》后《六幺》”、“别有幽愁暗恨生，此时无声胜有声”等等，对于塑造琵琶女的形象，有画龙点睛之妙，也是不容忽视的。凡此种种，都使这首诗满含着抒情气息，做到了叙事与抒情的密切融合，增强了作品的感情色彩和艺术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29528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象类比，抒情言志：《琵琶行》塑造了两个人物形象。在中唐商业经济发达、城市畸形繁荣的生活环境里，在当时互相倾轧、仕途险恶的政治背景里，琵琶女的形象和诗人的形象，都具有其现实的典型意义。此诗用形象类比法把两人之间的悲愤情感、不幸遭遇等方面进行类比，最后融合为一，从而推出两个艺术形象都有怀才不遇、沦落天涯的感慨的结论。形象类比，抒情言志，富有极强的艺术感染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723960"/>
            <a:ext cx="8534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文体常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乐府，始创于初唐。初唐诗人写乐府诗，已有少数诗人，另立新题，虽辞为乐府，已不被于声律，故称新乐府。此类作品至李白、杜甫而大有发展。杜甫所作如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》、《丽人行》等，用乐府诗体制描写时事。后来，白居易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发扬了这种写作方法，同时确定了新乐府的名称。白居易所作五十首，多反映社会矛盾。其形式采用乐府歌行体，多以三、七言错杂运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序，放在著作正文之前，说明写作宗旨、经过、内容、体例或对著作发表评论的文字。又称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序一般由作者自己写，也有请别人写的。序要求言简意赅，讲真话，避免应酬客套之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4240" y="563868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兵车行　元稹　绪　前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841320"/>
            <a:ext cx="8109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歌行体：诗体名。是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础上发展起来的一种新体诗，正式形成于唐代。这类诗歌的基本特点是：篇幅一般较长，内容较为充实，保留了汉魏乐府诗的叙事特点，用韵自由、音节、格律不限、平仄不拘；句式灵活，富于变化，一般以七言为主、杂以三、五、九言。人们称这种从古诗演化出来的，以长歌浩叹为主要牲征的诗叫做歌行体。标志着这种诗体正式确立的代表作是骆宾王的《帝京篇》、卢照邻的《长安古意》、刘希夷的《代悲白头吟》和张若虚的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96560" y="518148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汉魏六朝乐府诗　春江花月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883908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66680" y="873000"/>
            <a:ext cx="76964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下列词语中加点的字的读音，正确的一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幽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yè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jiāo)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yāo)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浦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p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迁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zhé)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jiǎ)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í) 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铮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zhēn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转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ǐ)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áo)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iàn)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蟆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h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管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ián)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呕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yā)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嘲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zhā)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江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qì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1148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憔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应读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qi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á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o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贾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应读为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ɡ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ǔ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浸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应读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jì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933480"/>
            <a:ext cx="784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下列词语的书写，完全正确的一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漂沦　掩抑　曲罢悯然　钿头银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独倾　凝绝　转徒江湖　幽愁暗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缠头　敛容　轻拢慢捻　悠咽泉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呕歌　红绡　东船西舫　恬然自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8098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徒－徙；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悠－幽；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呕－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1048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84312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基础知识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下列加点的字的注音，不正确的一项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léi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shà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复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ì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偏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p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shé)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ǎo)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ōu)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上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sù)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债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juàn)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zhān)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qiè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īn)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租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lìn) 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zhāo)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ì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25304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券－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qu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à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；砧－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zhē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；契－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qì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识作者" descr=""/>
          <p:cNvPicPr/>
          <p:nvPr/>
        </p:nvPicPr>
        <p:blipFill>
          <a:blip r:embed="rId1"/>
          <a:stretch/>
        </p:blipFill>
        <p:spPr>
          <a:xfrm>
            <a:off x="700200" y="938160"/>
            <a:ext cx="2576520" cy="58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1676520"/>
            <a:ext cx="54864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居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77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46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晚年又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河南新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今郑州新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，官至翰林学士、左赞善大夫。唐代伟大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诗人，中国文学史上负有盛名且影响深远的诗人和文学家。他与元稹共同发起了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动”，世称“元白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2+" descr=""/>
          <p:cNvPicPr/>
          <p:nvPr/>
        </p:nvPicPr>
        <p:blipFill>
          <a:blip r:embed="rId2"/>
          <a:stretch/>
        </p:blipFill>
        <p:spPr>
          <a:xfrm>
            <a:off x="6230880" y="1600200"/>
            <a:ext cx="2227320" cy="312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56280" y="502920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乐天　香山居士　现实主义　新乐府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38080" y="83808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下列词语书写全都正确的一项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修葺　兴高采烈　针砭　脍炙人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迁谪　情投意合　部暑　司马青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暇疵　厚颜无耻　干燥　忧愁暗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端祥　余音绕粱　掩抑　人才汇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73536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暑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应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署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；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暇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应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瑕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忧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应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幽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；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D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祥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应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详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粱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应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梁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汇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应为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荟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77960" y="3886200"/>
            <a:ext cx="5637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感谢您的使用，退出请按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ESC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键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47920" y="2666880"/>
            <a:ext cx="6095880" cy="1625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本小节结束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320" y="1447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43800" y="48006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path" presetID="3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9 C 0.034 -0.15719 0.061 -0.18516 0.1 -0.18516 C 0.12 -0.18516 0.138 -0.17451 0.152 -0.15719 C 0.162 -0.1452 0.174 -0.13854 0.187 -0.13854 C 0.212 -0.13854 0.233 -0.16252 0.241 -0.19715 L 0.25 -0.23845 L 0.232 -0.15053 C 0.215 -0.08126 0.188 -0.05328 0.15 -0.05328 C 0.13 -0.05328 0.111 -0.06394 0.096 -0.08259 C 0.087 -0.09325 0.075 -0.09991 0.063 -0.09991 C 0.038 -0.09991 0.017 -0.07593 0.009 -0.0413 L 0 0 Z">
                                      <p:cBhvr>
                                        <p:cTn id="310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3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59 C 0.034 -0.15719 0.061 -0.18516 0.1 -0.18516 C 0.12 -0.18516 0.138 -0.17451 0.152 -0.15719 C 0.162 -0.1452 0.174 -0.13854 0.187 -0.13854 C 0.212 -0.13854 0.233 -0.16252 0.241 -0.19715 L 0.25 -0.23845 L 0.232 -0.15053 C 0.215 -0.08126 0.188 -0.05328 0.15 -0.05328 C 0.13 -0.05328 0.111 -0.06394 0.096 -0.08259 C 0.087 -0.09325 0.075 -0.09991 0.063 -0.09991 C 0.038 -0.09991 0.017 -0.07593 0.009 -0.0413 L 0 0 Z">
                                      <p:cBhvr>
                                        <p:cTn id="31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1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-0.17276 L 0.1 -0.05157 L 0.05208 0.14431 L -0.10209 0.14431 L -0.15 -0.05157 L -0.025 -0.17276 Z">
                                      <p:cBhvr>
                                        <p:cTn id="316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838080"/>
            <a:ext cx="8210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学上积极倡导新乐府运动，主张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写下了不少感叹时世、反映人民疾苦的诗篇，对后世颇有影响。晚年与“诗豪”刘禹锡友善，称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提倡歌诗发挥美刺讽喻作用。他一生作诗很多，以讽喻诗最为有名，语言通俗易懂，被称为“老妪能解”。有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》传世，代表诗作有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》、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》、《琵琶行》《赋得古原草送别》《钱塘湖春行》《暮江吟》《忆江南》《大林寺桃花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511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文章合为时而著，歌诗合为事而作　刘白　白氏长庆集　长恨歌　卖炭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明背景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666880" cy="606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1521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琵琶行》创作于元和十一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白居易任谏官时，直言敢谏，同情民间疾苦，写了大量的讽喻诗，触怒了唐宪宗，得罪了权贵。元和十年，宰相武元衡被藩镇李师道派人刺杀。白居易情急之中上疏请捕刺客，触犯了权贵的利益，被指责越职奏事，贬为江州刺史；又进而诬陷他作《赏花》《新井》诗“甚伤名教”，再贬江州司马。江州当时被看成是“蛮瘴之地”，加之州司马虽然名义上是刺史的佐史，实际上是一种闲散职务，这对白居易来说是一种莫大的嘲弄。他的被贬其实是一桩冤案，他连遭打击，心境凄凉，满怀郁愤。次年送客湓浦口，遇到琵琶女，创作出这首传世名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注字音" descr=""/>
          <p:cNvPicPr/>
          <p:nvPr/>
        </p:nvPicPr>
        <p:blipFill>
          <a:blip r:embed="rId1"/>
          <a:stretch/>
        </p:blipFill>
        <p:spPr>
          <a:xfrm>
            <a:off x="609480" y="749160"/>
            <a:ext cx="2743200" cy="622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69560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憔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迁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管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转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霓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六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幽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46724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湓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pén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悯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mǐn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憔悴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qiáo cuì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徙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xǐ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谪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zhé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浔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xún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荻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dí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弦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xián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轴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zhóu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遮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zhē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霓裳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ní chánɡ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幺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yāo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嘈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cáo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咽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yè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大师 xiexingcun.com</dc:creator>
  <dc:description/>
  <dc:language>en-US</dc:language>
  <cp:lastModifiedBy>User</cp:lastModifiedBy>
  <dcterms:modified xsi:type="dcterms:W3CDTF">2014-09-06T05:13:46Z</dcterms:modified>
  <cp:revision>0</cp:revision>
  <dc:subject/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