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1.png" ContentType="image/png"/>
  <Override PartName="/ppt/media/image30.png" ContentType="image/png"/>
  <Override PartName="/ppt/media/image13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1.png" ContentType="image/png"/>
  <Override PartName="/ppt/media/image48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8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34224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650960"/>
            <a:ext cx="8540640" cy="32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854064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1680" y="571320"/>
            <a:ext cx="85406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50960"/>
            <a:ext cx="8540640" cy="32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144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34224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144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8004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8004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EE4-21CB-46D3-9870-447C5C12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1650960"/>
            <a:ext cx="8540640" cy="32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53F-C5E3-45EA-BE43-F9BA0E96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854064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1DA-36DC-40F1-BCC8-F9FD9FE4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45A-F4AD-4EF7-B333-69FDFB1C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12A-DAF9-47B6-9AD6-634598CE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854064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571320"/>
            <a:ext cx="85406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15D-DAA0-4929-B70B-B3563D7D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0A7-34A8-428E-A968-B54FEBF3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144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6AF-E54A-46BC-8E3E-5A84154C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F6E-0EAD-44B1-BEF9-24358FE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4920" y="334224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1FB-9412-414C-9FB3-1DB7F144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144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A40-58C2-4661-B9A8-4731619A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248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004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492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248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004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20B-C567-4380-9585-267D0C7D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4824-9CE6-41DF-800A-3353FF91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650960"/>
            <a:ext cx="8540640" cy="32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F3A3-4E99-41B3-94FE-F6D5CCFD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854064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0B2D-42B2-4B87-A732-6A7D6D13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732F-0F74-4C3C-9477-CFCC7C28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77C6-F0AC-4367-990D-1978525F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571320"/>
            <a:ext cx="85406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53C2-A08E-4B12-92D1-16CB3918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9613-153B-4503-B0FC-E0EA6DE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144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B69B-7516-4B86-9856-ECE5E19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72BE-5D3B-4BDB-B6EB-CDA44FD2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920" y="334224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8805-7249-4688-AF45-345A46E1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8144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4345-5D7C-4AAC-99F6-61553E38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9248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80040" y="165096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492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9248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80040" y="3342240"/>
            <a:ext cx="274968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B7D1-4011-4D0D-8C8C-27AE5C93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571320"/>
            <a:ext cx="85406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334224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650960"/>
            <a:ext cx="416772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342240"/>
            <a:ext cx="8540640" cy="154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3240" y="1328760"/>
            <a:ext cx="906480" cy="1983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3240" y="1746360"/>
            <a:ext cx="904680" cy="1951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7"/>
          <a:stretch/>
        </p:blipFill>
        <p:spPr>
          <a:xfrm>
            <a:off x="4680" y="2162160"/>
            <a:ext cx="901800" cy="1969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8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4064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4920" y="1650960"/>
            <a:ext cx="8540640" cy="32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579240" indent="-22284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891360" indent="-17820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248120" indent="-17820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604520" indent="-17820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604520" indent="-17820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604520" indent="-17820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301320" y="5014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124080" y="5014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552720" y="5014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1644-A00D-4D25-AEEB-6FF0BBC1E6D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240" y="1328760"/>
            <a:ext cx="906480" cy="19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240" y="1746360"/>
            <a:ext cx="904680" cy="19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4680" y="2162160"/>
            <a:ext cx="901800" cy="196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62160" y="888480"/>
            <a:ext cx="464796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01320" y="5062680"/>
            <a:ext cx="2289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5"/>
          </p:nvPr>
        </p:nvSpPr>
        <p:spPr>
          <a:xfrm>
            <a:off x="3124080" y="506268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6552720" y="5062680"/>
            <a:ext cx="22892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E0A7-15FB-4AEE-B507-57A7F2CC245A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240" y="1328760"/>
            <a:ext cx="906480" cy="19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3240" y="1746360"/>
            <a:ext cx="904680" cy="19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4680" y="2162160"/>
            <a:ext cx="901800" cy="196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2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4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7.pn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0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7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243160" y="2025720"/>
            <a:ext cx="556272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376280" y="979560"/>
            <a:ext cx="6392880" cy="3752640"/>
          </a:xfrm>
          <a:prstGeom prst="rect">
            <a:avLst/>
          </a:prstGeom>
          <a:ln w="19080">
            <a:solidFill>
              <a:srgbClr val="0033cc"/>
            </a:solidFill>
            <a:prstDash val="dash"/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062000" y="365040"/>
            <a:ext cx="702144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00240" y="1812960"/>
            <a:ext cx="674532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5760" y="507960"/>
            <a:ext cx="697392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28600" y="611280"/>
            <a:ext cx="7104240" cy="128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258920" y="2036880"/>
            <a:ext cx="694224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92320" y="1989000"/>
            <a:ext cx="67611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95480" y="88920"/>
            <a:ext cx="695484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77840" y="84240"/>
            <a:ext cx="6989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320840" y="808200"/>
            <a:ext cx="65041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95360" y="755640"/>
            <a:ext cx="63547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341360" y="31680"/>
            <a:ext cx="7286760" cy="971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339920" y="1389240"/>
            <a:ext cx="689760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66720" y="1689120"/>
            <a:ext cx="6010560" cy="2333520"/>
          </a:xfrm>
          <a:prstGeom prst="rect">
            <a:avLst/>
          </a:prstGeom>
          <a:ln w="19080">
            <a:solidFill>
              <a:srgbClr val="0033cc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085760" y="760320"/>
            <a:ext cx="697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97000" y="1789200"/>
            <a:ext cx="67514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200240" y="598320"/>
            <a:ext cx="67453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068480" y="484200"/>
            <a:ext cx="7008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353960" y="31680"/>
            <a:ext cx="7261560" cy="968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104840" y="2389320"/>
            <a:ext cx="6935760" cy="9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871640" y="0"/>
            <a:ext cx="5794560" cy="57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rcRect l="0" t="0" r="0" b="71843"/>
          <a:stretch/>
        </p:blipFill>
        <p:spPr>
          <a:xfrm>
            <a:off x="1049400" y="584280"/>
            <a:ext cx="7047000" cy="1279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rcRect l="0" t="27254" r="0" b="0"/>
          <a:stretch/>
        </p:blipFill>
        <p:spPr>
          <a:xfrm>
            <a:off x="1049400" y="1822320"/>
            <a:ext cx="704700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rcRect l="0" t="0" r="0" b="74942"/>
          <a:stretch/>
        </p:blipFill>
        <p:spPr>
          <a:xfrm>
            <a:off x="1179360" y="399960"/>
            <a:ext cx="7040880" cy="862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rcRect l="0" t="26272" r="0" b="0"/>
          <a:stretch/>
        </p:blipFill>
        <p:spPr>
          <a:xfrm>
            <a:off x="1179360" y="1303200"/>
            <a:ext cx="7040880" cy="25354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1328760" y="3755880"/>
            <a:ext cx="672624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rcRect l="0" t="0" r="0" b="71363"/>
          <a:stretch/>
        </p:blipFill>
        <p:spPr>
          <a:xfrm>
            <a:off x="1052640" y="555480"/>
            <a:ext cx="7040520" cy="131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0" t="28849" r="0" b="0"/>
          <a:stretch/>
        </p:blipFill>
        <p:spPr>
          <a:xfrm>
            <a:off x="1052640" y="1882800"/>
            <a:ext cx="7040520" cy="327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176480" y="2203560"/>
            <a:ext cx="6792840" cy="130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216080" y="1836720"/>
            <a:ext cx="671364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368360" y="142920"/>
            <a:ext cx="7059600" cy="885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549440" y="1112760"/>
            <a:ext cx="6850080" cy="45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123920" y="712800"/>
            <a:ext cx="68976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333440" y="38160"/>
            <a:ext cx="7302600" cy="974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rcRect l="0" t="0" r="0" b="24404"/>
          <a:stretch/>
        </p:blipFill>
        <p:spPr>
          <a:xfrm>
            <a:off x="1039680" y="1203480"/>
            <a:ext cx="7066080" cy="2498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rcRect l="0" t="75564" r="0" b="0"/>
          <a:stretch/>
        </p:blipFill>
        <p:spPr>
          <a:xfrm>
            <a:off x="1039680" y="3700440"/>
            <a:ext cx="7066080" cy="8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rcRect l="0" t="0" r="0" b="15465"/>
          <a:stretch/>
        </p:blipFill>
        <p:spPr>
          <a:xfrm>
            <a:off x="1206360" y="1665360"/>
            <a:ext cx="6732720" cy="2012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rcRect l="0" t="84354" r="0" b="0"/>
          <a:stretch/>
        </p:blipFill>
        <p:spPr>
          <a:xfrm>
            <a:off x="1206360" y="3673440"/>
            <a:ext cx="6732720" cy="37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rcRect l="0" t="0" r="0" b="8354"/>
          <a:stretch/>
        </p:blipFill>
        <p:spPr>
          <a:xfrm>
            <a:off x="1052640" y="565200"/>
            <a:ext cx="7040520" cy="41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469880" y="1971720"/>
            <a:ext cx="6694560" cy="1200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rcRect l="0" t="92314" r="0" b="0"/>
          <a:stretch/>
        </p:blipFill>
        <p:spPr>
          <a:xfrm>
            <a:off x="1171440" y="1539720"/>
            <a:ext cx="7040520" cy="3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rcRect l="0" t="0" r="0" b="15985"/>
          <a:stretch/>
        </p:blipFill>
        <p:spPr>
          <a:xfrm>
            <a:off x="1073160" y="1565280"/>
            <a:ext cx="6999120" cy="2168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rcRect l="0" t="84210" r="0" b="0"/>
          <a:stretch/>
        </p:blipFill>
        <p:spPr>
          <a:xfrm>
            <a:off x="1073160" y="3738600"/>
            <a:ext cx="699912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95480" y="341280"/>
            <a:ext cx="6954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200240" y="1530360"/>
            <a:ext cx="6745320" cy="12002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1359000" y="2892600"/>
            <a:ext cx="6556320" cy="883800"/>
            <a:chOff x="1359000" y="2892600"/>
            <a:chExt cx="6556320" cy="883800"/>
          </a:xfrm>
        </p:grpSpPr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1382760" y="2892600"/>
              <a:ext cx="65325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1359000" y="3367080"/>
              <a:ext cx="2771640" cy="40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42127"/>
          <a:stretch/>
        </p:blipFill>
        <p:spPr>
          <a:xfrm>
            <a:off x="1095480" y="1303200"/>
            <a:ext cx="6954840" cy="1797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rcRect l="0" t="54151" r="0" b="0"/>
          <a:stretch/>
        </p:blipFill>
        <p:spPr>
          <a:xfrm>
            <a:off x="1095480" y="2984400"/>
            <a:ext cx="6954840" cy="14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rcRect l="0" t="0" r="0" b="40440"/>
          <a:stretch/>
        </p:blipFill>
        <p:spPr>
          <a:xfrm>
            <a:off x="1101600" y="374760"/>
            <a:ext cx="6942240" cy="295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rcRect l="0" t="59633" r="0" b="0"/>
          <a:stretch/>
        </p:blipFill>
        <p:spPr>
          <a:xfrm>
            <a:off x="1101600" y="3333600"/>
            <a:ext cx="6942240" cy="20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rcRect l="0" t="0" r="0" b="38403"/>
          <a:stretch/>
        </p:blipFill>
        <p:spPr>
          <a:xfrm>
            <a:off x="1085760" y="193680"/>
            <a:ext cx="6973920" cy="3279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rcRect l="0" t="61692" r="0" b="0"/>
          <a:stretch/>
        </p:blipFill>
        <p:spPr>
          <a:xfrm>
            <a:off x="1085760" y="3478320"/>
            <a:ext cx="6973920" cy="20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130400" y="1755720"/>
            <a:ext cx="68850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57400" y="641520"/>
            <a:ext cx="6831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179360" y="757080"/>
            <a:ext cx="69231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79520" y="1376280"/>
            <a:ext cx="70405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rcRect l="0" t="0" r="0" b="13774"/>
          <a:stretch/>
        </p:blipFill>
        <p:spPr>
          <a:xfrm>
            <a:off x="1135080" y="1569960"/>
            <a:ext cx="6875280" cy="221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rcRect l="0" t="85624" r="0" b="0"/>
          <a:stretch/>
        </p:blipFill>
        <p:spPr>
          <a:xfrm>
            <a:off x="1135080" y="3772080"/>
            <a:ext cx="68752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rcRect l="0" t="0" r="0" b="38429"/>
          <a:stretch/>
        </p:blipFill>
        <p:spPr>
          <a:xfrm>
            <a:off x="1042920" y="784080"/>
            <a:ext cx="7059600" cy="2551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rcRect l="0" t="60963" r="0" b="0"/>
          <a:stretch/>
        </p:blipFill>
        <p:spPr>
          <a:xfrm>
            <a:off x="1042920" y="3309840"/>
            <a:ext cx="70596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290600" y="2093760"/>
            <a:ext cx="6564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rcRect l="0" t="0" r="0" b="51454"/>
          <a:stretch/>
        </p:blipFill>
        <p:spPr>
          <a:xfrm>
            <a:off x="1030320" y="169920"/>
            <a:ext cx="7085160" cy="2608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rcRect l="0" t="47963" r="0" b="0"/>
          <a:stretch/>
        </p:blipFill>
        <p:spPr>
          <a:xfrm>
            <a:off x="1030320" y="2746440"/>
            <a:ext cx="708516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31920" y="446040"/>
            <a:ext cx="6818400" cy="299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157400" y="3519360"/>
            <a:ext cx="69897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rcRect l="0" t="0" r="0" b="14584"/>
          <a:stretch/>
        </p:blipFill>
        <p:spPr>
          <a:xfrm>
            <a:off x="1039680" y="479520"/>
            <a:ext cx="708516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rcRect l="0" t="84483" r="0" b="0"/>
          <a:stretch/>
        </p:blipFill>
        <p:spPr>
          <a:xfrm>
            <a:off x="1177920" y="1798560"/>
            <a:ext cx="7085160" cy="838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544760" y="2603520"/>
            <a:ext cx="65516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rcRect l="0" t="0" r="0" b="27485"/>
          <a:stretch/>
        </p:blipFill>
        <p:spPr>
          <a:xfrm>
            <a:off x="1062000" y="779400"/>
            <a:ext cx="7021440" cy="3011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0" t="71258" r="0" b="0"/>
          <a:stretch/>
        </p:blipFill>
        <p:spPr>
          <a:xfrm>
            <a:off x="1062000" y="3738600"/>
            <a:ext cx="70214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197000" y="98280"/>
            <a:ext cx="675144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192320" y="417600"/>
            <a:ext cx="6761160" cy="31622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1228680" y="3581280"/>
            <a:ext cx="66880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693800" y="104760"/>
            <a:ext cx="6361200" cy="590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70000" y="693720"/>
            <a:ext cx="69804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114560" y="855720"/>
            <a:ext cx="6916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rcRect l="0" t="0" r="0" b="57205"/>
          <a:stretch/>
        </p:blipFill>
        <p:spPr>
          <a:xfrm>
            <a:off x="1311120" y="1455840"/>
            <a:ext cx="6523200" cy="11984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rcRect l="0" t="42126" r="0" b="0"/>
          <a:stretch/>
        </p:blipFill>
        <p:spPr>
          <a:xfrm>
            <a:off x="1311120" y="2635200"/>
            <a:ext cx="65232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85760" y="974880"/>
            <a:ext cx="69739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111320" y="1003320"/>
            <a:ext cx="692316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14560" y="1569960"/>
            <a:ext cx="691668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05080" y="1012680"/>
            <a:ext cx="6335640" cy="3686400"/>
          </a:xfrm>
          <a:prstGeom prst="rect">
            <a:avLst/>
          </a:prstGeom>
          <a:ln w="19080">
            <a:solidFill>
              <a:srgbClr val="0033cc"/>
            </a:solidFill>
            <a:prstDash val="dash"/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>语文大师 xiexingcun.com</dc:description>
  <dc:language>en-US</dc:language>
  <cp:lastModifiedBy>备课大师</cp:lastModifiedBy>
  <dcterms:modified xsi:type="dcterms:W3CDTF">2014-10-19T03:45:16Z</dcterms:modified>
  <cp:revision>2</cp:revision>
  <dc:subject>  </dc:subject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