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7.png" ContentType="image/png"/>
  <Override PartName="/ppt/media/image15.wmf" ContentType="image/x-wmf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10080625" cy="6300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0"/>
            <a:ext cx="1224000" cy="109368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1843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027080"/>
            <a:ext cx="936144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6a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11640" y="5454720"/>
            <a:ext cx="4969080" cy="63000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1224000" cy="101772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1843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17720"/>
            <a:ext cx="1230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6a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1640" y="5454720"/>
            <a:ext cx="4969080" cy="63000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116160" y="2665440"/>
            <a:ext cx="2247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692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谢谢观赏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692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hyperlink" Target="271,2,&#24187;&#28783;&#29255; 2" TargetMode="External"/><Relationship Id="rId4" Type="http://schemas.openxmlformats.org/officeDocument/2006/relationships/hyperlink" Target="326,5,&#24187;&#28783;&#29255; 5" TargetMode="External"/><Relationship Id="rId5" Type="http://schemas.openxmlformats.org/officeDocument/2006/relationships/hyperlink" Target="297,15,&#24187;&#28783;&#29255; 15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271,2,&#24187;&#28783;&#29255; 2" TargetMode="External"/><Relationship Id="rId4" Type="http://schemas.openxmlformats.org/officeDocument/2006/relationships/hyperlink" Target="326,5,&#24187;&#28783;&#29255; 5" TargetMode="External"/><Relationship Id="rId5" Type="http://schemas.openxmlformats.org/officeDocument/2006/relationships/hyperlink" Target="297,15,&#24187;&#28783;&#29255; 15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hyperlink" Target="271,2,&#24187;&#28783;&#29255; 2" TargetMode="External"/><Relationship Id="rId4" Type="http://schemas.openxmlformats.org/officeDocument/2006/relationships/hyperlink" Target="326,5,&#24187;&#28783;&#29255; 5" TargetMode="External"/><Relationship Id="rId5" Type="http://schemas.openxmlformats.org/officeDocument/2006/relationships/hyperlink" Target="297,15,&#24187;&#28783;&#29255; 15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271,2,&#24187;&#28783;&#29255; 2" TargetMode="External"/><Relationship Id="rId3" Type="http://schemas.openxmlformats.org/officeDocument/2006/relationships/hyperlink" Target="326,5,&#24187;&#28783;&#29255; 5" TargetMode="External"/><Relationship Id="rId4" Type="http://schemas.openxmlformats.org/officeDocument/2006/relationships/hyperlink" Target="297,15,&#24187;&#28783;&#29255; 15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15.wmf"/><Relationship Id="rId7" Type="http://schemas.openxmlformats.org/officeDocument/2006/relationships/package" Target="../embeddings/oleObject1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87000" y="2631960"/>
            <a:ext cx="38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华隶_GBK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修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教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11280" y="636480"/>
            <a:ext cx="7416720" cy="495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e3f2f3"/>
              </a:gs>
            </a:gsLst>
            <a:lin ang="5400000"/>
          </a:gra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789120"/>
            <a:ext cx="6842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追本溯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巧记汉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个象形字。甲骨文和金文的形体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部是跪着的人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人的头上是一只大眼睛。到了小篆，下部变得不像人形了，上部的大眼睛变成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本义是看见。后引申为会见、接见、见解、见识等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个部首字。在汉字中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凡从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字大都与看见有关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觊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觐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等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也可以表音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声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55640" y="865080"/>
            <a:ext cx="2012400" cy="459720"/>
            <a:chOff x="1655640" y="865080"/>
            <a:chExt cx="2012400" cy="459720"/>
          </a:xfrm>
        </p:grpSpPr>
        <p:sp>
          <p:nvSpPr>
            <p:cNvPr id="265" name=""/>
            <p:cNvSpPr/>
            <p:nvPr/>
          </p:nvSpPr>
          <p:spPr>
            <a:xfrm>
              <a:off x="1655640" y="890640"/>
              <a:ext cx="1845360" cy="431640"/>
            </a:xfrm>
            <a:prstGeom prst="flowChartDisplay">
              <a:avLst/>
            </a:prstGeom>
            <a:gradFill rotWithShape="0">
              <a:gsLst>
                <a:gs pos="0">
                  <a:srgbClr val="ccccff">
                    <a:alpha val="81176"/>
                  </a:srgbClr>
                </a:gs>
                <a:gs pos="50000">
                  <a:srgbClr val="ffffff">
                    <a:alpha val="96078"/>
                  </a:srgbClr>
                </a:gs>
                <a:gs pos="100000">
                  <a:srgbClr val="ccccff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55640" y="86508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字形小贴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34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346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350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35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82760" y="560160"/>
            <a:ext cx="29718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解释词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30480" y="1093680"/>
            <a:ext cx="7543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阑珊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举案齐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杳无音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68560" y="1749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将尽；衰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50160" y="33796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送饭时把托盘举得跟眉毛一样高。后形容夫妻互相尊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286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000960" y="4827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音信，消息、回信。没有一点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38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388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392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394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04488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297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59080" y="484200"/>
            <a:ext cx="7619760" cy="5056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587400" y="2465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50240" y="3684600"/>
            <a:ext cx="22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此处应为“手足情深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89280" y="490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43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438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44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44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82760" y="560160"/>
            <a:ext cx="3124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近义词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06440" y="109368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殷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恳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殷切：深厚而急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指组织对成员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辈对晚辈等。恳切：指上下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幼及同志间的真诚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希望得到大家的帮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绝不能辜负老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期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停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逗留：暂时停留。停留：暂时不继续前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12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031920" y="322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恳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11600" y="391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殷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473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475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47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481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06440" y="441360"/>
            <a:ext cx="830592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年春节她在家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一个星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不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目前的水平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见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见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明智地、正确地作出判断及认识的能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看法、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位外国教授曾经说过，阅读经典的用处，就在教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典一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说的容易接受，可就是没有什么精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24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17920" y="48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逗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22640" y="1246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停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41200" y="429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见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12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1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18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52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230480" y="1550880"/>
            <a:ext cx="8191440" cy="314820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9648720" y="1947960"/>
            <a:ext cx="2016000" cy="2117520"/>
            <a:chOff x="9648720" y="1947960"/>
            <a:chExt cx="2016000" cy="211752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9648720" y="194796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0200960" y="20635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200960" y="28494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245600" y="35683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9567000" y="1844280"/>
            <a:ext cx="513720" cy="2180160"/>
            <a:chOff x="9567000" y="1844280"/>
            <a:chExt cx="513720" cy="2180160"/>
          </a:xfrm>
        </p:grpSpPr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9636120" y="190656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9567000" y="184428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32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34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3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54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35040" y="560160"/>
            <a:ext cx="26672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精读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82760" y="1017720"/>
            <a:ext cx="75438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窦娥临刑前发下三桩誓愿，并且这三桩誓愿都实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四折里交代楚州大旱三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你怎样看待这样的超现实情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63640" y="3675240"/>
            <a:ext cx="6858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窦娥来说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包含有王法、官府、天理、公道等意思。表面上看，窦娥是在斥骂天地，实际上是对一整套用以统治百姓的封建秩序的怀疑和斥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64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66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70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57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59080" y="1128600"/>
            <a:ext cx="75596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析窦娥的人物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11360" y="2465280"/>
            <a:ext cx="6934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窦娥发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桩誓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希望上天惩治邪恶，斗争锋芒直指贪赃枉法、草菅人命的昏官污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59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92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9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9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00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82760" y="636480"/>
            <a:ext cx="7772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窦娥是被昏聩的官吏屈判成杀人死罪的，却在第三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滚绣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曲里责骂天地，对此你是怎样理解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11360" y="23781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一超现实的情节首先是表现窦娥反抗精神的需要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种安排也符合普通百姓的审美心理。即人民对美好、进步的事物的肯定与支持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超现实的情节使作品既洋溢着浓郁的生活气息，又富于奇异的浪漫色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65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70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2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22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2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2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59080" y="407880"/>
            <a:ext cx="777240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窦娥为什么要发出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桩誓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82760" y="1547640"/>
            <a:ext cx="76201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窦娥是一位悲剧人物，她的性格是孝顺与抗争的对立统一。窦娥基本的性格特征是善良、安分守己、有主见、刚强，但在外界迫害下呈现了顽强的反抗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示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者：您退回我的小说，但我知道您并没有把小说读完，您并没有把它们拆开，您这样做是很不好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柯南道尔：如果您用早餐时盘子里放着一只坏鸡蛋，您大可不必把它吃完才能证明这只鸡蛋变味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50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52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5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58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560520"/>
            <a:ext cx="8001000" cy="2289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单元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窦　娥　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35040" y="17971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11360" y="1922400"/>
            <a:ext cx="7402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者：可是编辑的责任不正是应该帮作者来修改作品，提高作品的水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柯南道尔：但鸡蛋已经是变了味的，再高超的烹饪家也没法做出佳肴来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7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80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8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86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535040" y="560160"/>
            <a:ext cx="26672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结构图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02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1459080" y="1222200"/>
          <a:ext cx="7772400" cy="4443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59080" y="1222200"/>
                    <a:ext cx="777240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08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10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14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1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760400" y="4618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．写法领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82760" y="1116000"/>
            <a:ext cx="8001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色的戏曲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汉卿的戏曲语言通俗自然、朴实生动，符合剧中人物的身份和个性，能为展开剧情和刻画人物性格服务。如第三折临刑前窦娥对婆婆的一段说白，出自这个封建社会小媳妇的口里是那样的贴切、自然、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实主义和浪漫主义的结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窦娥受刑前发三愿，这种浪漫主义手法的运用，植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4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42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46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4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24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459080" y="841320"/>
            <a:ext cx="80010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现实生活的土壤之中，因而观众不仅不感到荒谬怪诞，反而更加深切同情窦娥的悲惨遭遇，深切痛恨封建法制的腐朽荒谬和昏官恶吏的滔天罪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象、夸张的艺术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首曲运用丰富的想象和大胆的夸张，设计了三桩誓愿的超现实情节，显示正义抗争的强大力量，寄托了作者鲜明的爱憎，反映了人民伸张正义、惩治邪恶的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63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6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69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71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611360" y="1398600"/>
            <a:ext cx="6553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严谨的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首曲内容丰富，剪裁精当；故事曲折，脉络清晰；情节连贯，前呼后应；字字着落，没有虚笔；结构完整而严谨，表现了很强的戏剧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89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91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95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97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59080" y="560520"/>
            <a:ext cx="8076960" cy="502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e3f2f3"/>
              </a:gs>
            </a:gsLst>
            <a:lin ang="5400000"/>
          </a:gra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45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535040" y="6192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学习本文后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们知道戏剧语言要符合人物的身份和个性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学习戏剧语言的这个特点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请你根据下面语段中的人物关系和身份特点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想象出两人的对话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福尔摩斯探案集》的作者阿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柯南道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曾经当过杂志编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天要处理大量退稿。其中有一位作者因为经常被退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中不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心生一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意把稿件中间的几页稿纸粘在一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在遭到退稿后发现这几页还是粘在一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他带着这份稿件找到编辑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打算找柯南道尔理论理论，一番对话后，这位作者羞惭而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655640" y="712800"/>
            <a:ext cx="2012400" cy="459720"/>
            <a:chOff x="1655640" y="712800"/>
            <a:chExt cx="2012400" cy="459720"/>
          </a:xfrm>
        </p:grpSpPr>
        <p:sp>
          <p:nvSpPr>
            <p:cNvPr id="449" name=""/>
            <p:cNvSpPr/>
            <p:nvPr/>
          </p:nvSpPr>
          <p:spPr>
            <a:xfrm>
              <a:off x="1655640" y="738360"/>
              <a:ext cx="1845360" cy="431640"/>
            </a:xfrm>
            <a:prstGeom prst="flowChartDisplay">
              <a:avLst/>
            </a:prstGeom>
            <a:gradFill rotWithShape="0">
              <a:gsLst>
                <a:gs pos="0">
                  <a:srgbClr val="ccccff">
                    <a:alpha val="81176"/>
                  </a:srgbClr>
                </a:gs>
                <a:gs pos="50000">
                  <a:srgbClr val="ffffff">
                    <a:alpha val="96078"/>
                  </a:srgbClr>
                </a:gs>
                <a:gs pos="100000">
                  <a:srgbClr val="ccccff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55640" y="71280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仿宋_GB2312"/>
                </a:rPr>
                <a:t>小试身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4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9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818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21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23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27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29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662120" y="560520"/>
            <a:ext cx="7416720" cy="495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e3f2f3"/>
              </a:gs>
            </a:gsLst>
            <a:lin ang="5400000"/>
          </a:gra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59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839960" y="706320"/>
            <a:ext cx="73915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作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柯南道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0640" y="1398600"/>
            <a:ext cx="87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您退回我的小说，但我知道您并没有把小说读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您并没有把它们拆开，您这样做是很不好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86000" y="336564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果您用早餐时盘子里放着一只坏鸡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您大可不必把它吃完才能证明这只鸡蛋变味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9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6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62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66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68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535040" y="636480"/>
            <a:ext cx="8026560" cy="495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e3f2f3"/>
              </a:gs>
            </a:gsLst>
            <a:lin ang="5400000"/>
          </a:gra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7480" y="-493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</a:rPr>
              <a:t>探 究与  点 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9801360" y="1976400"/>
            <a:ext cx="2016000" cy="2117880"/>
            <a:chOff x="9801360" y="1976400"/>
            <a:chExt cx="2016000" cy="211788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9801360" y="197640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0353600" y="20923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353600" y="287820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398240" y="359712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9719280" y="1872720"/>
            <a:ext cx="513360" cy="2180160"/>
            <a:chOff x="9719280" y="1872720"/>
            <a:chExt cx="513360" cy="2180160"/>
          </a:xfrm>
        </p:grpSpPr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9788400" y="1935000"/>
              <a:ext cx="44424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9719280" y="18727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992240" y="560520"/>
            <a:ext cx="7391520" cy="4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作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柯南道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-方正超大字符集"/>
              </a:rPr>
              <a:t>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5680" y="1278000"/>
            <a:ext cx="50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是编辑的责任不正是应该帮作者来修改作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提高作品的水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55320" y="4021200"/>
            <a:ext cx="42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但鸡蛋已经是变了味的，再高超的烹饪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也没法做出佳肴来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99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901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905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907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82760" y="1550880"/>
            <a:ext cx="82296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9648720" y="1824120"/>
            <a:ext cx="2097000" cy="2241000"/>
            <a:chOff x="9648720" y="1824120"/>
            <a:chExt cx="2097000" cy="22410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9648720" y="1824120"/>
              <a:ext cx="2097000" cy="22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0216800" y="194652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16800" y="27784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261440" y="353916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632160" y="1782720"/>
            <a:ext cx="513720" cy="2282400"/>
            <a:chOff x="9632160" y="1782720"/>
            <a:chExt cx="513720" cy="228240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9701280" y="1782720"/>
              <a:ext cx="444600" cy="22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9632160" y="178776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3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3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3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82760" y="560160"/>
            <a:ext cx="3505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走近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课 文导 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82760" y="1268280"/>
            <a:ext cx="8001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汉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晚号已斋、已斋叟，金末元初大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北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元代杂剧奠基人，与白朴、马致远、郑光祖并称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曲四大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以杂剧的成就最大，一生写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，今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，最著名的是《窦娥冤》，代表作还有《救风尘》《望江亭》《拜月亭》《单刀会》等。散曲今存小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首、套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首。他的散曲，内容丰富多彩，格调清新刚劲，具有很高的艺术价值。关汉卿塑造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是个蒸不烂、煮不熟、捶不匾、炒不爆、响珰珰一粒铜豌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形象也广为人称，被誉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曲家圣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西方称其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方的莎士比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82760" y="560160"/>
            <a:ext cx="35053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作品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课 文导 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59080" y="124632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窦娥冤》是关汉卿的代表作，也是我国古代悲剧的代表作。它的故事来源于《列女传》中的《东海孝妇》。但关汉卿并没有局限在这个传统故事里，去歌颂为东海孝妇平反冤狱的于公的阴德，而是紧紧扣住当时的社会现实，用这段故事，真实而深刻地反映了在元蒙统治下中国社会极端黑暗、极端残酷、极端混乱的时代悲剧，表现了中国人民坚强不屈的斗争精神和争取独立生存的强烈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9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06440" y="1787400"/>
            <a:ext cx="8305920" cy="31924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9648720" y="1824120"/>
            <a:ext cx="2172960" cy="2117520"/>
            <a:chOff x="9648720" y="1824120"/>
            <a:chExt cx="2172960" cy="211752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9648720" y="1824120"/>
              <a:ext cx="217296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023084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3084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7476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602280" y="1720440"/>
            <a:ext cx="517680" cy="2180160"/>
            <a:chOff x="9602280" y="1720440"/>
            <a:chExt cx="517680" cy="2180160"/>
          </a:xfrm>
        </p:grpSpPr>
        <p:pic>
          <p:nvPicPr>
            <p:cNvPr id="205" name="" descr=""/>
            <p:cNvPicPr/>
            <p:nvPr/>
          </p:nvPicPr>
          <p:blipFill>
            <a:blip r:embed="rId6"/>
            <a:stretch/>
          </p:blipFill>
          <p:spPr>
            <a:xfrm>
              <a:off x="9642240" y="1782720"/>
              <a:ext cx="47772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960228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10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104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10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11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82760" y="560160"/>
            <a:ext cx="17524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230480" y="1386000"/>
            <a:ext cx="8773920" cy="3975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35840" y="1398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i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89520" y="1398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9920" y="1398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27920" y="20080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48480" y="2084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ǐ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0840" y="2008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ǒ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51600" y="2693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82680" y="269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ǔ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74280" y="26938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27920" y="33796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89520" y="3379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16400" y="3379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35840" y="40654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80080" y="39895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50600" y="406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04640" y="4675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ǎ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18120" y="4751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23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23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239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24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242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1976400" y="1017720"/>
            <a:ext cx="5502240" cy="483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3875040" y="857160"/>
            <a:ext cx="4822920" cy="1379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3287880" y="2279520"/>
            <a:ext cx="3962160" cy="193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3745080" y="4370400"/>
            <a:ext cx="3477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276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27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28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284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11360" y="484200"/>
            <a:ext cx="2666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．写对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7480" y="10332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预 习检 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648720" y="1824120"/>
            <a:ext cx="2016000" cy="2117520"/>
            <a:chOff x="9648720" y="1824120"/>
            <a:chExt cx="2016000" cy="211752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9648720" y="1824120"/>
              <a:ext cx="20160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0200960" y="19396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200960" y="27255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245600" y="3444480"/>
              <a:ext cx="10400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9567000" y="1720440"/>
            <a:ext cx="513720" cy="2180160"/>
            <a:chOff x="9567000" y="1720440"/>
            <a:chExt cx="513720" cy="2180160"/>
          </a:xfrm>
        </p:grpSpPr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9636120" y="1782720"/>
              <a:ext cx="4446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9567000" y="172044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864680" y="2737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华隶_GB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华隶_GB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1459080" y="1322280"/>
            <a:ext cx="6248160" cy="373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3135240" y="1322280"/>
          <a:ext cx="5257800" cy="3751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5240" y="1322280"/>
                    <a:ext cx="52578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31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31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32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32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3:20:43Z</dcterms:created>
  <dc:creator>语文大师 www.xiexingcun.com【全站免费】</dc:creator>
  <dc:description>语文大师 www.xiexingcun.com【全站免费】</dc:description>
  <dc:language>en-US</dc:language>
  <cp:lastModifiedBy>惠通工作室</cp:lastModifiedBy>
  <cp:lastPrinted>1899-12-30T00:00:00Z</cp:lastPrinted>
  <dcterms:modified xsi:type="dcterms:W3CDTF">2014-12-31T05:48:06Z</dcterms:modified>
  <cp:revision>0</cp:revision>
  <dc:subject/>
  <dc:title>语文大师 www.xiexingcun.com【全站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