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5489575"/>
  <p:notesSz cx="5784850" cy="838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67708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620720" y="3300120"/>
            <a:ext cx="67708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0400" y="130500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20720" y="330012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0400" y="330012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217980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09960" y="1305000"/>
            <a:ext cx="217980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99200" y="1305000"/>
            <a:ext cx="217980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620720" y="3300120"/>
            <a:ext cx="217980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09960" y="3300120"/>
            <a:ext cx="217980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99200" y="3300120"/>
            <a:ext cx="217980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20720" y="1305000"/>
            <a:ext cx="6770880" cy="38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67708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33040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0400" y="1305000"/>
            <a:ext cx="33040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20720" y="81000"/>
            <a:ext cx="6716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0400" y="1305000"/>
            <a:ext cx="33040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20720" y="330012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620720" y="1305000"/>
            <a:ext cx="6770880" cy="38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33040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0400" y="130500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0400" y="330012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0400" y="130500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620720" y="3300120"/>
            <a:ext cx="67708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67708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620720" y="3300120"/>
            <a:ext cx="67708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0400" y="130500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20720" y="330012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0400" y="330012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217980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09960" y="1305000"/>
            <a:ext cx="217980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99200" y="1305000"/>
            <a:ext cx="217980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20720" y="3300120"/>
            <a:ext cx="217980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909960" y="3300120"/>
            <a:ext cx="217980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99200" y="3300120"/>
            <a:ext cx="217980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67708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33040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0400" y="1305000"/>
            <a:ext cx="33040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20720" y="81000"/>
            <a:ext cx="6716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0400" y="1305000"/>
            <a:ext cx="33040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620720" y="330012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33040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0400" y="130500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0400" y="330012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0400" y="1305000"/>
            <a:ext cx="33040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20720" y="3300120"/>
            <a:ext cx="67708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502" r="0" b="0"/>
          <a:stretch/>
        </p:blipFill>
        <p:spPr>
          <a:xfrm>
            <a:off x="1440" y="774720"/>
            <a:ext cx="9145800" cy="4635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20720" y="1305000"/>
            <a:ext cx="67708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rcRect l="0" t="633" r="0" b="0"/>
          <a:stretch/>
        </p:blipFill>
        <p:spPr>
          <a:xfrm>
            <a:off x="1440" y="615960"/>
            <a:ext cx="9139320" cy="47210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97080" y="1160640"/>
            <a:ext cx="49658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84480"/>
            <a:ext cx="8229240" cy="31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canonfans.com/showlist.php?thumbid=570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97080" y="1160640"/>
            <a:ext cx="540072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Segoe Script"/>
              </a:rPr>
              <a:t>父母和孩子之间的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68360" y="2383920"/>
            <a:ext cx="4889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弗罗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81000"/>
            <a:ext cx="743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三、深度解读，品味爱的艺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305000"/>
            <a:ext cx="749160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爱的对象发展由同母亲的紧密关系发展到同父亲的紧密关系，最后达到综合。那么应该如何“综合”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点拨：实现综合关键有两点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要融合父爱和母爱积极的一面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从对父母的依附关系走向独立，“成为自己的主人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81000"/>
            <a:ext cx="743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要融合父爱和母爱积极的一面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1305000"/>
            <a:ext cx="741996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、一个成熟的人最终能达到他既是自己的母亲，又是自己的父亲的高度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B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、他发展了一个母亲的良知，又发展了一个父亲的良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2720" y="81000"/>
            <a:ext cx="73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从对父母的依附关系走向独立，“成为自己的主人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306080"/>
            <a:ext cx="74199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、成熟的人使自己同母亲和父亲的外部形象脱离，却在内心建立起这两个形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B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、人不是通过合并父亲和母亲，从而树立起这两个形象，而是把母亲的良知建筑在他自己爱的能力上，把父亲的良知建筑在自己的理智和判断力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3825720"/>
            <a:ext cx="74912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方法小结：理解句子含义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关注句子内部，尤其是突破对关键词的理解；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关注句子所在的语境，既关注全文语境，更要关注上下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81000"/>
            <a:ext cx="7365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爱的对象发展到综合，就会促进爱的成熟，那么成熟的爱究竟是怎样的爱？它和不成熟的爱有着怎样的区别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305000"/>
            <a:ext cx="7419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天真的、孩童式的爱情遵循下列原则：“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Calibri"/>
              </a:rPr>
              <a:t>我爱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，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Calibri"/>
              </a:rPr>
              <a:t>因为我被别人爱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。“成熟的爱的原则是：“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Calibri"/>
              </a:rPr>
              <a:t>我被人爱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，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Calibri"/>
              </a:rPr>
              <a:t>因为我爱人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。”不成熟的、幼稚的爱是“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Calibri"/>
              </a:rPr>
              <a:t>我爱你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，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Calibri"/>
              </a:rPr>
              <a:t>因为我需要你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”，而成熟的爱是“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Calibri"/>
              </a:rPr>
              <a:t>我需要你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，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Calibri"/>
              </a:rPr>
              <a:t>因为我爱你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3753000"/>
            <a:ext cx="756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方法小结：理解句子含义，还应从句式出发理解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81000"/>
            <a:ext cx="743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四、拓展阅读，深化认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1305000"/>
            <a:ext cx="749160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父母与孩子之间的爱”是个永恒的话题，弗洛姆站在哲学的高度进行了理性的分析，他不仅认识到父爱与母爱的区别，认识到爱的对象发展促进了爱的能力的发展，更深刻地认识到一个成熟的人要善于“综合”。文章说理深刻，表述严谨，难怪此书读者数亿，至今畅销不衰。今天我们仅是窥见冰山一角，希望大家课后阅读《爱的艺术》全书，做一个善于经营爱的艺术的成熟的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2860560"/>
            <a:ext cx="4284720" cy="262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971800" y="609480"/>
            <a:ext cx="525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隶书"/>
              </a:rPr>
              <a:t>父母与孩子之间的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830240"/>
            <a:ext cx="3429000" cy="3659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859120" cy="2624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458200" cy="5184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733920" y="3111480"/>
            <a:ext cx="4952880" cy="2073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733920" y="304920"/>
            <a:ext cx="4952880" cy="2622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2986200" cy="4879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114800" cy="4879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62640" y="291960"/>
            <a:ext cx="4047840" cy="4892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0" y="244440"/>
            <a:ext cx="4191120" cy="5000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4920" y="244440"/>
            <a:ext cx="3962160" cy="5000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9480" y="1036800"/>
            <a:ext cx="3276720" cy="3294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8480" y="2085120"/>
            <a:ext cx="47246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弗罗姆，美国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哲学家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社会学家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主要作品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爱的艺术》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是一部以精神分析方法研究和阐述爱的艺术的理论专著。他认为爱是一种主动的能力，是可以而且应该学习的。只有学会爱的艺术，才能够爱，并且才能获得别人的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8440" y="4452840"/>
            <a:ext cx="31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弗罗姆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00-19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26960"/>
            <a:ext cx="3276720" cy="703440"/>
          </a:xfrm>
          <a:prstGeom prst="rect">
            <a:avLst/>
          </a:prstGeom>
          <a:solidFill>
            <a:srgbClr val="00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3105000" cy="4940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19120" y="360360"/>
            <a:ext cx="4890960" cy="2201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80880" y="2612880"/>
            <a:ext cx="5181840" cy="269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9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781680" y="365040"/>
            <a:ext cx="2362320" cy="1220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4120" y="207324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华文行楷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4976640"/>
            <a:ext cx="2590920" cy="51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2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检查预习 整体感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67708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《父母与孩子之间的爱》是篇哲学随笔，理解文章时你主要抓了哪些句子？并说说理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点拨：（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）抓加着重号的句子，加着重号就意味着是作者表述的重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）抓每段的关键句：中心句、过渡句和总结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97000"/>
            <a:ext cx="6716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关键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67708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）同爱的能力发展紧密有关的是爱的对象的发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）人从同母亲的紧密关系发展到同父亲的紧密关系，最后达到综合，这就是人的灵魂健康和达到成熟的基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1044720" y="3897360"/>
            <a:ext cx="671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、讨论：为什么这两句很关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20720" y="81000"/>
            <a:ext cx="671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结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20720" y="1305000"/>
            <a:ext cx="67708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楷体"/>
              </a:rPr>
              <a:t>本文的核心内容是讨论爱的能力发展，最后的落脚在爱的能力发展的成熟阶段，而关于爱的对象发展的讨论是为论述爱的能力发展服务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8920" y="151920"/>
            <a:ext cx="671652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全文的论证思路是怎样展开的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8920" y="1088640"/>
            <a:ext cx="67705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纵向展开论述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爱的能力发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爱的对象发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综合，使爱达到成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4400640"/>
            <a:ext cx="748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楷体"/>
              </a:rPr>
              <a:t>方法总结：中心句、过渡句、总结句是把握文章思路的快捷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81000"/>
            <a:ext cx="7365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二、细读文本，深入探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305000"/>
            <a:ext cx="741996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爱的对象发展到“综合”才能促使爱走向成熟。那么爱的对象的发展为什么一定要达到“综合”呢？不可以只发展同父亲的关系或母亲的关系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楷体"/>
              </a:rPr>
              <a:t>明确：因为父爱和母爱各有其积极面，也各有其消极面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楷体"/>
              </a:rPr>
              <a:t>点拨：把握关键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297000"/>
            <a:ext cx="7437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母爱与父爱各自有哪些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积极面和消极面？为什么他们各自会有积极面和消极面？请大家阅读文章进行信息筛选，并说出筛选的依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1736280"/>
            <a:ext cx="7491600" cy="33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明确：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母爱云父爱的积极面和消极面是由母爱和父爱的“性质”决定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点拨：信息筛选，注意引导语，如“积极的一面”“消极的一面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点拨：信息筛选，关于母爱的两处信息散见于第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段和第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段，信息分散时应注意抓住核心词：“缺陷”“最深的渴求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af7"/>
            </a:gs>
            <a:gs pos="100000">
              <a:srgbClr val="cdc4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81000"/>
            <a:ext cx="7365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方法总结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015920"/>
            <a:ext cx="74199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信息筛选，抓中心句、过渡句、加着重号的语句；抓核心词；抓对立关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2313000"/>
            <a:ext cx="74916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黑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黑体"/>
              </a:rPr>
              <a:t>、结论：由于母亲代表自然世界，母爱无条件，所以最初孩子是依赖母亲生存的；但孩子毕竟要走向社会，而父亲代表思想世界，孩子需要父爱的引导，所以孩子同父亲的关系开始重要，并不断发展；但有条件的父爱也有缺陷，而父爱和母爱可以互补，所以爱的对象的发展最终要达到“综合”，这样才能促使爱走向成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>备课大师网——全免费！</dc:creator>
  <dc:description/>
  <dc:language>en-US</dc:language>
  <cp:lastModifiedBy>番茄花园</cp:lastModifiedBy>
  <cp:lastPrinted>1899-12-30T00:00:00Z</cp:lastPrinted>
  <dcterms:modified xsi:type="dcterms:W3CDTF">2014-06-19T03:10:47Z</dcterms:modified>
  <cp:revision>20</cp:revision>
  <dc:subject/>
  <dc:title>备课大师网——全免费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