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1FA-58DE-4724-B8D7-A0D3815E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E9D-111E-43C1-9A5C-D1C41D4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C01-9C12-49E7-B208-E4AA75AD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EFB-4D73-4FF1-B1A8-B17EBBDA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2DE-BD1F-4AA2-908D-46680D7E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CDF-69D6-4FBB-B32D-85CD2B4B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811-EFE6-443E-B68C-F26DBE2B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879-4889-4309-A9DB-BFB9224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516-70B2-4748-94E3-0B6FC38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B5E-D7E4-4858-8969-5F24E23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F00-5BB5-4E81-BC8A-A42C940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A64-8438-4C1B-80E4-0C4640C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866-286F-4F04-AD0E-72A2C8C2A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200" y="155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蔺相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30880" y="231840"/>
            <a:ext cx="15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廉　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200" y="90180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事　　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080" y="1616040"/>
            <a:ext cx="1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思想性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3080" y="24750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事　　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360" y="3987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事　　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6400" y="4713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思想性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4760" y="3195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思想性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" y="58658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详写、明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82404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献策、使秦、智斗、完璧归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161604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机智勇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336760"/>
            <a:ext cx="18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逼秦王击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戏秦臣献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2004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勇敢机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0080" y="392112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引车避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慷慨陈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6800" y="471492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0080" y="47131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心为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9800" y="993600"/>
            <a:ext cx="10080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完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归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67080" y="2437560"/>
            <a:ext cx="93528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渑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76800" y="3992400"/>
            <a:ext cx="936720" cy="9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0800" y="521640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选材典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16440" y="5865840"/>
            <a:ext cx="21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剪材得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5909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谏赵设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97180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勇有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4191120"/>
            <a:ext cx="1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辱蔺负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78600" y="457524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勇于改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83160" y="5722920"/>
            <a:ext cx="203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1160" y="5865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略写、暗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16080" y="5364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50960" y="677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2440" y="2049480"/>
            <a:ext cx="180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6576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51814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16080" y="608184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257440" y="60958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69160" y="681120"/>
            <a:ext cx="1440" cy="17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3505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69160" y="5073480"/>
            <a:ext cx="144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53352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520" y="1371600"/>
            <a:ext cx="40500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89540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7120" y="334152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952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29000" y="27432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29718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680" y="44956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0240" y="44942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9320" y="2133720"/>
            <a:ext cx="182628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课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685800"/>
            <a:ext cx="362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文章的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712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7160" y="2060640"/>
            <a:ext cx="7850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通过“完璧归赵”、“渑池会”、“将相和”三个故事，突出表现了蔺相如临危不惧、能言善辩的大智大勇和顾全大局，不计私怨、宽厚待人的高尚品质，也赞扬了廉颇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忠君爱国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勇于改过、坦率直爽的磊落胸怀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07552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对廉颇、蔺相如的描写有什么不同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b0e1b"/>
                </a:solidFill>
                <a:latin typeface="楷体_GB2312"/>
                <a:ea typeface="楷体_GB2312"/>
              </a:rPr>
              <a:t>对蔺相如的描写主要用了明写、详写的方法，笔墨酣畅，具体入微。除了正面描写外，还用了侧面描写，对比描写等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e1b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b0e1b"/>
                </a:solidFill>
                <a:latin typeface="楷体_GB2312"/>
                <a:ea typeface="楷体_GB2312"/>
              </a:rPr>
              <a:t>对廉颇的描写采用了暗写、略写的方法，往往是寥寥几笔，性格全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267080"/>
            <a:ext cx="82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蔺相如：大智大勇、不畏强暴、胸怀坦荡、热爱祖国（苏轼：“大勇若怯，大智若愚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廉  颇：目光长远、有勇有谋、以国为重、勇于改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7360" y="355680"/>
            <a:ext cx="335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廉颇与蔺相如主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性格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9440" y="162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完璧归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9320" y="162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渑池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4560" y="162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相和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840" y="11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通过对比体现人物性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2282760"/>
            <a:ext cx="27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缪贤  ——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4000" y="2282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秦王、群臣——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7080" y="227664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廉  ——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19280" y="2781360"/>
            <a:ext cx="1512000" cy="360360"/>
            <a:chOff x="719280" y="2781360"/>
            <a:chExt cx="1512000" cy="360360"/>
          </a:xfrm>
        </p:grpSpPr>
        <p:sp>
          <p:nvSpPr>
            <p:cNvPr id="103" name=""/>
            <p:cNvSpPr/>
            <p:nvPr/>
          </p:nvSpPr>
          <p:spPr>
            <a:xfrm>
              <a:off x="719280" y="2841120"/>
              <a:ext cx="86400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583280" y="2781360"/>
              <a:ext cx="648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1800" y="2819520"/>
            <a:ext cx="2447280" cy="380880"/>
            <a:chOff x="2971800" y="2819520"/>
            <a:chExt cx="2447280" cy="380880"/>
          </a:xfrm>
        </p:grpSpPr>
        <p:sp>
          <p:nvSpPr>
            <p:cNvPr id="106" name=""/>
            <p:cNvSpPr/>
            <p:nvPr/>
          </p:nvSpPr>
          <p:spPr>
            <a:xfrm>
              <a:off x="2971800" y="2819520"/>
              <a:ext cx="1112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084200" y="2895480"/>
              <a:ext cx="1334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192720" y="2708280"/>
            <a:ext cx="1339560" cy="433080"/>
            <a:chOff x="6192720" y="2708280"/>
            <a:chExt cx="1339560" cy="433080"/>
          </a:xfrm>
        </p:grpSpPr>
        <p:sp>
          <p:nvSpPr>
            <p:cNvPr id="109" name=""/>
            <p:cNvSpPr/>
            <p:nvPr/>
          </p:nvSpPr>
          <p:spPr>
            <a:xfrm>
              <a:off x="6192720" y="2708280"/>
              <a:ext cx="78156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974280" y="2708280"/>
              <a:ext cx="5580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92000" y="3716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有智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56000" y="3716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大智大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2720" y="3716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国家为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6872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36720" y="3141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6000" y="321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斗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9640" y="3141720"/>
            <a:ext cx="12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冲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533520"/>
            <a:ext cx="87631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你知道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誓同生死的朋友叫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拘身份、形迹的知心朋友叫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幼相交的朋友叫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岁差别大、辈分悬殊结成的朋友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意气相投的朋友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328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刎颈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61280" y="21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忘形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1880" y="2895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竹马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848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忘年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莫逆之交。莫逆：没有抵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990720"/>
            <a:ext cx="86108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以势位骄人，平等相处的友谊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____  ____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异姓结为兄弟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______  ______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旧称两家世代有交情者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_____  _______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友谊最深的朋友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_______  _____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道义上相互支持而结交的朋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____  _____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交情不深，仅见见面，点点头的朋友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________  ____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9800" y="91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布衣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91160" y="1601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八拜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54080" y="221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世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1080" y="2820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至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58400" y="3506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君子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00600" y="472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点头之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0:05:10Z</dcterms:created>
  <dc:creator>语文大师 xiexingcun.com</dc:creator>
  <dc:description/>
  <dc:language>en-US</dc:language>
  <cp:lastModifiedBy>微软用户</cp:lastModifiedBy>
  <dcterms:modified xsi:type="dcterms:W3CDTF">2014-07-04T03:49:20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