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55B-964C-451A-9565-53134A18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7E4-3FD1-4974-9538-B5DB61A0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A85-B8C2-4E46-8546-BE002382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745-75A0-4FB6-B5CF-4B720A7A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506-E152-466C-9398-16C77258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778-80C1-44BD-A166-2276010B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DCC-FC6B-4582-90D3-A2A8DD22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73B-5C28-4099-98EF-F339B8C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10F-A401-41BE-80A1-EB8389A5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128-05D8-42B7-8137-A15FC53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852F-685E-48A9-820C-5DAA3196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6D0-8EEE-4D48-BEEB-211EDE63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CBA2-73E1-48FE-8052-748CF5EB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08CB-8479-4A1E-80FF-FD5A749D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4D5-329F-43AA-B903-F5BC8EFF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DB2-2DCE-45C8-9C24-09200AB8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9803-D9D9-4942-9022-342F9EE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4163-F964-40BC-BB4F-DA9D47E8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475F-6068-4720-AA79-284CDF2B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5D3D-235D-44F0-B43E-C93C7873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E87-E7F5-45A5-B80E-A4589853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3F09-0BFF-457A-A7FB-AC5FBD12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2AF6-27F4-441F-AED9-3D60D4A4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C085-E1B3-4C0C-8B3F-0A543A8D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639936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D:\TDDOWNLOAD\My Documents\Downloads\QQ2012JayXon\Users\907868260\FileRecv\91淘课logo.png"/>
          <p:cNvPicPr/>
          <p:nvPr/>
        </p:nvPicPr>
        <p:blipFill>
          <a:blip r:embed="rId3"/>
          <a:stretch/>
        </p:blipFill>
        <p:spPr>
          <a:xfrm>
            <a:off x="7593120" y="6099120"/>
            <a:ext cx="9842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ECB2-6C8C-4B92-B610-39DFAD29260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A76-EA75-48D2-B349-C7759A15722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标题 5"/>
          <p:cNvGrpSpPr/>
          <p:nvPr/>
        </p:nvGrpSpPr>
        <p:grpSpPr>
          <a:xfrm>
            <a:off x="817560" y="2273400"/>
            <a:ext cx="7540200" cy="1292040"/>
            <a:chOff x="817560" y="2273400"/>
            <a:chExt cx="7540200" cy="1292040"/>
          </a:xfrm>
        </p:grpSpPr>
        <p:pic>
          <p:nvPicPr>
            <p:cNvPr id="151" name="标题 5" descr=""/>
            <p:cNvPicPr/>
            <p:nvPr/>
          </p:nvPicPr>
          <p:blipFill>
            <a:blip r:embed="rId2"/>
            <a:stretch/>
          </p:blipFill>
          <p:spPr>
            <a:xfrm>
              <a:off x="817560" y="2273400"/>
              <a:ext cx="75387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18640" y="2273400"/>
              <a:ext cx="75391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2916360" y="1989000"/>
            <a:ext cx="6227640" cy="2376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276720" y="2432160"/>
            <a:ext cx="57880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79646"/>
                </a:solidFill>
                <a:latin typeface="黑体"/>
                <a:ea typeface="黑体"/>
              </a:rPr>
              <a:t>第</a:t>
            </a:r>
            <a:r>
              <a:rPr b="1" lang="en-US" sz="5000" spc="-1" strike="noStrike">
                <a:solidFill>
                  <a:srgbClr val="f79646"/>
                </a:solidFill>
                <a:latin typeface="黑体"/>
                <a:ea typeface="黑体"/>
              </a:rPr>
              <a:t>12</a:t>
            </a:r>
            <a:r>
              <a:rPr b="1" lang="zh-CN" sz="5000" spc="-1" strike="noStrike">
                <a:solidFill>
                  <a:srgbClr val="f79646"/>
                </a:solidFill>
                <a:latin typeface="黑体"/>
                <a:ea typeface="黑体"/>
              </a:rPr>
              <a:t>课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79646"/>
                </a:solidFill>
                <a:latin typeface="黑体"/>
                <a:ea typeface="黑体"/>
              </a:rPr>
              <a:t>苏武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276720" y="4437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黑体"/>
                <a:ea typeface="黑体"/>
              </a:rPr>
              <a:t>作者：班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:\Users\Administrator\Desktop\图片1.jpg"/>
          <p:cNvPicPr/>
          <p:nvPr/>
        </p:nvPicPr>
        <p:blipFill>
          <a:blip r:embed="rId1"/>
          <a:stretch/>
        </p:blipFill>
        <p:spPr>
          <a:xfrm>
            <a:off x="0" y="1989000"/>
            <a:ext cx="291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Administrator\Desktop\图片2.jpg"/>
          <p:cNvPicPr/>
          <p:nvPr/>
        </p:nvPicPr>
        <p:blipFill>
          <a:blip r:embed="rId1"/>
          <a:stretch/>
        </p:blipFill>
        <p:spPr>
          <a:xfrm>
            <a:off x="6804000" y="942840"/>
            <a:ext cx="2340000" cy="2378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a57d7e0913718bc13bc763fb"/>
          <p:cNvPicPr/>
          <p:nvPr/>
        </p:nvPicPr>
        <p:blipFill>
          <a:blip r:embed="rId2"/>
          <a:stretch/>
        </p:blipFill>
        <p:spPr>
          <a:xfrm>
            <a:off x="6781680" y="3879720"/>
            <a:ext cx="2362320" cy="2241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68120" y="1220760"/>
            <a:ext cx="59770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苏武    苏嘉    苏贤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张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阏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卫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李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581280" y="274320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缑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虞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 rot="20001000">
            <a:off x="985320" y="4673160"/>
            <a:ext cx="2835360" cy="412920"/>
          </a:xfrm>
          <a:prstGeom prst="leftRightArrow">
            <a:avLst>
              <a:gd name="adj1" fmla="val 50000"/>
              <a:gd name="adj2" fmla="val 7302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395280" y="2637000"/>
            <a:ext cx="380880" cy="1655640"/>
          </a:xfrm>
          <a:prstGeom prst="upDownArrow">
            <a:avLst>
              <a:gd name="adj1" fmla="val 50000"/>
              <a:gd name="adj2" fmla="val 3598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8032680" y="2637000"/>
            <a:ext cx="895320" cy="5522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6804000" y="4344840"/>
            <a:ext cx="952560" cy="534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匈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"/>
          <p:cNvSpPr/>
          <p:nvPr/>
        </p:nvSpPr>
        <p:spPr>
          <a:xfrm rot="1577400">
            <a:off x="7581960" y="2994120"/>
            <a:ext cx="476280" cy="1447560"/>
          </a:xfrm>
          <a:prstGeom prst="upDownArrow">
            <a:avLst>
              <a:gd name="adj1" fmla="val 50000"/>
              <a:gd name="adj2" fmla="val 474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6259680" y="1685880"/>
            <a:ext cx="52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6224760" y="4797360"/>
            <a:ext cx="57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4"/>
          <p:cNvSpPr/>
          <p:nvPr/>
        </p:nvSpPr>
        <p:spPr>
          <a:xfrm rot="12848400">
            <a:off x="493200" y="3648960"/>
            <a:ext cx="6177240" cy="461880"/>
          </a:xfrm>
          <a:prstGeom prst="leftRightArrow">
            <a:avLst>
              <a:gd name="adj1" fmla="val 50000"/>
              <a:gd name="adj2" fmla="val 17987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15"/>
          <p:cNvSpPr/>
          <p:nvPr/>
        </p:nvSpPr>
        <p:spPr>
          <a:xfrm>
            <a:off x="250920" y="189000"/>
            <a:ext cx="3004920" cy="57780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 rot="13507200">
            <a:off x="1940400" y="2248200"/>
            <a:ext cx="1900440" cy="272880"/>
          </a:xfrm>
          <a:prstGeom prst="leftRightArrow">
            <a:avLst>
              <a:gd name="adj1" fmla="val 50000"/>
              <a:gd name="adj2" fmla="val 7506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2"/>
          <p:cNvSpPr/>
          <p:nvPr/>
        </p:nvSpPr>
        <p:spPr>
          <a:xfrm>
            <a:off x="380880" y="981000"/>
            <a:ext cx="3505320" cy="9144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73160" y="227664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苏武两次自杀未遂，坚贞不屈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04920" y="4343400"/>
            <a:ext cx="23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卫律劝降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张胜投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523880" y="3048120"/>
            <a:ext cx="609840" cy="1143000"/>
          </a:xfrm>
          <a:prstGeom prst="upDownArrow">
            <a:avLst>
              <a:gd name="adj1" fmla="val 50000"/>
              <a:gd name="adj2" fmla="val 3731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8"/>
          <p:cNvSpPr/>
          <p:nvPr/>
        </p:nvSpPr>
        <p:spPr>
          <a:xfrm>
            <a:off x="304920" y="3200400"/>
            <a:ext cx="3733560" cy="838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比 烘托  反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95400" y="56466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250920" y="94932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，字少卿，陇西成纪（今甘肃秦安）人，西汉飞将军李广之孙。“少为侍中建章监。善骑射，爱人，谦让下士，甚得名誉”；加上他又是名将之后，久之自然就赢得汉武的青睐，“以为李氏世将，而使将八百骑。尝深入匈奴二千余里，过居延视地形，无所见虏而还”。但受制于无能而又狂傲自大的国戚，贰师将军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李广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3"/>
          <p:cNvSpPr/>
          <p:nvPr/>
        </p:nvSpPr>
        <p:spPr>
          <a:xfrm>
            <a:off x="6372360" y="5229360"/>
            <a:ext cx="1868400" cy="628560"/>
          </a:xfrm>
          <a:custGeom>
            <a:avLst/>
            <a:gdLst>
              <a:gd name="textAreaLeft" fmla="*/ 0 w 1868400"/>
              <a:gd name="textAreaRight" fmla="*/ 1868760 w 1868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1184506202164951"/>
          <p:cNvPicPr/>
          <p:nvPr/>
        </p:nvPicPr>
        <p:blipFill>
          <a:blip r:embed="rId1"/>
          <a:stretch/>
        </p:blipFill>
        <p:spPr>
          <a:xfrm>
            <a:off x="5651640" y="949320"/>
            <a:ext cx="34923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2"/>
          <p:cNvSpPr/>
          <p:nvPr/>
        </p:nvSpPr>
        <p:spPr>
          <a:xfrm>
            <a:off x="179280" y="1123920"/>
            <a:ext cx="3505320" cy="9144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682560" y="2708280"/>
            <a:ext cx="22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投降匈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陵劝降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Administrator\Desktop\图片2.jpg"/>
          <p:cNvPicPr/>
          <p:nvPr/>
        </p:nvPicPr>
        <p:blipFill>
          <a:blip r:embed="rId1"/>
          <a:stretch/>
        </p:blipFill>
        <p:spPr>
          <a:xfrm>
            <a:off x="4932360" y="1490760"/>
            <a:ext cx="26272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324000" y="1052640"/>
            <a:ext cx="1755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疏通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37960" y="1681200"/>
            <a:ext cx="851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一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字子卿，少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父任（介词，表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汉天子我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丈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也（对男子长辈的尊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尽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使路充国等（使动用法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乃遣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郎将使持节送匈奴使留在汉者（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置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币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（用作礼物的玉、马、皮、帛等赠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2"/>
          <p:cNvSpPr/>
          <p:nvPr/>
        </p:nvSpPr>
        <p:spPr>
          <a:xfrm>
            <a:off x="4643280" y="5157720"/>
            <a:ext cx="2819520" cy="13035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80880" y="1413000"/>
            <a:ext cx="779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二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缑王与长水虞常等谋反匈奴中（刚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将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者（带领的投降的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货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常（把财物，古今异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0"/>
          <p:cNvSpPr/>
          <p:nvPr/>
        </p:nvSpPr>
        <p:spPr>
          <a:xfrm>
            <a:off x="4788000" y="5229360"/>
            <a:ext cx="2743200" cy="115884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08000" y="836640"/>
            <a:ext cx="8778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三、四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、其一人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夜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在夜里，名词作状语；逃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、虞常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生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被活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恐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，以状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（话；告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事如此，此必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。（连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见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死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重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。（才；更加；对不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谋单于，何以复加？宜皆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之。（假使；使动用法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投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营（抬，名词作动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单于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节（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壮，意动用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14"/>
          <p:cNvSpPr/>
          <p:nvPr/>
        </p:nvSpPr>
        <p:spPr>
          <a:xfrm>
            <a:off x="6516720" y="1027080"/>
            <a:ext cx="2514600" cy="10666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0520" y="91764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五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益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单于使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（逐渐痊愈；告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虞常，欲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时降武（定罪；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无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没有参加谋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拥众数万，马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山（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空以身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野（使动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滋润肥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君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降（顺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人臣子（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背亲，为降虏于蛮夷，何以汝为见？（通“叛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反欲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主（使动用法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争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7"/>
          <p:cNvSpPr/>
          <p:nvPr/>
        </p:nvSpPr>
        <p:spPr>
          <a:xfrm>
            <a:off x="6300720" y="1123920"/>
            <a:ext cx="2743200" cy="9144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08000" y="836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六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（告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雪（名作动，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匈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（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羝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乳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得归（名作动，生育；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官属常惠等，各置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（隔离；别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掘野鼠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实（通“弆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节牧羊（名作动，手中拿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弓弩（名作动，用檠校正弓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穷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失意困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1"/>
          <p:cNvSpPr/>
          <p:nvPr/>
        </p:nvSpPr>
        <p:spPr>
          <a:xfrm>
            <a:off x="5791320" y="1052640"/>
            <a:ext cx="3101760" cy="1385640"/>
          </a:xfrm>
          <a:custGeom>
            <a:avLst/>
            <a:gdLst>
              <a:gd name="textAreaLeft" fmla="*/ 0 w 3101760"/>
              <a:gd name="textAreaRight" fmla="*/ 3102120 w 3101760"/>
              <a:gd name="textAreaTop" fmla="*/ 0 h 1385640"/>
              <a:gd name="textAreaBottom" fmla="*/ 1385640 h 138564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3581280" y="487188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8000" y="765000"/>
            <a:ext cx="8807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七、八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武使匈奴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明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第二年）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不敢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（访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故使陵来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下（劝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空自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之地，信义安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？（通“无”；通“现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扶辇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阶殿）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子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谁为乎？（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皆为陛下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成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提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兄弟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亲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成为皇帝亲近之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子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壹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陵言（听一听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已死久矣（料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因泣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霑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与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去（通“沾襟”；通“诀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8"/>
          <p:cNvSpPr/>
          <p:nvPr/>
        </p:nvSpPr>
        <p:spPr>
          <a:xfrm>
            <a:off x="6711840" y="4508640"/>
            <a:ext cx="2210040" cy="129528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18960" y="2084400"/>
            <a:ext cx="468972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孟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扶风安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今陕西咸阳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东汉著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史学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文学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少年时就能作文诵诗赋，长大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博览群书。和帝永元元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8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班固随大将军窦宪出征匈奴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护军。后来，班固因窦宪专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到株连。死于狱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bg"/>
          <p:cNvPicPr/>
          <p:nvPr/>
        </p:nvPicPr>
        <p:blipFill>
          <a:blip r:embed="rId1"/>
          <a:stretch/>
        </p:blipFill>
        <p:spPr>
          <a:xfrm>
            <a:off x="5292720" y="920880"/>
            <a:ext cx="3851280" cy="5172120"/>
          </a:xfrm>
          <a:prstGeom prst="rect">
            <a:avLst/>
          </a:prstGeom>
          <a:ln w="0">
            <a:noFill/>
          </a:ln>
        </p:spPr>
      </p:pic>
      <p:sp>
        <p:nvSpPr>
          <p:cNvPr id="198" name="WordArt 4"/>
          <p:cNvSpPr/>
          <p:nvPr/>
        </p:nvSpPr>
        <p:spPr>
          <a:xfrm>
            <a:off x="539640" y="1123920"/>
            <a:ext cx="2743200" cy="7621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1F0B-80D5-478F-AFB5-23B66377D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476280" y="1106640"/>
            <a:ext cx="85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宋体"/>
                <a:ea typeface="宋体"/>
              </a:rPr>
              <a:t>第九、十段重点词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武等（寻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得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见汉使（名词作状语，在夜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如惠语以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（责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使曰：“武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实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”（道歉；确实活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及物故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随武还者九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已”；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895480" y="1096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1981080" y="6583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13"/>
          <p:cNvSpPr/>
          <p:nvPr/>
        </p:nvSpPr>
        <p:spPr>
          <a:xfrm>
            <a:off x="6227640" y="4522680"/>
            <a:ext cx="2514600" cy="1389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21600" h="21600">
                <a:moveTo>
                  <a:pt x="0" y="3100"/>
                </a:moveTo>
                <a:cubicBezTo>
                  <a:pt x="900" y="0"/>
                  <a:pt x="7100" y="0"/>
                  <a:pt x="10800" y="0"/>
                </a:cubicBezTo>
                <a:cubicBezTo>
                  <a:pt x="14500" y="0"/>
                  <a:pt x="20700" y="0"/>
                  <a:pt x="21600" y="3100"/>
                </a:cubicBezTo>
              </a:path>
              <a:path w="21600" h="21600">
                <a:moveTo>
                  <a:pt x="0" y="21600"/>
                </a:moveTo>
                <a:cubicBezTo>
                  <a:pt x="900" y="19245"/>
                  <a:pt x="7100" y="18500"/>
                  <a:pt x="10800" y="18500"/>
                </a:cubicBezTo>
                <a:cubicBezTo>
                  <a:pt x="14500" y="18500"/>
                  <a:pt x="20700" y="19245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99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24000" y="1108080"/>
            <a:ext cx="8496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课文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部分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介绍了苏武的身世、出使的背景及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部分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重点记述了苏武留胡十九年备受艰辛而坚持民族气节的事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部分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介绍苏武被放回国的经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按时间顺序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" y="798480"/>
            <a:ext cx="8496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108000" y="981000"/>
            <a:ext cx="66960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人物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文章是从哪些方面来塑造人物形象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正面描写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语言、行动等细节刻画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宋体"/>
                <a:ea typeface="宋体"/>
              </a:rPr>
              <a:t>侧面描写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描写的烘托，其他人物的映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y9XO5MxMQ==_l9kT9P4mt9M1"/>
          <p:cNvPicPr/>
          <p:nvPr/>
        </p:nvPicPr>
        <p:blipFill>
          <a:blip r:embed="rId1"/>
          <a:stretch/>
        </p:blipFill>
        <p:spPr>
          <a:xfrm>
            <a:off x="6588000" y="981000"/>
            <a:ext cx="2556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466560" y="105264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用环境描写烘托人物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925640" y="24130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社会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670280" y="1989000"/>
            <a:ext cx="249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于和卫律逼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使张胜的屈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朋友李陵的劝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925640" y="4746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然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4670280" y="4343400"/>
            <a:ext cx="1917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北海无人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廪食不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气寒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8000" y="342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环境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1449360" y="2819520"/>
            <a:ext cx="380880" cy="2361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4267080" y="1981080"/>
            <a:ext cx="533520" cy="1676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4267080" y="426708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539640" y="105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其他人物的对比映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79280" y="3213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结：在各种人物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对比映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，我们看到了一个丰满立体的苏武，他面对威逼利诱，大义凛然、不卑不亢、忠贞不二。苏武的性格在那些或屈或降的人物的映衬下，更加具有人格魅力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332000" y="19321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张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3708360" y="1916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卫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6156360" y="19162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李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2434680" y="1752480"/>
            <a:ext cx="86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苏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忠君爱国、忠贞不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贫贱不移、威武不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富贵不淫、大义凛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坚韧不拔、爱憎分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520" y="1123920"/>
            <a:ext cx="22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物形象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673200" y="1209600"/>
            <a:ext cx="237636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艺术特色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539640" y="404640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详：苏武宁死不降、卧雪牧羊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  <a:ea typeface="宋体"/>
              </a:rPr>
              <a:t>略：於靬王赏识苏武及牛羊被盗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539640" y="537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突出主题、表现人物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649440" y="2276640"/>
            <a:ext cx="298584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人物刻画生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684360" y="3284640"/>
            <a:ext cx="295092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记叙详略得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28600" y="2276640"/>
            <a:ext cx="58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前汉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我国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第一部纪传体断代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由东汉班固“潜精积思二十余年”所著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记述汉高祖元年（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至王莽地皇四年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共二百三十年的史事，是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之后我国古代又一部重要史书。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称“史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L710105703"/>
          <p:cNvPicPr/>
          <p:nvPr/>
        </p:nvPicPr>
        <p:blipFill>
          <a:blip r:embed="rId1"/>
          <a:stretch/>
        </p:blipFill>
        <p:spPr>
          <a:xfrm>
            <a:off x="6464160" y="1197000"/>
            <a:ext cx="2679840" cy="4537080"/>
          </a:xfrm>
          <a:prstGeom prst="rect">
            <a:avLst/>
          </a:prstGeom>
          <a:ln w="0">
            <a:noFill/>
          </a:ln>
        </p:spPr>
      </p:pic>
      <p:sp>
        <p:nvSpPr>
          <p:cNvPr id="203" name="WordArt 6"/>
          <p:cNvSpPr/>
          <p:nvPr/>
        </p:nvSpPr>
        <p:spPr>
          <a:xfrm>
            <a:off x="466560" y="1197000"/>
            <a:ext cx="3429000" cy="76212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523880" y="20541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             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2739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体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2664000"/>
            <a:ext cx="9144000" cy="1440"/>
            <a:chOff x="0" y="2664000"/>
            <a:chExt cx="9144000" cy="1440"/>
          </a:xfrm>
        </p:grpSpPr>
        <p:sp>
          <p:nvSpPr>
            <p:cNvPr id="209" name="Line 4"/>
            <p:cNvSpPr/>
            <p:nvPr/>
          </p:nvSpPr>
          <p:spPr>
            <a:xfrm>
              <a:off x="0" y="2664000"/>
              <a:ext cx="91440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0" y="266400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3654360"/>
            <a:ext cx="9144000" cy="1800"/>
            <a:chOff x="0" y="3654360"/>
            <a:chExt cx="9144000" cy="1800"/>
          </a:xfrm>
        </p:grpSpPr>
        <p:sp>
          <p:nvSpPr>
            <p:cNvPr id="212" name="Line 5"/>
            <p:cNvSpPr/>
            <p:nvPr/>
          </p:nvSpPr>
          <p:spPr>
            <a:xfrm>
              <a:off x="0" y="36543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0" y="365436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0" y="5025960"/>
            <a:ext cx="9144000" cy="1800"/>
            <a:chOff x="0" y="5025960"/>
            <a:chExt cx="9144000" cy="1800"/>
          </a:xfrm>
        </p:grpSpPr>
        <p:sp>
          <p:nvSpPr>
            <p:cNvPr id="215" name="Line 6"/>
            <p:cNvSpPr/>
            <p:nvPr/>
          </p:nvSpPr>
          <p:spPr>
            <a:xfrm>
              <a:off x="0" y="5025960"/>
              <a:ext cx="9144000" cy="18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0" y="502596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695600" y="2195640"/>
            <a:ext cx="360" cy="3886200"/>
            <a:chOff x="1695600" y="2195640"/>
            <a:chExt cx="360" cy="3886200"/>
          </a:xfrm>
        </p:grpSpPr>
        <p:sp>
          <p:nvSpPr>
            <p:cNvPr id="218" name="Line 7"/>
            <p:cNvSpPr/>
            <p:nvPr/>
          </p:nvSpPr>
          <p:spPr>
            <a:xfrm>
              <a:off x="1695600" y="219564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695600" y="2195640"/>
              <a:ext cx="360" cy="38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270400" y="2130480"/>
            <a:ext cx="360" cy="3962520"/>
            <a:chOff x="5270400" y="2130480"/>
            <a:chExt cx="360" cy="3962520"/>
          </a:xfrm>
        </p:grpSpPr>
        <p:sp>
          <p:nvSpPr>
            <p:cNvPr id="221" name="Line 8"/>
            <p:cNvSpPr/>
            <p:nvPr/>
          </p:nvSpPr>
          <p:spPr>
            <a:xfrm>
              <a:off x="5270400" y="2130480"/>
              <a:ext cx="0" cy="396252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5270400" y="2130480"/>
              <a:ext cx="360" cy="396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0" y="6093000"/>
            <a:ext cx="9144000" cy="1440"/>
            <a:chOff x="0" y="6093000"/>
            <a:chExt cx="9144000" cy="1440"/>
          </a:xfrm>
        </p:grpSpPr>
        <p:sp>
          <p:nvSpPr>
            <p:cNvPr id="224" name="Line 9"/>
            <p:cNvSpPr/>
            <p:nvPr/>
          </p:nvSpPr>
          <p:spPr>
            <a:xfrm>
              <a:off x="0" y="6093000"/>
              <a:ext cx="914400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0" y="609300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0"/>
          <p:cNvSpPr/>
          <p:nvPr/>
        </p:nvSpPr>
        <p:spPr>
          <a:xfrm>
            <a:off x="1730520" y="2844720"/>
            <a:ext cx="35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国第一部纪传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断代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334120" y="2936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国第一部纪传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通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6300720" y="4141800"/>
            <a:ext cx="15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0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843280" y="4137120"/>
            <a:ext cx="16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年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229360" y="531324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本纪、列传、世家、书、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301840" y="531828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纪、表、志、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6"/>
          <p:cNvSpPr/>
          <p:nvPr/>
        </p:nvSpPr>
        <p:spPr>
          <a:xfrm>
            <a:off x="876240" y="981000"/>
            <a:ext cx="6477120" cy="914400"/>
          </a:xfrm>
          <a:custGeom>
            <a:avLst/>
            <a:gdLst>
              <a:gd name="textAreaLeft" fmla="*/ 0 w 6477120"/>
              <a:gd name="textAreaRight" fmla="*/ 6477480 w 6477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8"/>
          <p:cNvSpPr/>
          <p:nvPr/>
        </p:nvSpPr>
        <p:spPr>
          <a:xfrm>
            <a:off x="717120" y="527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体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9"/>
          <p:cNvSpPr/>
          <p:nvPr/>
        </p:nvSpPr>
        <p:spPr>
          <a:xfrm>
            <a:off x="534240" y="408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时间跨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238" name="Oval 3"/>
          <p:cNvSpPr/>
          <p:nvPr/>
        </p:nvSpPr>
        <p:spPr>
          <a:xfrm>
            <a:off x="4267080" y="1295280"/>
            <a:ext cx="1524240" cy="1219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匈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4343400" y="3733920"/>
            <a:ext cx="1523880" cy="12189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/>
          <p:nvPr/>
        </p:nvSpPr>
        <p:spPr>
          <a:xfrm>
            <a:off x="237960" y="1197000"/>
            <a:ext cx="3829320" cy="785880"/>
          </a:xfrm>
          <a:custGeom>
            <a:avLst/>
            <a:gdLst>
              <a:gd name="textAreaLeft" fmla="*/ 0 w 3829320"/>
              <a:gd name="textAreaRight" fmla="*/ 3829680 w 382932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92160" y="920880"/>
            <a:ext cx="90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匈奴的起源和族属问题一直存在较大的争议。学者认为，商朝时的鬼方、混夷，周朝时的猃狁，春秋时的戎、狄，战国时的胡，都是后世所谓的匈奴。控制着从里海到长城的广大地域，包括今蒙古国、俄罗斯的西伯利亚、中亚北部、中国东北等地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西周起，戎族开始威胁中原王朝，周幽王烽火戏诸侯后，犬戎部落入侵，迫使平王东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秦始皇统一中国后，命蒙恬北击匈奴，收河套，“却匈奴七百余里，胡人不敢南下而牧马”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秦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真正与匈奴进行大规模战斗是在汉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520" y="83664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初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韩王刘信投降匈奴。次年，刘邦亲率大军征讨，在白登（今山西大同东北）被匈奴冒顿单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万骑兵围困七昼夜。后用计逃脱，之后开始与匈奴和亲。其后的文、景诸帝也是沿用和亲政策以休养生息。到汉武帝时，汉朝从战略防御转为战略进攻。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派卫青占领河套地区，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派霍去病夺取富庶的河西走廊，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卫、霍分东西两路进攻漠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呼韩邪单于娶王昭君，与汉修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南匈奴参与了中原混战，东汉蔡邕之女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蔡文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被掳掠去匈奴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南匈奴首领归附汉丞相曹操，蔡文姬归汉。曹操将南匈奴分成五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3129120" y="1847880"/>
            <a:ext cx="583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苏武牧羊”的故事在我国家喻户晓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书 苏武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载： 天汉元年（公元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，苏武奉命出使匈奴被扣，匈奴贵族多方威胁诱降未遂，又将他迁至北海（今贝加尔湖）边牧羊，苏武坚持十九年不屈。始元六年（公元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），因匈奴与汉和好，方被遣回朝。苏武决不背叛祖国的气节，流芳百世，传唱千古。</a:t>
            </a:r>
            <a:r>
              <a:rPr b="0" lang="zh-CN" sz="2400" spc="-1" strike="noStrike">
                <a:solidFill>
                  <a:srgbClr val="cc66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16000" y="1989000"/>
            <a:ext cx="25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1"/>
          <p:cNvPicPr/>
          <p:nvPr/>
        </p:nvPicPr>
        <p:blipFill>
          <a:blip r:embed="rId1"/>
          <a:stretch/>
        </p:blipFill>
        <p:spPr>
          <a:xfrm>
            <a:off x="0" y="944640"/>
            <a:ext cx="3129120" cy="543708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/>
          <p:nvPr/>
        </p:nvSpPr>
        <p:spPr>
          <a:xfrm>
            <a:off x="3492360" y="1052640"/>
            <a:ext cx="3505320" cy="76176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3"/>
          <p:cNvSpPr/>
          <p:nvPr/>
        </p:nvSpPr>
        <p:spPr>
          <a:xfrm>
            <a:off x="0" y="836640"/>
            <a:ext cx="9144000" cy="10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4"/>
          <p:cNvSpPr/>
          <p:nvPr/>
        </p:nvSpPr>
        <p:spPr>
          <a:xfrm>
            <a:off x="684360" y="836640"/>
            <a:ext cx="1800000" cy="101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3129120" y="17002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汉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最出色的名篇之一，它记述了苏武出使匈奴，面对威胁利诱坚守节操，历尽艰辛而不辱使命的事迹，生动刻画了一个“富贵不能淫，威武不能屈”的爱国志士的光辉形象。作者采用写人物传记经常运用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纵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构来组织文章，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顺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主，适当运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插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方法，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时间的先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行叙述，脉络清晰，故事完整。</a:t>
            </a:r>
            <a:r>
              <a:rPr b="1" lang="zh-CN" sz="2400" spc="-1" strike="noStrike">
                <a:solidFill>
                  <a:srgbClr val="cc66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116000" y="1989000"/>
            <a:ext cx="25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1"/>
          <p:cNvPicPr/>
          <p:nvPr/>
        </p:nvPicPr>
        <p:blipFill>
          <a:blip r:embed="rId1"/>
          <a:stretch/>
        </p:blipFill>
        <p:spPr>
          <a:xfrm>
            <a:off x="0" y="914400"/>
            <a:ext cx="3129120" cy="54673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5"/>
          <p:cNvSpPr/>
          <p:nvPr/>
        </p:nvSpPr>
        <p:spPr>
          <a:xfrm>
            <a:off x="3265560" y="1052640"/>
            <a:ext cx="3504960" cy="76176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641" y="0"/>
                </a:moveTo>
                <a:lnTo>
                  <a:pt x="20959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06:25:00Z</dcterms:created>
  <dc:creator>语文备课大师 www.xiexingcun.com【全免费】</dc:creator>
  <dc:description>语文备课大师 www.xiexingcun.com【全免费】</dc:description>
  <dc:language>en-US</dc:language>
  <cp:lastModifiedBy>备课大师</cp:lastModifiedBy>
  <dcterms:modified xsi:type="dcterms:W3CDTF">2015-06-06T19:00:42Z</dcterms:modified>
  <cp:revision>0</cp:revision>
  <dc:subject/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</Properties>
</file>