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gif" ContentType="image/gif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BD0-6B30-4F57-ABC7-E3D3C76E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402-747D-4699-8682-81D45C73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69F-7A14-4B23-B552-FA64FD9B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DAA-3416-41FE-A9AD-86F978C3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50A5-1CF1-488D-BBC2-71AD2CD6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7250-85CD-489E-8959-A1FC5F88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D03F-2CF1-455B-BAED-B74E7C60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7050-01FF-468E-A308-87DA3759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58B7-9D0A-4A53-BC65-F8430CBD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A36F-C5E0-45A9-81B6-2FB80A5C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1261-FB0F-49C0-AA4E-DD2ABE01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8EB-7662-4E6E-8044-9505D57F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A7FF-C437-4252-95A7-E2C73536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EF9F-92B5-4691-8688-8845425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D9F5-AB36-421B-BC2A-185EB3F0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8246-FFA5-4B35-B329-6C1E8EBF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9244-62F8-4B97-B599-5AA36AEB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AE5-A2A8-4D12-8AE4-EF1089CE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67F-4EFE-4DB7-8758-0213113D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177-DD23-4645-819C-2127183D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337-F8B5-4A47-B508-82F86060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444-DAE0-4EF6-8BF8-1CB3599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A2A-229F-42F5-96EC-5784FE37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667-EDCD-4A19-97C1-3581ABFD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C644-7F32-40D8-AF1B-70420A03DA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128D-AC27-4CCA-ACCE-094BBAE0DA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7.xml"/><Relationship Id="rId3" Type="http://schemas.openxmlformats.org/officeDocument/2006/relationships/image" Target="../media/image31.jpeg"/><Relationship Id="rId4" Type="http://schemas.openxmlformats.org/officeDocument/2006/relationships/slide" Target="slide33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" Target="slide3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" Target="slide33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29.xml"/><Relationship Id="rId3" Type="http://schemas.openxmlformats.org/officeDocument/2006/relationships/slide" Target="slide88.xml"/><Relationship Id="rId4" Type="http://schemas.openxmlformats.org/officeDocument/2006/relationships/slide" Target="slide30.xml"/><Relationship Id="rId5" Type="http://schemas.openxmlformats.org/officeDocument/2006/relationships/slide" Target="slide88.xml"/><Relationship Id="rId6" Type="http://schemas.openxmlformats.org/officeDocument/2006/relationships/slide" Target="slide88.xml"/><Relationship Id="rId7" Type="http://schemas.openxmlformats.org/officeDocument/2006/relationships/slide" Target="slide88.xm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88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09588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舜，传说中的远古帝王，五帝之一，姓姚，名重华，号有虞氏，史称虞舜。相传他的父亲瞽叟及继母、异母弟象，多次想害死他：让舜修补谷仓仓顶时，从谷仓下纵火，舜手持两个斗笠跳下逃脱；让舜掘井时，瞽叟与象却下土填井，舜掘地道逃脱。事后舜毫不嫉恨，仍对父亲恭顺，对弟弟慈爱。他的孝行感动了天帝。舜在厉山耕种，大象替他耕地，鸟代他锄草。帝尧听说舜非常孝顺，有处理政事的才干，把两个女儿娥皇和女英嫁给他；经过多年观察和考验，选定舜做他的继承人。舜登天子位后，去看望父亲，仍然恭恭敬敬，并封象为诸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715000" y="228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江革，东汉时齐国临淄人，少年丧父，侍奉母亲极为孝顺。战乱中，江革背着母亲逃难，几次遇到匪盗，贼人欲杀死他，江革哭告：老母年迈，无人奉养，贼人见他孝顺，不忍杀他。后来，他迁居江苏下邳，做雇工供养母亲，自己贫穷赤脚，而母亲所需甚丰。明帝时被推举为孝廉，章帝时被推举为贤良方正，任五官中郎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图片10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791320" y="228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陆绩，三国时期吴国吴县华亭（今上海市松江）人，科学家。六岁时，随父亲陆康到九江谒见袁术，袁术拿出橘子招待，陆绩往怀里藏了两个橘子。临行时，橘子滚落地上，袁术嘲笑道：“陆郎来我家作客，走的时候还要怀藏主人的橘子吗？”陆绩回答说：“母亲喜欢吃橘子，我想拿回去送给母亲尝尝。”袁术见他小小年纪就懂得孝顺母亲，十分惊奇。陆绩成年后，博学多识，通晓天文、历算，曾作《浑天图》，注《易经》，撰写《太玄经注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图片11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867280" y="22860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郭巨，晋代隆虑（今河南林县）人，一说河内温县（今河南温县西南）人，原本家道殷实。父亲死后，他把家产分作两份，给了两个弟弟，自己独取母亲供养，对母极孝。后家境逐渐贫困，妻子生一男孩，郭巨担心，养这个孩子，必然影响供养母亲，遂和妻子商议：“儿子可以再有，母亲死了不能复活，不如埋掉儿子，节省些粮食供养母亲。”当他们挖坑时，在地下二尺处忽见一坛黄金，上书“天赐郭巨，官不得取，民不得夺”。夫妻得到黄金，回家孝敬母亲，并得以兼养孩子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图片12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7150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香，东汉江夏安陆人，九岁丧母，事父极孝。酷夏时为父亲扇凉枕席；寒冬时用身体为父亲温暖被褥。少年时即博通经典，文采飞扬，京师广泛流传“天下无双，江夏黄童”。安帝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7-1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）时任魏郡（今属河北）太守，魏郡遭受水灾，黄香尽其所有赈济灾民。著有《九宫赋》、《天子冠颂》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图片13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867280" y="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蔡顺，汉代汝南（今属河南）人，少年丧父，事母甚孝。当时正值王莽之乱，又遇饥荒，柴米昂贵，只得拾桑葚母子充饥。一天，巧遇赤眉军，义军士兵厉声问道：“为什么把红色的桑葚和黑色的桑葚分开装在两个篓子里？”蔡顺回答说：“黑色的桑葚供老母食用，红色的桑葚留给自己吃。”赤眉军怜悯他的孝心，送给他三斗白米，一头牛，带回去供奉他的母亲，以示敬意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图片14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867280" y="152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姜诗，东汉四川广汉人，娶庞氏为妻。夫妻孝顺，其家距长江六七里之遥，庞氏常到江边取婆婆喜喝的长江水。婆婆爱吃鱼，夫妻就常做鱼给她吃，婆婆不愿意独自吃，他们又请来邻居老婆婆一起吃。一次因风大，庞氏取水晚归，姜诗怀疑她怠慢母亲，将她逐出家门。庞氏寄居在邻居家中，昼夜辛勤纺纱织布，将积蓄所得托邻居送回家中孝敬婆婆。其后，婆婆知道了庞氏被逐之事，令姜诗将其请回。庞氏回家这天，院中忽然喷涌出泉水，口味与长江水相同，每天还有两条鲤鱼跃出。从此，庞氏便用这些供奉婆婆，不必远走江边了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图片15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095880" y="228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裒，魏晋时期营陵（今山东昌乐东南）人，博学多能。父亲王仪被司马昭杀害，他隐居以教书为业，终身不面向西坐，表示永不作晋臣。其母在世时怕雷，死后埋葬在山林中。每当风雨天气，听到雷声，他就跑到母亲坟前，跪拜安慰母亲说：“裒儿在这里，母亲不要害怕。”他教书时，每当读到《蓼莪》篇，就常常泪流满面，思念父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图片16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095880" y="152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崔山南，名，唐代博陵（今属河北）人，官至山南西道节度使，人称“山南”。当年，崔山南的曾祖母长孙夫人，年事已高，牙齿脱落，祖母唐夫人十分孝顺，每天盥洗后，都上堂用自己的乳汁喂养婆婆，如此数年，长孙夫人不再吃其他饭食，身体依然健康。长孙夫人病重时，将全家大小召集在一起，说：“我无以报答新妇之恩，但愿新妇的子孙媳妇也像她孝敬我一样孝敬她。”后来崔山南做了高官，果然像长孙夫人所嘱，孝敬祖母唐夫人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图片17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095880" y="228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祥，琅琊人，生母早丧，继母朱氏多次在他父亲面前说他的坏话，使他失去父爱。父母患病，他衣不解带侍候，继母想吃活鲤鱼，适值天寒地冻，他解开衣服卧在冰上，冰忽然自行融化，跃出两条鲤鱼。继母食后，果然病愈。王祥隐居二十余年，后从温县县令做到大司农、司空、太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图片18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019920" y="152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吴猛，晋朝濮阳人，八岁时就懂得孝敬父母。家里贫穷，没有蚊帐，蚊虫叮咬使父亲不能安睡。每到夏夜，吴猛总是赤身坐在父亲床前，任蚊虫叮咬而不驱赶，担心蚊虫离开自己去叮咬父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图片19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汉文帝刘恒，汉高祖第三子，为薄太后所生。高后八年（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即帝位。他以仁孝之名，闻于天下，侍奉母亲从不懈怠。母亲卧病三年，他常常目不交睫，衣不解带；母亲所服的汤药，他亲口尝过后才放心让母亲服用。他在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，重德治，兴礼仪，注意发展农业，使西汉社会稳定，人丁兴旺，经济得到恢复和发展，他与汉景帝的统治时期被誉为“文景之治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943600" y="2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杨香，晋朝人。十四岁时随父亲到田间割稻，忽然跑来一只猛虎，把父亲扑倒叼走，杨香手无寸铁，为救父亲，全然不顾自己的安危，急忙跳上前，用尽全身气力扼住猛虎的咽喉。猛虎终于放下父亲跑掉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图片20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6019920" y="228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孟宗，三国时江夏人，少年时父亡，母亲年老病重，医生嘱用鲜竹笋做汤。适值严冬，没有鲜笋，孟宗无计可施，独自一人跑到竹林里，扶竹哭泣。少顷，他忽然听到地裂声，只见地上长出数茎嫩笋。孟宗大喜，采回做汤，母亲喝了后果然病愈。后来他官至司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图片21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5880" y="152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庾黔娄，南齐高士，任孱陵县令。赴任不满十天，忽觉心惊流汗，预感家中有事，当即辞官返乡。回到家中，知父亲已病重两日。医生嘱咐说：“要知道病情吉凶，只要尝一尝病人粪便的味道，味苦就好。”黔娄于是就去尝父亲的粪便，发现味甜，内心十分忧虑，夜里跪拜北斗星，乞求以身代父去死。几天后父亲死去，黔娄安葬了父亲，并守制三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图片22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248520" y="1522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寿昌，宋代天长人，七岁时，生母刘氏被嫡母（父亲的正妻）嫉妒，不得不改嫁他人，五十年母子音信不通。神宗时，朱寿昌在朝做官，曾经刺血书写《金刚经》，行四方寻找生母，得到线索后，决心弃官到陕西寻找生母，发誓不见母亲永不返回。终于在陕州遇到生母和两个弟弟，母子欢聚，一起返回，这时母亲已经七十多岁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图片23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095880" y="1522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庭坚，北宋分宁（今江西修水）人，著名诗人、书法家。虽身居高位，侍奉母亲却竭尽孝诚，每天晚上，都亲自为母亲洗涤溺器（便桶），没有一天忘记儿子应尽的职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图片24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陈情表1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3"/>
          <p:cNvGrpSpPr/>
          <p:nvPr/>
        </p:nvGrpSpPr>
        <p:grpSpPr>
          <a:xfrm>
            <a:off x="5940360" y="333360"/>
            <a:ext cx="2779560" cy="5829120"/>
            <a:chOff x="5940360" y="333360"/>
            <a:chExt cx="2779560" cy="5829120"/>
          </a:xfrm>
        </p:grpSpPr>
        <p:sp>
          <p:nvSpPr>
            <p:cNvPr id="132" name="Rectangle 4"/>
            <p:cNvSpPr/>
            <p:nvPr/>
          </p:nvSpPr>
          <p:spPr>
            <a:xfrm>
              <a:off x="7267680" y="333360"/>
              <a:ext cx="1415880" cy="58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5940360" y="333360"/>
              <a:ext cx="1327320" cy="58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5940360" y="33336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5940360" y="61466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7267680" y="333360"/>
              <a:ext cx="0" cy="5813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8719920" y="349200"/>
              <a:ext cx="0" cy="5813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10"/>
          <p:cNvGrpSpPr/>
          <p:nvPr/>
        </p:nvGrpSpPr>
        <p:grpSpPr>
          <a:xfrm>
            <a:off x="5770440" y="0"/>
            <a:ext cx="3106440" cy="6857640"/>
            <a:chOff x="5770440" y="0"/>
            <a:chExt cx="3106440" cy="6857640"/>
          </a:xfrm>
        </p:grpSpPr>
        <p:sp>
          <p:nvSpPr>
            <p:cNvPr id="139" name="Line 11"/>
            <p:cNvSpPr/>
            <p:nvPr/>
          </p:nvSpPr>
          <p:spPr>
            <a:xfrm>
              <a:off x="5940360" y="0"/>
              <a:ext cx="0" cy="685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2"/>
            <p:cNvSpPr/>
            <p:nvPr/>
          </p:nvSpPr>
          <p:spPr>
            <a:xfrm>
              <a:off x="5770440" y="571320"/>
              <a:ext cx="3106440" cy="56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陈 情 表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6238800" y="3430440"/>
              <a:ext cx="729000" cy="27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·   </a:t>
              </a:r>
              <a:r>
                <a:rPr b="0" lang="zh-CN" sz="36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李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004921231938731"/>
          <p:cNvPicPr/>
          <p:nvPr/>
        </p:nvPicPr>
        <p:blipFill>
          <a:blip r:embed="rId1"/>
          <a:stretch/>
        </p:blipFill>
        <p:spPr>
          <a:xfrm>
            <a:off x="533520" y="2286000"/>
            <a:ext cx="3954240" cy="3989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5261040" y="-33480"/>
            <a:ext cx="23749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忠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出师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孝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陈情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QJZRX.MP3" descr=""/>
          <p:cNvPicPr/>
          <p:nvPr/>
        </p:nvPicPr>
        <p:blipFill>
          <a:blip r:embed="rId2"/>
          <a:stretch/>
        </p:blipFill>
        <p:spPr>
          <a:xfrm>
            <a:off x="6300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24000" y="404640"/>
            <a:ext cx="8424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《出师表》不下泪者，其人必不忠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《陈情表》不下泪者，其人必不孝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《祭十二郎文》不下泪者，其人必不友；（以上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苏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《报任安书》不下泪者，其人必不为人。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后人续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z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syggnrhcyx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88000" y="2421000"/>
            <a:ext cx="4356000" cy="41641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395280" y="549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表，是古代臣子向皇帝陈述己见的一种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</a:rPr>
              <a:t>奏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24000" y="2708280"/>
            <a:ext cx="396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我国古代臣子写给君王的呈文有各种不同的名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战国时期称”书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到了汉代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则分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奏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议四类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表的内容多为有叙有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但是叙事和议论都带有感情色彩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>
            <a:hlinkClick r:id="rId4" action="ppaction://hlinksldjump"/>
          </p:cNvPr>
          <p:cNvSpPr/>
          <p:nvPr/>
        </p:nvSpPr>
        <p:spPr>
          <a:xfrm>
            <a:off x="4067280" y="6165720"/>
            <a:ext cx="504720" cy="35892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66" h="21600">
                <a:moveTo>
                  <a:pt x="0" y="0"/>
                </a:moveTo>
                <a:lnTo>
                  <a:pt x="30366" y="0"/>
                </a:lnTo>
                <a:lnTo>
                  <a:pt x="30366" y="21600"/>
                </a:lnTo>
                <a:lnTo>
                  <a:pt x="0" y="21600"/>
                </a:lnTo>
                <a:close/>
              </a:path>
              <a:path fill="lightenLess" w="30366" h="21600">
                <a:moveTo>
                  <a:pt x="0" y="0"/>
                </a:moveTo>
                <a:lnTo>
                  <a:pt x="30366" y="0"/>
                </a:lnTo>
                <a:lnTo>
                  <a:pt x="28966" y="1400"/>
                </a:lnTo>
                <a:lnTo>
                  <a:pt x="1400" y="1400"/>
                </a:lnTo>
                <a:close/>
              </a:path>
              <a:path fill="darken" w="30366" h="21600">
                <a:moveTo>
                  <a:pt x="30366" y="0"/>
                </a:moveTo>
                <a:lnTo>
                  <a:pt x="30366" y="21600"/>
                </a:lnTo>
                <a:lnTo>
                  <a:pt x="28966" y="20200"/>
                </a:lnTo>
                <a:lnTo>
                  <a:pt x="28966" y="1400"/>
                </a:lnTo>
                <a:close/>
              </a:path>
              <a:path fill="darkenLess" w="30366" h="21600">
                <a:moveTo>
                  <a:pt x="3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66" y="20200"/>
                </a:lnTo>
                <a:close/>
              </a:path>
              <a:path fill="lighten" w="3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66" h="21600">
                <a:moveTo>
                  <a:pt x="8176" y="10800"/>
                </a:moveTo>
                <a:lnTo>
                  <a:pt x="22189" y="3794"/>
                </a:lnTo>
                <a:lnTo>
                  <a:pt x="22189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z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75165"/>
          <p:cNvPicPr/>
          <p:nvPr/>
        </p:nvPicPr>
        <p:blipFill>
          <a:blip r:embed="rId2"/>
          <a:stretch/>
        </p:blipFill>
        <p:spPr>
          <a:xfrm>
            <a:off x="5562720" y="533520"/>
            <a:ext cx="335268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0" y="126828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李密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4—287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，一名虔，字令伯，武阳（今四川省彭山县东）人。父早亡，母改嫁，由祖母刘氏亲自抚养。为人正直，颇有才干。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曾仕蜀汉为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蜀亡以后，晋武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司马炎为了巩固新政权，笼络蜀汉旧臣人心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征召李密为太子洗马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。他上表陈情，以祖母年老无人供养，辞不从命。祖母死后，出任太子洗马，官至汉中太守。后被谗免官，死于家中。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57200" y="533520"/>
            <a:ext cx="4191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隶书"/>
              </a:rPr>
              <a:t>作者简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AutoShape 6">
            <a:hlinkClick r:id="rId3" action="ppaction://hlinksldjump"/>
          </p:cNvPr>
          <p:cNvSpPr/>
          <p:nvPr/>
        </p:nvSpPr>
        <p:spPr>
          <a:xfrm>
            <a:off x="4500720" y="616572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10800"/>
                </a:moveTo>
                <a:lnTo>
                  <a:pt x="31306" y="3794"/>
                </a:lnTo>
                <a:lnTo>
                  <a:pt x="313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943600" y="60480"/>
            <a:ext cx="28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曾参，字子舆，春秋时期鲁国人，孔子的得意门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世称“曾子”，以孝著称。少年时家贫，常入山打柴。一天，家里来了客人，母亲不知所措，就用牙咬自己的手指。曾参忽然觉得心疼，知道母亲在呼唤自己，便背着柴迅速返回家中，跪问缘故。母亲说：“有客人忽然到来，我咬手指盼你回来。”曾参于是接见客人，以礼相待。曾参学识渊博，曾提出“吾日三省吾身”（《论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而》）的修养方法，相传他著述有《大学》、《孝经》等儒家经典，后世儒家尊他为“宗圣”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图片3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无标题gfjhfg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0" y="83808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此表是西晋初晋武帝泰始三年（公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7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写的。魏国后期，魏的实权落在司马氏手里，到魏元帝曹奂咸熙二年（公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，司马炎代魏即帝位，改国号为晋，年号泰始。在此之前两年，蜀汉（刘备建立的政权）已经灭亡（孙吴到公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8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年才灭亡），李密的家乡由晋统治。李密有学问，所以晋武帝想征他做官。李密原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2_28-3-326_20020107122234"/>
          <p:cNvPicPr/>
          <p:nvPr/>
        </p:nvPicPr>
        <p:blipFill>
          <a:blip r:embed="rId2"/>
          <a:stretch/>
        </p:blipFill>
        <p:spPr>
          <a:xfrm>
            <a:off x="6172200" y="914400"/>
            <a:ext cx="2971800" cy="3886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0" y="472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蜀汉的旧臣，故国灭亡才三四年，难免有伤感之情，又因为司马氏阴险多疑，前朝的臣子改事新朝难免有戒心，所以他要坚辞。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陈情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所面对的是晋武帝这个特殊人物，所写的又是他最为敏感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WordArt 6"/>
          <p:cNvSpPr txBox="1"/>
          <p:nvPr/>
        </p:nvSpPr>
        <p:spPr>
          <a:xfrm>
            <a:off x="2209680" y="0"/>
            <a:ext cx="4267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隶书"/>
              </a:rPr>
              <a:t>背景简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1" name="AutoShape 7">
            <a:hlinkClick r:id="rId3" action="ppaction://hlinksldjump"/>
          </p:cNvPr>
          <p:cNvSpPr/>
          <p:nvPr/>
        </p:nvSpPr>
        <p:spPr>
          <a:xfrm>
            <a:off x="774072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解            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79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陈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陈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情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情况（事实）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衷情（孝情、忠情）；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情理（忠孝之道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古代奏章的一种，多用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臣向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请谢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师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我国古代臣子写给君王的呈文有各种不同的名称，战国时期称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，到了汉代，则分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章、奏、表、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类。写法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叙有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但是叙事和议论都带有感情色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658520" y="2278080"/>
            <a:ext cx="583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检查课文朗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读准字音，读清句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476360" y="260280"/>
            <a:ext cx="3311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陈情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372360" y="0"/>
            <a:ext cx="143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表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003640" y="-450720"/>
            <a:ext cx="1152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843280" y="119700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908000" y="2133720"/>
            <a:ext cx="410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2" action="ppaction://hlinksldjump"/>
              </a:rPr>
              <a:t>谁在“陈情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315880" y="400536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陈”什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2246040" y="3449520"/>
            <a:ext cx="150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3" action="ppaction://hlinksldjump"/>
              </a:rPr>
              <a:t>为什么要“陈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979640" y="2781360"/>
            <a:ext cx="23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4" action="ppaction://hlinksldjump"/>
              </a:rPr>
              <a:t>向谁“陈情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318040" y="5249880"/>
            <a:ext cx="10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cc"/>
                </a:solidFill>
                <a:uFillTx/>
                <a:latin typeface="Times New Roman"/>
                <a:hlinkClick r:id="rId5" action="ppaction://hlinksldjump"/>
              </a:rPr>
              <a:t>如何“陈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1">
            <a:hlinkClick r:id="rId6" action="ppaction://hlinksldjump"/>
          </p:cNvPr>
          <p:cNvSpPr/>
          <p:nvPr/>
        </p:nvSpPr>
        <p:spPr>
          <a:xfrm>
            <a:off x="8101080" y="595008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1299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98" h="21600">
                <a:moveTo>
                  <a:pt x="1299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98" h="21600">
                <a:moveTo>
                  <a:pt x="10423" y="8224"/>
                </a:moveTo>
                <a:lnTo>
                  <a:pt x="14287" y="8224"/>
                </a:lnTo>
                <a:lnTo>
                  <a:pt x="14287" y="15221"/>
                </a:lnTo>
                <a:lnTo>
                  <a:pt x="15575" y="15221"/>
                </a:lnTo>
                <a:lnTo>
                  <a:pt x="15575" y="16144"/>
                </a:lnTo>
                <a:lnTo>
                  <a:pt x="10423" y="16144"/>
                </a:lnTo>
                <a:lnTo>
                  <a:pt x="10423" y="15221"/>
                </a:lnTo>
                <a:lnTo>
                  <a:pt x="11711" y="15221"/>
                </a:lnTo>
                <a:lnTo>
                  <a:pt x="11711" y="9129"/>
                </a:lnTo>
                <a:lnTo>
                  <a:pt x="10423" y="912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2">
            <a:hlinkClick r:id="rId7" action="ppaction://hlinksldjump"/>
          </p:cNvPr>
          <p:cNvSpPr/>
          <p:nvPr/>
        </p:nvSpPr>
        <p:spPr>
          <a:xfrm>
            <a:off x="324000" y="609300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39640" y="549360"/>
            <a:ext cx="22320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翻译注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773360"/>
            <a:ext cx="360036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密言：臣以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险衅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夙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遭闵凶。生孩六月 ，慈父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见背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行年四岁 ，舅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夺母志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祖母刘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悯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mǐn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臣孤弱 ，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躬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亲抚养。臣少多疾病 ，九岁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不行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，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零丁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孤苦 ，至于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成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429080" y="2276640"/>
            <a:ext cx="4319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臣李密上言：我因为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命运不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幼年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遭到不幸。生下来只有六个月，父亲就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去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；长到四岁的时候，舅父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强迫我的母亲改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祖母刘氏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怜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孤单弱小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以抚养。我小时候经常生病，九岁还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能走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孤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靠，直到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大成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68360" y="1700280"/>
            <a:ext cx="367200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既无叔伯 ，终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xǐan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兄弟 ，门衰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祚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zuò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薄 ，晚有儿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息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外无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期功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强近之亲 ，内无应门五尺之僮 ，茕茕孑立 ，形影相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吊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而刘夙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婴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疾病 ，常在床蓐 ，臣侍汤药 ，未曾废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427640" y="2060640"/>
            <a:ext cx="4419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没有叔叔伯伯，也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哥哥弟弟，门庭衰微没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福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很晚才得到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外面没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较亲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亲戚，家里没有照管门户的僮仆。孤单无靠地独立生活，只有和自己的影子相互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安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而祖母刘氏很早就为疾病所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纠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经常卧病在床，我侍奉饮食医药，从来没有离开过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24000" y="1413000"/>
            <a:ext cx="4787640" cy="42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臣以险衅，夙遭闵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九岁不行，零丁孤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夙婴疾病，常在床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971640" y="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通   假   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638880" y="2143080"/>
            <a:ext cx="39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闵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通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，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黑体"/>
              </a:rPr>
              <a:t>可忧患的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562920" y="32148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零丁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通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伶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，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黑体"/>
              </a:rPr>
              <a:t>孤独的样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3265560" y="4500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蓐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通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，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黑体"/>
              </a:rPr>
              <a:t>草席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331920" y="214632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至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成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22200" y="2930400"/>
            <a:ext cx="29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至于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成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24000" y="372420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九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419640" y="2073240"/>
            <a:ext cx="34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到</a:t>
            </a:r>
            <a:r>
              <a:rPr b="1" lang="en-US" sz="3600" spc="-1" strike="noStrike">
                <a:solidFill>
                  <a:srgbClr val="cc00ff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另提一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19640" y="29304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成人自立；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理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站得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419640" y="3724200"/>
            <a:ext cx="46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不能走路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可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162160" y="857160"/>
            <a:ext cx="50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古今异义词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yezi5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428760" y="22147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刘夙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2155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1120" y="11430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214280" y="342900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动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婴疾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疾病缠绕，为疾病所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1268280"/>
            <a:ext cx="817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孤苦伶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茕茕独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影相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965240" y="1268280"/>
            <a:ext cx="717876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孤单困苦，无依无靠。孤苦：没有依   靠，生活困苦。伶仃：孤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981080" y="2259000"/>
            <a:ext cx="71629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孤苦伶仃，无依无靠。茕茕：孤独无靠的样子。立：孤单单地呆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965240" y="3249720"/>
            <a:ext cx="717876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自己的身体和影子互相安慰，形容十分孤单。形：身体。吊：慰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562720" y="3808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仲由，字子路、季路，春秋时期鲁国人，孔子的得意门生，性格直率勇敢，十分孝顺。早年家中贫穷，自己常常采野菜做饭食，却从百里之外负米回家侍奉双亲。父母死后，他做了大官，奉命到楚国去，随从的车马有百乘之众，所积的粮食有万钟之多。坐在垒叠的锦褥上，吃着丰盛的筵席，他常常怀念双亲，慨叹说：“即使我想吃野菜，为父母亲去负米，哪里能够再得呢？”孔子赞扬说：“你侍奉父母，可以说是生时尽力，死后思念哪！”（《孔子家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致思》）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图片4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3348000" y="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50920" y="907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哪句话是作者陈述的总提？它包含了哪些内容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79280" y="3716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夙遭闵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2030400" y="26668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411280" y="2514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丧母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40000" y="33577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病零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411280" y="41911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门衰祚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411280" y="5029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夙婴疾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257800" y="3429000"/>
            <a:ext cx="38862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故不能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废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为下文伏笔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24000" y="61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陈述自身遭遇的不幸和祖母疾病在身的情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569400" y="2421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背诵第一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11280" y="1773360"/>
            <a:ext cx="33843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逮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奉圣朝 ，沐浴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清化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前太守臣逵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察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孝廉；后刺史臣荣举臣秀才。臣以供养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无主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，辞不赴命。诏书特下 ，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郎中 ，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寻蒙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国恩 ，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除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洗马。猥以微贱 ，当侍东宫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284720" y="2060640"/>
            <a:ext cx="4343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到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晋朝建立，我沐浴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清明政治的教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中。前些时候太守逵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推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为孝廉，后来刺史荣又推举我为秀才。我因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人能照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祖母，就辞谢掉了，没有遵命。朝廷又特地颁下诏书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任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为郎中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家恩命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任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为洗马。以我这样卑微低贱的人去侍奉太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611280" y="1649520"/>
            <a:ext cx="37447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非臣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陨首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所能上报。臣具以表闻 ，辞不就职。诏书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切峻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，责臣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逋慢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郡县逼迫 ，催臣上道；州司临门 ，急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星火。臣欲奉诏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奔驰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，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刘病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日笃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，欲苟顺私情 ，则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告诉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不许。臣之进退 ，实为狼狈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00720" y="1557360"/>
            <a:ext cx="4343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实在不是我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杀身捐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能够报答朝廷的。我将以上苦衷上表报告，加以辞谢不去就职。但是诏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急切严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责备我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回避怠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郡县长官催促我立刻上路；州官登门督促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星火还要急。我很想奉命为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奔走效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但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祖母刘氏的疾病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天比一天严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想姑且迁就自己的私情，但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报告申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得不到准许。我现在是进退两难，处境狼狈不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684360" y="1989000"/>
            <a:ext cx="8820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臣以供养无主，辞不赴命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撰长书以为贽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辞甚畅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君子疾夫舍曰‘欲之’而必为之辞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朝辞白帝彩云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11280" y="1052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b1307"/>
                </a:solidFill>
                <a:latin typeface="Times New Roman"/>
              </a:rPr>
              <a:t>辞</a:t>
            </a:r>
            <a:r>
              <a:rPr b="0" lang="en-US" sz="4800" spc="-1" strike="noStrike">
                <a:solidFill>
                  <a:srgbClr val="fb1307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755640" y="1916280"/>
            <a:ext cx="33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幼圆"/>
              </a:rPr>
              <a:t>逮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幼圆"/>
              </a:rPr>
              <a:t>奉圣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幼圆"/>
              </a:rPr>
              <a:t>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幼圆"/>
              </a:rPr>
              <a:t>蒙国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幼圆"/>
              </a:rPr>
              <a:t>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幼圆"/>
              </a:rPr>
              <a:t>臣洗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幼圆"/>
              </a:rPr>
              <a:t>则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幼圆"/>
              </a:rPr>
              <a:t>告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幼圆"/>
              </a:rPr>
              <a:t>不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282200" y="23493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等到                      捉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282200" y="27813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不久                      寻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419360" y="328464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授予官职             去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591080" y="37162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申述                      诉说给别人知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447800" y="90792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古义        今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80880" y="1905120"/>
            <a:ext cx="30481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猥以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幼圆"/>
              </a:rPr>
              <a:t>微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995280" y="19890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微贱：形容词用作名词，微贱的身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12608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幼圆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24000" y="8366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段分几个层次？各自的重点是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116000" y="206064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二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755640" y="285264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叙朝廷征召之殷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684360" y="4005360"/>
            <a:ext cx="82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        </a:t>
            </a:r>
            <a:r>
              <a:rPr b="0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写自己进退两难的境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由诵读第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1763640" y="3213000"/>
            <a:ext cx="223920" cy="1417680"/>
          </a:xfrm>
          <a:custGeom>
            <a:avLst/>
            <a:gdLst>
              <a:gd name="textAreaLeft" fmla="*/ 143280 w 223920"/>
              <a:gd name="textAreaRight" fmla="*/ 224280 w 223920"/>
              <a:gd name="textAreaTop" fmla="*/ 36720 h 1417680"/>
              <a:gd name="textAreaBottom" fmla="*/ 1380960 h 14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24000" y="54936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先郡，次州，后朝廷，可见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征召级别越来越高，表达作者的感恩戴德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250920" y="3141720"/>
            <a:ext cx="859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推辞理由：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供养无主，刘病日笃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承上文“夙婴疾病”，张下文“日薄西山”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95280" y="981000"/>
            <a:ext cx="81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事态严重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诏、责、逼、催等，含蓄地表明了强己所难之窘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95280" y="2349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处境狼狈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非臣陨首所能上报”，可是“供养无主”“欲奉诏奔驰”，“刘病日笃”；“欲苟顺私情，则告诉不许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19040" y="4221000"/>
            <a:ext cx="84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品析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诉说自己辞不就职的矛盾心理（狼狈处境），“臣之进退，实为狼狈”，情辞悲切，动人心肺。“奉”“沐浴”，称颂朝廷，并表感恩之情，可见语言的得体和机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34120" y="604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闵损，字子骞，春秋时期鲁国人，孔子的弟子，在孔门中以德行与颜渊并称。孔子曾赞扬他说：“孝哉，闵子骞！”（《论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先进》）。他生母早死，父亲娶了后妻，又生了两个儿子。继母经常虐待他，冬天，两个弟弟穿着用棉花做的冬衣，却给他穿用芦花做的“棉衣”。一天，父亲出门，闵损牵车时因寒冷打颤，将绳子掉落地上，遭到父亲的斥责和鞭打，芦花随着打破的衣缝飞了出来，父亲方知闵损受到虐待。父亲返回家，要休逐后妻。闵损跪求父亲饶恕继母，说：“留下母亲只是我一个人受冷，休了母亲三个孩子都要挨冻。”父亲十分感动，就依了他。继母听说，悔恨知错，从此对待他如亲子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图片5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006640" y="428760"/>
            <a:ext cx="463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本段中我们看到的是李密的态度坚决呢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还是他的哀婉陈情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078640" y="1558800"/>
            <a:ext cx="402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华文隶书"/>
              </a:rPr>
              <a:t>词意凄恻婉转，恭谨虔诚，外表象是俯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华文隶书"/>
              </a:rPr>
              <a:t>乞怜，令人同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华文隶书"/>
              </a:rPr>
              <a:t>实质是态度坚决，还是不去应征。</a:t>
            </a: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488960" y="3471840"/>
            <a:ext cx="30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怎样巧妙推脱任职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826920" y="4149720"/>
            <a:ext cx="790740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一方面感激朝廷知遇之恩，一方面又提出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己的苦处，即有卧床不起的祖母，博得武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的同情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979640" y="256536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背诵第二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55640" y="1916280"/>
            <a:ext cx="2951280" cy="40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伏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惟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圣朝以孝治天下 ，凡在故老 ，犹蒙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育 ，况臣孤苦 ，特为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尤甚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且臣少仕伪朝 ，历职郎署 ，本图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宦达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，不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名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4284720" y="2637000"/>
            <a:ext cx="4248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圣朝是以孝道来治理天下的，凡是故旧老人，尚且受到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怜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抚育，何况我的孤苦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尤其严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。再说我年轻的时候曾经做过蜀汉的郎官，本来希望能够得到更为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显达的官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不以 清高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611280" y="1916280"/>
            <a:ext cx="316872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今臣亡国贱俘 ，至微至陋 ，过蒙拔擢 ，宠命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优渥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wò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 ，岂敢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盘桓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，有所希冀！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但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以刘日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薄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西山 ，气息奄奄 ，人命危浅 ，朝不虑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284720" y="2421000"/>
            <a:ext cx="43434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现在是卑贱的亡国之俘，实在微不足道，承蒙得到提拔，而且恩命十分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优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怎敢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徘徊观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有什么另外的企求呢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祖母刘氏已是象太阳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迫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山的人，气息微弱，生命不可能维持太长的时间，已经处于朝不保夕的境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611280" y="1700280"/>
            <a:ext cx="280836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无祖母 ，无以至今日 ，祖母无臣 ，无以终余年 ，祖孙二人 ，更相为命 ，是以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区区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不能废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067280" y="2637000"/>
            <a:ext cx="4495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如果没有祖母抚养，就不可能活到今天，如果祖母没有我的照顾，也不能够安度她的晚年，我们祖孙二人，相依为命，正是由于这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出自内心的感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我不能弃养而远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755640" y="2708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仕的理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2819520" y="21337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051000" y="182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圣朝以孝治天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8120" y="2743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059280" y="2637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祖孙更相为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24080" y="3581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59280" y="3573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区区不能废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5724360" y="1916280"/>
            <a:ext cx="152640" cy="2133360"/>
          </a:xfrm>
          <a:custGeom>
            <a:avLst/>
            <a:gdLst>
              <a:gd name="textAreaLeft" fmla="*/ 0 w 152640"/>
              <a:gd name="textAreaRight" fmla="*/ 55080 w 1526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72200" y="2637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克尽孝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6300720" y="328464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合情合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84360" y="5084640"/>
            <a:ext cx="611964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提出以孝治天下的治国纲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陈述自己不仕的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0" y="333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　　第三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95280" y="69228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段结尾落在辞官养亲上，从哪几个角度展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提示：三层</a:t>
            </a: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别以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伏惟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”“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且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”“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但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来转换文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95280" y="2421000"/>
            <a:ext cx="84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A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抓住晋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以孝治天下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大理，解释自己应得到同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B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自陈宦历，称颂君恩，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明辞职与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无关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以求皇帝谅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C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正面陈述刘之现状，是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能废远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惟一原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95280" y="260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为什么扯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面大旗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句有何含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539640" y="1773360"/>
            <a:ext cx="79250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A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借孝来掩饰自己的观望之意，从而解除晋武帝的疑忌之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B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凡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是指一般，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况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是指特殊。孝既已及于一般，对特殊就更应如此了。理由充足且冠冕堂皇。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孤苦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一词承首段，又为下文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臣之辛苦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张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324000" y="2708280"/>
            <a:ext cx="83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背诵第三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826920" y="2060640"/>
            <a:ext cx="25178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密今年四十有四 ，祖母刘今年九十有六 ，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尽节于陛下之日长 ，报刘之日短也。乌鸟私情 ，愿乞终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140360" y="2492280"/>
            <a:ext cx="441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今年四十四岁，祖母刘氏今年九十六岁，因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效忠于陛下的日子还很长，而报答祖母刘氏的日子已很短了。我怀着象乌鸦反哺一样的私情，希望能够准许我对祖母养老送终的请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486400" y="152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郯子，春秋时期人。父母年老，患眼疾，需饮鹿乳疗治。他便披鹿皮进入深山，钻进鹿群中，挤取鹿乳，供奉双亲。一次取乳时，看见猎人正要射杀一只麂鹿，郯子急忙掀起鹿皮现身走出，将挤取鹿乳为双亲医病的实情告知猎人，猎人敬他孝顺，以鹿乳相赠，护送他出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图片6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11280" y="2060640"/>
            <a:ext cx="3600360" cy="384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之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辛苦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，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非独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蜀之人士及二州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牧伯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所见明知 ，皇天后土实所共鉴 ，愿陛下矜愍愚诚 ，</a:t>
            </a: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听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微志 ，庶刘侥幸 ，保卒余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4500720" y="2492280"/>
            <a:ext cx="4103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苦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蜀地的人和益州、梁州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亲眼目睹，连天地神明也都看到的，祈望陛下能怜惜我愚昧至诚的心意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同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这点微小的愿望，使祖母刘氏能够侥幸保全她的余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403280" y="2637000"/>
            <a:ext cx="259236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臣生当陨首 ，死当结草。臣不胜犬马怖惧之情 ，谨拜表以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580000" y="2421000"/>
            <a:ext cx="2376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活着愿意献出生命，死后愿意结草来报答陛下的恩惠。我怀着象牛马一样不胜恐惧的心情，谨此上表禀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使您知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333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　　第四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539640" y="27320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两难的解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444760" y="1665360"/>
            <a:ext cx="549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2749680" y="1969920"/>
            <a:ext cx="75960" cy="2438640"/>
          </a:xfrm>
          <a:custGeom>
            <a:avLst/>
            <a:gdLst>
              <a:gd name="textAreaLeft" fmla="*/ 48600 w 75960"/>
              <a:gd name="textAreaRight" fmla="*/ 76320 w 759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2825640" y="1969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尽节于陛下之日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901960" y="3790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报养刘之日短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673360" y="28843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先孝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后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6178680" y="1969920"/>
            <a:ext cx="75960" cy="2438640"/>
          </a:xfrm>
          <a:custGeom>
            <a:avLst/>
            <a:gdLst>
              <a:gd name="textAreaLeft" fmla="*/ 0 w 75960"/>
              <a:gd name="textAreaRight" fmla="*/ 27360 w 759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6254640" y="273204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愿乞终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539640" y="517032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明确提出陈情的目的“愿乞终养”，先尽孝后进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WordArt 12"/>
          <p:cNvSpPr txBox="1"/>
          <p:nvPr/>
        </p:nvSpPr>
        <p:spPr>
          <a:xfrm>
            <a:off x="5429160" y="0"/>
            <a:ext cx="37148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以理喻人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38088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本段可见全文感情真挚、悲恻动人，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457200" y="2057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事之实：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是臣尽节于陛下之日长，报养刘之日短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39640" y="3429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言之切：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愿乞、愿矝悯、听臣微言、明知、共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57200" y="4724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心之诚：</a:t>
            </a: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生当陨首，死当结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0" y="23623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尽节之日长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44197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报养之日短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581280" y="8380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沐浴清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V="1">
            <a:off x="4800600" y="159984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509280" y="1600200"/>
            <a:ext cx="1399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察举拜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 flipV="1">
            <a:off x="4800600" y="38095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3509280" y="3962520"/>
            <a:ext cx="13993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薄奄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029200" y="1905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生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029200" y="26668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死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029200" y="41148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愚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029200" y="4876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微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3"/>
          <p:cNvSpPr/>
          <p:nvPr/>
        </p:nvSpPr>
        <p:spPr>
          <a:xfrm>
            <a:off x="6477120" y="220968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6633360" y="2362320"/>
            <a:ext cx="1399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真挚感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581280" y="57150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能废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179280" y="278136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背诵第四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4572000" y="2205000"/>
            <a:ext cx="32734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孝</a:t>
            </a:r>
            <a:endParaRPr b="0" i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370400" y="907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综合全文看，作者在哪一个字上做文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3" dur="1" fill="hold"/>
                                  <p:tgtEl>
                                    <p:spTgt spid="3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497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文中的孝表现在哪里？你如何看待李密的“孝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臣侍汤药，未曾远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以供养无主，辞不赴命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刘日薄西山，奄奄一息，不能为远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庶刘侥幸，保卒余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比较真实地写出了自己的境遇和终养祖母的愿望，这种在长期艰难生活中培养和发展起来的骨肉之情，在利欲熏心、尔虞我诈的封建统治阶级中，应该说是少有的，因而是可贵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8455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、有人认为，忠孝两全是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陈情表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的中心，你怎么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8455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今天读这篇文章，就应从感情和政治两个方面来考虑它的内容和表现技巧，而不能仅仅看作是一篇“以孝感人”的“至文”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时，晋武帝是以孝治天下，李密的“孝”就是“忠”，“孝”敬祖母就是“忠君爱国”，“忠”是一种大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638680" y="152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莱子，春秋时期楚国隐士，为躲避世乱，自耕于蒙山南麓。他孝顺父母，尽拣美味供奉双亲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岁尚不言老，常穿着五色彩衣，手持拨浪鼓如小孩子般戏耍，以博父母开怀。一次为双亲送水，进屋时跌了一跤，他怕父母伤心，索性躺在地上学小孩子哭，二老大笑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图片7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、有论者认为，李密反复强调孝亲，其实是为自己不奉诏仕晋而故意寻找借口。你同意这一观点吗，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李密反复强调孝亲，决不是为其不奉诏仕晋而故意寻找借口。他是真心因终养祖母才难能应诏的。读完全篇，我们可以清楚地体昧到，他的孝心不是抽象的，而是充满了孙儿对祖母的一片真情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引导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李密对蜀汉念念于怀，他曾说刘禅“可次齐桓”。更何况司马氏是以屠杀篡夺取得天下，内部矛盾重重。李密以一亡国之臣，对出仕新朝就不能不有所顾虑，而暂存观望之心了。不幸的是他这种想法，被晋武帝多少察觉到了，因此“州书切峻，责臣逋慢”，这就使李密在“再度表闻”时，发生了更大的困难。然而李密抓住了“孝”字大做文章，却又不从大道理讲起，而是委婉陈辞，动之以情，恰到好处地解决了“不从皇命”的难题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684360" y="2060640"/>
            <a:ext cx="7791480" cy="119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宋代学者赵与时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宾退录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中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读诸葛孔明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师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而不堕泪者，其人必不忠。读李令伯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陈情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而不堕泪者，其人必不孝。 读韩愈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祭十二郎文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而不堕泪者，其人必不友。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4360" y="5229360"/>
            <a:ext cx="60847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孔子曰：弟子入则孝，出则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908000" y="2492280"/>
            <a:ext cx="5256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一个人的身体，或者很细小的一根头发和一点皮肤，都是父母遗留下来的。身体发肤，既然承受之于父母，就应当体念父母爱儿女的心，保全自己的身体，不敢稍有毁伤，这就是孝道的开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992400" y="995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幼圆"/>
              </a:rPr>
              <a:t>身体发肤，受之父母，不敢毁伤，孝之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2627280" y="2276640"/>
            <a:ext cx="4753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名誉传诵于当时，而且将要播扬于后世，父母的声名，也因儿女的德望光荣显耀起来，这便是孝道的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4081320" y="90792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立身行道，扬名于后世，以显父母，孝之终也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1763640" y="2349360"/>
            <a:ext cx="5472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孝道，可分成三个阶段，幼年时期，一开始，便是承欢膝下，事奉双亲。到了中年替长官办事，藉以为国家尽忠，立身，这才是孝道的完成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740760" y="995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幼圆"/>
              </a:rPr>
              <a:t>夫孝，始于事亲，中于事君，终于立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2411280" y="2276640"/>
            <a:ext cx="424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把爱敬父亲的爱心移来以爱母亲，那亲爱的心思，是一样的。再把爱敬父亲的敬心，移来以敬长官，那恭敬的态度，是一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259880" y="105264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资于事父以事母而爱同，资于事父以事君而敬同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1116000" y="2205000"/>
            <a:ext cx="72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所以母亲方面，偏重在爱，就取其爱。对长官方面，偏重在敬，就取其敬。爱敬并重的，应算是父亲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若能以事亲之道，服从长官，竭尽心力，把公事办得好，这便是忠。对于同事方面，地位较高年龄较大的长者，以恭敬服从的态度处之，这便是顺。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684360" y="476280"/>
            <a:ext cx="62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故母取其爱，而君取其敬，兼之者父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故以孝事君，则忠。以敬事长，则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763640" y="2492280"/>
            <a:ext cx="525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他的忠顺二字不会失掉，用以事奉其长官，自然他的禄位可以巩固。光先耀祖的祭祀，也可以保持久远，不至失掉，这就是士的孝道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468360" y="549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忠顺不失，以事其上，然后能保其禄位，而守其祭祀，盖士之孝也。</a:t>
            </a:r>
            <a:r>
              <a:rPr b="0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867280" y="220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董永，相传为东汉时期千乘（今山东高青县北）人，少年丧母，因避兵乱迁居安陆（今属湖北）。其后父亲亡故，董永卖身至一富家为奴，换取丧葬费用。上工路上，于槐荫下遇一女子，自言无家可归，二人结为夫妇。女子以一月时间织成三百匹锦缎，为董永抵债赎身，返家途中，行至槐荫，女子告诉董永：自己是天帝之女，奉命帮助董永还债。言毕凌空而去。因此，槐荫改名为孝感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900000" y="2349360"/>
            <a:ext cx="7775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第一，要在平居无事的时候，当尽其敬谨之心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第二，对父母，要在奉养的时候尽其和乐之心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第三，父母有病时，要尽其忧虑之情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第四，万一父母不幸的病故尽哀戚之情；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第五，对于父母去世以后的祭祀要庄严肃敬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684360" y="189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幼圆"/>
              </a:rPr>
              <a:t>孝子之事亲也，居则致其敬，养则致其乐，病则致其忧，丧则致其哀，祭则致其严，五者备矣，然后能事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497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、文中的孝表现在哪里？你如何看待李密的“孝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臣侍汤药，未曾远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以供养无主，辞不赴命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刘日薄西山，奄奄一息，不能为远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庶刘侥幸，保卒余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比较真实地写出了自己的境遇和终养祖母的愿望，这种在长期艰难生活中培养和发展起来的骨肉之情，在利欲熏心、尔虞我诈的封建统治阶级中，应该说是少有的，因而是可贵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532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感恩名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鞠躬尽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死而后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鸦有反哺之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羊知跪乳之恩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滴水之恩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涌泉相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谁言寸草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报得三春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投之以桃，报之以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父兮生我，母兮鞠我，拊我，畜我，长我，育我，顾我，复我，出入腹我，欲报之德，昊天罔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衔环结草，以恩报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作文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“感恩”为话题，自定立意，写一篇议论文，题目自拟，不少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324000" y="198900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.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融情于事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 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2.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语言形象生动，自然精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887200" y="333360"/>
            <a:ext cx="38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艺  术  特  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666880" y="152280"/>
            <a:ext cx="375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赏析语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0" y="1700280"/>
            <a:ext cx="896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四字骈句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简洁凝练，语势连贯紧凑，文势如行云流水般通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偶句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语气铿锵有力，语意简洁凝练，琅琅上口，感情倍感热切，更具说服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比喻句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形象生动，感情浓烈，富有感染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 flipV="1">
            <a:off x="304920" y="1171440"/>
            <a:ext cx="865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5">
            <a:hlinkClick r:id="rId2" action="ppaction://hlinksldjump"/>
          </p:cNvPr>
          <p:cNvSpPr/>
          <p:nvPr/>
        </p:nvSpPr>
        <p:spPr>
          <a:xfrm>
            <a:off x="83059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0" y="0"/>
            <a:ext cx="8172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孤苦伶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茕茕独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影相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日薄西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气息奄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命危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朝不虑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965240" y="0"/>
            <a:ext cx="717876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孤单困苦，无依无靠。孤苦：没有依   靠，生活困苦。伶仃：孤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981080" y="990720"/>
            <a:ext cx="71629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孤苦伶仃，无依无靠。茕茕：孤独无靠的样子。立：孤单单地呆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965240" y="1981080"/>
            <a:ext cx="717876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自己的身体和影子互相安慰，形容十分孤单。形：身体。吊：慰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981080" y="2994120"/>
            <a:ext cx="71629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快要落山，比喻人衰老临近残废或事物腐朽即将灭亡。薄：迫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965240" y="3984480"/>
            <a:ext cx="717876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息微弱，形容快要断气的样子。气息：呼吸时进出的气。奄奄：气息微弱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981080" y="4975200"/>
            <a:ext cx="71629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寿命已经不长，即将死亡。人命：寿命。危：危险。浅：不久，时间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981080" y="5943600"/>
            <a:ext cx="7162920" cy="520560"/>
          </a:xfrm>
          <a:prstGeom prst="rect">
            <a:avLst/>
          </a:prstGeom>
          <a:solidFill>
            <a:srgbClr val="f4e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晨不能考虑晚上会怎样，情势危急，随时都可能发生变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95280" y="256536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324000" y="1413000"/>
            <a:ext cx="4787640" cy="42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臣以险衅，夙遭闵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九岁不行，零丁孤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夙婴疾病，常在床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臣密今年四十有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971640" y="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复习：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通   假   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060720" y="566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有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通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。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661560" y="2276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闵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通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，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黑体"/>
              </a:rPr>
              <a:t>忧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4050360" y="3357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零丁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通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伶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，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黑体"/>
              </a:rPr>
              <a:t>孤独的样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753000" y="44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蓐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通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，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黑体"/>
              </a:rPr>
              <a:t>草席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31920" y="105876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至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成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22200" y="1844640"/>
            <a:ext cx="29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至于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成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24000" y="263700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九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50920" y="480384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臣以供养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无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79280" y="3429000"/>
            <a:ext cx="45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刺史荣举臣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秀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51280" y="987480"/>
            <a:ext cx="34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到</a:t>
            </a:r>
            <a:r>
              <a:rPr b="1" lang="en-US" sz="3600" spc="-1" strike="noStrike">
                <a:solidFill>
                  <a:srgbClr val="cc00ff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另提一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3419640" y="184464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成人自立；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理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站得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3708360" y="263700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不能走路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可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4284720" y="342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优秀人才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科举中最低级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3959280" y="4724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无人来做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没有主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2162160" y="23760"/>
            <a:ext cx="50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古今异义词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492360" y="5805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辛酸苦楚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身心劳苦。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250920" y="580536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臣之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辛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638680" y="228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丁兰，相传为东汉时期河内（今河南黄河北）人，幼年父母双亡，他经常思念父母的养育之恩，于是用木头刻成双亲的雕像，事之如生，凡事均和木像商议，每日三餐敬过双亲后自己方才食用，出门前一定禀告，回家后一定面见，从不懈怠。久之，其妻对木像便不太恭敬了，竟好奇地用针刺木像的手指，而木像的手指居然有血流出。丁兰回家见木像眼中垂泪，问知实情，遂将妻子休弃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图片9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468360" y="2565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欲苟顺私情，则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告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579600" y="3933720"/>
            <a:ext cx="47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听臣微志，庶刘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侥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468360" y="54421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以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区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能废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3203640" y="328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申诉</a:t>
            </a:r>
            <a:r>
              <a:rPr b="1" lang="en-US" sz="3200" spc="-1" strike="noStrike">
                <a:solidFill>
                  <a:srgbClr val="cc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苦衷</a:t>
            </a:r>
            <a:r>
              <a:rPr b="1" lang="en-US" sz="3200" spc="-1" strike="noStrike">
                <a:solidFill>
                  <a:srgbClr val="cc00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；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让别人知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2484360" y="443700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幸运；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由于偶然的原因而得到成功，或免去灾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140360" y="57340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谦言私爱；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数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996280" y="2376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古今异义词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95280" y="119700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臣殒首所能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上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132000" y="1916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报答皇上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向上级报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60948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yezi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0" y="8604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刘夙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告诉不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0" y="2155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327672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于星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0" y="41911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臣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尽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于陛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日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3859920" y="335268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状语后置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比流星的坠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还要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3032280" y="914400"/>
            <a:ext cx="61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动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婴疾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疾病缠绕，为疾病所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2346480" y="2073240"/>
            <a:ext cx="679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动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申诉苦衷，请求暂 缓赴任，而没有被允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4708440" y="4191120"/>
            <a:ext cx="443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状语后置。这样看来，我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给陛下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尽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时间还很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5:41:03Z</dcterms:created>
  <dc:creator>备课大师网</dc:creator>
  <dc:description/>
  <cp:keywords/>
  <dc:language>en-US</dc:language>
  <cp:lastModifiedBy>windows</cp:lastModifiedBy>
  <cp:lastPrinted>1899-12-30T00:00:00Z</cp:lastPrinted>
  <dcterms:modified xsi:type="dcterms:W3CDTF">2013-11-04T05:10:21Z</dcterms:modified>
  <cp:revision>0</cp:revision>
  <dc:subject/>
  <dc:title>备课大师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