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4.jpeg" ContentType="image/jpeg"/>
  <Override PartName="/ppt/media/image8.png" ContentType="image/png"/>
  <Override PartName="/ppt/media/image6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16.png" ContentType="image/png"/>
  <Override PartName="/ppt/media/image13.gif" ContentType="image/gif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64CA-9230-4242-A5DD-3A62B17C4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39840" y="79812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85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39840" y="1609200"/>
            <a:ext cx="836136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6d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39840" y="4193280"/>
            <a:ext cx="836136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6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F308-1F1B-4ABB-8D26-5F2AB5A3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39840" y="79812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85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39840" y="1609200"/>
            <a:ext cx="40802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6d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4560" y="1609200"/>
            <a:ext cx="40802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6d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39840" y="4193280"/>
            <a:ext cx="40802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6d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4560" y="4193280"/>
            <a:ext cx="40802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6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80A3-FB48-48A4-9AC6-A5F70E7E7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39840" y="79812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85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39840" y="1609200"/>
            <a:ext cx="269208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6d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6920" y="1609200"/>
            <a:ext cx="269208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6d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000" y="1609200"/>
            <a:ext cx="269208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6d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39840" y="4193280"/>
            <a:ext cx="269208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6d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6920" y="4193280"/>
            <a:ext cx="269208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6d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000" y="4193280"/>
            <a:ext cx="269208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6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D598-FAB1-44A0-899D-18146FA8F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FFF5-F445-42D4-8119-BF3613FFF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39840" y="79812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85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39840" y="1609200"/>
            <a:ext cx="836136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6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3461-6D78-4122-BFB3-045D3AFD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9840" y="79812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85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39840" y="1609200"/>
            <a:ext cx="836136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6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B502E-B88B-4932-978E-C35F281F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9840" y="79812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85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39840" y="1609200"/>
            <a:ext cx="40802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6d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24560" y="1609200"/>
            <a:ext cx="40802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6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4694-FFCE-4B1F-8235-AE0C0DE0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39840" y="79812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85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559C5-50E5-4318-947E-F874561E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39840" y="798120"/>
            <a:ext cx="83707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6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0F18-1721-44F5-AED1-A1482808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39840" y="79812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85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9840" y="1609200"/>
            <a:ext cx="40802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6d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24560" y="1609200"/>
            <a:ext cx="40802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6d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39840" y="4193280"/>
            <a:ext cx="40802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6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1C2A-46C2-4F5A-A204-9B618C8B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39840" y="79812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85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39840" y="1609200"/>
            <a:ext cx="836136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6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E25E-79C0-4C20-B9EF-8D8F013E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39840" y="79812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85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39840" y="1609200"/>
            <a:ext cx="40802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6d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4560" y="1609200"/>
            <a:ext cx="40802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6d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24560" y="4193280"/>
            <a:ext cx="40802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6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944B-5190-4BA7-A187-A0DF14A3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39840" y="79812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85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39840" y="1609200"/>
            <a:ext cx="40802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6d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4560" y="1609200"/>
            <a:ext cx="40802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6d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39840" y="4193280"/>
            <a:ext cx="836136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6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F06B-2423-4871-BAA4-B16E1990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39840" y="79812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85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39840" y="1609200"/>
            <a:ext cx="836136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6d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9840" y="4193280"/>
            <a:ext cx="836136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6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6313-EF4A-440D-A02A-A34A14BC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39840" y="79812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85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39840" y="1609200"/>
            <a:ext cx="40802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6d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24560" y="1609200"/>
            <a:ext cx="40802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6d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39840" y="4193280"/>
            <a:ext cx="40802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6d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24560" y="4193280"/>
            <a:ext cx="40802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6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4DDA-482C-450F-9CE3-0FC4253E5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39840" y="79812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85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9840" y="1609200"/>
            <a:ext cx="269208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6d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6920" y="1609200"/>
            <a:ext cx="269208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6d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4000" y="1609200"/>
            <a:ext cx="269208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6d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39840" y="4193280"/>
            <a:ext cx="269208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6d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6920" y="4193280"/>
            <a:ext cx="269208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6d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4000" y="4193280"/>
            <a:ext cx="269208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6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C26F-7843-4224-A60D-A8A44722A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39840" y="79812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85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39840" y="1609200"/>
            <a:ext cx="836136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6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EFB8-82F2-40FB-8095-70BB743A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39840" y="79812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85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9840" y="1609200"/>
            <a:ext cx="40802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6d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4560" y="1609200"/>
            <a:ext cx="40802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6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AC3A-F04E-4117-BCB8-BD085B39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39840" y="79812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85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4E07-1389-47EB-B450-71AF72B0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39840" y="798120"/>
            <a:ext cx="83707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6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BDE2-CA59-417F-A967-0C23003A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39840" y="79812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85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39840" y="1609200"/>
            <a:ext cx="40802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6d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4560" y="1609200"/>
            <a:ext cx="40802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6d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39840" y="4193280"/>
            <a:ext cx="40802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6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588C-2B1F-47B1-B46C-EEFFB5DE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39840" y="79812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85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39840" y="1609200"/>
            <a:ext cx="40802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6d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4560" y="1609200"/>
            <a:ext cx="40802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6d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4560" y="4193280"/>
            <a:ext cx="40802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6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395C-584B-4669-B1A8-AB342A19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39840" y="79812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85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39840" y="1609200"/>
            <a:ext cx="40802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6d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4560" y="1609200"/>
            <a:ext cx="408024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6d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39840" y="4193280"/>
            <a:ext cx="8361360" cy="23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c6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054A-A759-4C72-BEB2-BD635BE5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63080" cy="1824120"/>
          </a:xfrm>
          <a:prstGeom prst="rect">
            <a:avLst/>
          </a:prstGeom>
          <a:ln w="0">
            <a:noFill/>
          </a:ln>
        </p:spPr>
      </p:pic>
      <p:sp>
        <p:nvSpPr>
          <p:cNvPr id="1" name="矩形 8"/>
          <p:cNvSpPr/>
          <p:nvPr/>
        </p:nvSpPr>
        <p:spPr>
          <a:xfrm>
            <a:off x="0" y="0"/>
            <a:ext cx="9144000" cy="151776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39840" y="79812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8500"/>
                </a:solidFill>
                <a:latin typeface="Arial Black"/>
              </a:rPr>
              <a:t>Click to edit the title text format</a:t>
            </a:r>
            <a:endParaRPr b="1" lang="en-US" sz="2800" spc="-1" strike="noStrike">
              <a:solidFill>
                <a:srgbClr val="c085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9840" y="1609200"/>
            <a:ext cx="836136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9c6d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6d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9c6d00"/>
              </a:solidFill>
              <a:latin typeface="Arial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e0d46a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6d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9c6d00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4345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6d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9c6d00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4345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6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c6d00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345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6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c6d00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345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6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c6d00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345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6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c6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39494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1710-E773-4FA1-875F-CC497EFF0E9E}" type="datetime">
              <a:rPr b="0" lang="zh-CN" sz="1200" spc="-1" strike="noStrike">
                <a:solidFill>
                  <a:srgbClr val="939494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3949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CC37-53CA-4323-9F4E-1E444F9CA1ED}" type="slidenum">
              <a:rPr b="0" lang="zh-CN" sz="1200" spc="-1" strike="noStrike">
                <a:solidFill>
                  <a:srgbClr val="93949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9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529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647800" y="4678200"/>
            <a:ext cx="593424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39494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47BF-F030-4F5B-8EE3-80E9A80BB636}" type="datetime">
              <a:rPr b="0" lang="zh-CN" sz="1200" spc="-1" strike="noStrike">
                <a:solidFill>
                  <a:srgbClr val="939494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3949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DDD7-D388-483C-84E4-E5CC8210E4F3}" type="slidenum">
              <a:rPr b="0" lang="zh-CN" sz="1200" spc="-1" strike="noStrike">
                <a:solidFill>
                  <a:srgbClr val="93949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6d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9c6d00"/>
              </a:solidFill>
              <a:latin typeface="Arial"/>
            </a:endParaRPr>
          </a:p>
          <a:p>
            <a:pPr lvl="1" indent="0" algn="ctr"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d7d7d"/>
                </a:solidFill>
                <a:latin typeface="幼圆"/>
              </a:rPr>
              <a:t>Second Outline Level</a:t>
            </a:r>
            <a:endParaRPr b="0" lang="en-US" sz="1600" spc="-1" strike="noStrike">
              <a:solidFill>
                <a:srgbClr val="7d7d7d"/>
              </a:solidFill>
              <a:latin typeface="幼圆"/>
            </a:endParaRPr>
          </a:p>
          <a:p>
            <a:pPr lvl="2" marL="914400" algn="ctr">
              <a:lnSpc>
                <a:spcPct val="90000"/>
              </a:lnSpc>
              <a:spcBef>
                <a:spcPts val="499"/>
              </a:spcBef>
              <a:buClr>
                <a:srgbClr val="434547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4547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34547"/>
              </a:solidFill>
              <a:latin typeface="Calibri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434547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547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434547"/>
              </a:solidFill>
              <a:latin typeface="Calibri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434547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547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434547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4345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547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434547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4345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547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434547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%BE%AB%CE%C0%CC&#61091;&amp;in=23966&amp;cl=2&amp;lm=-1&amp;pn=6&amp;rn=1&amp;di=34124550780&amp;ln=2000&amp;fr=&amp;fmq=&amp;ic=&amp;s=&amp;se=&amp;sme=0&amp;tab=&amp;width=&amp;height=&amp;face=&amp;is=&amp;istype=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image.baidu.com/i?ct=503316480&amp;z=&amp;tn=baiduimagedetail&amp;word=%D0%CC%CC%EC%CE%E8%B8%C9%C6%DD&amp;in=25433&amp;cl=2&amp;lm=-1&amp;pn=0&amp;rn=1&amp;di=26029803435&amp;ln=1171&amp;fr=&amp;fmq=&amp;ic=0&amp;s=0&amp;se=1&amp;sme=0&amp;tab=&amp;width=&amp;height=&amp;face=0&amp;is=&amp;istype=2" TargetMode="External"/><Relationship Id="rId4" Type="http://schemas.openxmlformats.org/officeDocument/2006/relationships/image" Target="../media/image18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257,7,&#24187;&#28783;&#29255; 7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395080" y="306360"/>
            <a:ext cx="608076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996b19"/>
                </a:solidFill>
                <a:latin typeface="Times New Roman"/>
                <a:ea typeface="隶书"/>
              </a:rPr>
              <a:t>归去来兮辞 </a:t>
            </a:r>
            <a:endParaRPr b="0" lang="en-US" sz="8000" spc="-1" strike="noStrike">
              <a:solidFill>
                <a:srgbClr val="434547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b19"/>
                </a:solidFill>
                <a:latin typeface="Times New Roman"/>
                <a:ea typeface="隶书"/>
              </a:rPr>
              <a:t>                       </a:t>
            </a:r>
            <a:r>
              <a:rPr b="1" lang="zh-CN" sz="4800" spc="-1" strike="noStrike">
                <a:solidFill>
                  <a:srgbClr val="996b19"/>
                </a:solidFill>
                <a:latin typeface="Times New Roman"/>
                <a:ea typeface="隶书"/>
              </a:rPr>
              <a:t>陶渊明</a:t>
            </a:r>
            <a:r>
              <a:rPr b="1" lang="zh-CN" sz="8000" spc="-1" strike="noStrike">
                <a:solidFill>
                  <a:srgbClr val="996b19"/>
                </a:solidFill>
                <a:latin typeface="Times New Roman"/>
                <a:ea typeface="隶书"/>
              </a:rPr>
              <a:t> </a:t>
            </a:r>
            <a:endParaRPr b="0" lang="en-US" sz="8000" spc="-1" strike="noStrike">
              <a:solidFill>
                <a:srgbClr val="434547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608360" cy="597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A0A7-0DFF-4D04-85C2-74B7D6B24B42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AEF51A-6137-48E7-9A3B-9758C68C5637}" type="datetime1">
              <a:rPr lang="en-US"/>
              <a:t>07/28/26</a:t>
            </a:fld>
          </a:p>
        </p:txBody>
      </p:sp>
    </p:spTree>
  </p:cSld>
  <p:transition>
    <p:blinds dir="horz"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90560" y="1665360"/>
            <a:ext cx="775512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c6d00"/>
                </a:solidFill>
                <a:latin typeface="Arial"/>
                <a:ea typeface="隶书"/>
              </a:rPr>
              <a:t>               </a:t>
            </a:r>
            <a:r>
              <a:rPr b="0" lang="zh-CN" sz="3800" spc="-1" strike="noStrike">
                <a:solidFill>
                  <a:srgbClr val="9c6d00"/>
                </a:solidFill>
                <a:latin typeface="Arial"/>
                <a:ea typeface="隶书"/>
              </a:rPr>
              <a:t>是战国后期诗人</a:t>
            </a: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隶书"/>
              </a:rPr>
              <a:t>屈原</a:t>
            </a:r>
            <a:r>
              <a:rPr b="0" lang="zh-CN" sz="3800" spc="-1" strike="noStrike">
                <a:solidFill>
                  <a:srgbClr val="9c6d00"/>
                </a:solidFill>
                <a:latin typeface="Arial"/>
                <a:ea typeface="隶书"/>
              </a:rPr>
              <a:t>在楚地民歌的基础上创造出来的一种新诗体，也称</a:t>
            </a: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隶书"/>
              </a:rPr>
              <a:t>楚辞</a:t>
            </a:r>
            <a:r>
              <a:rPr b="0" lang="zh-CN" sz="3800" spc="-1" strike="noStrike">
                <a:solidFill>
                  <a:srgbClr val="9c6d00"/>
                </a:solidFill>
                <a:latin typeface="Arial"/>
                <a:ea typeface="隶书"/>
              </a:rPr>
              <a:t>。</a:t>
            </a:r>
            <a:endParaRPr b="0" lang="en-US" sz="3800" spc="-1" strike="noStrike">
              <a:solidFill>
                <a:srgbClr val="9c6d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011240" y="1052640"/>
            <a:ext cx="1905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08500"/>
                </a:solidFill>
                <a:latin typeface="Arial Black"/>
                <a:ea typeface="楷体_GB2312"/>
              </a:rPr>
              <a:t>辞</a:t>
            </a:r>
            <a:endParaRPr b="1" lang="en-US" sz="6000" spc="-1" strike="noStrike">
              <a:solidFill>
                <a:srgbClr val="c08500"/>
              </a:solidFill>
              <a:latin typeface="Arial Black"/>
            </a:endParaRPr>
          </a:p>
        </p:txBody>
      </p:sp>
      <p:sp>
        <p:nvSpPr>
          <p:cNvPr id="110" name=""/>
          <p:cNvSpPr/>
          <p:nvPr/>
        </p:nvSpPr>
        <p:spPr>
          <a:xfrm>
            <a:off x="1549440" y="372420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①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句式散化，一般押韵。</a:t>
            </a:r>
            <a:endParaRPr b="0" lang="en-US" sz="36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8920" y="465300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②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两句一组，四句一节。</a:t>
            </a:r>
            <a:endParaRPr b="0" lang="en-US" sz="36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2960" y="5589720"/>
            <a:ext cx="684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③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黑体"/>
              </a:rPr>
              <a:t>六字句为主，一般每句三拍。</a:t>
            </a:r>
            <a:endParaRPr b="0" lang="en-US" sz="36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7000" y="152280"/>
            <a:ext cx="2619360" cy="7642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34547"/>
                </a:solidFill>
                <a:latin typeface="Arial"/>
              </a:rPr>
              <a:t>文体简介</a:t>
            </a:r>
            <a:endParaRPr b="0" lang="en-US" sz="4400" spc="-1" strike="noStrike">
              <a:solidFill>
                <a:srgbClr val="434547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15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2618-A87F-4126-8AE4-9A52E5612DF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F1601F-B128-463D-B0C7-7284840358CF}" type="datetime1">
              <a:rPr lang="en-US"/>
              <a:t>07/28/26</a:t>
            </a:fld>
          </a:p>
        </p:txBody>
      </p:sp>
    </p:spTree>
  </p:cSld>
  <p:transition>
    <p:blinds dir="horz"/>
    <p:sndAc>
      <p:stSnd>
        <p:snd r:embed="rId2" name="chimes.wav"/>
      </p:stSnd>
    </p:sndAc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11280" y="344772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434547"/>
                </a:solidFill>
                <a:latin typeface="华文新魏"/>
                <a:ea typeface="华文新魏"/>
              </a:rPr>
              <a:t>到了西汉，在辞的影响下又产生了赋这种新文体。汉人将辞和赋统称为辞赋，但二者仍有显著的区别：赋的句式进一步散文化，常用关联词语，长短句明显增多，内容则以咏物说理为主，写法上讲究铺排；而辞仍然是诗，重在抒情，形式上尽管后来也有若干变化，但四句一节、每句三拍的格局还是保持了下来。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7000" y="152280"/>
            <a:ext cx="2619360" cy="7642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34547"/>
                </a:solidFill>
                <a:latin typeface="Arial"/>
              </a:rPr>
              <a:t>文体简介</a:t>
            </a:r>
            <a:endParaRPr b="0" lang="en-US" sz="4400" spc="-1" strike="noStrike">
              <a:solidFill>
                <a:srgbClr val="434547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1522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2D9B-0D61-460E-B86F-90722FD92874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3C2241-BE0E-424F-95B6-968F833285B5}" type="datetime1">
              <a:rPr lang="en-US"/>
              <a:t>07/28/26</a:t>
            </a:fld>
          </a:p>
        </p:txBody>
      </p:sp>
    </p:spTree>
  </p:cSld>
  <p:transition>
    <p:blinds dir="horz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KSO_BC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700360" y="1219320"/>
            <a:ext cx="4233960" cy="1044360"/>
          </a:xfrm>
          <a:prstGeom prst="wedgeEllipseCallout">
            <a:avLst>
              <a:gd name="adj1" fmla="val -21504"/>
              <a:gd name="adj2" fmla="val 102129"/>
            </a:avLst>
          </a:prstGeom>
          <a:solidFill>
            <a:srgbClr val="afb2b4">
              <a:alpha val="50000"/>
            </a:srgbClr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84720" y="1371600"/>
            <a:ext cx="313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14345"/>
                </a:solidFill>
                <a:latin typeface="Arial"/>
                <a:ea typeface="隶书"/>
              </a:rPr>
              <a:t>回    去    吧</a:t>
            </a:r>
            <a:endParaRPr b="0" lang="en-US" sz="40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2743200"/>
            <a:ext cx="495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c6d00"/>
                </a:solidFill>
                <a:latin typeface="Arial"/>
                <a:ea typeface="隶书"/>
              </a:rPr>
              <a:t>归 去 来 兮 辞</a:t>
            </a:r>
            <a:endParaRPr b="0" lang="en-US" sz="5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2819520"/>
            <a:ext cx="3851280" cy="838080"/>
          </a:xfrm>
          <a:prstGeom prst="ellipse">
            <a:avLst/>
          </a:prstGeom>
          <a:solidFill>
            <a:srgbClr val="afb2b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33720" y="3657600"/>
            <a:ext cx="13935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62520" y="365760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5410080" y="2971800"/>
            <a:ext cx="1079640" cy="480960"/>
          </a:xfrm>
          <a:prstGeom prst="ellipse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3962520"/>
            <a:ext cx="2057400" cy="914400"/>
          </a:xfrm>
          <a:prstGeom prst="wedgeEllipseCallout">
            <a:avLst>
              <a:gd name="adj1" fmla="val 85726"/>
              <a:gd name="adj2" fmla="val -79513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5715000"/>
            <a:ext cx="2819520" cy="762120"/>
          </a:xfrm>
          <a:prstGeom prst="wedgeEllipseCallout">
            <a:avLst>
              <a:gd name="adj1" fmla="val 91777"/>
              <a:gd name="adj2" fmla="val -314375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5867280"/>
            <a:ext cx="20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34547"/>
                </a:solidFill>
                <a:latin typeface="Arial"/>
              </a:rPr>
              <a:t>助词，无实义</a:t>
            </a: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00600" y="365760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76920" y="4419720"/>
            <a:ext cx="2895480" cy="990360"/>
          </a:xfrm>
          <a:prstGeom prst="wedgeEllipseCallout">
            <a:avLst>
              <a:gd name="adj1" fmla="val -46546"/>
              <a:gd name="adj2" fmla="val -12227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4120" y="46483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Arial"/>
              </a:rPr>
              <a:t>语气助词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41911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Arial"/>
              </a:rPr>
              <a:t>回  去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7000" y="152280"/>
            <a:ext cx="1827000" cy="7642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34547"/>
                </a:solidFill>
                <a:latin typeface="Arial"/>
              </a:rPr>
              <a:t>题  解</a:t>
            </a:r>
            <a:endParaRPr b="0" lang="en-US" sz="4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4999-A758-4ADC-8058-F30B915C9705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BA40B0-C666-4B15-A9D8-2D5B50D5300E}" type="datetime1">
              <a:rPr lang="en-US"/>
              <a:t>07/28/26</a:t>
            </a:fld>
          </a:p>
        </p:txBody>
      </p:sp>
    </p:spTree>
  </p:cSld>
  <p:transition>
    <p:blinds dir="horz"/>
    <p:sndAc>
      <p:stSnd>
        <p:snd r:embed="rId2" name="chimes.wav"/>
      </p:stSnd>
    </p:sndAc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12840" y="1268280"/>
            <a:ext cx="400644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0" rIns="36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434547"/>
                </a:solidFill>
                <a:latin typeface="Arial"/>
                <a:ea typeface="黑体"/>
              </a:rPr>
              <a:t>余家贫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耕植</a:t>
            </a:r>
            <a:r>
              <a:rPr b="1" lang="zh-CN" sz="2800" spc="-1" strike="noStrike">
                <a:solidFill>
                  <a:srgbClr val="434547"/>
                </a:solidFill>
                <a:latin typeface="Arial"/>
                <a:ea typeface="黑体"/>
              </a:rPr>
              <a:t>不足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Arial"/>
                <a:ea typeface="黑体"/>
              </a:rPr>
              <a:t>以自给。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幼稚</a:t>
            </a:r>
            <a:r>
              <a:rPr b="1" lang="zh-CN" sz="2800" spc="-1" strike="noStrike">
                <a:solidFill>
                  <a:srgbClr val="434547"/>
                </a:solidFill>
                <a:latin typeface="Arial"/>
                <a:ea typeface="黑体"/>
              </a:rPr>
              <a:t>盈室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瓶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Arial"/>
                <a:ea typeface="黑体"/>
              </a:rPr>
              <a:t>无储粟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生生</a:t>
            </a:r>
            <a:r>
              <a:rPr b="1" lang="zh-CN" sz="2800" spc="-1" strike="noStrike">
                <a:solidFill>
                  <a:srgbClr val="434547"/>
                </a:solidFill>
                <a:latin typeface="Arial"/>
                <a:ea typeface="黑体"/>
              </a:rPr>
              <a:t>所资，未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Arial"/>
                <a:ea typeface="黑体"/>
              </a:rPr>
              <a:t>见其术。亲故多劝余为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Arial"/>
                <a:ea typeface="黑体"/>
              </a:rPr>
              <a:t>长吏，脱然有怀，求之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靡途</a:t>
            </a:r>
            <a:r>
              <a:rPr b="1" lang="zh-CN" sz="2800" spc="-1" strike="noStrike">
                <a:solidFill>
                  <a:srgbClr val="434547"/>
                </a:solidFill>
                <a:latin typeface="Arial"/>
                <a:ea typeface="黑体"/>
              </a:rPr>
              <a:t>。会有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四方之事</a:t>
            </a:r>
            <a:r>
              <a:rPr b="1" lang="zh-CN" sz="2800" spc="-1" strike="noStrike">
                <a:solidFill>
                  <a:srgbClr val="434547"/>
                </a:solidFill>
                <a:latin typeface="Arial"/>
                <a:ea typeface="黑体"/>
              </a:rPr>
              <a:t>，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Arial"/>
                <a:ea typeface="黑体"/>
              </a:rPr>
              <a:t>诸侯以惠爱为德，家叔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Arial"/>
                <a:ea typeface="黑体"/>
              </a:rPr>
              <a:t>以余贫苦，遂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见</a:t>
            </a:r>
            <a:r>
              <a:rPr b="1" lang="zh-CN" sz="2800" spc="-1" strike="noStrike">
                <a:solidFill>
                  <a:srgbClr val="434547"/>
                </a:solidFill>
                <a:latin typeface="Arial"/>
                <a:ea typeface="黑体"/>
              </a:rPr>
              <a:t>用于小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Arial"/>
                <a:ea typeface="黑体"/>
              </a:rPr>
              <a:t>邑。于时风波未静，心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Arial"/>
                <a:ea typeface="黑体"/>
              </a:rPr>
              <a:t>惮远役。彭泽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去</a:t>
            </a:r>
            <a:r>
              <a:rPr b="1" lang="zh-CN" sz="2800" spc="-1" strike="noStrike">
                <a:solidFill>
                  <a:srgbClr val="434547"/>
                </a:solidFill>
                <a:latin typeface="Arial"/>
                <a:ea typeface="黑体"/>
              </a:rPr>
              <a:t>家百里，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公田之利</a:t>
            </a:r>
            <a:r>
              <a:rPr b="1" lang="zh-CN" sz="2800" spc="-1" strike="noStrike">
                <a:solidFill>
                  <a:srgbClr val="434547"/>
                </a:solidFill>
                <a:latin typeface="Arial"/>
                <a:ea typeface="黑体"/>
              </a:rPr>
              <a:t>，足以为酒，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Arial"/>
                <a:ea typeface="黑体"/>
              </a:rPr>
              <a:t>故便求之。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95640" y="496800"/>
            <a:ext cx="4824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434547"/>
                </a:solidFill>
                <a:latin typeface="Arial"/>
                <a:ea typeface="楷体_GB2312"/>
              </a:rPr>
              <a:t>我家境贫困，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耕田植桑</a:t>
            </a:r>
            <a:r>
              <a:rPr b="1" lang="zh-CN" sz="2400" spc="-1" strike="noStrike">
                <a:solidFill>
                  <a:srgbClr val="434547"/>
                </a:solidFill>
                <a:latin typeface="Arial"/>
                <a:ea typeface="楷体_GB2312"/>
              </a:rPr>
              <a:t>不够用来供给自己（生活）。家中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孩子</a:t>
            </a:r>
            <a:r>
              <a:rPr b="1" lang="zh-CN" sz="2400" spc="-1" strike="noStrike">
                <a:solidFill>
                  <a:srgbClr val="434547"/>
                </a:solidFill>
                <a:latin typeface="Arial"/>
                <a:ea typeface="楷体_GB2312"/>
              </a:rPr>
              <a:t>很多，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米缸</a:t>
            </a:r>
            <a:r>
              <a:rPr b="1" lang="zh-CN" sz="2400" spc="-1" strike="noStrike">
                <a:solidFill>
                  <a:srgbClr val="434547"/>
                </a:solidFill>
                <a:latin typeface="Arial"/>
                <a:ea typeface="楷体_GB2312"/>
              </a:rPr>
              <a:t>里没有储存的粮食，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维持生活</a:t>
            </a:r>
            <a:r>
              <a:rPr b="1" lang="zh-CN" sz="2400" spc="-1" strike="noStrike">
                <a:solidFill>
                  <a:srgbClr val="434547"/>
                </a:solidFill>
                <a:latin typeface="Arial"/>
                <a:ea typeface="楷体_GB2312"/>
              </a:rPr>
              <a:t>所需要的东西，（我也）没有得到它的办法。亲戚朋友经常劝我出去做个小官，我自己也产生了这种念头，（但）求官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没有门路</a:t>
            </a:r>
            <a:r>
              <a:rPr b="1" lang="zh-CN" sz="2400" spc="-1" strike="noStrike">
                <a:solidFill>
                  <a:srgbClr val="434547"/>
                </a:solidFill>
                <a:latin typeface="Arial"/>
                <a:ea typeface="楷体_GB2312"/>
              </a:rPr>
              <a:t>。刚巧碰上有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出使到外地去的事情</a:t>
            </a:r>
            <a:r>
              <a:rPr b="1" lang="zh-CN" sz="2400" spc="-1" strike="noStrike">
                <a:solidFill>
                  <a:srgbClr val="434547"/>
                </a:solidFill>
                <a:latin typeface="Arial"/>
                <a:ea typeface="楷体_GB2312"/>
              </a:rPr>
              <a:t>，各地州郡长官都以爱惜人才为美德，我的叔父因为（看到）我贫困艰苦（就加以推荐），于是就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被</a:t>
            </a:r>
            <a:r>
              <a:rPr b="1" lang="zh-CN" sz="2400" spc="-1" strike="noStrike">
                <a:solidFill>
                  <a:srgbClr val="434547"/>
                </a:solidFill>
                <a:latin typeface="Arial"/>
                <a:ea typeface="楷体_GB2312"/>
              </a:rPr>
              <a:t>任命为小城的官吏。</a:t>
            </a:r>
            <a:r>
              <a:rPr b="1" lang="zh-CN" sz="24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在那时，战乱还没有平息，心里害怕远地的差使。彭泽县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距离</a:t>
            </a:r>
            <a:r>
              <a:rPr b="1" lang="zh-CN" sz="24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家乡只有一百里路程，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公田收获的粮食</a:t>
            </a:r>
            <a:r>
              <a:rPr b="1" lang="zh-CN" sz="24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足够酿酒之用，因此就请命要了下来。 </a:t>
            </a: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64160" y="333360"/>
            <a:ext cx="238464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34547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434547"/>
                </a:solidFill>
                <a:latin typeface="Arial"/>
              </a:rPr>
              <a:t>归去来兮辞</a:t>
            </a:r>
            <a:r>
              <a:rPr b="1" lang="en-US" sz="3200" spc="-1" strike="noStrike">
                <a:solidFill>
                  <a:srgbClr val="434547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434547"/>
                </a:solidFill>
                <a:latin typeface="Arial"/>
              </a:rPr>
              <a:t>序文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52D0-A7E4-409D-8AF0-C78703F0FD97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BAA5E2-3D26-470F-BF3F-25EE84157ACF}" type="datetime1">
              <a:rPr lang="en-US"/>
              <a:t>07/28/26</a:t>
            </a:fld>
          </a:p>
        </p:txBody>
      </p:sp>
    </p:spTree>
  </p:cSld>
  <p:transition>
    <p:blinds dir="horz"/>
    <p:sndAc>
      <p:stSnd>
        <p:snd r:embed="rId1" name="chimes.wav"/>
      </p:stSnd>
    </p:sndAc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91440" y="836640"/>
            <a:ext cx="2375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Arial"/>
                <a:ea typeface="黑体"/>
              </a:rPr>
              <a:t>及少日，眷然有归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Arial"/>
                <a:ea typeface="黑体"/>
              </a:rPr>
              <a:t>欤之情。何则？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质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性自然，非矫厉所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得；饥冻虽切，违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己交病。尝从人事，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皆口腹自役；于是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怅然慷慨</a:t>
            </a:r>
            <a:r>
              <a:rPr b="1" lang="zh-CN" sz="3200" spc="-1" strike="noStrike">
                <a:solidFill>
                  <a:srgbClr val="434547"/>
                </a:solidFill>
                <a:latin typeface="Arial"/>
                <a:ea typeface="黑体"/>
              </a:rPr>
              <a:t>，深愧平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Arial"/>
                <a:ea typeface="黑体"/>
              </a:rPr>
              <a:t>生之志。犹望一稔，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Arial"/>
                <a:ea typeface="黑体"/>
              </a:rPr>
              <a:t>当敛裳宵逝。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84720" y="476280"/>
            <a:ext cx="48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4547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434547"/>
                </a:solidFill>
                <a:latin typeface="Arial"/>
                <a:ea typeface="楷体_GB2312"/>
              </a:rPr>
              <a:t>但）没几天，思念田园，就产生了归乡的念头。为什么呢？（因为我的）本性坦率自然，不是勉强做作所能够改变的；饥冻之事虽然是急迫，但违背自己本心（更会）使我受到双重的痛苦。我曾经做过一些事情，（但）都是为了口腹的需求而勉强驱使自己；于是烦恼得愤懑不已，感到自己非常有愧于平生的志愿。但还是想等到秋收以后，就收拾行装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Arial"/>
                <a:ea typeface="楷体_GB2312"/>
              </a:rPr>
              <a:t>连夜离去。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00720" y="620640"/>
            <a:ext cx="4248000" cy="1656000"/>
          </a:xfrm>
          <a:prstGeom prst="wedgeEllipseCallout">
            <a:avLst>
              <a:gd name="adj1" fmla="val -59939"/>
              <a:gd name="adj2" fmla="val 105032"/>
            </a:avLst>
          </a:prstGeom>
          <a:solidFill>
            <a:srgbClr val="ffffff"/>
          </a:solidFill>
          <a:ln w="9360">
            <a:solidFill>
              <a:srgbClr val="434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58240" y="11970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行楷"/>
              </a:rPr>
              <a:t>辞官的根本原因</a:t>
            </a:r>
            <a:endParaRPr b="0" lang="en-US" sz="3600" spc="-1" strike="noStrike">
              <a:solidFill>
                <a:srgbClr val="434547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308720" y="4797360"/>
            <a:ext cx="1835280" cy="2060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7C1E-C906-4EED-B280-791F259C1987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691A9C-253F-4355-8C32-E5E79E84D26F}" type="datetime1">
              <a:rPr lang="en-US"/>
              <a:t>07/28/26</a:t>
            </a:fld>
          </a:p>
        </p:txBody>
      </p:sp>
    </p:spTree>
  </p:cSld>
  <p:transition>
    <p:blinds dir="horz"/>
    <p:sndAc>
      <p:stSnd>
        <p:snd r:embed="rId2" name="chimes.wav"/>
      </p:stSnd>
    </p:sndAc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24000" y="476280"/>
            <a:ext cx="3600360" cy="57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Arial"/>
                <a:ea typeface="黑体"/>
              </a:rPr>
              <a:t>寻程氏妹丧于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Arial"/>
                <a:ea typeface="黑体"/>
              </a:rPr>
              <a:t>武昌，情在骏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Arial"/>
                <a:ea typeface="黑体"/>
              </a:rPr>
              <a:t>奔，自免去职。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Arial"/>
                <a:ea typeface="黑体"/>
              </a:rPr>
              <a:t>仲秋至冬，在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Arial"/>
                <a:ea typeface="黑体"/>
              </a:rPr>
              <a:t>官八十余日。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Arial"/>
                <a:ea typeface="黑体"/>
              </a:rPr>
              <a:t>因事顺心，命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Arial"/>
                <a:ea typeface="黑体"/>
              </a:rPr>
              <a:t>篇曰</a:t>
            </a:r>
            <a:r>
              <a:rPr b="1" lang="en-US" sz="3200" spc="-1" strike="noStrike">
                <a:solidFill>
                  <a:srgbClr val="434547"/>
                </a:solidFill>
                <a:latin typeface="Arial"/>
                <a:ea typeface="黑体"/>
              </a:rPr>
              <a:t>《</a:t>
            </a:r>
            <a:r>
              <a:rPr b="1" lang="zh-CN" sz="3200" spc="-1" strike="noStrike">
                <a:solidFill>
                  <a:srgbClr val="434547"/>
                </a:solidFill>
                <a:latin typeface="Arial"/>
                <a:ea typeface="黑体"/>
              </a:rPr>
              <a:t>归去来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Arial"/>
                <a:ea typeface="黑体"/>
              </a:rPr>
              <a:t>兮</a:t>
            </a:r>
            <a:r>
              <a:rPr b="1" lang="en-US" sz="3200" spc="-1" strike="noStrike">
                <a:solidFill>
                  <a:srgbClr val="434547"/>
                </a:solidFill>
                <a:latin typeface="Arial"/>
                <a:ea typeface="黑体"/>
              </a:rPr>
              <a:t>》</a:t>
            </a:r>
            <a:r>
              <a:rPr b="1" lang="zh-CN" sz="3200" spc="-1" strike="noStrike">
                <a:solidFill>
                  <a:srgbClr val="434547"/>
                </a:solidFill>
                <a:latin typeface="Arial"/>
                <a:ea typeface="黑体"/>
              </a:rPr>
              <a:t>。乙巳岁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Arial"/>
                <a:ea typeface="黑体"/>
              </a:rPr>
              <a:t>十一月也。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28000" y="981000"/>
            <a:ext cx="3167640" cy="45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Arial"/>
                <a:ea typeface="楷体_GB2312"/>
              </a:rPr>
              <a:t>不久，嫁到程家的妹妹在武昌去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Arial"/>
                <a:ea typeface="楷体_GB2312"/>
              </a:rPr>
              <a:t>世，我心情悲痛，希望立刻就去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Arial"/>
                <a:ea typeface="楷体_GB2312"/>
              </a:rPr>
              <a:t>奔丧，于是就自己弃官离职了。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Arial"/>
                <a:ea typeface="楷体_GB2312"/>
              </a:rPr>
              <a:t>从秋八月到冬季，在官位上做了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Arial"/>
                <a:ea typeface="楷体_GB2312"/>
              </a:rPr>
              <a:t>八十多天。趁着这件事情来抒发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Arial"/>
                <a:ea typeface="楷体_GB2312"/>
              </a:rPr>
              <a:t>自己心里的情意，写了篇文章命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Arial"/>
                <a:ea typeface="楷体_GB2312"/>
              </a:rPr>
              <a:t>名为</a:t>
            </a:r>
            <a:r>
              <a:rPr b="1" lang="en-US" sz="2800" spc="-1" strike="noStrike">
                <a:solidFill>
                  <a:srgbClr val="434547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434547"/>
                </a:solidFill>
                <a:latin typeface="Arial"/>
                <a:ea typeface="楷体_GB2312"/>
              </a:rPr>
              <a:t>归去来兮</a:t>
            </a:r>
            <a:r>
              <a:rPr b="1" lang="en-US" sz="2800" spc="-1" strike="noStrike">
                <a:solidFill>
                  <a:srgbClr val="434547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434547"/>
                </a:solidFill>
                <a:latin typeface="Arial"/>
                <a:ea typeface="楷体_GB2312"/>
              </a:rPr>
              <a:t>。时在乙巳年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Arial"/>
                <a:ea typeface="楷体_GB2312"/>
              </a:rPr>
              <a:t>十一月。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834240" y="4797360"/>
            <a:ext cx="2309760" cy="2060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3B89-0EDB-40F3-9EA9-3044B499B84A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4D0F6E-8B4B-4EFD-B598-BEAE13802620}" type="datetime1">
              <a:rPr lang="en-US"/>
              <a:t>07/28/26</a:t>
            </a:fld>
          </a:p>
        </p:txBody>
      </p:sp>
    </p:spTree>
  </p:cSld>
  <p:transition>
    <p:blinds dir="horz"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5533920"/>
            <a:ext cx="1324080" cy="1324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826920" y="1628640"/>
            <a:ext cx="5257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听朗诵，感受音韵美</a:t>
            </a:r>
            <a:endParaRPr b="1" lang="en-US" sz="2400" spc="1" strike="noStrike">
              <a:ln w="1260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5797-1F4F-49D8-86D4-3B235D6A194F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9CF37F-CFB0-4025-8486-9D76B0201C9E}" type="datetime1">
              <a:rPr lang="en-US"/>
              <a:t>07/28/26</a:t>
            </a:fld>
          </a:p>
        </p:txBody>
      </p:sp>
    </p:spTree>
  </p:cSld>
  <p:transition>
    <p:blinds dir="horz"/>
    <p:sndAc>
      <p:stSnd>
        <p:snd r:embed="rId3" name="chimes.wav"/>
      </p:stSnd>
    </p:sndAc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003 0.00231 C 0.08073 -0.00486 0.07934 -0.01364 0.08316 -0.01873 C 0.08663 -0.02335 0.096 -0.02312 0.10069 -0.0252 C 0.10225 -0.02659 0.10399 -0.02752 0.10538 -0.02937 C 0.10677 -0.03122 0.10694 -0.03422 0.1085 -0.03561 C 0.11128 -0.03792 0.11805 -0.04 0.11805 -0.04 C 0.12222 -0.05688 0.11579 -0.03677 0.12448 -0.04833 C 0.12708 -0.05179 0.12864 -0.05688 0.13073 -0.06104 C 0.13177 -0.06312 0.1342 -0.06359 0.13559 -0.0652 C 0.14184 -0.07237 0.14826 -0.08139 0.15295 -0.09064 C 0.1625 -0.12994 0.18732 -0.10844 0.22448 -0.1096 C 0.23177 -0.11307 0.23784 -0.11931 0.24513 -0.12231 C 0.25364 -0.13041 0.26458 -0.1422 0.27048 -0.15399 C 0.27291 -0.16416 0.27656 -0.16948 0.28316 -0.17526 C 0.28628 -0.18775 0.29218 -0.18636 0.30069 -0.19006 C 0.30451 -0.22127 0.2993 -0.18983 0.30538 -0.20902 C 0.3092 -0.22127 0.3118 -0.23653 0.31493 -0.24925 C 0.31736 -0.25942 0.31788 -0.26682 0.32604 -0.27029 C 0.34045 -0.28324 0.3552 -0.29156 0.37048 -0.30197 C 0.375 -0.30497 0.38003 -0.30636 0.38472 -0.30844 C 0.38628 -0.30914 0.38958 -0.31052 0.38958 -0.31052 C 0.39583 -0.31607 0.39982 -0.32324 0.40538 -0.32948 C 0.40694 -0.3311 0.41007 -0.33665 0.4118 -0.33804 C 0.41666 -0.34174 0.42031 -0.34312 0.42448 -0.34867 C 0.42847 -0.36486 0.42257 -0.3452 0.43073 -0.35908 C 0.43281 -0.36255 0.43281 -0.36763 0.43402 -0.37179 C 0.43593 -0.40486 0.43142 -0.39561 0.4467 -0.40555 C 0.44895 -0.40879 0.45243 -0.41064 0.45451 -0.41411 C 0.4592 -0.42174 0.45416 -0.42243 0.46406 -0.42682 C 0.47048 -0.43538 0.47604 -0.44601 0.48472 -0.44994 C 0.49062 -0.45804 0.48628 -0.45295 0.49739 -0.46266 C 0.49895 -0.46405 0.50069 -0.46567 0.50225 -0.46705 C 0.50382 -0.46844 0.50694 -0.47122 0.50694 -0.47122 C 0.51163 -0.49064 0.51041 -0.47954 0.5085 -0.50497 C 0.51579 -0.51422 0.50781 -0.52116 0.51805 -0.52625 C 0.55173 -0.52486 0.58333 -0.51885 0.61493 -0.53249 C 0.62448 -0.54081 0.63073 -0.55376 0.64027 -0.56208 C 0.64652 -0.58705 0.63784 -0.6074 0.65295 -0.62752 C 0.65416 -0.63214 0.65399 -0.63584 0.65781 -0.63815 C 0.66076 -0.64 0.66736 -0.64231 0.66736 -0.64231 C 0.6743 -0.64879 0.67968 -0.64809 0.68784 -0.65087 C 0.69114 -0.65203 0.69739 -0.65503 0.69739 -0.65503 C 0.70937 -0.65272 0.72066 -0.65203 0.73229 -0.65711 C 0.73628 -0.66497 0.73993 -0.66705 0.7467 -0.66983 C 0.7559 -0.68231 0.75243 -0.6763 0.75781 -0.68671 C 0.76145 -0.70127 0.75868 -0.69619 0.76406 -0.70382 C 0.76753 -0.71792 0.76093 -0.72717 0.75781 -0.73966 C 0.75833 -0.74451 0.75763 -0.75006 0.75937 -0.75445 C 0.76059 -0.75746 0.76371 -0.75838 0.76562 -0.7607 C 0.77673 -0.77388 0.76892 -0.76994 0.78003 -0.77341 C 0.78958 -0.78659 0.79531 -0.79515 0.8085 -0.80093 C 0.80954 -0.80231 0.81041 -0.80416 0.8118 -0.80509 C 0.81475 -0.80717 0.82118 -0.80948 0.82118 -0.80948 C 0.82656 -0.81619 0.83333 -0.81688 0.84027 -0.81989 C 0.84479 -0.82636 0.85121 -0.82821 0.85625 -0.83468 C 0.85885 -0.84532 0.85625 -0.84046 0.86736 -0.84532 C 0.86892 -0.84601 0.87204 -0.8474 0.87204 -0.8474 C 0.87517 -0.85018 0.87951 -0.85179 0.88159 -0.85596 C 0.88263 -0.85804 0.88316 -0.86058 0.88472 -0.8622 C 0.88611 -0.86359 0.88802 -0.86359 0.88958 -0.86428 C 0.89375 -0.87029 0.89513 -0.877 0.90225 -0.877 E">
                                      <p:cBhvr>
                                        <p:cTn id="157" dur="5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762920" y="2009880"/>
            <a:ext cx="23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34547"/>
                </a:solidFill>
                <a:latin typeface="Arial"/>
              </a:rPr>
              <a:t>chóuchàng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60000" y="200988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34547"/>
                </a:solidFill>
                <a:latin typeface="Arial"/>
              </a:rPr>
              <a:t>yáng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00720" y="20574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熹</a:t>
            </a:r>
            <a:r>
              <a:rPr b="1" lang="zh-CN" sz="3200" spc="-1" strike="noStrike">
                <a:solidFill>
                  <a:srgbClr val="434547"/>
                </a:solidFill>
                <a:latin typeface="Arial"/>
              </a:rPr>
              <a:t>微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32000" y="285264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34547"/>
                </a:solidFill>
                <a:latin typeface="Arial"/>
              </a:rPr>
              <a:t>zūn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59280" y="2849400"/>
            <a:ext cx="16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34547"/>
                </a:solidFill>
                <a:latin typeface="Arial"/>
              </a:rPr>
              <a:t>shāng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19640" y="28494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34547"/>
                </a:solidFill>
                <a:latin typeface="Arial"/>
              </a:rPr>
              <a:t>miǎn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32000" y="37130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34547"/>
                </a:solidFill>
                <a:latin typeface="Arial"/>
              </a:rPr>
              <a:t>jiǎo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60360" y="37591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34547"/>
                </a:solidFill>
                <a:latin typeface="Arial"/>
              </a:rPr>
              <a:t>xiù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05080" y="370836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34547"/>
                </a:solidFill>
                <a:latin typeface="Arial"/>
              </a:rPr>
              <a:t>yì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986880" y="370512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34547"/>
                </a:solidFill>
                <a:latin typeface="Arial"/>
              </a:rPr>
              <a:t>huán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45086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34547"/>
                </a:solidFill>
                <a:latin typeface="Arial"/>
              </a:rPr>
              <a:t>yǎotiǎo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24360" y="45086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34547"/>
                </a:solidFill>
                <a:latin typeface="Arial"/>
              </a:rPr>
              <a:t>huáng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24720" y="45054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34547"/>
                </a:solidFill>
                <a:latin typeface="Arial"/>
              </a:rPr>
              <a:t>gāo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59280" y="450864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34547"/>
                </a:solidFill>
                <a:latin typeface="Arial"/>
              </a:rPr>
              <a:t>zhào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227000" y="278136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434547"/>
                </a:solidFill>
                <a:latin typeface="Arial"/>
              </a:rPr>
              <a:t>kē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4360" y="1082520"/>
            <a:ext cx="24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34547"/>
                </a:solidFill>
                <a:latin typeface="Arial"/>
                <a:ea typeface="黑体"/>
              </a:rPr>
              <a:t>正音：</a:t>
            </a:r>
            <a:endParaRPr b="0" lang="en-US" sz="4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3560" y="2009880"/>
            <a:ext cx="143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Arial"/>
              </a:rPr>
              <a:t>惆怅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68600" y="20098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Arial"/>
              </a:rPr>
              <a:t>飏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24720" y="200988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34547"/>
                </a:solidFill>
                <a:latin typeface="Arial"/>
              </a:rPr>
              <a:t>xī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39520" y="2849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Arial"/>
              </a:rPr>
              <a:t>樽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495160" y="2849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Arial"/>
              </a:rPr>
              <a:t>觞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7160" y="2849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Arial"/>
              </a:rPr>
              <a:t>眄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588000" y="2781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Arial"/>
              </a:rPr>
              <a:t>庭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柯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9520" y="3716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Arial"/>
              </a:rPr>
              <a:t>矫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95160" y="37130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Arial"/>
              </a:rPr>
              <a:t>岫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68600" y="36957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Arial"/>
              </a:rPr>
              <a:t>翳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84720" y="36878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Arial"/>
              </a:rPr>
              <a:t>盘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桓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9520" y="4508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Arial"/>
              </a:rPr>
              <a:t>棹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340000" y="4508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Arial"/>
              </a:rPr>
              <a:t>窈窕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88000" y="45054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Arial"/>
              </a:rPr>
              <a:t>遑遑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176600" y="4508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Arial"/>
              </a:rPr>
              <a:t>皋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84DE-9D77-4752-819A-C08689350DAD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BB2DBF-76B9-4027-913F-2B34D98486F7}" type="datetime1">
              <a:rPr lang="en-US"/>
              <a:t>07/28/26</a:t>
            </a:fld>
          </a:p>
        </p:txBody>
      </p:sp>
    </p:spTree>
  </p:cSld>
  <p:transition>
    <p:blinds dir="horz"/>
    <p:sndAc>
      <p:stSnd>
        <p:snd r:embed="rId3" name="chimes.wav"/>
      </p:stSnd>
    </p:sndAc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291480" y="363600"/>
            <a:ext cx="21924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34547"/>
                </a:solidFill>
                <a:latin typeface="Arial"/>
                <a:ea typeface="黑体"/>
              </a:rPr>
              <a:t>文中的韵脚字</a:t>
            </a:r>
            <a:endParaRPr b="0" lang="en-US" sz="4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268280"/>
            <a:ext cx="936144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华文细黑"/>
                <a:ea typeface="华文细黑"/>
              </a:rPr>
              <a:t>第一段：押两个韵：</a:t>
            </a:r>
            <a:r>
              <a:rPr b="1" lang="en-US" sz="2800" spc="-1" strike="noStrike">
                <a:solidFill>
                  <a:srgbClr val="434547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434547"/>
                </a:solidFill>
                <a:latin typeface="华文细黑"/>
                <a:ea typeface="华文细黑"/>
              </a:rPr>
              <a:t>uì</a:t>
            </a:r>
            <a:r>
              <a:rPr b="1" lang="zh-CN" sz="2800" spc="-1" strike="noStrike">
                <a:solidFill>
                  <a:srgbClr val="434547"/>
                </a:solidFill>
                <a:latin typeface="华文细黑"/>
                <a:ea typeface="华文细黑"/>
              </a:rPr>
              <a:t>韵，韵脚是“</a:t>
            </a:r>
            <a:r>
              <a:rPr b="1" lang="zh-CN" sz="2800" spc="-1" strike="noStrike">
                <a:solidFill>
                  <a:srgbClr val="990000"/>
                </a:solidFill>
                <a:latin typeface="华文细黑"/>
                <a:ea typeface="华文细黑"/>
              </a:rPr>
              <a:t>归</a:t>
            </a:r>
            <a:r>
              <a:rPr b="1" lang="zh-CN" sz="2800" spc="-1" strike="noStrike">
                <a:solidFill>
                  <a:srgbClr val="434547"/>
                </a:solidFill>
                <a:latin typeface="华文细黑"/>
                <a:ea typeface="华文细黑"/>
              </a:rPr>
              <a:t>”、“</a:t>
            </a:r>
            <a:r>
              <a:rPr b="1" lang="zh-CN" sz="2800" spc="-1" strike="noStrike">
                <a:solidFill>
                  <a:srgbClr val="990000"/>
                </a:solidFill>
                <a:latin typeface="华文细黑"/>
                <a:ea typeface="华文细黑"/>
              </a:rPr>
              <a:t>悲</a:t>
            </a:r>
            <a:r>
              <a:rPr b="1" lang="zh-CN" sz="2800" spc="-1" strike="noStrike">
                <a:solidFill>
                  <a:srgbClr val="434547"/>
                </a:solidFill>
                <a:latin typeface="华文细黑"/>
                <a:ea typeface="华文细黑"/>
              </a:rPr>
              <a:t>”、“</a:t>
            </a:r>
            <a:r>
              <a:rPr b="1" lang="zh-CN" sz="2800" spc="-1" strike="noStrike">
                <a:solidFill>
                  <a:srgbClr val="990000"/>
                </a:solidFill>
                <a:latin typeface="华文细黑"/>
                <a:ea typeface="华文细黑"/>
              </a:rPr>
              <a:t>追</a:t>
            </a:r>
            <a:r>
              <a:rPr b="1" lang="zh-CN" sz="2800" spc="-1" strike="noStrike">
                <a:solidFill>
                  <a:srgbClr val="434547"/>
                </a:solidFill>
                <a:latin typeface="华文细黑"/>
                <a:ea typeface="华文细黑"/>
              </a:rPr>
              <a:t>”、“</a:t>
            </a:r>
            <a:r>
              <a:rPr b="1" lang="zh-CN" sz="2800" spc="-1" strike="noStrike">
                <a:solidFill>
                  <a:srgbClr val="990000"/>
                </a:solidFill>
                <a:latin typeface="华文细黑"/>
                <a:ea typeface="华文细黑"/>
              </a:rPr>
              <a:t>非</a:t>
            </a:r>
            <a:r>
              <a:rPr b="1" lang="zh-CN" sz="2800" spc="-1" strike="noStrike">
                <a:solidFill>
                  <a:srgbClr val="434547"/>
                </a:solidFill>
                <a:latin typeface="华文细黑"/>
                <a:ea typeface="华文细黑"/>
              </a:rPr>
              <a:t>” </a:t>
            </a:r>
            <a:r>
              <a:rPr b="1" lang="en-US" sz="2800" spc="-1" strike="noStrike">
                <a:solidFill>
                  <a:srgbClr val="434547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434547"/>
                </a:solidFill>
                <a:latin typeface="华文细黑"/>
                <a:ea typeface="华文细黑"/>
              </a:rPr>
              <a:t>ì</a:t>
            </a:r>
            <a:r>
              <a:rPr b="1" lang="zh-CN" sz="2800" spc="-1" strike="noStrike">
                <a:solidFill>
                  <a:srgbClr val="434547"/>
                </a:solidFill>
                <a:latin typeface="华文细黑"/>
                <a:ea typeface="华文细黑"/>
              </a:rPr>
              <a:t>、</a:t>
            </a:r>
            <a:r>
              <a:rPr b="1" lang="zh-CN" sz="2800" spc="-1" strike="noStrike">
                <a:solidFill>
                  <a:srgbClr val="434547"/>
                </a:solidFill>
                <a:latin typeface="华文细黑"/>
                <a:ea typeface="华文细黑"/>
              </a:rPr>
              <a:t>uì</a:t>
            </a:r>
            <a:r>
              <a:rPr b="1" lang="zh-CN" sz="2800" spc="-1" strike="noStrike">
                <a:solidFill>
                  <a:srgbClr val="434547"/>
                </a:solidFill>
                <a:latin typeface="华文细黑"/>
                <a:ea typeface="华文细黑"/>
              </a:rPr>
              <a:t>韵，韵脚是“</a:t>
            </a:r>
            <a:r>
              <a:rPr b="1" lang="zh-CN" sz="2800" spc="-1" strike="noStrike">
                <a:solidFill>
                  <a:srgbClr val="990000"/>
                </a:solidFill>
                <a:latin typeface="华文细黑"/>
                <a:ea typeface="华文细黑"/>
              </a:rPr>
              <a:t>衣</a:t>
            </a:r>
            <a:r>
              <a:rPr b="1" lang="zh-CN" sz="2800" spc="-1" strike="noStrike">
                <a:solidFill>
                  <a:srgbClr val="434547"/>
                </a:solidFill>
                <a:latin typeface="华文细黑"/>
                <a:ea typeface="华文细黑"/>
              </a:rPr>
              <a:t>、</a:t>
            </a:r>
            <a:r>
              <a:rPr b="1" lang="zh-CN" sz="2800" spc="-1" strike="noStrike">
                <a:solidFill>
                  <a:srgbClr val="990000"/>
                </a:solidFill>
                <a:latin typeface="华文细黑"/>
                <a:ea typeface="华文细黑"/>
              </a:rPr>
              <a:t>微</a:t>
            </a:r>
            <a:r>
              <a:rPr b="1" lang="zh-CN" sz="2800" spc="-1" strike="noStrike">
                <a:solidFill>
                  <a:srgbClr val="434547"/>
                </a:solidFill>
                <a:latin typeface="华文细黑"/>
                <a:ea typeface="华文细黑"/>
              </a:rPr>
              <a:t>”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华文细黑"/>
                <a:ea typeface="华文细黑"/>
              </a:rPr>
              <a:t>第二段：押两个韵：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华文细黑"/>
                <a:ea typeface="华文细黑"/>
              </a:rPr>
              <a:t>①</a:t>
            </a:r>
            <a:r>
              <a:rPr b="1" lang="zh-CN" sz="2800" spc="-1" strike="noStrike">
                <a:solidFill>
                  <a:srgbClr val="434547"/>
                </a:solidFill>
                <a:latin typeface="华文细黑"/>
                <a:ea typeface="华文细黑"/>
              </a:rPr>
              <a:t>un</a:t>
            </a:r>
            <a:r>
              <a:rPr b="1" lang="zh-CN" sz="2800" spc="-1" strike="noStrike">
                <a:solidFill>
                  <a:srgbClr val="434547"/>
                </a:solidFill>
                <a:latin typeface="华文细黑"/>
                <a:ea typeface="华文细黑"/>
              </a:rPr>
              <a:t>韵，韵脚是“</a:t>
            </a:r>
            <a:r>
              <a:rPr b="1" lang="zh-CN" sz="2800" spc="-1" strike="noStrike">
                <a:solidFill>
                  <a:srgbClr val="990000"/>
                </a:solidFill>
                <a:latin typeface="华文细黑"/>
                <a:ea typeface="华文细黑"/>
              </a:rPr>
              <a:t>奔</a:t>
            </a:r>
            <a:r>
              <a:rPr b="1" lang="zh-CN" sz="2800" spc="-1" strike="noStrike">
                <a:solidFill>
                  <a:srgbClr val="434547"/>
                </a:solidFill>
                <a:latin typeface="华文细黑"/>
                <a:ea typeface="华文细黑"/>
              </a:rPr>
              <a:t>”“</a:t>
            </a:r>
            <a:r>
              <a:rPr b="1" lang="zh-CN" sz="2800" spc="-1" strike="noStrike">
                <a:solidFill>
                  <a:srgbClr val="990000"/>
                </a:solidFill>
                <a:latin typeface="华文细黑"/>
                <a:ea typeface="华文细黑"/>
              </a:rPr>
              <a:t>门</a:t>
            </a:r>
            <a:r>
              <a:rPr b="1" lang="zh-CN" sz="2800" spc="-1" strike="noStrike">
                <a:solidFill>
                  <a:srgbClr val="434547"/>
                </a:solidFill>
                <a:latin typeface="华文细黑"/>
                <a:ea typeface="华文细黑"/>
              </a:rPr>
              <a:t>”“</a:t>
            </a:r>
            <a:r>
              <a:rPr b="1" lang="zh-CN" sz="2800" spc="-1" strike="noStrike">
                <a:solidFill>
                  <a:srgbClr val="990000"/>
                </a:solidFill>
                <a:latin typeface="华文细黑"/>
                <a:ea typeface="华文细黑"/>
              </a:rPr>
              <a:t>存</a:t>
            </a:r>
            <a:r>
              <a:rPr b="1" lang="zh-CN" sz="2800" spc="-1" strike="noStrike">
                <a:solidFill>
                  <a:srgbClr val="434547"/>
                </a:solidFill>
                <a:latin typeface="华文细黑"/>
                <a:ea typeface="华文细黑"/>
              </a:rPr>
              <a:t>”“</a:t>
            </a:r>
            <a:r>
              <a:rPr b="1" lang="zh-CN" sz="2800" spc="-1" strike="noStrike">
                <a:solidFill>
                  <a:srgbClr val="990000"/>
                </a:solidFill>
                <a:latin typeface="华文细黑"/>
                <a:ea typeface="华文细黑"/>
              </a:rPr>
              <a:t>樽</a:t>
            </a:r>
            <a:r>
              <a:rPr b="1" lang="zh-CN" sz="2800" spc="-1" strike="noStrike">
                <a:solidFill>
                  <a:srgbClr val="434547"/>
                </a:solidFill>
                <a:latin typeface="华文细黑"/>
                <a:ea typeface="华文细黑"/>
              </a:rPr>
              <a:t>”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434547"/>
                </a:solidFill>
                <a:latin typeface="华文细黑"/>
                <a:ea typeface="华文细黑"/>
              </a:rPr>
              <a:t>an</a:t>
            </a:r>
            <a:r>
              <a:rPr b="1" lang="zh-CN" sz="2800" spc="-1" strike="noStrike">
                <a:solidFill>
                  <a:srgbClr val="434547"/>
                </a:solidFill>
                <a:latin typeface="华文细黑"/>
                <a:ea typeface="华文细黑"/>
              </a:rPr>
              <a:t>韵，韵脚是“</a:t>
            </a:r>
            <a:r>
              <a:rPr b="1" lang="zh-CN" sz="2800" spc="-1" strike="noStrike">
                <a:solidFill>
                  <a:srgbClr val="990000"/>
                </a:solidFill>
                <a:latin typeface="华文细黑"/>
                <a:ea typeface="华文细黑"/>
              </a:rPr>
              <a:t>颜</a:t>
            </a:r>
            <a:r>
              <a:rPr b="1" lang="zh-CN" sz="2800" spc="-1" strike="noStrike">
                <a:solidFill>
                  <a:srgbClr val="434547"/>
                </a:solidFill>
                <a:latin typeface="华文细黑"/>
                <a:ea typeface="华文细黑"/>
              </a:rPr>
              <a:t>”“</a:t>
            </a:r>
            <a:r>
              <a:rPr b="1" lang="zh-CN" sz="2800" spc="-1" strike="noStrike">
                <a:solidFill>
                  <a:srgbClr val="990000"/>
                </a:solidFill>
                <a:latin typeface="华文细黑"/>
                <a:ea typeface="华文细黑"/>
              </a:rPr>
              <a:t>安</a:t>
            </a:r>
            <a:r>
              <a:rPr b="1" lang="zh-CN" sz="2800" spc="-1" strike="noStrike">
                <a:solidFill>
                  <a:srgbClr val="434547"/>
                </a:solidFill>
                <a:latin typeface="华文细黑"/>
                <a:ea typeface="华文细黑"/>
              </a:rPr>
              <a:t>”“</a:t>
            </a:r>
            <a:r>
              <a:rPr b="1" lang="zh-CN" sz="2800" spc="-1" strike="noStrike">
                <a:solidFill>
                  <a:srgbClr val="990000"/>
                </a:solidFill>
                <a:latin typeface="华文细黑"/>
                <a:ea typeface="华文细黑"/>
              </a:rPr>
              <a:t>关</a:t>
            </a:r>
            <a:r>
              <a:rPr b="1" lang="zh-CN" sz="2800" spc="-1" strike="noStrike">
                <a:solidFill>
                  <a:srgbClr val="434547"/>
                </a:solidFill>
                <a:latin typeface="华文细黑"/>
                <a:ea typeface="华文细黑"/>
              </a:rPr>
              <a:t>”“观”“</a:t>
            </a:r>
            <a:r>
              <a:rPr b="1" lang="zh-CN" sz="2800" spc="-1" strike="noStrike">
                <a:solidFill>
                  <a:srgbClr val="990000"/>
                </a:solidFill>
                <a:latin typeface="华文细黑"/>
                <a:ea typeface="华文细黑"/>
              </a:rPr>
              <a:t>还</a:t>
            </a:r>
            <a:r>
              <a:rPr b="1" lang="zh-CN" sz="2800" spc="-1" strike="noStrike">
                <a:solidFill>
                  <a:srgbClr val="434547"/>
                </a:solidFill>
                <a:latin typeface="华文细黑"/>
                <a:ea typeface="华文细黑"/>
              </a:rPr>
              <a:t>”“</a:t>
            </a:r>
            <a:r>
              <a:rPr b="1" lang="zh-CN" sz="2800" spc="-1" strike="noStrike">
                <a:solidFill>
                  <a:srgbClr val="990000"/>
                </a:solidFill>
                <a:latin typeface="华文细黑"/>
                <a:ea typeface="华文细黑"/>
              </a:rPr>
              <a:t>桓</a:t>
            </a:r>
            <a:r>
              <a:rPr b="1" lang="zh-CN" sz="2800" spc="-1" strike="noStrike">
                <a:solidFill>
                  <a:srgbClr val="434547"/>
                </a:solidFill>
                <a:latin typeface="华文细黑"/>
                <a:ea typeface="华文细黑"/>
              </a:rPr>
              <a:t>”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华文细黑"/>
                <a:ea typeface="华文细黑"/>
              </a:rPr>
              <a:t>第三段：押一个韵</a:t>
            </a:r>
            <a:r>
              <a:rPr b="1" lang="zh-CN" sz="2800" spc="-1" strike="noStrike">
                <a:solidFill>
                  <a:srgbClr val="434547"/>
                </a:solidFill>
                <a:latin typeface="华文细黑"/>
                <a:ea typeface="华文细黑"/>
              </a:rPr>
              <a:t>ou </a:t>
            </a:r>
            <a:r>
              <a:rPr b="1" lang="zh-CN" sz="2800" spc="-1" strike="noStrike">
                <a:solidFill>
                  <a:srgbClr val="434547"/>
                </a:solidFill>
                <a:latin typeface="华文细黑"/>
                <a:ea typeface="华文细黑"/>
              </a:rPr>
              <a:t>韵脚是“</a:t>
            </a:r>
            <a:r>
              <a:rPr b="1" lang="zh-CN" sz="2800" spc="-1" strike="noStrike">
                <a:solidFill>
                  <a:srgbClr val="990000"/>
                </a:solidFill>
                <a:latin typeface="华文细黑"/>
                <a:ea typeface="华文细黑"/>
              </a:rPr>
              <a:t>游</a:t>
            </a:r>
            <a:r>
              <a:rPr b="1" lang="zh-CN" sz="2800" spc="-1" strike="noStrike">
                <a:solidFill>
                  <a:srgbClr val="434547"/>
                </a:solidFill>
                <a:latin typeface="华文细黑"/>
                <a:ea typeface="华文细黑"/>
              </a:rPr>
              <a:t>”“</a:t>
            </a:r>
            <a:r>
              <a:rPr b="1" lang="zh-CN" sz="2800" spc="-1" strike="noStrike">
                <a:solidFill>
                  <a:srgbClr val="990000"/>
                </a:solidFill>
                <a:latin typeface="华文细黑"/>
                <a:ea typeface="华文细黑"/>
              </a:rPr>
              <a:t>求</a:t>
            </a:r>
            <a:r>
              <a:rPr b="1" lang="zh-CN" sz="2800" spc="-1" strike="noStrike">
                <a:solidFill>
                  <a:srgbClr val="434547"/>
                </a:solidFill>
                <a:latin typeface="华文细黑"/>
                <a:ea typeface="华文细黑"/>
              </a:rPr>
              <a:t>”“</a:t>
            </a:r>
            <a:r>
              <a:rPr b="1" lang="zh-CN" sz="2800" spc="-1" strike="noStrike">
                <a:solidFill>
                  <a:srgbClr val="990000"/>
                </a:solidFill>
                <a:latin typeface="华文细黑"/>
                <a:ea typeface="华文细黑"/>
              </a:rPr>
              <a:t>优</a:t>
            </a:r>
            <a:r>
              <a:rPr b="1" lang="zh-CN" sz="2800" spc="-1" strike="noStrike">
                <a:solidFill>
                  <a:srgbClr val="434547"/>
                </a:solidFill>
                <a:latin typeface="华文细黑"/>
                <a:ea typeface="华文细黑"/>
              </a:rPr>
              <a:t>”“</a:t>
            </a:r>
            <a:r>
              <a:rPr b="1" lang="zh-CN" sz="2800" spc="-1" strike="noStrike">
                <a:solidFill>
                  <a:srgbClr val="990000"/>
                </a:solidFill>
                <a:latin typeface="华文细黑"/>
                <a:ea typeface="华文细黑"/>
              </a:rPr>
              <a:t>畴</a:t>
            </a:r>
            <a:r>
              <a:rPr b="1" lang="zh-CN" sz="2800" spc="-1" strike="noStrike">
                <a:solidFill>
                  <a:srgbClr val="434547"/>
                </a:solidFill>
                <a:latin typeface="华文细黑"/>
                <a:ea typeface="华文细黑"/>
              </a:rPr>
              <a:t>”“</a:t>
            </a:r>
            <a:r>
              <a:rPr b="1" lang="zh-CN" sz="2800" spc="-1" strike="noStrike">
                <a:solidFill>
                  <a:srgbClr val="990000"/>
                </a:solidFill>
                <a:latin typeface="华文细黑"/>
                <a:ea typeface="华文细黑"/>
              </a:rPr>
              <a:t>舟</a:t>
            </a:r>
            <a:r>
              <a:rPr b="1" lang="zh-CN" sz="2800" spc="-1" strike="noStrike">
                <a:solidFill>
                  <a:srgbClr val="434547"/>
                </a:solidFill>
                <a:latin typeface="华文细黑"/>
                <a:ea typeface="华文细黑"/>
              </a:rPr>
              <a:t>”“</a:t>
            </a:r>
            <a:r>
              <a:rPr b="1" lang="zh-CN" sz="2800" spc="-1" strike="noStrike">
                <a:solidFill>
                  <a:srgbClr val="990000"/>
                </a:solidFill>
                <a:latin typeface="华文细黑"/>
                <a:ea typeface="华文细黑"/>
              </a:rPr>
              <a:t>丘</a:t>
            </a:r>
            <a:r>
              <a:rPr b="1" lang="zh-CN" sz="2800" spc="-1" strike="noStrike">
                <a:solidFill>
                  <a:srgbClr val="434547"/>
                </a:solidFill>
                <a:latin typeface="华文细黑"/>
                <a:ea typeface="华文细黑"/>
              </a:rPr>
              <a:t>”“</a:t>
            </a:r>
            <a:r>
              <a:rPr b="1" lang="zh-CN" sz="2800" spc="-1" strike="noStrike">
                <a:solidFill>
                  <a:srgbClr val="990000"/>
                </a:solidFill>
                <a:latin typeface="华文细黑"/>
                <a:ea typeface="华文细黑"/>
              </a:rPr>
              <a:t>流</a:t>
            </a:r>
            <a:r>
              <a:rPr b="1" lang="zh-CN" sz="2800" spc="-1" strike="noStrike">
                <a:solidFill>
                  <a:srgbClr val="434547"/>
                </a:solidFill>
                <a:latin typeface="华文细黑"/>
                <a:ea typeface="华文细黑"/>
              </a:rPr>
              <a:t>”“</a:t>
            </a:r>
            <a:r>
              <a:rPr b="1" lang="zh-CN" sz="2800" spc="-1" strike="noStrike">
                <a:solidFill>
                  <a:srgbClr val="990000"/>
                </a:solidFill>
                <a:latin typeface="华文细黑"/>
                <a:ea typeface="华文细黑"/>
              </a:rPr>
              <a:t>休</a:t>
            </a:r>
            <a:r>
              <a:rPr b="1" lang="zh-CN" sz="2800" spc="-1" strike="noStrike">
                <a:solidFill>
                  <a:srgbClr val="434547"/>
                </a:solidFill>
                <a:latin typeface="华文细黑"/>
                <a:ea typeface="华文细黑"/>
              </a:rPr>
              <a:t>”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华文细黑"/>
                <a:ea typeface="华文细黑"/>
              </a:rPr>
              <a:t>第四段：除“曷不委心任去留”以上几句，其余押</a:t>
            </a:r>
            <a:r>
              <a:rPr b="1" lang="zh-CN" sz="2800" spc="-1" strike="noStrike">
                <a:solidFill>
                  <a:srgbClr val="434547"/>
                </a:solidFill>
                <a:latin typeface="华文细黑"/>
                <a:ea typeface="华文细黑"/>
              </a:rPr>
              <a:t>i</a:t>
            </a:r>
            <a:r>
              <a:rPr b="1" lang="zh-CN" sz="2800" spc="-1" strike="noStrike">
                <a:solidFill>
                  <a:srgbClr val="434547"/>
                </a:solidFill>
                <a:latin typeface="华文细黑"/>
                <a:ea typeface="华文细黑"/>
              </a:rPr>
              <a:t>韵，韵脚有 “</a:t>
            </a:r>
            <a:r>
              <a:rPr b="1" lang="zh-CN" sz="2800" spc="-1" strike="noStrike">
                <a:solidFill>
                  <a:srgbClr val="990000"/>
                </a:solidFill>
                <a:latin typeface="华文细黑"/>
                <a:ea typeface="华文细黑"/>
              </a:rPr>
              <a:t>之</a:t>
            </a:r>
            <a:r>
              <a:rPr b="1" lang="zh-CN" sz="2800" spc="-1" strike="noStrike">
                <a:solidFill>
                  <a:srgbClr val="434547"/>
                </a:solidFill>
                <a:latin typeface="华文细黑"/>
                <a:ea typeface="华文细黑"/>
              </a:rPr>
              <a:t>”“</a:t>
            </a:r>
            <a:r>
              <a:rPr b="1" lang="zh-CN" sz="2800" spc="-1" strike="noStrike">
                <a:solidFill>
                  <a:srgbClr val="990000"/>
                </a:solidFill>
                <a:latin typeface="华文细黑"/>
                <a:ea typeface="华文细黑"/>
              </a:rPr>
              <a:t>期</a:t>
            </a:r>
            <a:r>
              <a:rPr b="1" lang="zh-CN" sz="2800" spc="-1" strike="noStrike">
                <a:solidFill>
                  <a:srgbClr val="434547"/>
                </a:solidFill>
                <a:latin typeface="华文细黑"/>
                <a:ea typeface="华文细黑"/>
              </a:rPr>
              <a:t>”“</a:t>
            </a:r>
            <a:r>
              <a:rPr b="1" lang="zh-CN" sz="2800" spc="-1" strike="noStrike">
                <a:solidFill>
                  <a:srgbClr val="990000"/>
                </a:solidFill>
                <a:latin typeface="华文细黑"/>
                <a:ea typeface="华文细黑"/>
              </a:rPr>
              <a:t>耔</a:t>
            </a:r>
            <a:r>
              <a:rPr b="1" lang="zh-CN" sz="2800" spc="-1" strike="noStrike">
                <a:solidFill>
                  <a:srgbClr val="434547"/>
                </a:solidFill>
                <a:latin typeface="华文细黑"/>
                <a:ea typeface="华文细黑"/>
              </a:rPr>
              <a:t>”“</a:t>
            </a:r>
            <a:r>
              <a:rPr b="1" lang="zh-CN" sz="2800" spc="-1" strike="noStrike">
                <a:solidFill>
                  <a:srgbClr val="990000"/>
                </a:solidFill>
                <a:latin typeface="华文细黑"/>
                <a:ea typeface="华文细黑"/>
              </a:rPr>
              <a:t>诗</a:t>
            </a:r>
            <a:r>
              <a:rPr b="1" lang="zh-CN" sz="2800" spc="-1" strike="noStrike">
                <a:solidFill>
                  <a:srgbClr val="434547"/>
                </a:solidFill>
                <a:latin typeface="华文细黑"/>
                <a:ea typeface="华文细黑"/>
              </a:rPr>
              <a:t>”“</a:t>
            </a:r>
            <a:r>
              <a:rPr b="1" lang="zh-CN" sz="2800" spc="-1" strike="noStrike">
                <a:solidFill>
                  <a:srgbClr val="990000"/>
                </a:solidFill>
                <a:latin typeface="华文细黑"/>
                <a:ea typeface="华文细黑"/>
              </a:rPr>
              <a:t>疑</a:t>
            </a:r>
            <a:r>
              <a:rPr b="1" lang="zh-CN" sz="2800" spc="-1" strike="noStrike">
                <a:solidFill>
                  <a:srgbClr val="434547"/>
                </a:solidFill>
                <a:latin typeface="华文细黑"/>
                <a:ea typeface="华文细黑"/>
              </a:rPr>
              <a:t>”                                                        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236000" y="5877000"/>
            <a:ext cx="720720" cy="792000"/>
          </a:xfrm>
          <a:prstGeom prst="sun">
            <a:avLst>
              <a:gd name="adj" fmla="val 25000"/>
            </a:avLst>
          </a:prstGeom>
          <a:solidFill>
            <a:srgbClr val="d09200"/>
          </a:solidFill>
          <a:ln w="9360">
            <a:solidFill>
              <a:srgbClr val="434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AD0B-0F2E-4AFC-9AD7-73F846F81825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ED721A-BE5B-4BA8-B3DD-595BEEE796F7}" type="datetime1">
              <a:rPr lang="en-US"/>
              <a:t>07/28/26</a:t>
            </a:fld>
          </a:p>
        </p:txBody>
      </p:sp>
    </p:spTree>
  </p:cSld>
  <p:transition>
    <p:blinds dir="horz"/>
    <p:sndAc>
      <p:stSnd>
        <p:snd r:embed="rId3" name="chimes.wav"/>
      </p:stSnd>
    </p:sndAc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95280" y="2773800"/>
            <a:ext cx="280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34547"/>
                </a:solidFill>
                <a:latin typeface="新宋体"/>
                <a:ea typeface="新宋体"/>
              </a:rPr>
              <a:t>  </a:t>
            </a:r>
            <a:r>
              <a:rPr b="1" lang="zh-CN" sz="20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归去来兮，田园将芜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胡</a:t>
            </a:r>
            <a:r>
              <a:rPr b="1" lang="zh-CN" sz="20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不归？既自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以</a:t>
            </a:r>
            <a:r>
              <a:rPr b="1" lang="zh-CN" sz="20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心为形役，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奚</a:t>
            </a:r>
            <a:r>
              <a:rPr b="1" lang="zh-CN" sz="20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惆怅而独悲！悟已往之不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谏</a:t>
            </a:r>
            <a:r>
              <a:rPr b="1" lang="zh-CN" sz="20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，知来者之可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追</a:t>
            </a:r>
            <a:r>
              <a:rPr b="1" lang="zh-CN" sz="20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；实迷途其未远，觉今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是</a:t>
            </a:r>
            <a:r>
              <a:rPr b="1" lang="zh-CN" sz="20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而昨非。 </a:t>
            </a:r>
            <a:endParaRPr b="0" lang="en-US" sz="20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64000" y="2857680"/>
            <a:ext cx="52560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34547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434547"/>
                </a:solidFill>
                <a:latin typeface="新宋体"/>
                <a:ea typeface="新宋体"/>
              </a:rPr>
              <a:t>回家去吧！田园快要荒芜了，</a:t>
            </a:r>
            <a:r>
              <a:rPr b="1" lang="zh-CN" sz="2000" spc="-1" strike="noStrike">
                <a:solidFill>
                  <a:srgbClr val="ff3300"/>
                </a:solidFill>
                <a:latin typeface="新宋体"/>
                <a:ea typeface="新宋体"/>
              </a:rPr>
              <a:t>为什么</a:t>
            </a:r>
            <a:r>
              <a:rPr b="1" lang="zh-CN" sz="2000" spc="-1" strike="noStrike">
                <a:solidFill>
                  <a:srgbClr val="434547"/>
                </a:solidFill>
                <a:latin typeface="新宋体"/>
                <a:ea typeface="新宋体"/>
              </a:rPr>
              <a:t>不回去呢？既然自己</a:t>
            </a:r>
            <a:r>
              <a:rPr b="1" lang="zh-CN" sz="2000" spc="-1" strike="noStrike">
                <a:solidFill>
                  <a:srgbClr val="ff3300"/>
                </a:solidFill>
                <a:latin typeface="新宋体"/>
                <a:ea typeface="新宋体"/>
              </a:rPr>
              <a:t>让</a:t>
            </a:r>
            <a:r>
              <a:rPr b="1" lang="zh-CN" sz="2000" spc="-1" strike="noStrike">
                <a:solidFill>
                  <a:srgbClr val="434547"/>
                </a:solidFill>
                <a:latin typeface="新宋体"/>
                <a:ea typeface="新宋体"/>
              </a:rPr>
              <a:t>心灵为形体所役使，为什么如此失意而独自伤悲？我悔悟过去的错误无法</a:t>
            </a:r>
            <a:r>
              <a:rPr b="1" lang="zh-CN" sz="2000" spc="-1" strike="noStrike">
                <a:solidFill>
                  <a:srgbClr val="ff3300"/>
                </a:solidFill>
                <a:latin typeface="新宋体"/>
                <a:ea typeface="新宋体"/>
              </a:rPr>
              <a:t>挽回</a:t>
            </a:r>
            <a:r>
              <a:rPr b="1" lang="zh-CN" sz="2000" spc="-1" strike="noStrike">
                <a:solidFill>
                  <a:srgbClr val="434547"/>
                </a:solidFill>
                <a:latin typeface="新宋体"/>
                <a:ea typeface="新宋体"/>
              </a:rPr>
              <a:t>，但在未来的岁月中还可以</a:t>
            </a:r>
            <a:r>
              <a:rPr b="1" lang="zh-CN" sz="2000" spc="-1" strike="noStrike">
                <a:solidFill>
                  <a:srgbClr val="ff3300"/>
                </a:solidFill>
                <a:latin typeface="新宋体"/>
                <a:ea typeface="新宋体"/>
              </a:rPr>
              <a:t>补救</a:t>
            </a:r>
            <a:r>
              <a:rPr b="1" lang="zh-CN" sz="2000" spc="-1" strike="noStrike">
                <a:solidFill>
                  <a:srgbClr val="434547"/>
                </a:solidFill>
                <a:latin typeface="新宋体"/>
                <a:ea typeface="新宋体"/>
              </a:rPr>
              <a:t>。实际上我入迷途还不算远，已觉悟到现在回家为</a:t>
            </a:r>
            <a:r>
              <a:rPr b="1" lang="zh-CN" sz="2000" spc="-1" strike="noStrike">
                <a:solidFill>
                  <a:srgbClr val="ff3300"/>
                </a:solidFill>
                <a:latin typeface="新宋体"/>
                <a:ea typeface="新宋体"/>
              </a:rPr>
              <a:t>正确</a:t>
            </a:r>
            <a:r>
              <a:rPr b="1" lang="zh-CN" sz="2000" spc="-1" strike="noStrike">
                <a:solidFill>
                  <a:srgbClr val="434547"/>
                </a:solidFill>
                <a:latin typeface="新宋体"/>
                <a:ea typeface="新宋体"/>
              </a:rPr>
              <a:t>的而过去做官是错误的。 </a:t>
            </a:r>
            <a:endParaRPr b="0" lang="en-US" sz="20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24000" y="4554360"/>
            <a:ext cx="6050160" cy="2303640"/>
          </a:xfrm>
          <a:prstGeom prst="wedgeEllipseCallout">
            <a:avLst>
              <a:gd name="adj1" fmla="val -47138"/>
              <a:gd name="adj2" fmla="val -75981"/>
            </a:avLst>
          </a:prstGeom>
          <a:solidFill>
            <a:srgbClr val="ffffff"/>
          </a:solidFill>
          <a:ln w="9360">
            <a:solidFill>
              <a:srgbClr val="434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34547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434547"/>
                </a:solidFill>
                <a:latin typeface="Arial"/>
              </a:rPr>
              <a:t>论语</a:t>
            </a:r>
            <a:r>
              <a:rPr b="1" lang="en-US" sz="1800" spc="-1" strike="noStrike">
                <a:solidFill>
                  <a:srgbClr val="434547"/>
                </a:solidFill>
                <a:latin typeface="Arial"/>
              </a:rPr>
              <a:t>·</a:t>
            </a:r>
            <a:r>
              <a:rPr b="1" lang="zh-CN" sz="1800" spc="-1" strike="noStrike">
                <a:solidFill>
                  <a:srgbClr val="434547"/>
                </a:solidFill>
                <a:latin typeface="Arial"/>
              </a:rPr>
              <a:t>微子</a:t>
            </a:r>
            <a:r>
              <a:rPr b="1" lang="en-US" sz="1800" spc="-1" strike="noStrike">
                <a:solidFill>
                  <a:srgbClr val="434547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434547"/>
                </a:solidFill>
                <a:latin typeface="Arial"/>
              </a:rPr>
              <a:t>：楚狂接舆歌而过孔子曰：“凤兮，凤兮！何德之衰？往者不 可谏，来者犹可追。已而，已而！今之从政者殆而！”</a:t>
            </a:r>
            <a:endParaRPr b="0" lang="en-US" sz="1800" spc="-1" strike="noStrike">
              <a:solidFill>
                <a:srgbClr val="43454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34547"/>
                </a:solidFill>
                <a:latin typeface="Arial"/>
              </a:rPr>
              <a:t>孔子下，欲与之言。趋而辟之，不得与之言。</a:t>
            </a:r>
            <a:endParaRPr b="0" lang="en-US" sz="1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59D0-153B-4233-B933-F1132FF6577E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ABF683-292B-4D2C-A4E8-A52F88269AFB}" type="datetime1">
              <a:rPr lang="en-US"/>
              <a:t>07/28/26</a:t>
            </a:fld>
          </a:p>
        </p:txBody>
      </p:sp>
    </p:spTree>
  </p:cSld>
  <p:transition>
    <p:blinds dir="horz"/>
    <p:sndAc>
      <p:stSnd>
        <p:snd r:embed="rId1" name="chimes.wav"/>
      </p:stSnd>
    </p:sndAc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6080" y="189000"/>
            <a:ext cx="4597200" cy="6408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8244000" y="1413000"/>
            <a:ext cx="503280" cy="41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舒体"/>
              </a:rPr>
              <a:t>不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方正舒体"/>
              <a:ea typeface="方正舒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舒体"/>
              </a:rPr>
              <a:t>为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方正舒体"/>
              <a:ea typeface="方正舒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舒体"/>
              </a:rPr>
              <a:t>五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方正舒体"/>
              <a:ea typeface="方正舒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舒体"/>
              </a:rPr>
              <a:t>斗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方正舒体"/>
              <a:ea typeface="方正舒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舒体"/>
              </a:rPr>
              <a:t>米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方正舒体"/>
              <a:ea typeface="方正舒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舒体"/>
              </a:rPr>
              <a:t>折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方正舒体"/>
              <a:ea typeface="方正舒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舒体"/>
              </a:rPr>
              <a:t>腰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90" name=""/>
          <p:cNvSpPr/>
          <p:nvPr/>
        </p:nvSpPr>
        <p:spPr>
          <a:xfrm>
            <a:off x="4932360" y="2512440"/>
            <a:ext cx="309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4547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434547"/>
                </a:solidFill>
                <a:latin typeface="Arial"/>
              </a:rPr>
              <a:t>晋书</a:t>
            </a:r>
            <a:r>
              <a:rPr b="1" lang="en-US" sz="2800" spc="-1" strike="noStrike">
                <a:solidFill>
                  <a:srgbClr val="434547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434547"/>
                </a:solidFill>
                <a:latin typeface="Arial"/>
              </a:rPr>
              <a:t>陶潜传</a:t>
            </a:r>
            <a:r>
              <a:rPr b="1" lang="en-US" sz="2800" spc="-1" strike="noStrike">
                <a:solidFill>
                  <a:srgbClr val="434547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434547"/>
                </a:solidFill>
                <a:latin typeface="Arial"/>
              </a:rPr>
              <a:t>：      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Arial"/>
              </a:rPr>
              <a:t>  “</a:t>
            </a:r>
            <a:r>
              <a:rPr b="1" lang="zh-CN" sz="2800" spc="-1" strike="noStrike">
                <a:solidFill>
                  <a:srgbClr val="434547"/>
                </a:solidFill>
                <a:latin typeface="Arial"/>
              </a:rPr>
              <a:t>素简贵，不私事上官。郡遣督邮至县，吏白应束带见之。潜叹曰：‘吾不能为五斗米折腰，拳拳事乡里小人邪</a:t>
            </a:r>
            <a:r>
              <a:rPr b="1" lang="en-US" sz="2800" spc="-1" strike="noStrike">
                <a:solidFill>
                  <a:srgbClr val="434547"/>
                </a:solidFill>
                <a:latin typeface="Arial"/>
              </a:rPr>
              <a:t>!’ </a:t>
            </a:r>
            <a:r>
              <a:rPr b="1" lang="zh-CN" sz="2800" spc="-1" strike="noStrike">
                <a:solidFill>
                  <a:srgbClr val="434547"/>
                </a:solidFill>
                <a:latin typeface="Arial"/>
              </a:rPr>
              <a:t>义熙二年，解印去县，乃赋</a:t>
            </a:r>
            <a:r>
              <a:rPr b="1" lang="en-US" sz="2800" spc="-1" strike="noStrike">
                <a:solidFill>
                  <a:srgbClr val="434547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434547"/>
                </a:solidFill>
                <a:latin typeface="Arial"/>
              </a:rPr>
              <a:t>归去来</a:t>
            </a:r>
            <a:r>
              <a:rPr b="1" lang="en-US" sz="2800" spc="-1" strike="noStrike">
                <a:solidFill>
                  <a:srgbClr val="434547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434547"/>
                </a:solidFill>
                <a:latin typeface="Arial"/>
              </a:rPr>
              <a:t>。” 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E61A-9300-46F5-A2E2-B45F500FFC00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A7BC6C-A33F-4A05-9DA1-2D7A7AD3C6A6}" type="datetime1">
              <a:rPr lang="en-US"/>
              <a:t>07/28/26</a:t>
            </a:fld>
          </a:p>
        </p:txBody>
      </p:sp>
    </p:spTree>
  </p:cSld>
  <p:transition>
    <p:blinds dir="horz"/>
    <p:sndAc>
      <p:stSnd>
        <p:snd r:embed="rId3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755640" y="2912040"/>
            <a:ext cx="28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舟遥遥以轻飏，风飘飘而吹衣。问征夫以前路，恨晨光之熹微。乃瞻衡宇，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载</a:t>
            </a:r>
            <a:r>
              <a:rPr b="1" lang="zh-CN" sz="32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欣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载</a:t>
            </a:r>
            <a:r>
              <a:rPr b="1" lang="zh-CN" sz="32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奔。僮仆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欢迎</a:t>
            </a:r>
            <a:r>
              <a:rPr b="1" lang="zh-CN" sz="32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，稚子候门。三径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就</a:t>
            </a:r>
            <a:r>
              <a:rPr b="1" lang="zh-CN" sz="32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荒，松菊犹存。携幼入室，有酒盈樽。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24360" y="3061080"/>
            <a:ext cx="493236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船在水面上轻轻地飘荡着前进，和风徐徐吹拂着我的衣裳。</a:t>
            </a:r>
            <a:r>
              <a:rPr b="1" lang="zh-CN" sz="3200" spc="-1" strike="noStrike">
                <a:solidFill>
                  <a:srgbClr val="434547"/>
                </a:solidFill>
                <a:latin typeface="Arial"/>
                <a:ea typeface="新宋体"/>
              </a:rPr>
              <a:t>向行人打听前面的路，只遗憾晨光朦胧天不亮。于是看到自己简陋的家门，我高兴地向前飞奔。家僮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新宋体"/>
              </a:rPr>
              <a:t>欢快地迎接</a:t>
            </a:r>
            <a:r>
              <a:rPr b="1" lang="zh-CN" sz="3200" spc="-1" strike="noStrike">
                <a:solidFill>
                  <a:srgbClr val="434547"/>
                </a:solidFill>
                <a:latin typeface="Arial"/>
                <a:ea typeface="新宋体"/>
              </a:rPr>
              <a:t>，幼儿们守候在门庭。院里的小路快要荒芜了，松和菊还是原样；带着幼儿们进了屋，美酒已经满觞。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2481-DBAB-4C38-9581-BD7DCF607C9F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F96398-DBD6-439F-8D8A-F2E7C6CEE526}" type="datetime1">
              <a:rPr lang="en-US"/>
              <a:t>07/28/26</a:t>
            </a:fld>
          </a:p>
        </p:txBody>
      </p:sp>
    </p:spTree>
  </p:cSld>
  <p:transition>
    <p:blinds dir="horz"/>
    <p:sndAc>
      <p:stSnd>
        <p:snd r:embed="rId1" name="chimes.wav"/>
      </p:stSnd>
    </p:sndAc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539640" y="2410200"/>
            <a:ext cx="316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引</a:t>
            </a:r>
            <a:r>
              <a:rPr b="1" lang="zh-CN" sz="32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壶觞以自酌，眄庭柯以怡颜。倚南窗以寄傲，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审</a:t>
            </a:r>
            <a:r>
              <a:rPr b="1" lang="zh-CN" sz="32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容膝之易安。园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日</a:t>
            </a:r>
            <a:r>
              <a:rPr b="1" lang="zh-CN" sz="32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涉以成趣，门虽设而常关。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策扶老</a:t>
            </a:r>
            <a:r>
              <a:rPr b="1" lang="zh-CN" sz="32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以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流憩</a:t>
            </a:r>
            <a:r>
              <a:rPr b="1" lang="zh-CN" sz="32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，时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矫首</a:t>
            </a:r>
            <a:r>
              <a:rPr b="1" lang="zh-CN" sz="32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而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遐观</a:t>
            </a:r>
            <a:r>
              <a:rPr b="1" lang="zh-CN" sz="32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。云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无心</a:t>
            </a:r>
            <a:r>
              <a:rPr b="1" lang="zh-CN" sz="32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以出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岫</a:t>
            </a:r>
            <a:r>
              <a:rPr b="1" lang="zh-CN" sz="32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，鸟倦飞而知还。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景</a:t>
            </a:r>
            <a:r>
              <a:rPr b="1" lang="zh-CN" sz="32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翳翳以将入，抚孤松而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盘桓</a:t>
            </a:r>
            <a:r>
              <a:rPr b="1" lang="zh-CN" sz="32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。</a:t>
            </a:r>
            <a:r>
              <a:rPr b="0" lang="zh-CN" sz="32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780000" y="2133000"/>
            <a:ext cx="493236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新宋体"/>
                <a:ea typeface="新宋体"/>
              </a:rPr>
              <a:t>    </a:t>
            </a:r>
            <a:r>
              <a:rPr b="1" lang="zh-CN" sz="2800" spc="-1" strike="noStrike">
                <a:solidFill>
                  <a:srgbClr val="434547"/>
                </a:solidFill>
                <a:latin typeface="新宋体"/>
                <a:ea typeface="新宋体"/>
              </a:rPr>
              <a:t>我</a:t>
            </a:r>
            <a:r>
              <a:rPr b="1" lang="zh-CN" sz="2800" spc="-1" strike="noStrike">
                <a:solidFill>
                  <a:srgbClr val="ff3300"/>
                </a:solidFill>
                <a:latin typeface="新宋体"/>
                <a:ea typeface="新宋体"/>
              </a:rPr>
              <a:t>拿过</a:t>
            </a:r>
            <a:r>
              <a:rPr b="1" lang="zh-CN" sz="2800" spc="-1" strike="noStrike">
                <a:solidFill>
                  <a:srgbClr val="434547"/>
                </a:solidFill>
                <a:latin typeface="新宋体"/>
                <a:ea typeface="新宋体"/>
              </a:rPr>
              <a:t>酒壶酒杯自斟自饮，看看庭院中的树木使我很开颜。倚着南窗寄托我傲然自得的情怀，</a:t>
            </a:r>
            <a:r>
              <a:rPr b="1" lang="zh-CN" sz="2800" spc="-1" strike="noStrike">
                <a:solidFill>
                  <a:srgbClr val="ff3300"/>
                </a:solidFill>
                <a:latin typeface="新宋体"/>
                <a:ea typeface="新宋体"/>
              </a:rPr>
              <a:t>知道</a:t>
            </a:r>
            <a:r>
              <a:rPr b="1" lang="zh-CN" sz="2800" spc="-1" strike="noStrike">
                <a:solidFill>
                  <a:srgbClr val="434547"/>
                </a:solidFill>
                <a:latin typeface="新宋体"/>
                <a:ea typeface="新宋体"/>
              </a:rPr>
              <a:t>这狭小之地反而容易使我心安。小园有门却经常关闭着，</a:t>
            </a:r>
            <a:r>
              <a:rPr b="1" lang="zh-CN" sz="2800" spc="-1" strike="noStrike">
                <a:solidFill>
                  <a:srgbClr val="ff3300"/>
                </a:solidFill>
                <a:latin typeface="新宋体"/>
                <a:ea typeface="新宋体"/>
              </a:rPr>
              <a:t>每天</a:t>
            </a:r>
            <a:r>
              <a:rPr b="1" lang="zh-CN" sz="2800" spc="-1" strike="noStrike">
                <a:solidFill>
                  <a:srgbClr val="434547"/>
                </a:solidFill>
                <a:latin typeface="新宋体"/>
                <a:ea typeface="新宋体"/>
              </a:rPr>
              <a:t>（独自）在园中散步兴味无穷；</a:t>
            </a:r>
            <a:r>
              <a:rPr b="1" lang="zh-CN" sz="2800" spc="-1" strike="noStrike">
                <a:solidFill>
                  <a:srgbClr val="ff3300"/>
                </a:solidFill>
                <a:latin typeface="新宋体"/>
                <a:ea typeface="新宋体"/>
              </a:rPr>
              <a:t>拄着拐杖，走走歇歇</a:t>
            </a:r>
            <a:r>
              <a:rPr b="1" lang="zh-CN" sz="2800" spc="-1" strike="noStrike">
                <a:solidFill>
                  <a:srgbClr val="434547"/>
                </a:solidFill>
                <a:latin typeface="新宋体"/>
                <a:ea typeface="新宋体"/>
              </a:rPr>
              <a:t>，时时</a:t>
            </a:r>
            <a:r>
              <a:rPr b="1" lang="zh-CN" sz="2800" spc="-1" strike="noStrike">
                <a:solidFill>
                  <a:srgbClr val="ff3300"/>
                </a:solidFill>
                <a:latin typeface="新宋体"/>
                <a:ea typeface="新宋体"/>
              </a:rPr>
              <a:t>抬头向着远方</a:t>
            </a:r>
            <a:r>
              <a:rPr b="1" lang="zh-CN" sz="2800" spc="-1" strike="noStrike">
                <a:solidFill>
                  <a:srgbClr val="434547"/>
                </a:solidFill>
                <a:latin typeface="新宋体"/>
                <a:ea typeface="新宋体"/>
              </a:rPr>
              <a:t>眺望。云气</a:t>
            </a:r>
            <a:r>
              <a:rPr b="1" lang="zh-CN" sz="2800" spc="-1" strike="noStrike">
                <a:solidFill>
                  <a:srgbClr val="ff3300"/>
                </a:solidFill>
                <a:latin typeface="新宋体"/>
                <a:ea typeface="新宋体"/>
              </a:rPr>
              <a:t>悠闲自在</a:t>
            </a:r>
            <a:r>
              <a:rPr b="1" lang="zh-CN" sz="2800" spc="-1" strike="noStrike">
                <a:solidFill>
                  <a:srgbClr val="434547"/>
                </a:solidFill>
                <a:latin typeface="新宋体"/>
                <a:ea typeface="新宋体"/>
              </a:rPr>
              <a:t>地从</a:t>
            </a:r>
            <a:r>
              <a:rPr b="1" lang="zh-CN" sz="2800" spc="-1" strike="noStrike">
                <a:solidFill>
                  <a:srgbClr val="ff3300"/>
                </a:solidFill>
                <a:latin typeface="新宋体"/>
                <a:ea typeface="新宋体"/>
              </a:rPr>
              <a:t>山穴</a:t>
            </a:r>
            <a:r>
              <a:rPr b="1" lang="zh-CN" sz="2800" spc="-1" strike="noStrike">
                <a:solidFill>
                  <a:srgbClr val="434547"/>
                </a:solidFill>
                <a:latin typeface="新宋体"/>
                <a:ea typeface="新宋体"/>
              </a:rPr>
              <a:t>里飘浮而出，倦飞的小鸟也知道飞回巢中；</a:t>
            </a:r>
            <a:r>
              <a:rPr b="1" lang="zh-CN" sz="2800" spc="-1" strike="noStrike">
                <a:solidFill>
                  <a:srgbClr val="ff3300"/>
                </a:solidFill>
                <a:latin typeface="新宋体"/>
                <a:ea typeface="新宋体"/>
              </a:rPr>
              <a:t>阳光</a:t>
            </a:r>
            <a:r>
              <a:rPr b="1" lang="zh-CN" sz="2800" spc="-1" strike="noStrike">
                <a:solidFill>
                  <a:srgbClr val="434547"/>
                </a:solidFill>
                <a:latin typeface="新宋体"/>
                <a:ea typeface="新宋体"/>
              </a:rPr>
              <a:t>暗淡，太阳即将落山，我手扶着孤松，</a:t>
            </a:r>
            <a:r>
              <a:rPr b="1" lang="zh-CN" sz="2800" spc="-1" strike="noStrike">
                <a:solidFill>
                  <a:srgbClr val="ff3300"/>
                </a:solidFill>
                <a:latin typeface="新宋体"/>
                <a:ea typeface="新宋体"/>
              </a:rPr>
              <a:t>徘徊流连</a:t>
            </a:r>
            <a:r>
              <a:rPr b="1" lang="zh-CN" sz="2800" spc="-1" strike="noStrike">
                <a:solidFill>
                  <a:srgbClr val="434547"/>
                </a:solidFill>
                <a:latin typeface="新宋体"/>
                <a:ea typeface="新宋体"/>
              </a:rPr>
              <a:t>，不忍离去。 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08E2-354E-4DFB-86EC-91B1333C1C6F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F6FE02-C3B9-4283-AC55-A284679062DB}" type="datetime1">
              <a:rPr lang="en-US"/>
              <a:t>07/28/26</a:t>
            </a:fld>
          </a:p>
        </p:txBody>
      </p:sp>
    </p:spTree>
  </p:cSld>
  <p:transition>
    <p:blinds dir="horz"/>
    <p:sndAc>
      <p:stSnd>
        <p:snd r:embed="rId1" name="chimes.wav"/>
      </p:stSnd>
    </p:sndAc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66560" y="2316960"/>
            <a:ext cx="3241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归去来兮，请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息交以绝游</a:t>
            </a:r>
            <a:r>
              <a:rPr b="1" lang="zh-CN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。世与我而相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违</a:t>
            </a:r>
            <a:r>
              <a:rPr b="1" lang="zh-CN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，复驾言兮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焉</a:t>
            </a:r>
            <a:r>
              <a:rPr b="1" lang="zh-CN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求？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悦亲戚</a:t>
            </a:r>
            <a:r>
              <a:rPr b="1" lang="zh-CN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之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情话</a:t>
            </a:r>
            <a:r>
              <a:rPr b="1" lang="zh-CN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乐</a:t>
            </a:r>
            <a:r>
              <a:rPr b="1" lang="zh-CN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琴书以消忧。农人告余以春及，将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有事</a:t>
            </a:r>
            <a:r>
              <a:rPr b="1" lang="zh-CN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于西畴。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或命</a:t>
            </a:r>
            <a:r>
              <a:rPr b="1" lang="zh-CN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巾车，或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棹</a:t>
            </a:r>
            <a:r>
              <a:rPr b="1" lang="zh-CN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孤舟。既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窈窕</a:t>
            </a:r>
            <a:r>
              <a:rPr b="1" lang="zh-CN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以寻壑，亦崎岖而经丘。木欣欣以向荣，泉涓涓而始流。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善</a:t>
            </a:r>
            <a:r>
              <a:rPr b="1" lang="zh-CN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万物之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得时</a:t>
            </a:r>
            <a:r>
              <a:rPr b="1" lang="zh-CN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，感吾生之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行</a:t>
            </a:r>
            <a:r>
              <a:rPr b="1" lang="zh-CN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休。</a:t>
            </a:r>
            <a:r>
              <a:rPr b="0" lang="zh-CN" sz="1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94200" y="2113200"/>
            <a:ext cx="4681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434547"/>
                </a:solidFill>
                <a:latin typeface="Arial"/>
                <a:ea typeface="新宋体"/>
              </a:rPr>
              <a:t>回去吧！让我跟外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新宋体"/>
              </a:rPr>
              <a:t>断绝交游</a:t>
            </a:r>
            <a:r>
              <a:rPr b="1" lang="zh-CN" sz="2800" spc="-1" strike="noStrike">
                <a:solidFill>
                  <a:srgbClr val="434547"/>
                </a:solidFill>
                <a:latin typeface="Arial"/>
                <a:ea typeface="新宋体"/>
              </a:rPr>
              <a:t>。他们都跟我的志趣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新宋体"/>
              </a:rPr>
              <a:t>不合</a:t>
            </a:r>
            <a:r>
              <a:rPr b="1" lang="zh-CN" sz="2800" spc="-1" strike="noStrike">
                <a:solidFill>
                  <a:srgbClr val="434547"/>
                </a:solidFill>
                <a:latin typeface="Arial"/>
                <a:ea typeface="新宋体"/>
              </a:rPr>
              <a:t>，还要驾车出去追求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新宋体"/>
              </a:rPr>
              <a:t>什么</a:t>
            </a:r>
            <a:r>
              <a:rPr b="1" lang="zh-CN" sz="2800" spc="-1" strike="noStrike">
                <a:solidFill>
                  <a:srgbClr val="434547"/>
                </a:solidFill>
                <a:latin typeface="Arial"/>
                <a:ea typeface="新宋体"/>
              </a:rPr>
              <a:t>？跟亲戚朋友说说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新宋体"/>
              </a:rPr>
              <a:t>知心话使我喜悦</a:t>
            </a:r>
            <a:r>
              <a:rPr b="1" lang="zh-CN" sz="2800" spc="-1" strike="noStrike">
                <a:solidFill>
                  <a:srgbClr val="434547"/>
                </a:solidFill>
                <a:latin typeface="Arial"/>
                <a:ea typeface="新宋体"/>
              </a:rPr>
              <a:t>，弹琴读书可以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新宋体"/>
              </a:rPr>
              <a:t>让我快乐</a:t>
            </a:r>
            <a:r>
              <a:rPr b="1" lang="zh-CN" sz="2800" spc="-1" strike="noStrike">
                <a:solidFill>
                  <a:srgbClr val="434547"/>
                </a:solidFill>
                <a:latin typeface="Arial"/>
                <a:ea typeface="新宋体"/>
              </a:rPr>
              <a:t>，消解忧愁； 农夫告诉我春天到了，将要去西边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新宋体"/>
              </a:rPr>
              <a:t>田地耕作</a:t>
            </a:r>
            <a:r>
              <a:rPr b="1" lang="zh-CN" sz="2800" spc="-1" strike="noStrike">
                <a:solidFill>
                  <a:srgbClr val="434547"/>
                </a:solidFill>
                <a:latin typeface="Arial"/>
                <a:ea typeface="新宋体"/>
              </a:rPr>
              <a:t>。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新宋体"/>
              </a:rPr>
              <a:t>有时驾着</a:t>
            </a:r>
            <a:r>
              <a:rPr b="1" lang="zh-CN" sz="2800" spc="-1" strike="noStrike">
                <a:solidFill>
                  <a:srgbClr val="434547"/>
                </a:solidFill>
                <a:latin typeface="Arial"/>
                <a:ea typeface="新宋体"/>
              </a:rPr>
              <a:t>巾车，有时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新宋体"/>
              </a:rPr>
              <a:t>划着</a:t>
            </a:r>
            <a:r>
              <a:rPr b="1" lang="zh-CN" sz="2800" spc="-1" strike="noStrike">
                <a:solidFill>
                  <a:srgbClr val="434547"/>
                </a:solidFill>
                <a:latin typeface="Arial"/>
                <a:ea typeface="新宋体"/>
              </a:rPr>
              <a:t>孤舟，既可以探寻那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新宋体"/>
              </a:rPr>
              <a:t>幽深曲折</a:t>
            </a:r>
            <a:r>
              <a:rPr b="1" lang="zh-CN" sz="2800" spc="-1" strike="noStrike">
                <a:solidFill>
                  <a:srgbClr val="434547"/>
                </a:solidFill>
                <a:latin typeface="Arial"/>
                <a:ea typeface="新宋体"/>
              </a:rPr>
              <a:t>的沟壑，也可以走过那道路崎岖的山丘。树木欣欣向荣，泉水涓涓而流，我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新宋体"/>
              </a:rPr>
              <a:t>羡慕</a:t>
            </a:r>
            <a:r>
              <a:rPr b="1" lang="zh-CN" sz="2800" spc="-1" strike="noStrike">
                <a:solidFill>
                  <a:srgbClr val="434547"/>
                </a:solidFill>
                <a:latin typeface="Arial"/>
                <a:ea typeface="新宋体"/>
              </a:rPr>
              <a:t>万物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新宋体"/>
              </a:rPr>
              <a:t>各得其时</a:t>
            </a:r>
            <a:r>
              <a:rPr b="1" lang="zh-CN" sz="2800" spc="-1" strike="noStrike">
                <a:solidFill>
                  <a:srgbClr val="434547"/>
                </a:solidFill>
                <a:latin typeface="Arial"/>
                <a:ea typeface="新宋体"/>
              </a:rPr>
              <a:t>，感叹自己一生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新宋体"/>
              </a:rPr>
              <a:t>将要</a:t>
            </a:r>
            <a:r>
              <a:rPr b="1" lang="zh-CN" sz="2800" spc="-1" strike="noStrike">
                <a:solidFill>
                  <a:srgbClr val="434547"/>
                </a:solidFill>
                <a:latin typeface="Arial"/>
                <a:ea typeface="新宋体"/>
              </a:rPr>
              <a:t>结束。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8369-BFAC-47B9-AAD7-39CCAB065F71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582A4D-6EBB-4482-AA53-D71D7D063563}" type="datetime1">
              <a:rPr lang="en-US"/>
              <a:t>07/28/26</a:t>
            </a:fld>
          </a:p>
        </p:txBody>
      </p:sp>
    </p:spTree>
  </p:cSld>
  <p:transition>
    <p:blinds dir="horz"/>
    <p:sndAc>
      <p:stSnd>
        <p:snd r:embed="rId1" name="chimes.wav"/>
      </p:stSnd>
    </p:sndAc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93840" y="2408040"/>
            <a:ext cx="367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434547"/>
                </a:solidFill>
                <a:latin typeface="Arial"/>
                <a:ea typeface="楷体_GB2312"/>
              </a:rPr>
              <a:t>已矣乎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寓形宇内</a:t>
            </a:r>
            <a:r>
              <a:rPr b="1" lang="zh-CN" sz="3200" spc="-1" strike="noStrike">
                <a:solidFill>
                  <a:srgbClr val="434547"/>
                </a:solidFill>
                <a:latin typeface="Arial"/>
                <a:ea typeface="楷体_GB2312"/>
              </a:rPr>
              <a:t>复几时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曷</a:t>
            </a:r>
            <a:r>
              <a:rPr b="1" lang="zh-CN" sz="3200" spc="-1" strike="noStrike">
                <a:solidFill>
                  <a:srgbClr val="434547"/>
                </a:solidFill>
                <a:latin typeface="Arial"/>
                <a:ea typeface="楷体_GB2312"/>
              </a:rPr>
              <a:t>不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委心</a:t>
            </a:r>
            <a:r>
              <a:rPr b="1" lang="zh-CN" sz="3200" spc="-1" strike="noStrike">
                <a:solidFill>
                  <a:srgbClr val="434547"/>
                </a:solidFill>
                <a:latin typeface="Arial"/>
                <a:ea typeface="楷体_GB2312"/>
              </a:rPr>
              <a:t>任去留？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胡为</a:t>
            </a:r>
            <a:r>
              <a:rPr b="1" lang="zh-CN" sz="3200" spc="-1" strike="noStrike">
                <a:solidFill>
                  <a:srgbClr val="434547"/>
                </a:solidFill>
                <a:latin typeface="Arial"/>
                <a:ea typeface="楷体_GB2312"/>
              </a:rPr>
              <a:t>乎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遑遑</a:t>
            </a:r>
            <a:r>
              <a:rPr b="1" lang="zh-CN" sz="3200" spc="-1" strike="noStrike">
                <a:solidFill>
                  <a:srgbClr val="434547"/>
                </a:solidFill>
                <a:latin typeface="Arial"/>
                <a:ea typeface="楷体_GB2312"/>
              </a:rPr>
              <a:t>欲何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之</a:t>
            </a:r>
            <a:r>
              <a:rPr b="1" lang="zh-CN" sz="3200" spc="-1" strike="noStrike">
                <a:solidFill>
                  <a:srgbClr val="434547"/>
                </a:solidFill>
                <a:latin typeface="Arial"/>
                <a:ea typeface="楷体_GB2312"/>
              </a:rPr>
              <a:t>？富贵非吾愿，帝乡不可期。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怀</a:t>
            </a:r>
            <a:r>
              <a:rPr b="1" lang="zh-CN" sz="3200" spc="-1" strike="noStrike">
                <a:solidFill>
                  <a:srgbClr val="434547"/>
                </a:solidFill>
                <a:latin typeface="Arial"/>
                <a:ea typeface="楷体_GB2312"/>
              </a:rPr>
              <a:t>良辰以孤往，或植杖而耘耔。登东皋以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舒啸</a:t>
            </a:r>
            <a:r>
              <a:rPr b="1" lang="zh-CN" sz="3200" spc="-1" strike="noStrike">
                <a:solidFill>
                  <a:srgbClr val="434547"/>
                </a:solidFill>
                <a:latin typeface="Arial"/>
                <a:ea typeface="楷体_GB2312"/>
              </a:rPr>
              <a:t>，临清流而赋诗。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聊乘化</a:t>
            </a:r>
            <a:r>
              <a:rPr b="1" lang="zh-CN" sz="3200" spc="-1" strike="noStrike">
                <a:solidFill>
                  <a:srgbClr val="434547"/>
                </a:solidFill>
                <a:latin typeface="Arial"/>
                <a:ea typeface="楷体_GB2312"/>
              </a:rPr>
              <a:t>以归尽，乐夫天命复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奚疑</a:t>
            </a:r>
            <a:r>
              <a:rPr b="1" lang="zh-CN" sz="3200" spc="-1" strike="noStrike">
                <a:solidFill>
                  <a:srgbClr val="434547"/>
                </a:solidFill>
                <a:latin typeface="Arial"/>
                <a:ea typeface="楷体_GB2312"/>
              </a:rPr>
              <a:t>！</a:t>
            </a:r>
            <a:r>
              <a:rPr b="1" lang="zh-CN" sz="3200" spc="-1" strike="noStrike">
                <a:solidFill>
                  <a:srgbClr val="43454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40360" y="2102760"/>
            <a:ext cx="475272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算了吧！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寄身于天地之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还能有多少时候？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随心所欲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听凭自然地生死？</a:t>
            </a:r>
            <a:r>
              <a:rPr b="1" lang="zh-CN" sz="2800" spc="-1" strike="noStrike">
                <a:solidFill>
                  <a:srgbClr val="434547"/>
                </a:solidFill>
                <a:latin typeface="新宋体"/>
                <a:ea typeface="新宋体"/>
              </a:rPr>
              <a:t>为什么</a:t>
            </a:r>
            <a:r>
              <a:rPr b="1" lang="zh-CN" sz="2800" spc="-1" strike="noStrike">
                <a:solidFill>
                  <a:srgbClr val="ff3300"/>
                </a:solidFill>
                <a:latin typeface="新宋体"/>
                <a:ea typeface="新宋体"/>
              </a:rPr>
              <a:t>心神不定，</a:t>
            </a:r>
            <a:r>
              <a:rPr b="1" lang="zh-CN" sz="2800" spc="-1" strike="noStrike">
                <a:solidFill>
                  <a:srgbClr val="434547"/>
                </a:solidFill>
                <a:latin typeface="新宋体"/>
                <a:ea typeface="新宋体"/>
              </a:rPr>
              <a:t>还想</a:t>
            </a:r>
            <a:r>
              <a:rPr b="1" lang="zh-CN" sz="2800" spc="-1" strike="noStrike">
                <a:solidFill>
                  <a:srgbClr val="ff3300"/>
                </a:solidFill>
                <a:latin typeface="新宋体"/>
                <a:ea typeface="新宋体"/>
              </a:rPr>
              <a:t>去</a:t>
            </a:r>
            <a:r>
              <a:rPr b="1" lang="zh-CN" sz="2800" spc="-1" strike="noStrike">
                <a:solidFill>
                  <a:srgbClr val="434547"/>
                </a:solidFill>
                <a:latin typeface="新宋体"/>
                <a:ea typeface="新宋体"/>
              </a:rPr>
              <a:t>什么地方？富贵不是我之所求，升入仙界也没有希望。</a:t>
            </a:r>
            <a:r>
              <a:rPr b="1" lang="zh-CN" sz="2800" spc="-1" strike="noStrike">
                <a:solidFill>
                  <a:srgbClr val="ff3300"/>
                </a:solidFill>
                <a:latin typeface="新宋体"/>
                <a:ea typeface="新宋体"/>
              </a:rPr>
              <a:t>爱惜</a:t>
            </a:r>
            <a:r>
              <a:rPr b="1" lang="zh-CN" sz="2800" spc="-1" strike="noStrike">
                <a:solidFill>
                  <a:srgbClr val="434547"/>
                </a:solidFill>
                <a:latin typeface="新宋体"/>
                <a:ea typeface="新宋体"/>
              </a:rPr>
              <a:t>美好的时光，我独自外出，有时扶杖除草助苗长。登上东边山坡我</a:t>
            </a:r>
            <a:r>
              <a:rPr b="1" lang="zh-CN" sz="2800" spc="-1" strike="noStrike">
                <a:solidFill>
                  <a:srgbClr val="ff3300"/>
                </a:solidFill>
                <a:latin typeface="新宋体"/>
                <a:ea typeface="新宋体"/>
              </a:rPr>
              <a:t>放声长啸</a:t>
            </a:r>
            <a:r>
              <a:rPr b="1" lang="zh-CN" sz="2800" spc="-1" strike="noStrike">
                <a:solidFill>
                  <a:srgbClr val="434547"/>
                </a:solidFill>
                <a:latin typeface="新宋体"/>
                <a:ea typeface="新宋体"/>
              </a:rPr>
              <a:t>，面对着清清的溪流把诗歌吟唱；</a:t>
            </a:r>
            <a:r>
              <a:rPr b="1" lang="zh-CN" sz="2800" spc="-1" strike="noStrike">
                <a:solidFill>
                  <a:srgbClr val="ff3300"/>
                </a:solidFill>
                <a:latin typeface="新宋体"/>
                <a:ea typeface="新宋体"/>
              </a:rPr>
              <a:t>姑且顺应自然的变化</a:t>
            </a:r>
            <a:r>
              <a:rPr b="1" lang="zh-CN" sz="2800" spc="-1" strike="noStrike">
                <a:solidFill>
                  <a:srgbClr val="434547"/>
                </a:solidFill>
                <a:latin typeface="新宋体"/>
                <a:ea typeface="新宋体"/>
              </a:rPr>
              <a:t>度到生命的尽头，以天命为乐，还</a:t>
            </a:r>
            <a:r>
              <a:rPr b="1" lang="zh-CN" sz="2800" spc="-1" strike="noStrike">
                <a:solidFill>
                  <a:srgbClr val="ff3300"/>
                </a:solidFill>
                <a:latin typeface="新宋体"/>
                <a:ea typeface="新宋体"/>
              </a:rPr>
              <a:t>犹疑彷徨什么</a:t>
            </a:r>
            <a:r>
              <a:rPr b="1" lang="zh-CN" sz="2800" spc="-1" strike="noStrike">
                <a:solidFill>
                  <a:srgbClr val="434547"/>
                </a:solidFill>
                <a:latin typeface="新宋体"/>
                <a:ea typeface="新宋体"/>
              </a:rPr>
              <a:t>呢？ 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7D20-AA98-4BB9-8ACF-80F06129D95A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8B118C-DACC-4AEE-B831-038EDF246862}" type="datetime1">
              <a:rPr lang="en-US"/>
              <a:t>07/28/26</a:t>
            </a:fld>
          </a:p>
        </p:txBody>
      </p:sp>
    </p:spTree>
  </p:cSld>
  <p:transition>
    <p:blinds dir="horz"/>
    <p:sndAc>
      <p:stSnd>
        <p:snd r:embed="rId1" name="chimes.wav"/>
      </p:stSnd>
    </p:sndAc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36520" y="271440"/>
            <a:ext cx="865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黑体"/>
              </a:rPr>
              <a:t>　　</a:t>
            </a:r>
            <a:endParaRPr b="0" lang="en-US" sz="30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0" y="242712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新魏"/>
              </a:rPr>
              <a:t>闲适生活</a:t>
            </a:r>
            <a:endParaRPr b="0" lang="en-US" sz="40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0" y="425916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新魏"/>
              </a:rPr>
              <a:t>隐逸情怀</a:t>
            </a:r>
            <a:endParaRPr b="0" lang="en-US" sz="40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543708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新魏"/>
              </a:rPr>
              <a:t>乐天知命</a:t>
            </a:r>
            <a:endParaRPr b="0" lang="en-US" sz="40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765760" y="9158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居室</a:t>
            </a:r>
            <a:endParaRPr b="0" lang="en-US" sz="36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65760" y="238608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田园</a:t>
            </a:r>
            <a:endParaRPr b="0" lang="en-US" sz="36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65760" y="351468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人情</a:t>
            </a:r>
            <a:endParaRPr b="0" lang="en-US" sz="36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765760" y="4626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农事</a:t>
            </a:r>
            <a:endParaRPr b="0" lang="en-US" sz="36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460840" y="3938760"/>
            <a:ext cx="193680" cy="2232000"/>
          </a:xfrm>
          <a:custGeom>
            <a:avLst/>
            <a:gdLst>
              <a:gd name="textAreaLeft" fmla="*/ 123840 w 193680"/>
              <a:gd name="textAreaRight" fmla="*/ 194040 w 19368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60680" y="1576440"/>
            <a:ext cx="288720" cy="4275000"/>
          </a:xfrm>
          <a:custGeom>
            <a:avLst/>
            <a:gdLst>
              <a:gd name="textAreaLeft" fmla="*/ 184680 w 288720"/>
              <a:gd name="textAreaRight" fmla="*/ 289080 w 288720"/>
              <a:gd name="textAreaTop" fmla="*/ 111240 h 4275000"/>
              <a:gd name="textAreaBottom" fmla="*/ 4163760 h 427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3760" y="195120"/>
            <a:ext cx="1655640" cy="863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34547"/>
                </a:solidFill>
                <a:latin typeface="华文行楷"/>
                <a:ea typeface="华文行楷"/>
              </a:rPr>
              <a:t>思路</a:t>
            </a:r>
            <a:endParaRPr b="0" lang="en-US" sz="5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765760" y="573876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出游</a:t>
            </a:r>
            <a:endParaRPr b="0" lang="en-US" sz="36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113184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新魏"/>
              </a:rPr>
              <a:t>呼唤归去</a:t>
            </a:r>
            <a:endParaRPr b="0" lang="en-US" sz="40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10160" y="1274760"/>
            <a:ext cx="120600" cy="1511280"/>
          </a:xfrm>
          <a:custGeom>
            <a:avLst/>
            <a:gdLst>
              <a:gd name="textAreaLeft" fmla="*/ 77040 w 120600"/>
              <a:gd name="textAreaRight" fmla="*/ 120960 w 12060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434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4495680" y="2066400"/>
            <a:ext cx="863640" cy="360360"/>
          </a:xfrm>
          <a:prstGeom prst="line">
            <a:avLst/>
          </a:prstGeom>
          <a:ln w="25560">
            <a:solidFill>
              <a:srgbClr val="4345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716360" y="4797360"/>
            <a:ext cx="719280" cy="289080"/>
          </a:xfrm>
          <a:prstGeom prst="line">
            <a:avLst/>
          </a:prstGeom>
          <a:ln w="25560">
            <a:solidFill>
              <a:srgbClr val="4345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8880" y="2149560"/>
            <a:ext cx="804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归 </a:t>
            </a:r>
            <a:endParaRPr b="0" lang="en-US" sz="4000" spc="-1" strike="noStrike">
              <a:solidFill>
                <a:srgbClr val="43454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去 </a:t>
            </a:r>
            <a:endParaRPr b="0" lang="en-US" sz="4000" spc="-1" strike="noStrike">
              <a:solidFill>
                <a:srgbClr val="43454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来 </a:t>
            </a:r>
            <a:endParaRPr b="0" lang="en-US" sz="4000" spc="-1" strike="noStrike">
              <a:solidFill>
                <a:srgbClr val="43454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兮 </a:t>
            </a:r>
            <a:endParaRPr b="0" lang="en-US" sz="4000" spc="-1" strike="noStrike">
              <a:solidFill>
                <a:srgbClr val="43454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辞</a:t>
            </a:r>
            <a:endParaRPr b="0" lang="en-US" sz="40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E97A-44F8-4AB7-85DE-816260B5A3E5}" type="slidenum">
              <a:t>2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06E206-A7F4-4552-8596-6EDD886AB515}" type="datetime1">
              <a:rPr lang="en-US"/>
              <a:t>07/28/26</a:t>
            </a:fld>
          </a:p>
        </p:txBody>
      </p:sp>
    </p:spTree>
  </p:cSld>
  <p:transition>
    <p:blinds dir="horz"/>
    <p:sndAc>
      <p:stSnd>
        <p:snd r:embed="rId1" name="chimes.wav"/>
      </p:stSnd>
    </p:sndAc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952560" y="1557360"/>
            <a:ext cx="239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34547"/>
                </a:solidFill>
                <a:latin typeface="Arial"/>
                <a:ea typeface="华文隶书"/>
              </a:rPr>
              <a:t>自责自悔</a:t>
            </a:r>
            <a:endParaRPr b="0" lang="en-US" sz="4000" spc="-1" strike="noStrike">
              <a:solidFill>
                <a:srgbClr val="43454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华文隶书"/>
              </a:rPr>
              <a:t>  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华文隶书"/>
              </a:rPr>
              <a:t>（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  <a:ea typeface="华文隶书"/>
              </a:rPr>
              <a:t>1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华文隶书"/>
              </a:rPr>
              <a:t>段）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33320" y="3429000"/>
            <a:ext cx="28306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34547"/>
                </a:solidFill>
                <a:latin typeface="Arial"/>
                <a:ea typeface="华文隶书"/>
              </a:rPr>
              <a:t>  </a:t>
            </a:r>
            <a:r>
              <a:rPr b="1" lang="zh-CN" sz="4000" spc="-1" strike="noStrike">
                <a:solidFill>
                  <a:srgbClr val="434547"/>
                </a:solidFill>
                <a:latin typeface="Arial"/>
                <a:ea typeface="华文隶书"/>
              </a:rPr>
              <a:t>自安自乐</a:t>
            </a:r>
            <a:endParaRPr b="0" lang="en-US" sz="4000" spc="-1" strike="noStrike">
              <a:solidFill>
                <a:srgbClr val="43454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华文隶书"/>
              </a:rPr>
              <a:t>    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华文隶书"/>
              </a:rPr>
              <a:t>（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  <a:ea typeface="华文隶书"/>
              </a:rPr>
              <a:t>2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华文隶书"/>
              </a:rPr>
              <a:t>、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  <a:ea typeface="华文隶书"/>
              </a:rPr>
              <a:t>3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华文隶书"/>
              </a:rPr>
              <a:t>段）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15920" y="4941720"/>
            <a:ext cx="3124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34547"/>
                </a:solidFill>
                <a:latin typeface="Arial"/>
                <a:ea typeface="华文隶书"/>
              </a:rPr>
              <a:t>乐天安命</a:t>
            </a:r>
            <a:endParaRPr b="0" lang="en-US" sz="4000" spc="-1" strike="noStrike">
              <a:solidFill>
                <a:srgbClr val="43454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华文隶书"/>
              </a:rPr>
              <a:t>    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华文隶书"/>
              </a:rPr>
              <a:t>（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  <a:ea typeface="华文隶书"/>
              </a:rPr>
              <a:t>4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华文隶书"/>
              </a:rPr>
              <a:t>段）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882800" y="289080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d09200"/>
          </a:solidFill>
          <a:ln cap="sq" w="12600">
            <a:solidFill>
              <a:srgbClr val="434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882800" y="450864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d09200"/>
          </a:solidFill>
          <a:ln cap="sq" w="12600">
            <a:solidFill>
              <a:srgbClr val="434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34547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726000" y="24382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34547"/>
                </a:solidFill>
                <a:latin typeface="Arial"/>
                <a:ea typeface="华文隶书"/>
              </a:rPr>
              <a:t>居家之乐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华文隶书"/>
              </a:rPr>
              <a:t>（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  <a:ea typeface="华文隶书"/>
              </a:rPr>
              <a:t>2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华文隶书"/>
              </a:rPr>
              <a:t>段）</a:t>
            </a:r>
            <a:endParaRPr b="0" lang="en-US" sz="36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726000" y="386064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34547"/>
                </a:solidFill>
                <a:latin typeface="Arial"/>
                <a:ea typeface="华文隶书"/>
              </a:rPr>
              <a:t>田园之乐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华文隶书"/>
              </a:rPr>
              <a:t>（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  <a:ea typeface="华文隶书"/>
              </a:rPr>
              <a:t>3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华文隶书"/>
              </a:rPr>
              <a:t>段）</a:t>
            </a:r>
            <a:endParaRPr b="0" lang="en-US" sz="36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32040" y="2747880"/>
            <a:ext cx="76320" cy="1905120"/>
          </a:xfrm>
          <a:custGeom>
            <a:avLst/>
            <a:gdLst>
              <a:gd name="textAreaLeft" fmla="*/ 22320 w 76320"/>
              <a:gd name="textAreaRight" fmla="*/ 76320 w 76320"/>
              <a:gd name="textAreaTop" fmla="*/ 79200 h 1905120"/>
              <a:gd name="textAreaBottom" fmla="*/ 182592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434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867280" y="17002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Arial"/>
                <a:ea typeface="华文隶书"/>
              </a:rPr>
              <a:t>室中之乐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904000" y="292104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Arial"/>
                <a:ea typeface="华文隶书"/>
              </a:rPr>
              <a:t>园中之乐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2057400"/>
            <a:ext cx="75960" cy="1219320"/>
          </a:xfrm>
          <a:custGeom>
            <a:avLst/>
            <a:gdLst>
              <a:gd name="textAreaLeft" fmla="*/ 22320 w 75960"/>
              <a:gd name="textAreaRight" fmla="*/ 76320 w 75960"/>
              <a:gd name="textAreaTop" fmla="*/ 50760 h 1219320"/>
              <a:gd name="textAreaBottom" fmla="*/ 116856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434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27720" y="620640"/>
            <a:ext cx="16437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感情线索</a:t>
            </a:r>
            <a:endParaRPr b="0" lang="en-US" sz="4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64200" y="3938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424920" y="3879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Arial"/>
              </a:rPr>
              <a:t>人情之乐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24920" y="4529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Arial"/>
              </a:rPr>
              <a:t>农事之乐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445440" y="5157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Arial"/>
              </a:rPr>
              <a:t>出游之乐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940360" y="4076640"/>
            <a:ext cx="71640" cy="1368360"/>
          </a:xfrm>
          <a:custGeom>
            <a:avLst/>
            <a:gdLst>
              <a:gd name="textAreaLeft" fmla="*/ 20880 w 71640"/>
              <a:gd name="textAreaRight" fmla="*/ 72000 w 71640"/>
              <a:gd name="textAreaTop" fmla="*/ 56880 h 1368360"/>
              <a:gd name="textAreaBottom" fmla="*/ 131148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434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5FD8-E45B-4603-81C5-34070E356F6E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181B19-62D1-499E-86EB-6D527CCCD31C}" type="datetime1">
              <a:rPr lang="en-US"/>
              <a:t>07/28/26</a:t>
            </a:fld>
          </a:p>
        </p:txBody>
      </p:sp>
    </p:spTree>
  </p:cSld>
  <p:transition>
    <p:blinds dir="horz"/>
    <p:sndAc>
      <p:stSnd>
        <p:snd r:embed="rId3" name="chimes.wav"/>
      </p:stSnd>
    </p:sndAc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556000" y="333360"/>
            <a:ext cx="3456000" cy="1440000"/>
          </a:xfrm>
          <a:prstGeom prst="cloudCallout">
            <a:avLst>
              <a:gd name="adj1" fmla="val 24277"/>
              <a:gd name="adj2" fmla="val 80319"/>
            </a:avLst>
          </a:prstGeom>
          <a:solidFill>
            <a:srgbClr val="d09200"/>
          </a:solidFill>
          <a:ln w="9360">
            <a:solidFill>
              <a:srgbClr val="434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674880" y="54936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Arial"/>
                <a:ea typeface="华文新魏"/>
              </a:rPr>
              <a:t>归去之因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Arial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434547"/>
                </a:solidFill>
                <a:latin typeface="Arial"/>
                <a:ea typeface="华文新魏"/>
              </a:rPr>
              <a:t>（序）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195640" y="2276640"/>
            <a:ext cx="4680000" cy="20160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434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34547"/>
                </a:solidFill>
                <a:latin typeface="Arial"/>
              </a:rPr>
              <a:t>归去来兮辞    并序</a:t>
            </a:r>
            <a:endParaRPr b="0" lang="en-US" sz="36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3789360"/>
            <a:ext cx="2305080" cy="1728720"/>
          </a:xfrm>
          <a:prstGeom prst="wedgeEllipseCallout">
            <a:avLst>
              <a:gd name="adj1" fmla="val 59777"/>
              <a:gd name="adj2" fmla="val -44583"/>
            </a:avLst>
          </a:prstGeom>
          <a:solidFill>
            <a:srgbClr val="d09200"/>
          </a:solidFill>
          <a:ln w="9360">
            <a:solidFill>
              <a:srgbClr val="434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4005360"/>
            <a:ext cx="181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434547"/>
                </a:solidFill>
                <a:latin typeface="隶书"/>
                <a:ea typeface="隶书"/>
              </a:rPr>
              <a:t>决意归去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434547"/>
                </a:solidFill>
                <a:latin typeface="隶书"/>
                <a:ea typeface="隶书"/>
              </a:rPr>
              <a:t>心情迫切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434547"/>
                </a:solidFill>
                <a:latin typeface="隶书"/>
                <a:ea typeface="隶书"/>
              </a:rPr>
              <a:t>（</a:t>
            </a:r>
            <a:r>
              <a:rPr b="1" lang="en-US" sz="2800" spc="-1" strike="noStrike">
                <a:solidFill>
                  <a:srgbClr val="434547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434547"/>
                </a:solidFill>
                <a:latin typeface="隶书"/>
                <a:ea typeface="隶书"/>
              </a:rPr>
              <a:t>）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24000" y="4581360"/>
            <a:ext cx="2303640" cy="1657440"/>
          </a:xfrm>
          <a:prstGeom prst="wedgeEllipseCallout">
            <a:avLst>
              <a:gd name="adj1" fmla="val 27120"/>
              <a:gd name="adj2" fmla="val -65037"/>
            </a:avLst>
          </a:prstGeom>
          <a:solidFill>
            <a:srgbClr val="d09200"/>
          </a:solidFill>
          <a:ln w="9360">
            <a:solidFill>
              <a:srgbClr val="434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645280" y="4653000"/>
            <a:ext cx="1290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隶书"/>
                <a:ea typeface="隶书"/>
              </a:rPr>
              <a:t>归家怡然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隶书"/>
                <a:ea typeface="隶书"/>
              </a:rPr>
              <a:t>田园之乐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434547"/>
                </a:solidFill>
                <a:latin typeface="隶书"/>
                <a:ea typeface="隶书"/>
              </a:rPr>
              <a:t>（</a:t>
            </a:r>
            <a:r>
              <a:rPr b="1" lang="en-US" sz="2800" spc="-1" strike="noStrike">
                <a:solidFill>
                  <a:srgbClr val="434547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434547"/>
                </a:solidFill>
                <a:latin typeface="隶书"/>
                <a:ea typeface="隶书"/>
              </a:rPr>
              <a:t>）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0" y="4508640"/>
            <a:ext cx="2158920" cy="1728720"/>
          </a:xfrm>
          <a:prstGeom prst="wedgeEllipseCallout">
            <a:avLst>
              <a:gd name="adj1" fmla="val -4115"/>
              <a:gd name="adj2" fmla="val -68180"/>
            </a:avLst>
          </a:prstGeom>
          <a:solidFill>
            <a:srgbClr val="d09200"/>
          </a:solidFill>
          <a:ln w="9360">
            <a:solidFill>
              <a:srgbClr val="434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020200" y="4653000"/>
            <a:ext cx="1290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隶书"/>
                <a:ea typeface="隶书"/>
              </a:rPr>
              <a:t>人情淳美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隶书"/>
                <a:ea typeface="隶书"/>
              </a:rPr>
              <a:t>出游愉悦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434547"/>
                </a:solidFill>
                <a:latin typeface="隶书"/>
                <a:ea typeface="隶书"/>
              </a:rPr>
              <a:t>（</a:t>
            </a:r>
            <a:r>
              <a:rPr b="1" lang="en-US" sz="2800" spc="-1" strike="noStrike">
                <a:solidFill>
                  <a:srgbClr val="434547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434547"/>
                </a:solidFill>
                <a:latin typeface="隶书"/>
                <a:ea typeface="隶书"/>
              </a:rPr>
              <a:t>）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77080" y="3789360"/>
            <a:ext cx="2016000" cy="1871640"/>
          </a:xfrm>
          <a:prstGeom prst="wedgeEllipseCallout">
            <a:avLst>
              <a:gd name="adj1" fmla="val -74564"/>
              <a:gd name="adj2" fmla="val -40328"/>
            </a:avLst>
          </a:prstGeom>
          <a:solidFill>
            <a:srgbClr val="d09200"/>
          </a:solidFill>
          <a:ln w="9360">
            <a:solidFill>
              <a:srgbClr val="4345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254000" y="4149720"/>
            <a:ext cx="1290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隶书"/>
                <a:ea typeface="隶书"/>
              </a:rPr>
              <a:t>感悟人生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隶书"/>
                <a:ea typeface="隶书"/>
              </a:rPr>
              <a:t>乐天安命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434547"/>
                </a:solidFill>
                <a:latin typeface="隶书"/>
                <a:ea typeface="隶书"/>
              </a:rPr>
              <a:t>（</a:t>
            </a:r>
            <a:r>
              <a:rPr b="1" lang="en-US" sz="2800" spc="-1" strike="noStrike">
                <a:solidFill>
                  <a:srgbClr val="434547"/>
                </a:solidFill>
                <a:latin typeface="隶书"/>
                <a:ea typeface="隶书"/>
              </a:rPr>
              <a:t>4</a:t>
            </a:r>
            <a:r>
              <a:rPr b="1" lang="zh-CN" sz="2800" spc="-1" strike="noStrike">
                <a:solidFill>
                  <a:srgbClr val="434547"/>
                </a:solidFill>
                <a:latin typeface="隶书"/>
                <a:ea typeface="隶书"/>
              </a:rPr>
              <a:t>）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58C9-1217-46DB-A9B9-6F56EE1A2C91}" type="slidenum">
              <a:t>2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8D4621-D1BC-4958-8BFB-F87CCBE8B06C}" type="datetime1">
              <a:rPr lang="en-US"/>
              <a:t>07/28/26</a:t>
            </a:fld>
          </a:p>
        </p:txBody>
      </p:sp>
    </p:spTree>
  </p:cSld>
  <p:transition>
    <p:blinds dir="horz"/>
    <p:sndAc>
      <p:stSnd>
        <p:snd r:embed="rId1" name="chimes.wav"/>
      </p:stSnd>
    </p:sndAc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381880" y="0"/>
            <a:ext cx="762120" cy="7239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24000" y="260280"/>
            <a:ext cx="2879640" cy="730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 Black"/>
                <a:ea typeface="华文新魏"/>
              </a:rPr>
              <a:t>问题探究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31640" y="1341360"/>
            <a:ext cx="8317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90000"/>
              </a:lnSpc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方正舒体"/>
                <a:ea typeface="方正舒体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方正舒体"/>
                <a:ea typeface="方正舒体"/>
              </a:rPr>
              <a:t>陶渊明为什么要选择一条归隐田园的道路？</a:t>
            </a:r>
            <a:endParaRPr b="0" lang="en-US" sz="36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4360" y="2708280"/>
            <a:ext cx="7993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隶书"/>
                <a:ea typeface="隶书"/>
              </a:rPr>
              <a:t>  </a:t>
            </a:r>
            <a:r>
              <a:rPr b="1" lang="en-US" sz="3200" spc="-1" strike="noStrike">
                <a:solidFill>
                  <a:srgbClr val="434547"/>
                </a:solidFill>
                <a:latin typeface="隶书"/>
                <a:ea typeface="隶书"/>
              </a:rPr>
              <a:t>1.</a:t>
            </a:r>
            <a:r>
              <a:rPr b="1" lang="zh-CN" sz="3200" spc="-1" strike="noStrike">
                <a:solidFill>
                  <a:srgbClr val="434547"/>
                </a:solidFill>
                <a:latin typeface="隶书"/>
                <a:ea typeface="隶书"/>
              </a:rPr>
              <a:t>作者不愿与世俗同流合污，向往恬静的田园生活。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隶书"/>
                <a:ea typeface="隶书"/>
              </a:rPr>
              <a:t>  </a:t>
            </a:r>
            <a:r>
              <a:rPr b="1" lang="en-US" sz="3200" spc="-1" strike="noStrike">
                <a:solidFill>
                  <a:srgbClr val="434547"/>
                </a:solidFill>
                <a:latin typeface="隶书"/>
                <a:ea typeface="隶书"/>
              </a:rPr>
              <a:t>2.</a:t>
            </a:r>
            <a:r>
              <a:rPr b="1" lang="zh-CN" sz="3200" spc="-1" strike="noStrike">
                <a:solidFill>
                  <a:srgbClr val="434547"/>
                </a:solidFill>
                <a:latin typeface="隶书"/>
                <a:ea typeface="隶书"/>
              </a:rPr>
              <a:t>在当时的现实条件下，作者既不愿卖身求荣，又不愿服食求仙，顺乎自然、乘化而归就是一种必然的选择。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隶书"/>
                <a:ea typeface="隶书"/>
              </a:rPr>
              <a:t>  </a:t>
            </a:r>
            <a:r>
              <a:rPr b="1" lang="en-US" sz="3200" spc="-1" strike="noStrike">
                <a:solidFill>
                  <a:srgbClr val="434547"/>
                </a:solidFill>
                <a:latin typeface="隶书"/>
                <a:ea typeface="隶书"/>
              </a:rPr>
              <a:t>3.</a:t>
            </a:r>
            <a:r>
              <a:rPr b="1" lang="zh-CN" sz="3200" spc="-1" strike="noStrike">
                <a:solidFill>
                  <a:srgbClr val="434547"/>
                </a:solidFill>
                <a:latin typeface="隶书"/>
                <a:ea typeface="隶书"/>
              </a:rPr>
              <a:t>作者显然是经过大彻大悟之后才作此决定的。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17CC-2CEE-46A5-80D4-758329AFA8A4}" type="slidenum">
              <a:t>2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D61041-B084-404C-817C-C7787C6479CA}" type="datetime1">
              <a:rPr lang="en-US"/>
              <a:t>07/28/26</a:t>
            </a:fld>
          </a:p>
        </p:txBody>
      </p:sp>
    </p:spTree>
  </p:cSld>
  <p:transition>
    <p:blinds dir="horz"/>
    <p:sndAc>
      <p:stSnd>
        <p:snd r:embed="rId3" name="chimes.wav"/>
      </p:stSnd>
    </p:sndAc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469800" y="2122560"/>
            <a:ext cx="784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34547"/>
                </a:solidFill>
                <a:latin typeface="Tahoma"/>
                <a:ea typeface="华文新魏"/>
              </a:rPr>
              <a:t>     </a:t>
            </a:r>
            <a:r>
              <a:rPr b="1" lang="zh-CN" sz="4400" spc="-1" strike="noStrike">
                <a:solidFill>
                  <a:srgbClr val="434547"/>
                </a:solidFill>
                <a:latin typeface="Tahoma"/>
                <a:ea typeface="华文新魏"/>
              </a:rPr>
              <a:t>有人认为：结尾一句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华文隶书"/>
              </a:rPr>
              <a:t>聊乘化以归尽，乐夫天命复奚疑？”</a:t>
            </a:r>
            <a:r>
              <a:rPr b="1" lang="zh-CN" sz="4400" spc="-1" strike="noStrike">
                <a:solidFill>
                  <a:srgbClr val="434547"/>
                </a:solidFill>
                <a:latin typeface="Tahoma"/>
                <a:ea typeface="华文新魏"/>
              </a:rPr>
              <a:t>包含着悲观消极的思想，请谈谈你的看法。</a:t>
            </a:r>
            <a:endParaRPr b="0" lang="en-US" sz="4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4000" y="260280"/>
            <a:ext cx="2879640" cy="730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 Black"/>
                <a:ea typeface="华文新魏"/>
              </a:rPr>
              <a:t>问题探究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8381880" y="0"/>
            <a:ext cx="762120" cy="723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0D88-24D6-4F89-B3F5-F2374DC6EB39}" type="slidenum">
              <a:t>2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667847-B040-42E5-9AEF-8985AFA0C84D}" type="datetime1">
              <a:rPr lang="en-US"/>
              <a:t>07/28/26</a:t>
            </a:fld>
          </a:p>
        </p:txBody>
      </p:sp>
    </p:spTree>
  </p:cSld>
  <p:transition>
    <p:blinds dir="horz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3978360"/>
            <a:ext cx="5761080" cy="28796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72360" y="0"/>
            <a:ext cx="277164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84360" y="333360"/>
            <a:ext cx="41749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Arial"/>
              </a:rPr>
              <a:t>读山海经      陶渊明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434547"/>
                </a:solidFill>
                <a:latin typeface="隶书"/>
                <a:ea typeface="隶书"/>
              </a:rPr>
              <a:t>精卫衔微木，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434547"/>
                </a:solidFill>
                <a:latin typeface="隶书"/>
                <a:ea typeface="隶书"/>
              </a:rPr>
              <a:t>将以填沧海。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434547"/>
                </a:solidFill>
                <a:latin typeface="隶书"/>
                <a:ea typeface="隶书"/>
              </a:rPr>
              <a:t>刑天舞干戚，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434547"/>
                </a:solidFill>
                <a:latin typeface="隶书"/>
                <a:ea typeface="隶书"/>
              </a:rPr>
              <a:t>猛志固常在。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08B9-A26E-4FCB-A86F-407770C22993}" type="slidenum">
              <a:t>2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BD1C2A-6811-4010-BE04-C437CA75C00D}" type="datetime1">
              <a:rPr lang="en-US"/>
              <a:t>07/28/26</a:t>
            </a:fld>
          </a:p>
        </p:txBody>
      </p:sp>
    </p:spTree>
  </p:cSld>
  <p:transition>
    <p:blinds dir="horz"/>
    <p:sndAc>
      <p:stSnd>
        <p:snd r:embed="rId5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95280" y="189000"/>
            <a:ext cx="856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34547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陶渊明（</a:t>
            </a:r>
            <a:r>
              <a:rPr b="1" lang="en-US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365-427</a:t>
            </a:r>
            <a:r>
              <a:rPr b="1" lang="zh-CN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），晋宋时期文学家。一名潜，字元亮。私谥靖节先生。浔阳柴桑（今江西九江）人。在家族中，他既钦敬曾祖陶侃的积极进取，又特别赞赏外祖孟嘉的冲淡自然。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思想中融入了儒道两种精神</a:t>
            </a:r>
            <a:r>
              <a:rPr b="1" lang="zh-CN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前期（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41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岁以前），</a:t>
            </a:r>
            <a:r>
              <a:rPr b="1" lang="zh-CN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他渴望进取，做过江州祭酒，刘裕幕下镇军参军、彭泽令，起主导作用的是儒家精神；但由于儒道思想的矛盾性，又时官时隐，举棋不定。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后期（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41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岁以后），</a:t>
            </a:r>
            <a:r>
              <a:rPr b="1" lang="zh-CN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陶渊明因时局动荡，仕途险恶，以及官场政治腐败，门阀制度森严而对现实极端不满，毅然辞官归隐，与官场彻底决裂。义熙四年，即归隐后第二年，他家乡遭焚，生活陷入极端贫困，但他安贫乐道；义熙末年，朝廷征他为官，元嘉三年，江州刺史檀道济劝他出山，他守节不仕。这个时期起主导作用的显然是道家思想。</a:t>
            </a:r>
            <a:r>
              <a:rPr b="1" lang="zh-CN" sz="20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C444-EA17-4B0A-9040-DE713495249A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2F8B4D-0F87-48D9-8057-025F66F5CE06}" type="datetime1">
              <a:rPr lang="en-US"/>
              <a:t>07/28/26</a:t>
            </a:fld>
          </a:p>
        </p:txBody>
      </p:sp>
    </p:spTree>
  </p:cSld>
  <p:transition>
    <p:blinds dir="horz"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36520" y="271440"/>
            <a:ext cx="865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黑体"/>
              </a:rPr>
              <a:t>　　</a:t>
            </a:r>
            <a:endParaRPr b="0" lang="en-US" sz="30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87480" y="476280"/>
            <a:ext cx="6131160" cy="22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34547"/>
                </a:solidFill>
                <a:latin typeface="Times New Roman"/>
                <a:ea typeface="隶书"/>
              </a:rPr>
              <a:t>     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和郭主簿二首 </a:t>
            </a:r>
            <a:endParaRPr b="0" lang="en-US" sz="4400" spc="-1" strike="noStrike">
              <a:solidFill>
                <a:srgbClr val="43454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芳菊开林耀，青松冠岩列。 </a:t>
            </a:r>
            <a:endParaRPr b="0" lang="en-US" sz="3600" spc="-1" strike="noStrike">
              <a:solidFill>
                <a:srgbClr val="43454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怀此贞秀姿，卓为霜下杰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。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endParaRPr b="0" lang="en-US" sz="3600" spc="-1" strike="noStrike">
              <a:solidFill>
                <a:srgbClr val="434547"/>
              </a:solidFill>
              <a:latin typeface="Arial"/>
            </a:endParaRPr>
          </a:p>
        </p:txBody>
      </p:sp>
      <p:pic>
        <p:nvPicPr>
          <p:cNvPr id="256" name="juhua 1" descr=""/>
          <p:cNvPicPr/>
          <p:nvPr/>
        </p:nvPicPr>
        <p:blipFill>
          <a:blip r:embed="rId1"/>
          <a:stretch/>
        </p:blipFill>
        <p:spPr>
          <a:xfrm>
            <a:off x="317520" y="222120"/>
            <a:ext cx="2139840" cy="2995920"/>
          </a:xfrm>
          <a:prstGeom prst="rect">
            <a:avLst/>
          </a:prstGeom>
          <a:ln w="19080">
            <a:solidFill>
              <a:srgbClr val="434547"/>
            </a:solidFill>
            <a:miter/>
          </a:ln>
        </p:spPr>
      </p:pic>
      <p:pic>
        <p:nvPicPr>
          <p:cNvPr id="257" name="ju" descr=""/>
          <p:cNvPicPr/>
          <p:nvPr/>
        </p:nvPicPr>
        <p:blipFill>
          <a:blip r:embed="rId2"/>
          <a:stretch/>
        </p:blipFill>
        <p:spPr>
          <a:xfrm>
            <a:off x="6315120" y="2986200"/>
            <a:ext cx="2106720" cy="31766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62080" y="3422520"/>
            <a:ext cx="5894280" cy="22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饮酒 </a:t>
            </a:r>
            <a:endParaRPr b="0" lang="en-US" sz="4800" spc="-1" strike="noStrike">
              <a:solidFill>
                <a:srgbClr val="43454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秋菊有佳色，浥露掇其英。 </a:t>
            </a:r>
            <a:endParaRPr b="0" lang="en-US" sz="3600" spc="-1" strike="noStrike">
              <a:solidFill>
                <a:srgbClr val="43454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泛此忘忧物，远我遗世情。</a:t>
            </a:r>
            <a:endParaRPr b="0" lang="en-US" sz="36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BD50-8DC3-489D-B575-27760C8AAB56}" type="slidenum">
              <a:t>3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8E8D65-6618-4218-9394-97B463420F95}" type="datetime1">
              <a:rPr lang="en-US"/>
              <a:t>07/28/26</a:t>
            </a:fld>
          </a:p>
        </p:txBody>
      </p:sp>
    </p:spTree>
  </p:cSld>
  <p:transition>
    <p:blinds dir="horz"/>
    <p:sndAc>
      <p:stSnd>
        <p:snd r:embed="rId3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36520" y="271440"/>
            <a:ext cx="865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黑体"/>
              </a:rPr>
              <a:t>　　</a:t>
            </a:r>
            <a:endParaRPr b="0" lang="en-US" sz="3000" spc="-1" strike="noStrike">
              <a:solidFill>
                <a:srgbClr val="434547"/>
              </a:solidFill>
              <a:latin typeface="Arial"/>
            </a:endParaRPr>
          </a:p>
        </p:txBody>
      </p:sp>
      <p:pic>
        <p:nvPicPr>
          <p:cNvPr id="260" name="song" descr=""/>
          <p:cNvPicPr/>
          <p:nvPr/>
        </p:nvPicPr>
        <p:blipFill>
          <a:blip r:embed="rId1"/>
          <a:stretch/>
        </p:blipFill>
        <p:spPr>
          <a:xfrm>
            <a:off x="744480" y="1379520"/>
            <a:ext cx="3097440" cy="45943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934920" y="27792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岁寒，然后知松柏之后凋也。</a:t>
            </a:r>
            <a:endParaRPr b="0" lang="en-US" sz="4400" spc="-1" strike="noStrike">
              <a:solidFill>
                <a:srgbClr val="434547"/>
              </a:solidFill>
              <a:latin typeface="Arial"/>
            </a:endParaRPr>
          </a:p>
        </p:txBody>
      </p:sp>
      <p:pic>
        <p:nvPicPr>
          <p:cNvPr id="262" name="song2" descr=""/>
          <p:cNvPicPr/>
          <p:nvPr/>
        </p:nvPicPr>
        <p:blipFill>
          <a:blip r:embed="rId2"/>
          <a:stretch/>
        </p:blipFill>
        <p:spPr>
          <a:xfrm>
            <a:off x="4745160" y="1379520"/>
            <a:ext cx="3138480" cy="4648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D47E-88F1-4E4D-B26B-C5EDB7C353D2}" type="slidenum">
              <a:t>3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77DB28-1D21-418C-AB74-CA83F625E7A8}" type="datetime1">
              <a:rPr lang="en-US"/>
              <a:t>07/28/26</a:t>
            </a:fld>
          </a:p>
        </p:txBody>
      </p:sp>
    </p:spTree>
  </p:cSld>
  <p:transition>
    <p:blinds dir="horz"/>
    <p:sndAc>
      <p:stSnd>
        <p:snd r:embed="rId3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36520" y="271440"/>
            <a:ext cx="865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黑体"/>
              </a:rPr>
              <a:t>　　</a:t>
            </a:r>
            <a:endParaRPr b="0" lang="en-US" sz="30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1680" y="73836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390840" y="157320"/>
            <a:ext cx="5268960" cy="22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松菊的象征 </a:t>
            </a:r>
            <a:endParaRPr b="0" lang="en-US" sz="3600" spc="-1" strike="noStrike">
              <a:solidFill>
                <a:srgbClr val="43454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　　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黑体"/>
              </a:rPr>
              <a:t>象征是用一种具体的形象表示某种抽象的情思和理念。 </a:t>
            </a:r>
            <a:endParaRPr b="0" lang="en-US" sz="3000" spc="-1" strike="noStrike">
              <a:solidFill>
                <a:srgbClr val="43454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黑体"/>
              </a:rPr>
              <a:t>　　当外物的品格与诗人的情志相一致时，诗人往往借物言志，托物抒情。 </a:t>
            </a:r>
            <a:endParaRPr b="0" lang="en-US" sz="3000" spc="-1" strike="noStrike">
              <a:solidFill>
                <a:srgbClr val="43454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  <a:ea typeface="黑体"/>
              </a:rPr>
              <a:t>　　诗人将松树的傲岸不群、挺拔向上，菊花的素雅淡泊，与自己不同流俗的志趣自然联系起来，使松菊成为自己坚贞、不同流合污的逸士之操的象征。</a:t>
            </a:r>
            <a:endParaRPr b="0" lang="en-US" sz="3000" spc="-1" strike="noStrike">
              <a:solidFill>
                <a:srgbClr val="434547"/>
              </a:solidFill>
              <a:latin typeface="Arial"/>
            </a:endParaRPr>
          </a:p>
        </p:txBody>
      </p:sp>
      <p:pic>
        <p:nvPicPr>
          <p:cNvPr id="266" name="wangtianchi" descr=""/>
          <p:cNvPicPr/>
          <p:nvPr/>
        </p:nvPicPr>
        <p:blipFill>
          <a:blip r:embed="rId1"/>
          <a:stretch/>
        </p:blipFill>
        <p:spPr>
          <a:xfrm>
            <a:off x="268200" y="576360"/>
            <a:ext cx="2867040" cy="5486400"/>
          </a:xfrm>
          <a:prstGeom prst="rect">
            <a:avLst/>
          </a:prstGeom>
          <a:ln w="19080">
            <a:solidFill>
              <a:srgbClr val="434547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2742-902B-4565-A007-61D4709E16FD}" type="slidenum">
              <a:t>3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2241BB-8110-456E-8B19-69AEC5BEC45C}" type="datetime1">
              <a:rPr lang="en-US"/>
              <a:t>07/28/26</a:t>
            </a:fld>
          </a:p>
        </p:txBody>
      </p:sp>
    </p:spTree>
  </p:cSld>
  <p:transition>
    <p:blinds dir="horz"/>
    <p:sndAc>
      <p:stSnd>
        <p:snd r:embed="rId2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000" y="173052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34547"/>
                </a:solidFill>
                <a:latin typeface="Arial"/>
                <a:ea typeface="隶书"/>
              </a:rPr>
              <a:t>作者的形象：</a:t>
            </a:r>
            <a:endParaRPr b="0" lang="en-US" sz="4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2565360"/>
            <a:ext cx="806616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34547"/>
                </a:solidFill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333300"/>
                </a:solidFill>
                <a:latin typeface="Arial"/>
                <a:ea typeface="黑体"/>
              </a:rPr>
              <a:t>不与当时黑暗的上层社会同流合污，热爱田园，安贫乐道，超然物外，有着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彩云"/>
              </a:rPr>
              <a:t>高洁志趣</a:t>
            </a:r>
            <a:r>
              <a:rPr b="1" lang="zh-CN" sz="4000" spc="-1" strike="noStrike">
                <a:solidFill>
                  <a:srgbClr val="333300"/>
                </a:solidFill>
                <a:latin typeface="Arial"/>
                <a:ea typeface="黑体"/>
              </a:rPr>
              <a:t>的形象。</a:t>
            </a:r>
            <a:endParaRPr b="0" lang="en-US" sz="40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FA05-4290-4958-8F74-5DC1FED42C41}" type="slidenum">
              <a:t>3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776ADD-3FF5-4DDC-ABBB-8A5F4B352A27}" type="datetime1">
              <a:rPr lang="en-US"/>
              <a:t>07/28/26</a:t>
            </a:fld>
          </a:p>
        </p:txBody>
      </p:sp>
    </p:spTree>
  </p:cSld>
  <p:transition>
    <p:blinds dir="horz"/>
    <p:sndAc>
      <p:stSnd>
        <p:snd r:embed="rId3" name="chimes.wav"/>
      </p:stSnd>
    </p:sndAc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0"/>
            <a:ext cx="914400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隶书"/>
                <a:ea typeface="隶书"/>
              </a:rPr>
              <a:t>   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隶书"/>
                <a:ea typeface="隶书"/>
              </a:rPr>
              <a:t>   </a:t>
            </a:r>
            <a:r>
              <a:rPr b="1" lang="zh-CN" sz="2400" spc="-1" strike="noStrike">
                <a:solidFill>
                  <a:srgbClr val="434547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434547"/>
                </a:solidFill>
                <a:latin typeface="隶书"/>
                <a:ea typeface="隶书"/>
              </a:rPr>
              <a:t>“</a:t>
            </a:r>
            <a:r>
              <a:rPr b="1" lang="zh-CN" sz="2400" spc="-1" strike="noStrike">
                <a:solidFill>
                  <a:srgbClr val="434547"/>
                </a:solidFill>
                <a:latin typeface="隶书"/>
                <a:ea typeface="隶书"/>
              </a:rPr>
              <a:t>兼济天下”规范了中国古代文人的心路历程，作为中国第一位隐逸诗人、田园诗人，他的“济世”的确让人费解。文中为我们呈现了恬淡安闲、自然静谧的田园情趣，但这并不意味着陶渊明消极避世。</a:t>
            </a: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34547"/>
                </a:solidFill>
                <a:latin typeface="隶书"/>
                <a:ea typeface="隶书"/>
              </a:rPr>
              <a:t>    </a:t>
            </a:r>
            <a:r>
              <a:rPr b="1" lang="zh-CN" sz="2400" spc="-1" strike="noStrike">
                <a:solidFill>
                  <a:srgbClr val="434547"/>
                </a:solidFill>
                <a:latin typeface="隶书"/>
                <a:ea typeface="隶书"/>
              </a:rPr>
              <a:t>古代出仕是文人志士必然的价值取向，在封建专制独裁统治下，他们只能在无条件服从与维护自身尊严、保持独立人格的矛盾中苦苦挣扎。除了陶渊明，李白、苏轼、辛弃疾都曾流露过归隐的心绪，只不过渊明比较明显，且付诸实际行动罢了。我们知道，陶晚年作过大量诗，“猛志”一词出现多次，这表明显然有一股济世的热流贯穿于他的一生，其平淡自然的诗风始终未能掩盖此股热流的跃动，看似恬淡的归隐并不意味着痛苦的消失，而是象征着苦难的加剧，即“自以心为形役，奚惆怅而独悲？”“归去来兮”“忆矣乎”“胡为乎遑遑欲何之？”这些句子表明诗人在惆怅悲苦中饱受折磨。</a:t>
            </a: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ADE8-C26C-48A7-98E7-E17DC6FE134C}" type="slidenum">
              <a:t>3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DED7EC-CDA4-4587-A953-27FB6A3C1522}" type="datetime1">
              <a:rPr lang="en-US"/>
              <a:t>07/28/26</a:t>
            </a:fld>
          </a:p>
        </p:txBody>
      </p:sp>
    </p:spTree>
  </p:cSld>
  <p:transition>
    <p:blinds dir="horz"/>
    <p:sndAc>
      <p:stSnd>
        <p:snd r:embed="rId1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83664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434547"/>
                </a:solidFill>
                <a:latin typeface="隶书"/>
                <a:ea typeface="隶书"/>
              </a:rPr>
              <a:t>诗人回归田园，崇尚自然，这里“自然”指人的质朴真实、率性而行的本性。他无法忍受官场对人的本性的扭曲，追求“本我”“真我”，不一味趋同，以求保存他的社会政治理想和人格价值，从字里行间我们不也体味到济世不得的痛苦与回归田园的无奈了吗？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34547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434547"/>
                </a:solidFill>
                <a:latin typeface="隶书"/>
                <a:ea typeface="隶书"/>
              </a:rPr>
              <a:t>因此，本文陶渊明的思想感情，既有回归田园的欢悦，又有理想受挫的失落和忧伤</a:t>
            </a:r>
            <a:r>
              <a:rPr b="1" lang="en-US" sz="3200" spc="-1" strike="noStrike">
                <a:solidFill>
                  <a:srgbClr val="434547"/>
                </a:solidFill>
                <a:latin typeface="隶书"/>
                <a:ea typeface="隶书"/>
              </a:rPr>
              <a:t>.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6443640" y="4724280"/>
            <a:ext cx="2700360" cy="1811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D8E6-E747-4783-98A2-96B301A76944}" type="slidenum">
              <a:t>3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F694B7-B0BD-410D-BABD-B9F6B89703B5}" type="datetime1">
              <a:rPr lang="en-US"/>
              <a:t>07/28/26</a:t>
            </a:fld>
          </a:p>
        </p:txBody>
      </p:sp>
    </p:spTree>
  </p:cSld>
  <p:transition>
    <p:blinds dir="horz"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788000" y="0"/>
            <a:ext cx="410508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611280" y="404640"/>
            <a:ext cx="4176720" cy="6048720"/>
          </a:xfrm>
          <a:prstGeom prst="rect">
            <a:avLst/>
          </a:prstGeom>
          <a:gradFill rotWithShape="0">
            <a:gsLst>
              <a:gs pos="0">
                <a:srgbClr val="757575">
                  <a:alpha val="63137"/>
                </a:srgbClr>
              </a:gs>
              <a:gs pos="50000">
                <a:srgbClr val="ffffff">
                  <a:alpha val="65098"/>
                </a:srgbClr>
              </a:gs>
              <a:gs pos="100000">
                <a:srgbClr val="757575">
                  <a:alpha val="63137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真正的中国文人给了我们太多的感动：屈原因美政不得施行而沉尸汨罗；李白一生率性追求终以捞月赴死；王国维为一生钟情的文化而飘然跳湖；</a:t>
            </a:r>
            <a:r>
              <a:rPr b="1" lang="en-US" sz="2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……</a:t>
            </a:r>
            <a:r>
              <a:rPr b="1" lang="zh-CN" sz="2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他们是伟大的，因为他们都能固守自我的神圣领地。 </a:t>
            </a:r>
            <a:endParaRPr b="0" lang="en-US" sz="2000" spc="-1" strike="noStrike">
              <a:solidFill>
                <a:srgbClr val="9c6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C004-465B-4EDC-ADCD-0A323E52FD01}" type="slidenum">
              <a:t>3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E1F019-79B1-427F-B42A-1BACDFB58F9F}" type="datetime1">
              <a:rPr lang="en-US"/>
              <a:t>07/28/26</a:t>
            </a:fld>
          </a:p>
        </p:txBody>
      </p:sp>
    </p:spTree>
  </p:cSld>
  <p:transition>
    <p:blinds dir="horz"/>
    <p:sndAc>
      <p:stSnd>
        <p:snd r:embed="rId2" name="chimes.wav"/>
      </p:stSnd>
    </p:sndAc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659640" y="404640"/>
            <a:ext cx="2286000" cy="23608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34920" y="4146480"/>
            <a:ext cx="2309760" cy="266724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5640" y="226800"/>
            <a:ext cx="2484360" cy="609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 Black"/>
                <a:ea typeface="华文新魏"/>
              </a:rPr>
              <a:t>全文主旨</a:t>
            </a: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371240" y="1828440"/>
            <a:ext cx="7010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华文行楷"/>
              </a:rPr>
              <a:t>《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华文行楷"/>
              </a:rPr>
              <a:t>归去来兮辞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华文行楷"/>
              </a:rPr>
              <a:t>》</a:t>
            </a:r>
            <a:endParaRPr b="0" lang="en-US" sz="2000" spc="-1" strike="noStrike">
              <a:solidFill>
                <a:srgbClr val="9c6d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c6d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34547"/>
                </a:solidFill>
                <a:latin typeface="Arial"/>
                <a:ea typeface="华文行楷"/>
              </a:rPr>
              <a:t>      </a:t>
            </a:r>
            <a:endParaRPr b="0" lang="en-US" sz="2400" spc="-1" strike="noStrike">
              <a:solidFill>
                <a:srgbClr val="9c6d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34547"/>
                </a:solidFill>
                <a:latin typeface="Arial"/>
                <a:ea typeface="华文行楷"/>
              </a:rPr>
              <a:t>      </a:t>
            </a:r>
            <a:r>
              <a:rPr b="1" lang="zh-CN" sz="2400" spc="-1" strike="noStrike">
                <a:solidFill>
                  <a:srgbClr val="434547"/>
                </a:solidFill>
                <a:latin typeface="Arial"/>
                <a:ea typeface="宋体"/>
              </a:rPr>
              <a:t>是陶渊明辞官归隐之际与上流社会公开决裂的政治宣言。文章以绝大篇幅写了他脱离官场的无限喜悦，想象归隐田园的无限乐趣，表现了作者对大自然和隐居生活的向往和热爱。</a:t>
            </a:r>
            <a:endParaRPr b="0" lang="en-US" sz="2400" spc="-1" strike="noStrike">
              <a:solidFill>
                <a:srgbClr val="9c6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8620-942A-41D2-B6FB-840A4A6B410A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4916C4D-F17A-4846-AE17-CAAEB0F7DE30}" type="datetime1">
              <a:rPr lang="en-US"/>
              <a:t>07/28/26</a:t>
            </a:fld>
          </a:p>
        </p:txBody>
      </p:sp>
    </p:spTree>
  </p:cSld>
  <p:transition>
    <p:blinds dir="horz"/>
    <p:sndAc>
      <p:stSnd>
        <p:snd r:embed="rId3" name="chimes.wav"/>
      </p:stSnd>
    </p:sndAc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1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6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1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6834240" y="4191120"/>
            <a:ext cx="2309760" cy="26668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7020000" y="4076640"/>
            <a:ext cx="1828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含英咀华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82" name=""/>
          <p:cNvSpPr/>
          <p:nvPr/>
        </p:nvSpPr>
        <p:spPr>
          <a:xfrm>
            <a:off x="3308760" y="476280"/>
            <a:ext cx="228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Arial"/>
                <a:ea typeface="隶书"/>
              </a:rPr>
              <a:t>不戚戚于贫贱，不汲汲于富贵。</a:t>
            </a:r>
            <a:r>
              <a:rPr b="1" lang="en-US" sz="2800" spc="-1" strike="noStrike">
                <a:solidFill>
                  <a:srgbClr val="434547"/>
                </a:solidFill>
                <a:latin typeface="Arial"/>
                <a:ea typeface="隶书"/>
              </a:rPr>
              <a:t>——《</a:t>
            </a:r>
            <a:r>
              <a:rPr b="1" lang="zh-CN" sz="2800" spc="-1" strike="noStrike">
                <a:solidFill>
                  <a:srgbClr val="434547"/>
                </a:solidFill>
                <a:latin typeface="Arial"/>
                <a:ea typeface="隶书"/>
              </a:rPr>
              <a:t>五柳先生传</a:t>
            </a:r>
            <a:r>
              <a:rPr b="1" lang="en-US" sz="2800" spc="-1" strike="noStrike">
                <a:solidFill>
                  <a:srgbClr val="434547"/>
                </a:solidFill>
                <a:latin typeface="Arial"/>
                <a:ea typeface="隶书"/>
              </a:rPr>
              <a:t>》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278360" y="1413000"/>
            <a:ext cx="697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Arial"/>
                <a:ea typeface="隶书"/>
              </a:rPr>
              <a:t>夫君子之行，静以修身，俭以养德，非淡泊无以明志，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Arial"/>
                <a:ea typeface="隶书"/>
              </a:rPr>
              <a:t>非宁静无以致远。                     </a:t>
            </a:r>
            <a:r>
              <a:rPr b="1" lang="en-US" sz="2800" spc="-1" strike="noStrike">
                <a:solidFill>
                  <a:srgbClr val="434547"/>
                </a:solidFill>
                <a:latin typeface="Arial"/>
                <a:ea typeface="隶书"/>
              </a:rPr>
              <a:t>——</a:t>
            </a:r>
            <a:r>
              <a:rPr b="1" lang="zh-CN" sz="2800" spc="-1" strike="noStrike">
                <a:solidFill>
                  <a:srgbClr val="434547"/>
                </a:solidFill>
                <a:latin typeface="Arial"/>
                <a:ea typeface="隶书"/>
              </a:rPr>
              <a:t>诸葛亮</a:t>
            </a:r>
            <a:r>
              <a:rPr b="1" lang="en-US" sz="2800" spc="-1" strike="noStrike">
                <a:solidFill>
                  <a:srgbClr val="434547"/>
                </a:solidFill>
                <a:latin typeface="Arial"/>
                <a:ea typeface="隶书"/>
              </a:rPr>
              <a:t>《</a:t>
            </a:r>
            <a:r>
              <a:rPr b="1" lang="zh-CN" sz="2800" spc="-1" strike="noStrike">
                <a:solidFill>
                  <a:srgbClr val="434547"/>
                </a:solidFill>
                <a:latin typeface="Arial"/>
                <a:ea typeface="隶书"/>
              </a:rPr>
              <a:t>诫子书</a:t>
            </a:r>
            <a:r>
              <a:rPr b="1" lang="en-US" sz="2800" spc="-1" strike="noStrike">
                <a:solidFill>
                  <a:srgbClr val="434547"/>
                </a:solidFill>
                <a:latin typeface="Arial"/>
                <a:ea typeface="隶书"/>
              </a:rPr>
              <a:t>》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09960" y="2820960"/>
            <a:ext cx="292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Arial"/>
                <a:ea typeface="隶书"/>
              </a:rPr>
              <a:t>不义而富且贵，于我如浮云。   </a:t>
            </a:r>
            <a:r>
              <a:rPr b="1" lang="en-US" sz="2800" spc="-1" strike="noStrike">
                <a:solidFill>
                  <a:srgbClr val="434547"/>
                </a:solidFill>
                <a:latin typeface="Arial"/>
                <a:ea typeface="隶书"/>
              </a:rPr>
              <a:t>——《</a:t>
            </a:r>
            <a:r>
              <a:rPr b="1" lang="zh-CN" sz="2800" spc="-1" strike="noStrike">
                <a:solidFill>
                  <a:srgbClr val="434547"/>
                </a:solidFill>
                <a:latin typeface="Arial"/>
                <a:ea typeface="隶书"/>
              </a:rPr>
              <a:t>论语</a:t>
            </a:r>
            <a:r>
              <a:rPr b="1" lang="en-US" sz="2800" spc="-1" strike="noStrike">
                <a:solidFill>
                  <a:srgbClr val="434547"/>
                </a:solidFill>
                <a:latin typeface="Arial"/>
                <a:ea typeface="隶书"/>
              </a:rPr>
              <a:t>﹒</a:t>
            </a:r>
            <a:r>
              <a:rPr b="1" lang="zh-CN" sz="2800" spc="-1" strike="noStrike">
                <a:solidFill>
                  <a:srgbClr val="434547"/>
                </a:solidFill>
                <a:latin typeface="Arial"/>
                <a:ea typeface="隶书"/>
              </a:rPr>
              <a:t>述尔</a:t>
            </a:r>
            <a:r>
              <a:rPr b="1" lang="en-US" sz="2800" spc="-1" strike="noStrike">
                <a:solidFill>
                  <a:srgbClr val="434547"/>
                </a:solidFill>
                <a:latin typeface="Arial"/>
                <a:ea typeface="隶书"/>
              </a:rPr>
              <a:t>》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14280" y="3736800"/>
            <a:ext cx="816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Arial"/>
                <a:ea typeface="隶书"/>
              </a:rPr>
              <a:t>志不行，顾禄位如锱铢；道不同，视富贵如土芥。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Arial"/>
                <a:ea typeface="隶书"/>
              </a:rPr>
              <a:t>                          </a:t>
            </a:r>
            <a:r>
              <a:rPr b="1" lang="en-US" sz="2800" spc="-1" strike="noStrike">
                <a:solidFill>
                  <a:srgbClr val="434547"/>
                </a:solidFill>
                <a:latin typeface="Arial"/>
                <a:ea typeface="隶书"/>
              </a:rPr>
              <a:t>——</a:t>
            </a:r>
            <a:r>
              <a:rPr b="1" lang="en-US" sz="2800" spc="-1" strike="noStrike">
                <a:solidFill>
                  <a:srgbClr val="434547"/>
                </a:solidFill>
                <a:latin typeface="Arial"/>
                <a:ea typeface="隶书"/>
              </a:rPr>
              <a:t>《</a:t>
            </a:r>
            <a:r>
              <a:rPr b="1" lang="zh-CN" sz="2800" spc="-1" strike="noStrike">
                <a:solidFill>
                  <a:srgbClr val="434547"/>
                </a:solidFill>
                <a:latin typeface="Arial"/>
                <a:ea typeface="隶书"/>
              </a:rPr>
              <a:t>宋史</a:t>
            </a:r>
            <a:r>
              <a:rPr b="1" lang="en-US" sz="2800" spc="-1" strike="noStrike">
                <a:solidFill>
                  <a:srgbClr val="434547"/>
                </a:solidFill>
                <a:latin typeface="Arial"/>
                <a:ea typeface="隶书"/>
              </a:rPr>
              <a:t>﹒</a:t>
            </a:r>
            <a:r>
              <a:rPr b="1" lang="zh-CN" sz="2800" spc="-1" strike="noStrike">
                <a:solidFill>
                  <a:srgbClr val="434547"/>
                </a:solidFill>
                <a:latin typeface="Arial"/>
                <a:ea typeface="隶书"/>
              </a:rPr>
              <a:t>隐逸列传</a:t>
            </a:r>
            <a:r>
              <a:rPr b="1" lang="en-US" sz="2800" spc="-1" strike="noStrike">
                <a:solidFill>
                  <a:srgbClr val="434547"/>
                </a:solidFill>
                <a:latin typeface="Arial"/>
                <a:ea typeface="隶书"/>
              </a:rPr>
              <a:t>》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-424440" y="5064120"/>
            <a:ext cx="816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Arial"/>
                <a:ea typeface="隶书"/>
              </a:rPr>
              <a:t>不诱于誉，不恐于诽。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Arial"/>
                <a:ea typeface="隶书"/>
              </a:rPr>
              <a:t>                          </a:t>
            </a:r>
            <a:r>
              <a:rPr b="1" lang="en-US" sz="2800" spc="-1" strike="noStrike">
                <a:solidFill>
                  <a:srgbClr val="434547"/>
                </a:solidFill>
                <a:latin typeface="Arial"/>
                <a:ea typeface="隶书"/>
              </a:rPr>
              <a:t>——</a:t>
            </a:r>
            <a:r>
              <a:rPr b="1" lang="en-US" sz="2800" spc="-1" strike="noStrike">
                <a:solidFill>
                  <a:srgbClr val="434547"/>
                </a:solidFill>
                <a:latin typeface="Arial"/>
                <a:ea typeface="隶书"/>
              </a:rPr>
              <a:t>《</a:t>
            </a:r>
            <a:r>
              <a:rPr b="1" lang="zh-CN" sz="2800" spc="-1" strike="noStrike">
                <a:solidFill>
                  <a:srgbClr val="434547"/>
                </a:solidFill>
                <a:latin typeface="Arial"/>
                <a:ea typeface="隶书"/>
              </a:rPr>
              <a:t>荀子</a:t>
            </a:r>
            <a:r>
              <a:rPr b="1" lang="en-US" sz="2800" spc="-1" strike="noStrike">
                <a:solidFill>
                  <a:srgbClr val="434547"/>
                </a:solidFill>
                <a:latin typeface="Arial"/>
                <a:ea typeface="隶书"/>
              </a:rPr>
              <a:t>﹒</a:t>
            </a:r>
            <a:r>
              <a:rPr b="1" lang="zh-CN" sz="2800" spc="-1" strike="noStrike">
                <a:solidFill>
                  <a:srgbClr val="434547"/>
                </a:solidFill>
                <a:latin typeface="Arial"/>
                <a:ea typeface="隶书"/>
              </a:rPr>
              <a:t>非十二子</a:t>
            </a:r>
            <a:r>
              <a:rPr b="1" lang="en-US" sz="2800" spc="-1" strike="noStrike">
                <a:solidFill>
                  <a:srgbClr val="434547"/>
                </a:solidFill>
                <a:latin typeface="Arial"/>
                <a:ea typeface="隶书"/>
              </a:rPr>
              <a:t>》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07C7-D63D-4258-997E-5177CAE4A750}" type="slidenum">
              <a:t>3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17BC2C-65B9-481E-B8D3-B69A0246ED77}" type="datetime1">
              <a:rPr lang="en-US"/>
              <a:t>07/28/26</a:t>
            </a:fld>
          </a:p>
        </p:txBody>
      </p:sp>
    </p:spTree>
  </p:cSld>
  <p:transition>
    <p:blinds dir="horz"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890640" y="11206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一）词类活用</a:t>
            </a:r>
            <a:endParaRPr b="0" lang="en-US" sz="36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38400" y="1924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名词作状语</a:t>
            </a:r>
            <a:endParaRPr b="0" lang="en-US" sz="36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76400" y="2611440"/>
            <a:ext cx="6124680" cy="11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园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涉以成趣（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日，每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矫首而遐观（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时，时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22240" y="6118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814400" y="4149720"/>
            <a:ext cx="219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名词作动词</a:t>
            </a:r>
            <a:endParaRPr b="0" lang="en-US" sz="36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41360" y="5356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338560" y="48290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扶老以流憩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878360" y="479736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策，拄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6858000" y="5335560"/>
            <a:ext cx="2286000" cy="152244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1979640" y="333360"/>
            <a:ext cx="3657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文言知识总结</a:t>
            </a:r>
            <a:endParaRPr b="0" lang="en-US" sz="4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0846-698D-45E5-ABB7-1F5A59521612}" type="slidenum">
              <a:t>3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7A2DA6-8959-4E7B-87A4-C3CCE3AA9ACD}" type="datetime1">
              <a:rPr lang="en-US"/>
              <a:t>07/28/26</a:t>
            </a:fld>
          </a:p>
        </p:txBody>
      </p:sp>
    </p:spTree>
  </p:cSld>
  <p:transition>
    <p:blinds dir="horz"/>
    <p:sndAc>
      <p:stSnd>
        <p:snd r:embed="rId2" name="chimes.wav"/>
      </p:stSnd>
    </p:sndAc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79280" y="114480"/>
            <a:ext cx="6337440" cy="311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47160" bIns="47160" anchor="t">
            <a:spAutoFit/>
          </a:bodyPr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陶渊明长于诗文辞赋。他的作品有两类题材：一类是</a:t>
            </a:r>
            <a:r>
              <a:rPr b="1" lang="zh-CN" sz="2400" spc="-1" strike="noStrike" u="sng">
                <a:solidFill>
                  <a:srgbClr val="434547"/>
                </a:solidFill>
                <a:uFillTx/>
                <a:latin typeface="楷体_GB2312"/>
                <a:ea typeface="楷体_GB2312"/>
              </a:rPr>
              <a:t>描绘田园美景，寄托他洁身自好的高洁志趣</a:t>
            </a:r>
            <a:r>
              <a:rPr b="1" lang="zh-CN" sz="24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；另一类</a:t>
            </a:r>
            <a:r>
              <a:rPr b="1" lang="zh-CN" sz="2400" spc="-1" strike="noStrike" u="sng">
                <a:solidFill>
                  <a:srgbClr val="434547"/>
                </a:solidFill>
                <a:uFillTx/>
                <a:latin typeface="楷体_GB2312"/>
                <a:ea typeface="楷体_GB2312"/>
              </a:rPr>
              <a:t>寄寓抱负，多悲愤慷慨之音</a:t>
            </a:r>
            <a:r>
              <a:rPr b="1" lang="zh-CN" sz="24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陶渊明今存诗歌</a:t>
            </a:r>
            <a:r>
              <a:rPr b="1" lang="en-US" sz="24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125</a:t>
            </a:r>
            <a:r>
              <a:rPr b="1" lang="zh-CN" sz="24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首，其中四言诗</a:t>
            </a:r>
            <a:r>
              <a:rPr b="1" lang="en-US" sz="24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首，五言诗</a:t>
            </a:r>
            <a:r>
              <a:rPr b="1" lang="en-US" sz="24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116</a:t>
            </a:r>
            <a:r>
              <a:rPr b="1" lang="zh-CN" sz="24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首。后代批评家常用质朴、平淡、自然评价陶诗的风格，称其为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“田园诗人”。</a:t>
            </a: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陶渊明现存文</a:t>
            </a:r>
            <a:r>
              <a:rPr b="1" lang="en-US" sz="24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篇，其中辞赋</a:t>
            </a:r>
            <a:r>
              <a:rPr b="1" lang="en-US" sz="24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篇，韵文</a:t>
            </a:r>
            <a:r>
              <a:rPr b="1" lang="en-US" sz="24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篇，散文</a:t>
            </a:r>
            <a:r>
              <a:rPr b="1" lang="en-US" sz="24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篇，篇数不多，影响却很大。散文以</a:t>
            </a:r>
            <a:r>
              <a:rPr b="1" lang="en-US" sz="24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桃花源记</a:t>
            </a:r>
            <a:r>
              <a:rPr b="1" lang="en-US" sz="24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最有名，辞赋</a:t>
            </a:r>
            <a:r>
              <a:rPr b="1" lang="en-US" sz="24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归去来兮辞</a:t>
            </a:r>
            <a:r>
              <a:rPr b="1" lang="en-US" sz="24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著称文史。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在艺术上平淡、朴素，充满了诗意，全无半点斧凿痕迹</a:t>
            </a:r>
            <a:r>
              <a:rPr b="1" lang="zh-CN" sz="2400" spc="-1" strike="noStrike">
                <a:solidFill>
                  <a:srgbClr val="434547"/>
                </a:solidFill>
                <a:latin typeface="楷体_GB2312"/>
                <a:ea typeface="楷体_GB2312"/>
              </a:rPr>
              <a:t>，具有很强的感染力。 </a:t>
            </a: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5D91-90C2-4107-AC71-CBB69DBE69BF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97424E-382F-4BEA-9667-EBF5F28ABDCF}" type="datetime1">
              <a:rPr lang="en-US"/>
              <a:t>07/28/26</a:t>
            </a:fld>
          </a:p>
        </p:txBody>
      </p:sp>
    </p:spTree>
  </p:cSld>
  <p:transition>
    <p:blinds dir="horz"/>
    <p:sndAc>
      <p:stSnd>
        <p:snd r:embed="rId2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042920" y="306864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动词作名词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062000" y="38098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审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容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之易安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564000" y="3860640"/>
            <a:ext cx="55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容膝，只能容下双膝的小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44720" y="472428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使动用法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62760" y="5497560"/>
            <a:ext cx="16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眄庭柯以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颜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473280" y="552276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怡，使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现出愉快的神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042920" y="1662120"/>
            <a:ext cx="487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幼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入室，有酒盈樽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倚南窗以寄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傲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780000" y="213372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傲，自足自得的心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003640" y="16606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幼，幼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971640" y="83664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形容词作名词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1522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FFE0-884A-4BCF-B5EF-399875D9C1F1}" type="slidenum">
              <a:t>4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BCFF49-60E5-4EA3-8DD4-7AC1EFAD82EA}" type="datetime1">
              <a:rPr lang="en-US"/>
              <a:t>07/28/26</a:t>
            </a:fld>
          </a:p>
        </p:txBody>
      </p:sp>
    </p:spTree>
  </p:cSld>
  <p:transition>
    <p:blinds dir="horz"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503280" y="423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二）虚词</a:t>
            </a:r>
            <a:endParaRPr b="0" lang="en-US" sz="40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41360" y="1165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32640" y="20574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之</a:t>
            </a:r>
            <a:endParaRPr b="0" lang="en-US" sz="40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143000" y="16462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悟已往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结构助词，取消句子独立性）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知来者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结构助词，取消句子独立性）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恨晨光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熹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结构助词，取消句子独立性）</a:t>
            </a:r>
            <a:endParaRPr b="0" lang="en-US" sz="2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32640" y="43434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而</a:t>
            </a:r>
            <a:endParaRPr b="0" lang="en-US" sz="40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143000" y="3657600"/>
            <a:ext cx="6781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觉今是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昨非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词，表并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门虽设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常关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词，表转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矫首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遐观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词，表修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鸟倦飞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知还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词，表承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90720" y="167652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380988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547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6858000" y="5335560"/>
            <a:ext cx="2286000" cy="1522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2D1A-9267-47E1-A500-521344BB7A64}" type="slidenum">
              <a:t>4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BBEF99-B5E5-484D-A043-E7904713F861}" type="datetime1">
              <a:rPr lang="en-US"/>
              <a:t>07/28/26</a:t>
            </a:fld>
          </a:p>
        </p:txBody>
      </p:sp>
    </p:spTree>
  </p:cSld>
  <p:transition>
    <p:blinds dir="horz"/>
    <p:sndAc>
      <p:stSnd>
        <p:snd r:embed="rId2" name="chimes.wav"/>
      </p:stSnd>
    </p:sndAc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7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02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6858000" y="5335560"/>
            <a:ext cx="2286000" cy="152244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2916360" y="333360"/>
            <a:ext cx="1828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通假字</a:t>
            </a:r>
            <a:endParaRPr b="0" lang="en-US" sz="4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9" name=""/>
          <p:cNvSpPr/>
          <p:nvPr/>
        </p:nvSpPr>
        <p:spPr>
          <a:xfrm>
            <a:off x="1371600" y="2924280"/>
            <a:ext cx="2009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34547"/>
                </a:solidFill>
                <a:latin typeface="Arial"/>
                <a:ea typeface="楷体_GB2312"/>
              </a:rPr>
              <a:t>乃瞻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衡</a:t>
            </a:r>
            <a:r>
              <a:rPr b="1" lang="zh-CN" sz="4000" spc="-1" strike="noStrike">
                <a:solidFill>
                  <a:srgbClr val="434547"/>
                </a:solidFill>
                <a:latin typeface="Arial"/>
                <a:ea typeface="楷体_GB2312"/>
              </a:rPr>
              <a:t>宇</a:t>
            </a:r>
            <a:endParaRPr b="0" lang="en-US" sz="4000" spc="-1" strike="noStrike">
              <a:solidFill>
                <a:srgbClr val="43454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3454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景</a:t>
            </a:r>
            <a:r>
              <a:rPr b="1" lang="zh-CN" sz="4000" spc="-1" strike="noStrike">
                <a:solidFill>
                  <a:srgbClr val="434547"/>
                </a:solidFill>
                <a:latin typeface="Arial"/>
                <a:ea typeface="楷体_GB2312"/>
              </a:rPr>
              <a:t>翳翳以将入</a:t>
            </a:r>
            <a:endParaRPr b="0" lang="en-US" sz="40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707720" y="2997360"/>
            <a:ext cx="151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通“横”）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789800" y="4292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（通“影”）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ADCF-23F9-49EA-8E4E-AF7CA57042E0}" type="slidenum">
              <a:t>4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1FE526-AD29-4791-9F0A-5ACA63F30F35}" type="datetime1">
              <a:rPr lang="en-US"/>
              <a:t>07/28/26</a:t>
            </a:fld>
          </a:p>
        </p:txBody>
      </p:sp>
    </p:spTree>
  </p:cSld>
  <p:transition>
    <p:blinds dir="horz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443480" y="0"/>
            <a:ext cx="4700520" cy="6629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4000" y="1341360"/>
            <a:ext cx="5113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隶书"/>
                <a:ea typeface="隶书"/>
              </a:rPr>
              <a:t> </a:t>
            </a:r>
            <a:r>
              <a:rPr b="1" lang="zh-CN" sz="5400" spc="-1" strike="noStrike">
                <a:solidFill>
                  <a:srgbClr val="afb2b4"/>
                </a:solidFill>
                <a:latin typeface="隶书"/>
                <a:ea typeface="隶书"/>
              </a:rPr>
              <a:t>饮 酒（其五）</a:t>
            </a:r>
            <a:endParaRPr b="0" lang="en-US" sz="5400" spc="-1" strike="noStrike">
              <a:solidFill>
                <a:srgbClr val="434547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结庐在人境，而无车马喧。问君何能尔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？</a:t>
            </a: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心远地自偏。采菊东篱下，悠然见南山。山气日夕佳，飞鸟相与还。</a:t>
            </a:r>
            <a:br>
              <a:rPr sz="3200"/>
            </a:b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此中有真意，欲辨已忘言。</a:t>
            </a:r>
            <a:endParaRPr b="0" lang="en-US" sz="3200" spc="-1" strike="noStrike">
              <a:solidFill>
                <a:srgbClr val="434547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686800" y="6095880"/>
            <a:ext cx="457200" cy="427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97000" y="152280"/>
            <a:ext cx="2619360" cy="7642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34547"/>
                </a:solidFill>
                <a:latin typeface="Arial"/>
              </a:rPr>
              <a:t>作品回顾</a:t>
            </a:r>
            <a:endParaRPr b="0" lang="en-US" sz="4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F39B-2545-47B1-A941-4A43C85A5195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91E967-0138-47DF-9E3F-4B266CD52E13}" type="datetime1">
              <a:rPr lang="en-US"/>
              <a:t>07/28/26</a:t>
            </a:fld>
          </a:p>
        </p:txBody>
      </p:sp>
    </p:spTree>
  </p:cSld>
  <p:transition>
    <p:blinds dir="horz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4594320" cy="58672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60720" y="477720"/>
            <a:ext cx="60832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b0f0"/>
                </a:solidFill>
                <a:uFillTx/>
                <a:latin typeface="Arial"/>
                <a:ea typeface="隶书"/>
                <a:hlinkClick r:id="rId2"/>
              </a:rPr>
              <a:t>归园田居</a:t>
            </a:r>
            <a:r>
              <a:rPr b="1" lang="zh-CN" sz="4800" spc="-1" strike="noStrike" u="sng">
                <a:solidFill>
                  <a:srgbClr val="cc0000"/>
                </a:solidFill>
                <a:uFillTx/>
                <a:latin typeface="Arial"/>
                <a:ea typeface="隶书"/>
              </a:rPr>
              <a:t>（其一）</a:t>
            </a:r>
            <a:endParaRPr b="0" lang="en-US" sz="4800" spc="-1" strike="noStrike">
              <a:solidFill>
                <a:srgbClr val="9c6d00"/>
              </a:solidFill>
              <a:latin typeface="Arial"/>
            </a:endParaRPr>
          </a:p>
          <a:p>
            <a:pPr marL="35712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隶书"/>
              </a:rPr>
              <a:t>少无适俗韵，性本爱丘山。</a:t>
            </a:r>
            <a:endParaRPr b="0" lang="en-US" sz="2400" spc="-1" strike="noStrike">
              <a:solidFill>
                <a:srgbClr val="9c6d00"/>
              </a:solidFill>
              <a:latin typeface="Arial"/>
            </a:endParaRPr>
          </a:p>
          <a:p>
            <a:pPr marL="35712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隶书"/>
              </a:rPr>
              <a:t>误落尘网中，一去三十年。</a:t>
            </a:r>
            <a:endParaRPr b="0" lang="en-US" sz="2400" spc="-1" strike="noStrike">
              <a:solidFill>
                <a:srgbClr val="9c6d00"/>
              </a:solidFill>
              <a:latin typeface="Arial"/>
            </a:endParaRPr>
          </a:p>
          <a:p>
            <a:pPr marL="35712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隶书"/>
              </a:rPr>
              <a:t>羁鸟恋旧林，池鱼思故渊。</a:t>
            </a:r>
            <a:endParaRPr b="0" lang="en-US" sz="2400" spc="-1" strike="noStrike">
              <a:solidFill>
                <a:srgbClr val="9c6d00"/>
              </a:solidFill>
              <a:latin typeface="Arial"/>
            </a:endParaRPr>
          </a:p>
          <a:p>
            <a:pPr marL="35712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隶书"/>
              </a:rPr>
              <a:t>开荒南野际，守拙归园田。</a:t>
            </a:r>
            <a:endParaRPr b="0" lang="en-US" sz="2400" spc="-1" strike="noStrike">
              <a:solidFill>
                <a:srgbClr val="9c6d00"/>
              </a:solidFill>
              <a:latin typeface="Arial"/>
            </a:endParaRPr>
          </a:p>
          <a:p>
            <a:pPr marL="35712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隶书"/>
              </a:rPr>
              <a:t>方宅十余亩，草屋八九间。</a:t>
            </a:r>
            <a:endParaRPr b="0" lang="en-US" sz="2400" spc="-1" strike="noStrike">
              <a:solidFill>
                <a:srgbClr val="9c6d00"/>
              </a:solidFill>
              <a:latin typeface="Arial"/>
            </a:endParaRPr>
          </a:p>
          <a:p>
            <a:pPr marL="35712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隶书"/>
              </a:rPr>
              <a:t>榆柳荫后檐，桃李罗堂前。</a:t>
            </a:r>
            <a:endParaRPr b="0" lang="en-US" sz="2400" spc="-1" strike="noStrike">
              <a:solidFill>
                <a:srgbClr val="9c6d00"/>
              </a:solidFill>
              <a:latin typeface="Arial"/>
            </a:endParaRPr>
          </a:p>
          <a:p>
            <a:pPr marL="35712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隶书"/>
              </a:rPr>
              <a:t>暧暧远人村，依依墟里烟。</a:t>
            </a:r>
            <a:endParaRPr b="0" lang="en-US" sz="2400" spc="-1" strike="noStrike">
              <a:solidFill>
                <a:srgbClr val="9c6d00"/>
              </a:solidFill>
              <a:latin typeface="Arial"/>
            </a:endParaRPr>
          </a:p>
          <a:p>
            <a:pPr marL="35712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隶书"/>
              </a:rPr>
              <a:t>狗吠深巷中，鸡鸣桑树颠。</a:t>
            </a:r>
            <a:endParaRPr b="0" lang="en-US" sz="2400" spc="-1" strike="noStrike">
              <a:solidFill>
                <a:srgbClr val="9c6d00"/>
              </a:solidFill>
              <a:latin typeface="Arial"/>
            </a:endParaRPr>
          </a:p>
          <a:p>
            <a:pPr marL="35712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隶书"/>
              </a:rPr>
              <a:t>户庭无尘杂，虚室有余闲。</a:t>
            </a:r>
            <a:endParaRPr b="0" lang="en-US" sz="2400" spc="-1" strike="noStrike">
              <a:solidFill>
                <a:srgbClr val="9c6d00"/>
              </a:solidFill>
              <a:latin typeface="Arial"/>
            </a:endParaRPr>
          </a:p>
          <a:p>
            <a:pPr marL="35712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隶书"/>
              </a:rPr>
              <a:t>久在樊笼里，复得返自然。</a:t>
            </a:r>
            <a:endParaRPr b="0" lang="en-US" sz="2400" spc="-1" strike="noStrike">
              <a:solidFill>
                <a:srgbClr val="9c6d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7000" y="152280"/>
            <a:ext cx="2619360" cy="7642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34547"/>
                </a:solidFill>
                <a:latin typeface="Arial"/>
              </a:rPr>
              <a:t>作品回顾</a:t>
            </a:r>
            <a:endParaRPr b="0" lang="en-US" sz="4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3275-259B-499E-A657-49314AA2491F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DE4900-D721-4964-BA64-FDA7E2DC1A72}" type="datetime1">
              <a:rPr lang="en-US"/>
              <a:t>07/28/26</a:t>
            </a:fld>
          </a:p>
        </p:txBody>
      </p:sp>
    </p:spTree>
  </p:cSld>
  <p:transition>
    <p:blinds dir="horz"/>
    <p:sndAc>
      <p:stSnd>
        <p:snd r:embed="rId3" name="chimes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39840" y="79812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8500"/>
                </a:solidFill>
                <a:latin typeface="Arial Black"/>
              </a:rPr>
              <a:t> </a:t>
            </a:r>
            <a:endParaRPr b="1" lang="en-US" sz="2800" spc="-1" strike="noStrike">
              <a:solidFill>
                <a:srgbClr val="c085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949320"/>
            <a:ext cx="8229600" cy="586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57120" indent="0" algn="just">
              <a:lnSpc>
                <a:spcPct val="11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隶书"/>
                <a:ea typeface="隶书"/>
              </a:rPr>
              <a:t>《</a:t>
            </a:r>
            <a:r>
              <a:rPr b="1" lang="zh-CN" sz="2400" spc="-1" strike="noStrike">
                <a:solidFill>
                  <a:srgbClr val="00b0f0"/>
                </a:solidFill>
                <a:latin typeface="隶书"/>
                <a:ea typeface="隶书"/>
              </a:rPr>
              <a:t>五柳先生传</a:t>
            </a:r>
            <a:r>
              <a:rPr b="1" lang="en-US" sz="2400" spc="-1" strike="noStrike">
                <a:solidFill>
                  <a:srgbClr val="00b0f0"/>
                </a:solidFill>
                <a:latin typeface="隶书"/>
                <a:ea typeface="隶书"/>
              </a:rPr>
              <a:t>》</a:t>
            </a:r>
            <a:r>
              <a:rPr b="1" lang="zh-CN" sz="2400" spc="-1" strike="noStrike">
                <a:solidFill>
                  <a:srgbClr val="00b0f0"/>
                </a:solidFill>
                <a:latin typeface="隶书"/>
                <a:ea typeface="隶书"/>
              </a:rPr>
              <a:t>节选</a:t>
            </a:r>
            <a:endParaRPr b="0" lang="en-US" sz="2400" spc="-1" strike="noStrike">
              <a:solidFill>
                <a:srgbClr val="9c6d00"/>
              </a:solidFill>
              <a:latin typeface="Arial"/>
            </a:endParaRPr>
          </a:p>
          <a:p>
            <a:pPr marL="357120" indent="0" algn="just">
              <a:lnSpc>
                <a:spcPct val="11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隶书"/>
                <a:ea typeface="隶书"/>
              </a:rPr>
              <a:t>　    先生不知何许人也，亦不详其姓字；宅边有五柳树，因以为号焉。闲静少言，不慕荣利。好读书，不求甚解；每有会意，便欣然忘食。性嗜酒，家贫，不能常得，亲旧知其如此，或置酒而招之。造饮辄尽，期在必醉。既醉而退，曾不吝情去留。环堵萧然，不蔽风日；短褐穿结，簟瓢屡空，晏如也！常著文章自娱，颇示己志。忘怀得失，以此自终。</a:t>
            </a:r>
            <a:endParaRPr b="0" lang="en-US" sz="2400" spc="-1" strike="noStrike">
              <a:solidFill>
                <a:srgbClr val="9c6d00"/>
              </a:solidFill>
              <a:latin typeface="Arial"/>
            </a:endParaRPr>
          </a:p>
          <a:p>
            <a:pPr marL="357120" indent="0" algn="just">
              <a:lnSpc>
                <a:spcPct val="11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隶书"/>
                <a:ea typeface="隶书"/>
              </a:rPr>
              <a:t>      </a:t>
            </a:r>
            <a:r>
              <a:rPr b="1" lang="zh-CN" sz="2400" spc="-1" strike="noStrike">
                <a:solidFill>
                  <a:srgbClr val="00b0f0"/>
                </a:solidFill>
                <a:latin typeface="隶书"/>
                <a:ea typeface="隶书"/>
              </a:rPr>
              <a:t>赞曰：“黔娄之妻有言：‘不戚戚于贫贱，不汲汲于富贵。’其言兹若人之俦乎？衔觞赋诗，以乐其志．无怀氏之民欤？葛天氏之民欤？”</a:t>
            </a:r>
            <a:endParaRPr b="0" lang="en-US" sz="2400" spc="-1" strike="noStrike">
              <a:solidFill>
                <a:srgbClr val="9c6d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8280" y="136440"/>
            <a:ext cx="2619360" cy="7642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34547"/>
                </a:solidFill>
                <a:latin typeface="Arial"/>
              </a:rPr>
              <a:t>作品回顾</a:t>
            </a:r>
            <a:endParaRPr b="0" lang="en-US" sz="4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2B1F-5A60-4D93-A529-6FA65BEBD47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C05586-E1DF-4BFE-8DB7-86768E1691CD}" type="datetime1">
              <a:rPr lang="en-US"/>
              <a:t>07/28/26</a:t>
            </a:fld>
          </a:p>
        </p:txBody>
      </p:sp>
    </p:spTree>
  </p:cSld>
  <p:transition>
    <p:blinds dir="horz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39840" y="798120"/>
            <a:ext cx="83707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8500"/>
                </a:solidFill>
                <a:latin typeface="Arial Black"/>
              </a:rPr>
              <a:t> </a:t>
            </a:r>
            <a:endParaRPr b="1" lang="en-US" sz="2800" spc="-1" strike="noStrike">
              <a:solidFill>
                <a:srgbClr val="c08500"/>
              </a:solidFill>
              <a:latin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216000" y="333360"/>
            <a:ext cx="889308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47160" bIns="4716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隶书"/>
                <a:ea typeface="隶书"/>
              </a:rPr>
              <a:t>译文：</a:t>
            </a: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隶书"/>
                <a:ea typeface="隶书"/>
              </a:rPr>
              <a:t>    </a:t>
            </a:r>
            <a:r>
              <a:rPr b="1" lang="zh-CN" sz="2400" spc="-1" strike="noStrike">
                <a:solidFill>
                  <a:srgbClr val="00b0f0"/>
                </a:solidFill>
                <a:latin typeface="隶书"/>
                <a:ea typeface="隶书"/>
              </a:rPr>
              <a:t>这位先生不知道是什么地方人，也弄不清他的姓名。他的住宅旁边植有五棵柳树，因此就用“五柳”作为他的别号了。五柳先生安闲沉静，不好言谈，也不羡慕荣华利禄。喜欢读书，但不执着于对一字一句的琐细解释；每当读书有所领悟的时候，就会高兴得忘了吃饭。生性嗜好喝酒，但因为家贫就不能经常得到。亲朋好友知道他这种境况，有时备酒招待他。他前去饮酒时总是开怀畅饮，直到大醉方休；醉后就向主人告辞，从不以去留为意。他的住室四壁空空荡荡，破旧得连风和太阳都无法遮挡，穿的粗布短衣打满了补钉，饮食简陋而且经常短缺，而他却能安然自得。常常以写诗作文章当娱乐，抒发自己的志趣。他能够忘掉世俗的得失，只愿这样度过自己的一生。</a:t>
            </a:r>
            <a:endParaRPr b="0" lang="en-US" sz="2400" spc="-1" strike="noStrike">
              <a:solidFill>
                <a:srgbClr val="4345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FC42-C343-42D6-B3B4-60211733C73C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A8F0E9-309F-4895-9095-7FBA0F48BE85}" type="datetime1">
              <a:rPr lang="en-US"/>
              <a:t>07/28/26</a:t>
            </a:fld>
          </a:p>
        </p:txBody>
      </p:sp>
    </p:spTree>
  </p:cSld>
  <p:transition>
    <p:blinds dir="horz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55280" y="90792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11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9c6d00"/>
                </a:solidFill>
                <a:latin typeface="Arial"/>
                <a:ea typeface="隶书"/>
              </a:rPr>
              <a:t>赞曰：黔娄的妻子曾经这样述说自己的丈夫：“不因为处境贫困而终日忧心忡忡，不为了追求富贵而到处奔走钻营。”推究她所说的话，五柳先生不就是黔娄那样的人物吗？饮酒赋诗，满足于自己的志趣，这不是成了生活在无怀氏、葛天氏时代里的人了吗？</a:t>
            </a:r>
            <a:endParaRPr b="0" lang="en-US" sz="3200" spc="-1" strike="noStrike">
              <a:solidFill>
                <a:srgbClr val="9c6d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5335560"/>
            <a:ext cx="2286000" cy="152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B832-DC91-4716-A092-95FB13D2BF1D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FDD7D6-681D-434A-B2A6-0572407ADCA9}" type="datetime1">
              <a:rPr lang="en-US"/>
              <a:t>07/28/26</a:t>
            </a:fld>
          </a:p>
        </p:txBody>
      </p:sp>
    </p:spTree>
  </p:cSld>
  <p:transition>
    <p:blinds dir="horz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5T13:54:08Z</dcterms:created>
  <dc:creator>语文大师 xiexingcun.com</dc:creator>
  <dc:description>语文大师 xiexingcun.com</dc:description>
  <dc:language>en-US</dc:language>
  <cp:lastModifiedBy>USER</cp:lastModifiedBy>
  <cp:lastPrinted>1899-12-30T00:00:00Z</cp:lastPrinted>
  <dcterms:modified xsi:type="dcterms:W3CDTF">2014-09-19T23:33:03Z</dcterms:modified>
  <cp:revision>0</cp:revision>
  <dc:subject/>
  <dc:title>语文大师 xiexingcun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