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403-9A40-4293-AF95-32336455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7E5-3281-4877-874B-168CFCA4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D4E-18B9-44BA-BB77-7C320B45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CBE-A234-4D73-B119-530C1183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BC2-A5AC-43D2-8C87-221385B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706-CF97-4C39-900E-56D38043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468-C95C-4912-824F-0BBAF41E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F48-7C7F-4FD2-87A6-36E7C26E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83C-2C53-4992-A3D8-DFFA3E8E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CE5-54F3-4183-ADB3-6E15ECC6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6A0-AADE-4CC1-8942-95D7941D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41C-AF03-4479-BAD6-F182121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C64D-71D9-4255-B079-0861F870E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19320" y="765000"/>
            <a:ext cx="4905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3 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、荷花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4797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王兴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58920" y="3500280"/>
            <a:ext cx="68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郯城县第二实验小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4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1413000"/>
            <a:ext cx="65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荷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花  清香 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莲蓬挨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埃挤挤  碧绿 破裂 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仿佛 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 舞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蹈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翩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翩起舞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蜻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08360" y="189000"/>
            <a:ext cx="5195880" cy="3744720"/>
          </a:xfrm>
          <a:prstGeom prst="cloudCallout">
            <a:avLst>
              <a:gd name="adj1" fmla="val -51856"/>
              <a:gd name="adj2" fmla="val 9194"/>
            </a:avLst>
          </a:prstGeom>
          <a:solidFill>
            <a:srgbClr val="ece5b2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0800000">
            <a:off x="4140360" y="105156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荷花已经开了不少了。荷叶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挨埃挤挤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像个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碧绿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大圆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67564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 rot="10800000">
            <a:off x="3059280" y="836640"/>
            <a:ext cx="6084720" cy="5184720"/>
          </a:xfrm>
          <a:prstGeom prst="wedgeRoundRectCallout">
            <a:avLst>
              <a:gd name="adj1" fmla="val 42064"/>
              <a:gd name="adj2" fmla="val -5574"/>
              <a:gd name="adj3" fmla="val 16667"/>
            </a:avLst>
          </a:prstGeom>
          <a:solidFill>
            <a:srgbClr val="cccc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1557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白荷花在这些大圆盘之间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冒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出来。有的才展开两三片花瓣儿。有的花瓣儿全展开了，露出嫩黄色的小莲蓬。有的还是花骨朵儿，看起来饱胀得马上要破裂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0"/>
            <a:ext cx="2376360" cy="1484280"/>
          </a:xfrm>
          <a:prstGeom prst="wedgeEllipseCallout">
            <a:avLst>
              <a:gd name="adj1" fmla="val -19740"/>
              <a:gd name="adj2" fmla="val 59944"/>
            </a:avLst>
          </a:prstGeom>
          <a:solidFill>
            <a:srgbClr val="ffff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33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冒”用得真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1125360"/>
            <a:ext cx="69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这么多的白荷花，一朵有一多的姿势。看看这一朵，很美；看看那一朵，也很美。如果把眼前的一池荷花看作一大幅活的画，那画家的本领可真了不起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7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3132000" y="-2259000"/>
            <a:ext cx="15239880" cy="1143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413000"/>
            <a:ext cx="7596360" cy="2952720"/>
          </a:xfrm>
          <a:prstGeom prst="ellipse">
            <a:avLst/>
          </a:prstGeom>
          <a:solidFill>
            <a:srgbClr val="bbe0e3">
              <a:alpha val="19000"/>
            </a:srgbClr>
          </a:solidFill>
          <a:ln w="9360">
            <a:solidFill>
              <a:srgbClr val="e5e2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84464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过了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一会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，我才记起我不是荷花，我是在看荷花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2123640" y="4076280"/>
            <a:ext cx="5761080" cy="863640"/>
          </a:xfrm>
          <a:prstGeom prst="wedgeRoundRectCallout">
            <a:avLst>
              <a:gd name="adj1" fmla="val 6458"/>
              <a:gd name="adj2" fmla="val 148157"/>
              <a:gd name="adj3" fmla="val 16667"/>
            </a:avLst>
          </a:prstGeom>
          <a:gradFill rotWithShape="0">
            <a:gsLst>
              <a:gs pos="0">
                <a:srgbClr val="ffff66">
                  <a:alpha val="19215"/>
                </a:srgbClr>
              </a:gs>
              <a:gs pos="100000">
                <a:srgbClr val="fefefe"/>
              </a:gs>
            </a:gsLst>
            <a:lin ang="16200000"/>
          </a:gradFill>
          <a:ln w="9360">
            <a:solidFill>
              <a:srgbClr val="e5e2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422100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我”怎么会忘记自己是在看荷花呢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8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403280" y="11592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87280" y="1413000"/>
            <a:ext cx="2305080" cy="64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76360" y="1484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  练  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2565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作者把荷花写得很美啊！我也写写自己喜欢的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6:05:08Z</dcterms:created>
  <dc:creator>语文大师 xiexingcun.com</dc:creator>
  <dc:description/>
  <dc:language>en-US</dc:language>
  <cp:lastModifiedBy>Lenovo User</cp:lastModifiedBy>
  <dcterms:modified xsi:type="dcterms:W3CDTF">2014-07-24T07:08:49Z</dcterms:modified>
  <cp:revision>0</cp:revision>
  <dc:subject/>
  <dc:title>语文大师 xiexingcun.com</dc:title>
</cp:coreProperties>
</file>