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1.jpeg" ContentType="image/jpeg"/>
  <Override PartName="/ppt/media/image8.png" ContentType="image/png"/>
  <Override PartName="/ppt/media/image38.png" ContentType="image/png"/>
  <Override PartName="/ppt/media/%E8%83%8C%E6%99%AF%E9%9F%B3%E4%B9%90.WAV" ContentType="audio/x-wav"/>
  <Override PartName="/ppt/media/arrow.wav" ContentType="audio/x-wav"/>
  <Override PartName="/ppt/media/image23.png" ContentType="image/png"/>
  <Override PartName="/ppt/media/image39.png" ContentType="image/png"/>
  <Override PartName="/ppt/media/%E6%B2%A1%E5%B9%B2%E4%BB%80%E4%B9%88.wav" ContentType="audio/x-wav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chimes.wav" ContentType="audio/x-wav"/>
  <Override PartName="/ppt/media/image29.png" ContentType="image/png"/>
  <Override PartName="/ppt/media/image7.gif" ContentType="image/gif"/>
  <Override PartName="/ppt/media/image35.png" ContentType="image/png"/>
  <Override PartName="/ppt/media/image5.png" ContentType="image/png"/>
  <Override PartName="/ppt/media/1%E6%AE%B5.wav" ContentType="audio/x-wav"/>
  <Override PartName="/ppt/media/image9.gif" ContentType="image/gif"/>
  <Override PartName="/ppt/media/image42.png" ContentType="image/png"/>
  <Override PartName="/ppt/media/image26.jpeg" ContentType="image/jpeg"/>
  <Override PartName="/ppt/media/image43.png" ContentType="image/png"/>
  <Override PartName="/ppt/media/%E7%95%99%E4%B8%8B%E5%90%A7.wav" ContentType="audio/x-wav"/>
  <Override PartName="/ppt/media/2.wav" ContentType="audio/x-wav"/>
  <Override PartName="/ppt/media/image15.jpeg" ContentType="image/jpeg"/>
  <Override PartName="/ppt/media/image24.jpeg" ContentType="image/jpeg"/>
  <Override PartName="/ppt/media/image22.png" ContentType="image/png"/>
  <Override PartName="/ppt/media/%E5%88%BA%E7%8C%AC%E7%A7%B0%E8%B5%9E.wav" ContentType="audio/x-wav"/>
  <Override PartName="/ppt/media/image1.jpeg" ContentType="image/jpeg"/>
  <Override PartName="/ppt/media/image21.png" ContentType="image/png"/>
  <Override PartName="/ppt/media/image20.jpeg" ContentType="image/jpeg"/>
  <Override PartName="/ppt/media/image12.png" ContentType="image/png"/>
  <Override PartName="/ppt/media/image18.png" ContentType="image/png"/>
  <Override PartName="/ppt/media/image6.png" ContentType="image/png"/>
  <Override PartName="/ppt/media/image16.jpeg" ContentType="image/jpeg"/>
  <Override PartName="/ppt/media/hammer.wav" ContentType="audio/x-wav"/>
  <Override PartName="/ppt/media/image13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27.jpeg" ContentType="image/jpeg"/>
  <Override PartName="/ppt/media/4.wav" ContentType="audio/x-wav"/>
  <Override PartName="/ppt/media/image28.jpeg" ContentType="image/jpeg"/>
  <Override PartName="/ppt/media/image19.png" ContentType="image/png"/>
  <Override PartName="/ppt/media/whoosh.wav" ContentType="audio/x-wav"/>
  <Override PartName="/ppt/media/image30.png" ContentType="image/png"/>
  <Override PartName="/ppt/media/image37.jpeg" ContentType="image/jpeg"/>
  <Override PartName="/ppt/media/3.wav" ContentType="audio/x-wav"/>
  <Override PartName="/ppt/media/%E7%9C%9F%E7%9A%84%E5%90%97.wav" ContentType="audio/x-wav"/>
  <Override PartName="/ppt/media/%E6%9C%89%E4%BA%86%E8%87%AA%E4%BF%A1.wav" ContentType="audio/x-wav"/>
  <Override PartName="/ppt/media/%E4%BD%A0%E4%B8%AA%E8%8B%B9%E6%9E%9C%E9%A6%99%E9%A6%99%E6%9E%81%E4%BA%86.wav" ContentType="audio/x-wav"/>
  <Override PartName="/ppt/media/%E4%BD%A0%E7%9A%84%E7%A7%B0%E8%B5%9E%E6%B6%88%E9%99%A4%E4%BA%86%E6%88%91%E4%B8%80%E5%A4%A9%E7%9A%84%E7%96%B2%E5%8A%B3.wav" ContentType="audio/x-wav"/>
  <Override PartName="/ppt/media/image31.png" ContentType="image/png"/>
  <Override PartName="/ppt/media/image32.jpeg" ContentType="image/jpeg"/>
  <Override PartName="/ppt/media/%E6%B6%88%E9%99%A4%E4%BA%86%E7%96%B2%E5%8A%B3.wav" ContentType="audio/x-wav"/>
  <Override PartName="/ppt/media/image36.png" ContentType="image/png"/>
  <Override PartName="/ppt/media/image33.gif" ContentType="image/gif"/>
  <Override PartName="/ppt/media/image34.png" ContentType="image/png"/>
  <Override PartName="/ppt/media/%E5%9C%A8%E6%88%91%E6%9C%89%E7%82%B9%E6%B3%84%E6%B0%94%E7%9A%84%E6%97%B6%E5%80%99%E6%98%AF%E4%BD%A0%E7%A7%B0%E8%B5%9E%E4%BA%86%E6%88%91%E8%AE%A9%E6%88%91%E6%9C%89%E4%BA%86%E8%87%AA%E4%BF%A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486-8EE9-4503-BD47-17F560AF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0B2-87C3-44BA-B51E-E263C3B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2EC-9482-4967-9024-4FF97271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980-38FA-4ADC-A790-04988E02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EA5-155C-4FC8-98FB-C21B05F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5A6-DF6B-4EBF-A225-F6EDA37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48A-A864-4E00-B5DD-B1B8E045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D27-FF5C-40AA-BBBB-21FF732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034-151D-491D-8FE7-C114F528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CC4-2A6D-439D-9C92-DCB80EC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809-EC38-43B0-AC1B-2304436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13F-B45E-4FD7-846C-468552B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E93-A4E3-4F2F-9A19-1DDB03024B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&#32972;&#26223;&#38899;&#20048;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4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" Target="slide2.xml"/><Relationship Id="rId11" Type="http://schemas.openxmlformats.org/officeDocument/2006/relationships/image" Target="../media/image11.gif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arrow.wav"/><Relationship Id="rId18" Type="http://schemas.openxmlformats.org/officeDocument/2006/relationships/audio" Target="../media/&#21050;&#29484;&#31216;&#36190;.wav"/><Relationship Id="rId19" Type="http://schemas.openxmlformats.org/officeDocument/2006/relationships/audio" Target="../media/&#30495;&#30340;&#21527;.wav"/><Relationship Id="rId20" Type="http://schemas.openxmlformats.org/officeDocument/2006/relationships/audio" Target="../media/hammer.wav"/><Relationship Id="rId21" Type="http://schemas.openxmlformats.org/officeDocument/2006/relationships/audio" Target="../media/hammer.wav"/><Relationship Id="rId2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&#27809;&#24178;&#20160;&#20040;.wav"/><Relationship Id="rId7" Type="http://schemas.openxmlformats.org/officeDocument/2006/relationships/audio" Target="../media/&#26377;&#20102;&#33258;&#20449;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&#30041;&#19979;&#21543;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&#20320;&#20010;&#33529;&#26524;&#39321;&#39321;&#26497;&#20102;.wav"/><Relationship Id="rId7" Type="http://schemas.openxmlformats.org/officeDocument/2006/relationships/audio" Target="../media/&#28040;&#38500;&#20102;&#30130;&#21171;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audio" Target="../media/whoosh.wav"/><Relationship Id="rId10" Type="http://schemas.openxmlformats.org/officeDocument/2006/relationships/audio" Target="../media/hammer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8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audio" Target="../media/hamm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&#20320;&#30340;&#31216;&#36190;&#28040;&#38500;&#20102;&#25105;&#19968;&#22825;&#30340;&#30130;&#21171;.wav"/><Relationship Id="rId12" Type="http://schemas.openxmlformats.org/officeDocument/2006/relationships/audio" Target="../media/&#22312;&#25105;&#26377;&#28857;&#27844;&#27668;&#30340;&#26102;&#20505;&#26159;&#20320;&#31216;&#36190;&#20102;&#25105;&#35753;&#25105;&#26377;&#20102;&#33258;&#20449;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audio" Target="../media/hamm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9.gif"/><Relationship Id="rId5" Type="http://schemas.openxmlformats.org/officeDocument/2006/relationships/image" Target="../media/image11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1.xml"/><Relationship Id="rId7" Type="http://schemas.openxmlformats.org/officeDocument/2006/relationships/slide" Target="slide16.xml"/><Relationship Id="rId8" Type="http://schemas.openxmlformats.org/officeDocument/2006/relationships/image" Target="../media/image7.gif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3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6.xml"/><Relationship Id="rId23" Type="http://schemas.openxmlformats.org/officeDocument/2006/relationships/slide" Target="slide17.xml"/><Relationship Id="rId24" Type="http://schemas.openxmlformats.org/officeDocument/2006/relationships/slide" Target="slide18.xml"/><Relationship Id="rId25" Type="http://schemas.openxmlformats.org/officeDocument/2006/relationships/slide" Target="slide19.xml"/><Relationship Id="rId26" Type="http://schemas.openxmlformats.org/officeDocument/2006/relationships/audio" Target="../media/arrow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5.png"/><Relationship Id="rId15" Type="http://schemas.openxmlformats.org/officeDocument/2006/relationships/slide" Target="slide2.xml"/><Relationship Id="rId16" Type="http://schemas.openxmlformats.org/officeDocument/2006/relationships/image" Target="../media/image11.gif"/><Relationship Id="rId17" Type="http://schemas.openxmlformats.org/officeDocument/2006/relationships/audio" Target="../media/chimes.wav"/><Relationship Id="rId18" Type="http://schemas.openxmlformats.org/officeDocument/2006/relationships/audio" Target="../media/hammer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9.gif"/><Relationship Id="rId27" Type="http://schemas.openxmlformats.org/officeDocument/2006/relationships/image" Target="../media/image10.gif"/><Relationship Id="rId28" Type="http://schemas.openxmlformats.org/officeDocument/2006/relationships/image" Target="../media/image14.png"/><Relationship Id="rId29" Type="http://schemas.openxmlformats.org/officeDocument/2006/relationships/slide" Target="slide2.xml"/><Relationship Id="rId30" Type="http://schemas.openxmlformats.org/officeDocument/2006/relationships/image" Target="../media/image11.gif"/><Relationship Id="rId31" Type="http://schemas.openxmlformats.org/officeDocument/2006/relationships/audio" Target="../media/chimes.wav"/><Relationship Id="rId32" Type="http://schemas.openxmlformats.org/officeDocument/2006/relationships/audio" Target="../media/hammer.wav"/><Relationship Id="rId33" Type="http://schemas.openxmlformats.org/officeDocument/2006/relationships/audio" Target="../media/hammer.wav"/><Relationship Id="rId34" Type="http://schemas.openxmlformats.org/officeDocument/2006/relationships/audio" Target="../media/hammer.wav"/><Relationship Id="rId35" Type="http://schemas.openxmlformats.org/officeDocument/2006/relationships/audio" Target="../media/hammer.wav"/><Relationship Id="rId36" Type="http://schemas.openxmlformats.org/officeDocument/2006/relationships/audio" Target="../media/hammer.wav"/><Relationship Id="rId37" Type="http://schemas.openxmlformats.org/officeDocument/2006/relationships/audio" Target="../media/hammer.wav"/><Relationship Id="rId38" Type="http://schemas.openxmlformats.org/officeDocument/2006/relationships/audio" Target="../media/hammer.wav"/><Relationship Id="rId39" Type="http://schemas.openxmlformats.org/officeDocument/2006/relationships/audio" Target="../media/hammer.wav"/><Relationship Id="rId40" Type="http://schemas.openxmlformats.org/officeDocument/2006/relationships/audio" Target="../media/hammer.wav"/><Relationship Id="rId41" Type="http://schemas.openxmlformats.org/officeDocument/2006/relationships/audio" Target="../media/hammer.wav"/><Relationship Id="rId42" Type="http://schemas.openxmlformats.org/officeDocument/2006/relationships/audio" Target="../media/hammer.wav"/><Relationship Id="rId43" Type="http://schemas.openxmlformats.org/officeDocument/2006/relationships/audio" Target="../media/hammer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" Target="slide2.xml"/><Relationship Id="rId9" Type="http://schemas.openxmlformats.org/officeDocument/2006/relationships/image" Target="../media/image11.gif"/><Relationship Id="rId10" Type="http://schemas.openxmlformats.org/officeDocument/2006/relationships/audio" Target="../media/chimes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hamm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slide" Target="slide2.xml"/><Relationship Id="rId17" Type="http://schemas.openxmlformats.org/officeDocument/2006/relationships/image" Target="../media/image11.gif"/><Relationship Id="rId18" Type="http://schemas.openxmlformats.org/officeDocument/2006/relationships/audio" Target="../media/chimes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arrow.wav"/><Relationship Id="rId25" Type="http://schemas.openxmlformats.org/officeDocument/2006/relationships/audio" Target="../media/hammer.wav"/><Relationship Id="rId26" Type="http://schemas.openxmlformats.org/officeDocument/2006/relationships/audio" Target="../media/arrow.wav"/><Relationship Id="rId27" Type="http://schemas.openxmlformats.org/officeDocument/2006/relationships/audio" Target="../media/hammer.wav"/><Relationship Id="rId28" Type="http://schemas.openxmlformats.org/officeDocument/2006/relationships/audio" Target="../media/arrow.wav"/><Relationship Id="rId29" Type="http://schemas.openxmlformats.org/officeDocument/2006/relationships/audio" Target="../media/hammer.wav"/><Relationship Id="rId30" Type="http://schemas.openxmlformats.org/officeDocument/2006/relationships/audio" Target="../media/arrow.wav"/><Relationship Id="rId31" Type="http://schemas.openxmlformats.org/officeDocument/2006/relationships/audio" Target="../media/hammer.wav"/><Relationship Id="rId32" Type="http://schemas.openxmlformats.org/officeDocument/2006/relationships/audio" Target="../media/arrow.wav"/><Relationship Id="rId33" Type="http://schemas.openxmlformats.org/officeDocument/2006/relationships/audio" Target="../media/hammer.wav"/><Relationship Id="rId34" Type="http://schemas.openxmlformats.org/officeDocument/2006/relationships/audio" Target="../media/arrow.wav"/><Relationship Id="rId35" Type="http://schemas.openxmlformats.org/officeDocument/2006/relationships/audio" Target="../media/hammer.wav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1&#27573;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2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" Target="slide2.xml"/><Relationship Id="rId5" Type="http://schemas.openxmlformats.org/officeDocument/2006/relationships/image" Target="../media/image11.gif"/><Relationship Id="rId6" Type="http://schemas.openxmlformats.org/officeDocument/2006/relationships/audio" Target="../media/3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rot="21241200">
            <a:off x="3347640" y="3141720"/>
            <a:ext cx="1397160" cy="2208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408600">
            <a:off x="5795640" y="3212640"/>
            <a:ext cx="1334880" cy="212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906480"/>
            <a:ext cx="172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Arial"/>
                <a:ea typeface="楷体_GB2312"/>
              </a:rPr>
              <a:t>称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836640"/>
            <a:ext cx="172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Arial"/>
                <a:ea typeface="楷体_GB2312"/>
              </a:rPr>
              <a:t>赞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西安市红星小学       王瑞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3.61111E-006 -0.00093 L 3.61111E-006 -0.07308 E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  <p:sndAc>
      <p:stSnd>
        <p:snd r:embed="rId6" name="4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1770120" cy="2233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2413080" y="3860640"/>
            <a:ext cx="1654200" cy="2087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971640" y="3429000"/>
            <a:ext cx="1600200" cy="20178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1425600" cy="1800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 rot="20618400">
            <a:off x="2626920" y="2636640"/>
            <a:ext cx="2112840" cy="2665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 rot="1242000">
            <a:off x="6516720" y="3860640"/>
            <a:ext cx="22845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1692360" y="549360"/>
            <a:ext cx="3600360" cy="1452960"/>
            <a:chOff x="1692360" y="549360"/>
            <a:chExt cx="3600360" cy="1452960"/>
          </a:xfrm>
        </p:grpSpPr>
        <p:sp>
          <p:nvSpPr>
            <p:cNvPr id="305" name=""/>
            <p:cNvSpPr/>
            <p:nvPr/>
          </p:nvSpPr>
          <p:spPr>
            <a:xfrm>
              <a:off x="1692360" y="549360"/>
              <a:ext cx="3600360" cy="1079280"/>
            </a:xfrm>
            <a:prstGeom prst="cloudCallout">
              <a:avLst>
                <a:gd name="adj1" fmla="val 13666"/>
                <a:gd name="adj2" fmla="val 120736"/>
              </a:avLst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36720" y="620640"/>
              <a:ext cx="331164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你  能干，小板凳做得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比一个</a:t>
              </a: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好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093080" y="1325520"/>
            <a:ext cx="1800000" cy="590400"/>
            <a:chOff x="7093080" y="1325520"/>
            <a:chExt cx="1800000" cy="590400"/>
          </a:xfrm>
        </p:grpSpPr>
        <p:sp>
          <p:nvSpPr>
            <p:cNvPr id="308" name=""/>
            <p:cNvSpPr/>
            <p:nvPr/>
          </p:nvSpPr>
          <p:spPr>
            <a:xfrm>
              <a:off x="7093080" y="1325520"/>
              <a:ext cx="1800000" cy="590400"/>
            </a:xfrm>
            <a:prstGeom prst="cloudCallout">
              <a:avLst>
                <a:gd name="adj1" fmla="val -17902"/>
                <a:gd name="adj2" fmla="val 170967"/>
              </a:avLst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35640" y="136512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真的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834280" y="62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56000" y="981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5%88%BA%E7%8C%AC%E7%A7%B0%E8%B5%9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7%9C%9F%E7%9A%84%E5%90%9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79280" y="692280"/>
            <a:ext cx="3961080" cy="936360"/>
            <a:chOff x="179280" y="692280"/>
            <a:chExt cx="3961080" cy="936360"/>
          </a:xfrm>
        </p:grpSpPr>
        <p:sp>
          <p:nvSpPr>
            <p:cNvPr id="316" name=""/>
            <p:cNvSpPr/>
            <p:nvPr/>
          </p:nvSpPr>
          <p:spPr>
            <a:xfrm>
              <a:off x="179280" y="692280"/>
              <a:ext cx="3961080" cy="936360"/>
            </a:xfrm>
            <a:prstGeom prst="cloudCallout">
              <a:avLst>
                <a:gd name="adj1" fmla="val 36412"/>
                <a:gd name="adj2" fmla="val 146777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8360" y="765000"/>
              <a:ext cx="345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我怎么能要    椅子呢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我可    什么呀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427640" y="0"/>
            <a:ext cx="4716000" cy="1800360"/>
            <a:chOff x="4427640" y="0"/>
            <a:chExt cx="4716000" cy="1800360"/>
          </a:xfrm>
        </p:grpSpPr>
        <p:sp>
          <p:nvSpPr>
            <p:cNvPr id="319" name=""/>
            <p:cNvSpPr/>
            <p:nvPr/>
          </p:nvSpPr>
          <p:spPr>
            <a:xfrm>
              <a:off x="4427640" y="0"/>
              <a:ext cx="4716000" cy="1800360"/>
            </a:xfrm>
            <a:prstGeom prst="cloudCallout">
              <a:avLst>
                <a:gd name="adj1" fmla="val -13472"/>
                <a:gd name="adj2" fmla="val 74953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02040" y="216000"/>
              <a:ext cx="41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在我有点    的时候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你   了我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让我有了    。瞧，我已经会做    了。这是我的一点心意，收下吧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268360" y="765000"/>
            <a:ext cx="7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108756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没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223920"/>
            <a:ext cx="7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泄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0" y="2239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称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43640" y="5112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自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836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椅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B2%A1%E5%B9%B2%E4%BB%80%E4%B9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9C%89%E4%BA%86%E8%87%AA%E4%BF%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611280" y="692280"/>
            <a:ext cx="3097080" cy="936360"/>
            <a:chOff x="611280" y="692280"/>
            <a:chExt cx="3097080" cy="936360"/>
          </a:xfrm>
        </p:grpSpPr>
        <p:sp>
          <p:nvSpPr>
            <p:cNvPr id="331" name=""/>
            <p:cNvSpPr/>
            <p:nvPr/>
          </p:nvSpPr>
          <p:spPr>
            <a:xfrm>
              <a:off x="611280" y="692280"/>
              <a:ext cx="3097080" cy="936360"/>
            </a:xfrm>
            <a:prstGeom prst="cloudCallout">
              <a:avLst>
                <a:gd name="adj1" fmla="val 42310"/>
                <a:gd name="adj2" fmla="val 138981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6920" y="765000"/>
              <a:ext cx="251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留下吧，这也是我的一点心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7%95%99%E4%B8%8B%E5%90%A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4788000" y="189000"/>
            <a:ext cx="4176360" cy="1079280"/>
            <a:chOff x="4788000" y="189000"/>
            <a:chExt cx="4176360" cy="1079280"/>
          </a:xfrm>
        </p:grpSpPr>
        <p:sp>
          <p:nvSpPr>
            <p:cNvPr id="337" name=""/>
            <p:cNvSpPr/>
            <p:nvPr/>
          </p:nvSpPr>
          <p:spPr>
            <a:xfrm>
              <a:off x="4788000" y="189000"/>
              <a:ext cx="4176360" cy="1079280"/>
            </a:xfrm>
            <a:prstGeom prst="cloudCallout">
              <a:avLst>
                <a:gd name="adj1" fmla="val -9000"/>
                <a:gd name="adj2" fmla="val 108527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92200" y="333360"/>
              <a:ext cx="36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你的苹果  极了，我    没有见过    好的苹果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24000" y="692280"/>
            <a:ext cx="3960720" cy="936360"/>
            <a:chOff x="324000" y="692280"/>
            <a:chExt cx="3960720" cy="936360"/>
          </a:xfrm>
        </p:grpSpPr>
        <p:sp>
          <p:nvSpPr>
            <p:cNvPr id="340" name=""/>
            <p:cNvSpPr/>
            <p:nvPr/>
          </p:nvSpPr>
          <p:spPr>
            <a:xfrm>
              <a:off x="324000" y="692280"/>
              <a:ext cx="3960720" cy="936360"/>
            </a:xfrm>
            <a:prstGeom prst="cloudCallout">
              <a:avLst>
                <a:gd name="adj1" fmla="val 22824"/>
                <a:gd name="adj2" fmla="val 100509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280" y="765000"/>
              <a:ext cx="34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谢谢你，你的    消除了我    的疲劳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71292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08840" y="333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从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35840" y="6206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这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79840" y="765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称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10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楷体_GB2312"/>
              </a:rPr>
              <a:t>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4%BD%A0%E4%B8%AA%E8%8B%B9%E6%9E%9C%E9%A6%99%E9%A6%99%E6%9E%81%E4%BA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B6%88%E9%99%A4%E4%BA%86%E7%96%B2%E5%8A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468360" y="1700280"/>
            <a:ext cx="8675640" cy="4142880"/>
            <a:chOff x="468360" y="1700280"/>
            <a:chExt cx="8675640" cy="4142880"/>
          </a:xfrm>
        </p:grpSpPr>
        <p:grpSp>
          <p:nvGrpSpPr>
            <p:cNvPr id="351" name=""/>
            <p:cNvGrpSpPr/>
            <p:nvPr/>
          </p:nvGrpSpPr>
          <p:grpSpPr>
            <a:xfrm>
              <a:off x="468360" y="3860640"/>
              <a:ext cx="8675640" cy="1982520"/>
              <a:chOff x="468360" y="3860640"/>
              <a:chExt cx="8675640" cy="1982520"/>
            </a:xfrm>
          </p:grpSpPr>
          <p:sp>
            <p:nvSpPr>
              <p:cNvPr id="352" name=""/>
              <p:cNvSpPr/>
              <p:nvPr/>
            </p:nvSpPr>
            <p:spPr>
              <a:xfrm>
                <a:off x="468360" y="3860640"/>
                <a:ext cx="8675640" cy="14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在小刺猬采果子回来感到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的时候，是小獾的称赞，让小刺猬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51640" y="5250240"/>
                <a:ext cx="30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16720" y="459072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9640" y="5835240"/>
                <a:ext cx="86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6520" y="53226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68360" y="1700280"/>
              <a:ext cx="8675640" cy="1410120"/>
              <a:chOff x="468360" y="1700280"/>
              <a:chExt cx="8675640" cy="1410120"/>
            </a:xfrm>
          </p:grpSpPr>
          <p:sp>
            <p:nvSpPr>
              <p:cNvPr id="358" name=""/>
              <p:cNvSpPr/>
              <p:nvPr/>
            </p:nvSpPr>
            <p:spPr>
              <a:xfrm>
                <a:off x="468360" y="1700280"/>
                <a:ext cx="8675640" cy="14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在小獾有点     的时候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小刺猬的称赞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,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让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小獾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                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43640" y="2474640"/>
                <a:ext cx="11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06920" y="3060000"/>
                <a:ext cx="194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3708360" y="1779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8720" y="393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4659480"/>
            <a:ext cx="8280360" cy="1218600"/>
            <a:chOff x="431640" y="4659480"/>
            <a:chExt cx="8280360" cy="1218600"/>
          </a:xfrm>
        </p:grpSpPr>
        <p:sp>
          <p:nvSpPr>
            <p:cNvPr id="364" name=""/>
            <p:cNvSpPr/>
            <p:nvPr/>
          </p:nvSpPr>
          <p:spPr>
            <a:xfrm>
              <a:off x="5597280" y="4659480"/>
              <a:ext cx="31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消除了一天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5235480"/>
              <a:ext cx="110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疲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770200" y="2427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了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50920" y="189000"/>
            <a:ext cx="3312720" cy="1439280"/>
            <a:chOff x="250920" y="189000"/>
            <a:chExt cx="3312720" cy="143928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 flipH="1">
              <a:off x="250920" y="189000"/>
              <a:ext cx="1295280" cy="14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1765440" y="458280"/>
              <a:ext cx="1798200" cy="62856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我 会 填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826920" y="54936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  <a:ea typeface="文鼎中特广告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1143000" cy="68076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2627280" y="1989000"/>
            <a:ext cx="3384720" cy="1079640"/>
            <a:chOff x="2627280" y="1989000"/>
            <a:chExt cx="3384720" cy="1079640"/>
          </a:xfrm>
        </p:grpSpPr>
        <p:sp>
          <p:nvSpPr>
            <p:cNvPr id="377" name=""/>
            <p:cNvSpPr/>
            <p:nvPr/>
          </p:nvSpPr>
          <p:spPr>
            <a:xfrm>
              <a:off x="2627280" y="1989000"/>
              <a:ext cx="3384720" cy="1079640"/>
            </a:xfrm>
            <a:prstGeom prst="cloudCallout">
              <a:avLst>
                <a:gd name="adj1" fmla="val 10930"/>
                <a:gd name="adj2" fmla="val 128824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7640" y="2101680"/>
              <a:ext cx="287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小朋友，你喜欢我和小獾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724360" y="907920"/>
            <a:ext cx="3240360" cy="1081080"/>
            <a:chOff x="5724360" y="907920"/>
            <a:chExt cx="3240360" cy="1081080"/>
          </a:xfrm>
        </p:grpSpPr>
        <p:sp>
          <p:nvSpPr>
            <p:cNvPr id="380" name=""/>
            <p:cNvSpPr/>
            <p:nvPr/>
          </p:nvSpPr>
          <p:spPr>
            <a:xfrm>
              <a:off x="5724360" y="907920"/>
              <a:ext cx="3240360" cy="1081080"/>
            </a:xfrm>
            <a:prstGeom prst="cloudCallout">
              <a:avLst>
                <a:gd name="adj1" fmla="val -9726"/>
                <a:gd name="adj2" fmla="val 187884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24360" y="981000"/>
              <a:ext cx="3168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你不想对我们说些什么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635280" y="3933720"/>
            <a:ext cx="3922920" cy="1916280"/>
            <a:chOff x="3635280" y="3933720"/>
            <a:chExt cx="3922920" cy="191628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3635280" y="4076640"/>
              <a:ext cx="165600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4"/>
            <a:stretch/>
          </p:blipFill>
          <p:spPr>
            <a:xfrm>
              <a:off x="6372360" y="3933720"/>
              <a:ext cx="1185840" cy="187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2233440" cy="11210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40680" y="6595920"/>
            <a:ext cx="571320" cy="190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888320" y="6595920"/>
            <a:ext cx="571320" cy="190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8388360" y="645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9" name="whoosh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2653560" y="3974040"/>
            <a:ext cx="4256280" cy="2119680"/>
            <a:chOff x="2653560" y="3974040"/>
            <a:chExt cx="4256280" cy="2119680"/>
          </a:xfrm>
        </p:grpSpPr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 rot="20760000">
              <a:off x="2842920" y="4147920"/>
              <a:ext cx="165600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 rot="565200">
              <a:off x="5578200" y="4076640"/>
              <a:ext cx="118584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5076720" y="1628640"/>
            <a:ext cx="3959280" cy="1800360"/>
            <a:chOff x="5076720" y="1628640"/>
            <a:chExt cx="3959280" cy="1800360"/>
          </a:xfrm>
        </p:grpSpPr>
        <p:sp>
          <p:nvSpPr>
            <p:cNvPr id="393" name=""/>
            <p:cNvSpPr/>
            <p:nvPr/>
          </p:nvSpPr>
          <p:spPr>
            <a:xfrm>
              <a:off x="5076720" y="1628640"/>
              <a:ext cx="3959280" cy="1800360"/>
            </a:xfrm>
            <a:prstGeom prst="cloudCallout">
              <a:avLst>
                <a:gd name="adj1" fmla="val -17240"/>
                <a:gd name="adj2" fmla="val 77425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92720" y="1771560"/>
              <a:ext cx="34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在我有点泄气的时候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是你称赞了我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让我有了自信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4360" y="1989000"/>
            <a:ext cx="4248000" cy="1295640"/>
            <a:chOff x="684360" y="1989000"/>
            <a:chExt cx="4248000" cy="1295640"/>
          </a:xfrm>
        </p:grpSpPr>
        <p:sp>
          <p:nvSpPr>
            <p:cNvPr id="396" name=""/>
            <p:cNvSpPr/>
            <p:nvPr/>
          </p:nvSpPr>
          <p:spPr>
            <a:xfrm>
              <a:off x="684360" y="1989000"/>
              <a:ext cx="4248000" cy="1295640"/>
            </a:xfrm>
            <a:prstGeom prst="cloudCallout">
              <a:avLst>
                <a:gd name="adj1" fmla="val 15805"/>
                <a:gd name="adj2" fmla="val 99018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16000" y="213192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你的称赞消除了我一天的疲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050920" y="404640"/>
            <a:ext cx="6985080" cy="432000"/>
          </a:xfrm>
          <a:prstGeom prst="wedgeRectCallout">
            <a:avLst>
              <a:gd name="adj1" fmla="val -60634"/>
              <a:gd name="adj2" fmla="val 16546"/>
            </a:avLst>
          </a:prstGeom>
          <a:solidFill>
            <a:srgbClr val="0080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刺猬和小獾感受到了称赞的妙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感受到了吗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106200" y="406440"/>
            <a:ext cx="1225800" cy="15825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627280" y="333360"/>
            <a:ext cx="4824360" cy="2087640"/>
          </a:xfrm>
          <a:prstGeom prst="cloudCallout">
            <a:avLst>
              <a:gd name="adj1" fmla="val -71324"/>
              <a:gd name="adj2" fmla="val -2064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让我们再体会体会听到称赞后的感受吧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8459640" y="645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4%BD%A0%E7%9A%84%E7%A7%B0%E8%B5%9E%E6%B6%88%E9%99%A4%E4%BA%86%E6%88%91%E4%B8%80%E5%A4%A9%E7%9A%84%E7%96%B2%E5%8A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5%9C%A8%E6%88%91%E6%9C%89%E7%82%B9%E6%B3%84%E6%B0%94%E7%9A%84%E6%97%B6%E5%80%99%E6%98%AF%E4%BD%A0%E7%A7%B0%E8%B5%9E%E4%BA%86%E6%88%91%E8%AE%A9%E6%88%91%E6%9C%89%E4%BA%86%E8%87%AA%E4%BF%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250920" y="4797360"/>
            <a:ext cx="8496000" cy="1584360"/>
            <a:chOff x="250920" y="4797360"/>
            <a:chExt cx="8496000" cy="1584360"/>
          </a:xfrm>
        </p:grpSpPr>
        <p:sp>
          <p:nvSpPr>
            <p:cNvPr id="405" name=""/>
            <p:cNvSpPr/>
            <p:nvPr/>
          </p:nvSpPr>
          <p:spPr>
            <a:xfrm>
              <a:off x="322200" y="4870080"/>
              <a:ext cx="8424720" cy="15116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50920" y="4797360"/>
              <a:ext cx="8477280" cy="1410120"/>
              <a:chOff x="250920" y="4797360"/>
              <a:chExt cx="8477280" cy="1410120"/>
            </a:xfrm>
          </p:grpSpPr>
          <p:sp>
            <p:nvSpPr>
              <p:cNvPr id="407" name=""/>
              <p:cNvSpPr/>
              <p:nvPr/>
            </p:nvSpPr>
            <p:spPr>
              <a:xfrm>
                <a:off x="250920" y="4797360"/>
                <a:ext cx="8477280" cy="14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       </a:t>
                </a:r>
                <a:r>
                  <a:rPr b="1" lang="zh-CN" sz="36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在我                  的时候，              称赞了我，让我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74760" y="5445000"/>
                <a:ext cx="23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64200" y="5445000"/>
                <a:ext cx="1963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30560" y="6165720"/>
                <a:ext cx="42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36160" y="56466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-36360"/>
            <a:ext cx="1728720" cy="1089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907920"/>
            <a:ext cx="2340000" cy="86364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合作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042920" y="333360"/>
            <a:ext cx="8101080" cy="4470480"/>
            <a:chOff x="1042920" y="333360"/>
            <a:chExt cx="8101080" cy="447048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3924360" y="2421000"/>
              <a:ext cx="331308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042920" y="1844640"/>
              <a:ext cx="2665440" cy="720720"/>
            </a:xfrm>
            <a:prstGeom prst="cloudCallout">
              <a:avLst>
                <a:gd name="adj1" fmla="val 57861"/>
                <a:gd name="adj2" fmla="val 9933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我也是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5651640" y="333360"/>
              <a:ext cx="3492360" cy="1150920"/>
              <a:chOff x="5651640" y="333360"/>
              <a:chExt cx="3492360" cy="1150920"/>
            </a:xfrm>
          </p:grpSpPr>
          <p:sp>
            <p:nvSpPr>
              <p:cNvPr id="418" name=""/>
              <p:cNvSpPr/>
              <p:nvPr/>
            </p:nvSpPr>
            <p:spPr>
              <a:xfrm>
                <a:off x="5651640" y="333360"/>
                <a:ext cx="3492360" cy="1150920"/>
              </a:xfrm>
              <a:prstGeom prst="cloudCallout">
                <a:avLst>
                  <a:gd name="adj1" fmla="val -19819"/>
                  <a:gd name="adj2" fmla="val 117722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0360" y="446040"/>
                <a:ext cx="280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   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每次得到别人的称赞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都让我……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40680" y="6595920"/>
            <a:ext cx="571320" cy="1908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888320" y="6595920"/>
            <a:ext cx="571320" cy="190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8459640" y="645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3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879640" cy="14176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908000" y="33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要得到别人的称赞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先要学会称赞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967280" y="1773360"/>
            <a:ext cx="4176720" cy="1439640"/>
            <a:chOff x="4967280" y="1773360"/>
            <a:chExt cx="4176720" cy="1439640"/>
          </a:xfrm>
        </p:grpSpPr>
        <p:sp>
          <p:nvSpPr>
            <p:cNvPr id="426" name=""/>
            <p:cNvSpPr/>
            <p:nvPr/>
          </p:nvSpPr>
          <p:spPr>
            <a:xfrm>
              <a:off x="4967280" y="1773360"/>
              <a:ext cx="4176720" cy="1439640"/>
            </a:xfrm>
            <a:prstGeom prst="cloudCallout">
              <a:avLst>
                <a:gd name="adj1" fmla="val -23129"/>
                <a:gd name="adj2" fmla="val 83185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00720" y="1989000"/>
              <a:ext cx="345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今天课堂上，你的发言精彩极了</a:t>
              </a: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2360" y="2060640"/>
            <a:ext cx="3958920" cy="1368360"/>
            <a:chOff x="252360" y="2060640"/>
            <a:chExt cx="3958920" cy="1368360"/>
          </a:xfrm>
        </p:grpSpPr>
        <p:sp>
          <p:nvSpPr>
            <p:cNvPr id="429" name=""/>
            <p:cNvSpPr/>
            <p:nvPr/>
          </p:nvSpPr>
          <p:spPr>
            <a:xfrm>
              <a:off x="252360" y="2060640"/>
              <a:ext cx="3958920" cy="1368360"/>
            </a:xfrm>
            <a:prstGeom prst="cloudCallout">
              <a:avLst>
                <a:gd name="adj1" fmla="val 17199"/>
                <a:gd name="adj2" fmla="val 97564"/>
              </a:avLst>
            </a:prstGeom>
            <a:solidFill>
              <a:srgbClr val="cc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0920" y="220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是吗</a:t>
              </a: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?</a:t>
              </a:r>
              <a:r>
                <a:rPr b="1" lang="zh-CN" sz="2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你的称赞让我增添了勇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2843280" y="3697200"/>
            <a:ext cx="3672000" cy="29703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72320" y="655164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8388360" y="645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24000" y="189000"/>
            <a:ext cx="4772160" cy="1263600"/>
          </a:xfrm>
          <a:prstGeom prst="cloudCallout">
            <a:avLst>
              <a:gd name="adj1" fmla="val -44976"/>
              <a:gd name="adj2" fmla="val 102259"/>
            </a:avLst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让我们一起学习课文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51272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4321440" cy="214776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2484360" y="5445000"/>
            <a:ext cx="2158920" cy="648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朗读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179280" y="5445000"/>
            <a:ext cx="2232000" cy="648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学习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4716360" y="5445000"/>
            <a:ext cx="2160720" cy="648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精读感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6948360" y="5445000"/>
            <a:ext cx="1944720" cy="648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55640" y="4869000"/>
            <a:ext cx="7993080" cy="14436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2914560" y="623736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3274920" y="623736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3635280" y="623736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995640" y="623736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611280" y="623736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971640" y="623736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1332000" y="623736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1692360" y="6237360"/>
            <a:ext cx="215640" cy="21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4932360" y="6237360"/>
            <a:ext cx="216000" cy="216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5292720" y="6237360"/>
            <a:ext cx="216000" cy="216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5653080" y="6237360"/>
            <a:ext cx="216000" cy="216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6013440" y="6237360"/>
            <a:ext cx="216000" cy="216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1" action="ppaction://hlinksldjump"/>
          </p:cNvPr>
          <p:cNvSpPr/>
          <p:nvPr/>
        </p:nvSpPr>
        <p:spPr>
          <a:xfrm>
            <a:off x="6372360" y="6237360"/>
            <a:ext cx="215640" cy="216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宋体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2" action="ppaction://hlinksldjump"/>
          </p:cNvPr>
          <p:cNvSpPr/>
          <p:nvPr/>
        </p:nvSpPr>
        <p:spPr>
          <a:xfrm>
            <a:off x="7236000" y="623736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3" action="ppaction://hlinksldjump"/>
          </p:cNvPr>
          <p:cNvSpPr/>
          <p:nvPr/>
        </p:nvSpPr>
        <p:spPr>
          <a:xfrm>
            <a:off x="7596360" y="623736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4" action="ppaction://hlinksldjump"/>
          </p:cNvPr>
          <p:cNvSpPr/>
          <p:nvPr/>
        </p:nvSpPr>
        <p:spPr>
          <a:xfrm>
            <a:off x="7956720" y="623736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宋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8317080" y="623736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宋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6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24000" y="1413000"/>
            <a:ext cx="8497800" cy="4928760"/>
            <a:chOff x="324000" y="1413000"/>
            <a:chExt cx="8497800" cy="4928760"/>
          </a:xfrm>
        </p:grpSpPr>
        <p:grpSp>
          <p:nvGrpSpPr>
            <p:cNvPr id="72" name=""/>
            <p:cNvGrpSpPr/>
            <p:nvPr/>
          </p:nvGrpSpPr>
          <p:grpSpPr>
            <a:xfrm>
              <a:off x="324000" y="1413000"/>
              <a:ext cx="8497800" cy="4680000"/>
              <a:chOff x="324000" y="1413000"/>
              <a:chExt cx="8497800" cy="4680000"/>
            </a:xfrm>
          </p:grpSpPr>
          <p:sp>
            <p:nvSpPr>
              <p:cNvPr id="73" name=""/>
              <p:cNvSpPr/>
              <p:nvPr/>
            </p:nvSpPr>
            <p:spPr>
              <a:xfrm>
                <a:off x="4716360" y="1413000"/>
                <a:ext cx="4105440" cy="4680000"/>
              </a:xfrm>
              <a:prstGeom prst="rect">
                <a:avLst/>
              </a:prstGeom>
              <a:solidFill>
                <a:srgbClr val="cc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4000" y="1413000"/>
                <a:ext cx="4176720" cy="4680000"/>
              </a:xfrm>
              <a:prstGeom prst="rect">
                <a:avLst/>
              </a:prstGeom>
              <a:solidFill>
                <a:srgbClr val="cc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04280" y="1491120"/>
              <a:ext cx="8223480" cy="4850640"/>
              <a:chOff x="404280" y="1491120"/>
              <a:chExt cx="8223480" cy="48506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741360" y="1528920"/>
                <a:ext cx="1886400" cy="1682280"/>
                <a:chOff x="6741360" y="1528920"/>
                <a:chExt cx="1886400" cy="1682280"/>
              </a:xfrm>
            </p:grpSpPr>
            <p:pic>
              <p:nvPicPr>
                <p:cNvPr id="77" name="" descr=""/>
                <p:cNvPicPr/>
                <p:nvPr/>
              </p:nvPicPr>
              <p:blipFill>
                <a:blip r:embed="rId2"/>
                <a:stretch/>
              </p:blipFill>
              <p:spPr>
                <a:xfrm rot="20055000">
                  <a:off x="6906600" y="181116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>
                  <a:off x="6878520" y="188388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泄气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420640" y="3112920"/>
                <a:ext cx="1886040" cy="1681920"/>
                <a:chOff x="2420640" y="3112920"/>
                <a:chExt cx="1886040" cy="1681920"/>
              </a:xfrm>
            </p:grpSpPr>
            <p:pic>
              <p:nvPicPr>
                <p:cNvPr id="80" name="" descr=""/>
                <p:cNvPicPr/>
                <p:nvPr/>
              </p:nvPicPr>
              <p:blipFill>
                <a:blip r:embed="rId3"/>
                <a:stretch/>
              </p:blipFill>
              <p:spPr>
                <a:xfrm rot="20055000">
                  <a:off x="2585880" y="3395160"/>
                  <a:ext cx="1555200" cy="111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2557440" y="346824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椅子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04640" y="3112920"/>
                <a:ext cx="1886040" cy="1681920"/>
                <a:chOff x="404640" y="3112920"/>
                <a:chExt cx="1886040" cy="1681920"/>
              </a:xfrm>
            </p:grpSpPr>
            <p:pic>
              <p:nvPicPr>
                <p:cNvPr id="83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20055000">
                  <a:off x="569880" y="3395160"/>
                  <a:ext cx="1555200" cy="111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>
                  <a:off x="541440" y="346824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板凳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869720" y="3184560"/>
                <a:ext cx="1886400" cy="1682280"/>
                <a:chOff x="4869720" y="3184560"/>
                <a:chExt cx="1886400" cy="168228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5"/>
                <a:stretch/>
              </p:blipFill>
              <p:spPr>
                <a:xfrm rot="20055000">
                  <a:off x="5034960" y="346680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>
                  <a:off x="5006880" y="353952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留下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741360" y="3184560"/>
                <a:ext cx="1886400" cy="1682280"/>
                <a:chOff x="6741360" y="3184560"/>
                <a:chExt cx="1886400" cy="1682280"/>
              </a:xfrm>
            </p:grpSpPr>
            <p:pic>
              <p:nvPicPr>
                <p:cNvPr id="89" name="" descr=""/>
                <p:cNvPicPr/>
                <p:nvPr/>
              </p:nvPicPr>
              <p:blipFill>
                <a:blip r:embed="rId6"/>
                <a:stretch/>
              </p:blipFill>
              <p:spPr>
                <a:xfrm rot="20055000">
                  <a:off x="6906600" y="346680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>
                  <a:off x="6878520" y="353952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瞧见 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869720" y="4626000"/>
                <a:ext cx="1886400" cy="1682280"/>
                <a:chOff x="4869720" y="4626000"/>
                <a:chExt cx="1886400" cy="1682280"/>
              </a:xfrm>
            </p:grpSpPr>
            <p:pic>
              <p:nvPicPr>
                <p:cNvPr id="92" name="" descr=""/>
                <p:cNvPicPr/>
                <p:nvPr/>
              </p:nvPicPr>
              <p:blipFill>
                <a:blip r:embed="rId7"/>
                <a:stretch/>
              </p:blipFill>
              <p:spPr>
                <a:xfrm rot="20055000">
                  <a:off x="5034960" y="490824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>
                  <a:off x="5006880" y="498096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但是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04280" y="4659480"/>
                <a:ext cx="1886400" cy="1682280"/>
                <a:chOff x="404280" y="4659480"/>
                <a:chExt cx="1886400" cy="1682280"/>
              </a:xfrm>
            </p:grpSpPr>
            <p:pic>
              <p:nvPicPr>
                <p:cNvPr id="95" name="" descr=""/>
                <p:cNvPicPr/>
                <p:nvPr/>
              </p:nvPicPr>
              <p:blipFill>
                <a:blip r:embed="rId8"/>
                <a:stretch/>
              </p:blipFill>
              <p:spPr>
                <a:xfrm rot="20055000">
                  <a:off x="569520" y="494172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>
                  <a:off x="541440" y="501444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傍晚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420280" y="1528920"/>
                <a:ext cx="1886400" cy="1682280"/>
                <a:chOff x="2420280" y="1528920"/>
                <a:chExt cx="1886400" cy="1682280"/>
              </a:xfrm>
            </p:grpSpPr>
            <p:pic>
              <p:nvPicPr>
                <p:cNvPr id="98" name="" descr=""/>
                <p:cNvPicPr/>
                <p:nvPr/>
              </p:nvPicPr>
              <p:blipFill>
                <a:blip r:embed="rId9"/>
                <a:stretch/>
              </p:blipFill>
              <p:spPr>
                <a:xfrm rot="20055000">
                  <a:off x="2585520" y="181116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>
                  <a:off x="2557440" y="188388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刺猬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04280" y="1491120"/>
                <a:ext cx="1886400" cy="1682280"/>
                <a:chOff x="404280" y="1491120"/>
                <a:chExt cx="1886400" cy="1682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10"/>
                <a:stretch/>
              </p:blipFill>
              <p:spPr>
                <a:xfrm rot="20055000">
                  <a:off x="569520" y="177336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541440" y="184608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小獾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869720" y="1528920"/>
                <a:ext cx="1886400" cy="1682280"/>
                <a:chOff x="4869720" y="1528920"/>
                <a:chExt cx="1886400" cy="16822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11"/>
                <a:stretch/>
              </p:blipFill>
              <p:spPr>
                <a:xfrm rot="20055000">
                  <a:off x="5034960" y="1811160"/>
                  <a:ext cx="155520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>
                  <a:off x="5006880" y="1883880"/>
                  <a:ext cx="15840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800" spc="-1" strike="noStrike">
                      <a:solidFill>
                        <a:srgbClr val="660066"/>
                      </a:solidFill>
                      <a:latin typeface="Arial"/>
                      <a:ea typeface="楷体_GB2312"/>
                    </a:rPr>
                    <a:t>粗糙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"/>
          <p:cNvSpPr/>
          <p:nvPr/>
        </p:nvSpPr>
        <p:spPr>
          <a:xfrm>
            <a:off x="4491000" y="26240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41440" y="1484280"/>
            <a:ext cx="7632720" cy="3632040"/>
            <a:chOff x="541440" y="1484280"/>
            <a:chExt cx="7632720" cy="3632040"/>
          </a:xfrm>
        </p:grpSpPr>
        <p:sp>
          <p:nvSpPr>
            <p:cNvPr id="108" name=""/>
            <p:cNvSpPr/>
            <p:nvPr/>
          </p:nvSpPr>
          <p:spPr>
            <a:xfrm>
              <a:off x="5149800" y="45957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Kingsoft Phonetic Plain"/>
                  <a:ea typeface="Kingsoft Phonetic Plain"/>
                </a:rPr>
                <a:t>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41440" y="1484280"/>
              <a:ext cx="7632720" cy="3632040"/>
              <a:chOff x="541440" y="1484280"/>
              <a:chExt cx="7632720" cy="3632040"/>
            </a:xfrm>
          </p:grpSpPr>
          <p:sp>
            <p:nvSpPr>
              <p:cNvPr id="110" name=""/>
              <p:cNvSpPr/>
              <p:nvPr/>
            </p:nvSpPr>
            <p:spPr>
              <a:xfrm>
                <a:off x="1116000" y="1484280"/>
                <a:ext cx="10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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57440" y="1484280"/>
                <a:ext cx="1368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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1440" y="3068640"/>
                <a:ext cx="18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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73440" y="3083040"/>
                <a:ext cx="576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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24720" y="1484280"/>
                <a:ext cx="86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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1440" y="459576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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21440" y="148428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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221440" y="30830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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50160" y="308304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Kingsoft Phonetic Plain"/>
                    <a:ea typeface="Kingsoft Phonetic Plain"/>
                  </a:rPr>
                  <a:t>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" descr="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7451640" y="645336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099280" y="645336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250920" y="189000"/>
            <a:ext cx="1152360" cy="109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92360" y="404640"/>
            <a:ext cx="2158920" cy="520560"/>
          </a:xfrm>
          <a:prstGeom prst="rect">
            <a:avLst/>
          </a:prstGeom>
          <a:solidFill>
            <a:srgbClr val="ff9900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方正粗倩简体"/>
              </a:rPr>
              <a:t>我 会 认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方正粗倩简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53272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47640" y="476280"/>
            <a:ext cx="7128000" cy="2232000"/>
          </a:xfrm>
          <a:prstGeom prst="cloudCallout">
            <a:avLst>
              <a:gd name="adj1" fmla="val -33939"/>
              <a:gd name="adj2" fmla="val 98791"/>
            </a:avLst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朋友，在这些字中你发现了什么？你有好方法记住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628640"/>
            <a:ext cx="900000" cy="882360"/>
            <a:chOff x="0" y="1628640"/>
            <a:chExt cx="900000" cy="88236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0" y="162864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920" y="168588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1280" y="981000"/>
            <a:ext cx="900000" cy="882360"/>
            <a:chOff x="611280" y="981000"/>
            <a:chExt cx="900000" cy="88236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611280" y="98100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46200" y="103824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0" y="5977080"/>
            <a:ext cx="900000" cy="882000"/>
            <a:chOff x="0" y="5977080"/>
            <a:chExt cx="900000" cy="88200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0" y="5977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4920" y="6033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55640" y="5977080"/>
            <a:ext cx="900000" cy="882000"/>
            <a:chOff x="755640" y="5977080"/>
            <a:chExt cx="900000" cy="882000"/>
          </a:xfrm>
        </p:grpSpPr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755640" y="5977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90560" y="6033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68360" y="1684440"/>
            <a:ext cx="900000" cy="882000"/>
            <a:chOff x="1368360" y="1684440"/>
            <a:chExt cx="900000" cy="882000"/>
          </a:xfrm>
        </p:grpSpPr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1368360" y="168444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403280" y="174132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476360" y="5977080"/>
            <a:ext cx="900000" cy="882000"/>
            <a:chOff x="1476360" y="5977080"/>
            <a:chExt cx="900000" cy="882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476360" y="5977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11280" y="6033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cc"/>
                  </a:solidFill>
                  <a:latin typeface="Times New Roman"/>
                  <a:ea typeface="楷体_GB2312"/>
                </a:rPr>
                <a:t>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158920" y="189000"/>
            <a:ext cx="900000" cy="882000"/>
            <a:chOff x="2158920" y="189000"/>
            <a:chExt cx="900000" cy="88200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2158920" y="18900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193840" y="24588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158920" y="6004080"/>
            <a:ext cx="900000" cy="882000"/>
            <a:chOff x="2158920" y="6004080"/>
            <a:chExt cx="900000" cy="882000"/>
          </a:xfrm>
        </p:grpSpPr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>
              <a:off x="215892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19384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951280" y="1179360"/>
            <a:ext cx="900000" cy="882360"/>
            <a:chOff x="2951280" y="1179360"/>
            <a:chExt cx="900000" cy="882360"/>
          </a:xfrm>
        </p:grpSpPr>
        <p:pic>
          <p:nvPicPr>
            <p:cNvPr id="150" name="" descr=""/>
            <p:cNvPicPr/>
            <p:nvPr/>
          </p:nvPicPr>
          <p:blipFill>
            <a:blip r:embed="rId10"/>
            <a:stretch/>
          </p:blipFill>
          <p:spPr>
            <a:xfrm>
              <a:off x="2951280" y="117936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86200" y="123660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16360" y="6004080"/>
            <a:ext cx="900000" cy="882000"/>
            <a:chOff x="2916360" y="6004080"/>
            <a:chExt cx="900000" cy="882000"/>
          </a:xfrm>
        </p:grpSpPr>
        <p:pic>
          <p:nvPicPr>
            <p:cNvPr id="153" name="" descr=""/>
            <p:cNvPicPr/>
            <p:nvPr/>
          </p:nvPicPr>
          <p:blipFill>
            <a:blip r:embed="rId11"/>
            <a:stretch/>
          </p:blipFill>
          <p:spPr>
            <a:xfrm>
              <a:off x="291636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95128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603360"/>
            <a:ext cx="900000" cy="882000"/>
            <a:chOff x="3672000" y="603360"/>
            <a:chExt cx="900000" cy="882000"/>
          </a:xfrm>
        </p:grpSpPr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3672000" y="60336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706920" y="66024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672000" y="6004080"/>
            <a:ext cx="900000" cy="882000"/>
            <a:chOff x="3672000" y="6004080"/>
            <a:chExt cx="900000" cy="882000"/>
          </a:xfrm>
        </p:grpSpPr>
        <p:pic>
          <p:nvPicPr>
            <p:cNvPr id="159" name="" descr=""/>
            <p:cNvPicPr/>
            <p:nvPr/>
          </p:nvPicPr>
          <p:blipFill>
            <a:blip r:embed="rId13"/>
            <a:stretch/>
          </p:blipFill>
          <p:spPr>
            <a:xfrm>
              <a:off x="367200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0692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464000" y="171360"/>
            <a:ext cx="900000" cy="882360"/>
            <a:chOff x="4464000" y="171360"/>
            <a:chExt cx="900000" cy="882360"/>
          </a:xfrm>
        </p:grpSpPr>
        <p:pic>
          <p:nvPicPr>
            <p:cNvPr id="162" name="" descr=""/>
            <p:cNvPicPr/>
            <p:nvPr/>
          </p:nvPicPr>
          <p:blipFill>
            <a:blip r:embed="rId14"/>
            <a:stretch/>
          </p:blipFill>
          <p:spPr>
            <a:xfrm>
              <a:off x="4464000" y="17136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498920" y="22860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64000" y="6004080"/>
            <a:ext cx="900000" cy="882000"/>
            <a:chOff x="4464000" y="6004080"/>
            <a:chExt cx="900000" cy="882000"/>
          </a:xfrm>
        </p:grpSpPr>
        <p:pic>
          <p:nvPicPr>
            <p:cNvPr id="165" name="" descr=""/>
            <p:cNvPicPr/>
            <p:nvPr/>
          </p:nvPicPr>
          <p:blipFill>
            <a:blip r:embed="rId15"/>
            <a:stretch/>
          </p:blipFill>
          <p:spPr>
            <a:xfrm>
              <a:off x="446400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49892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219640" y="1611360"/>
            <a:ext cx="900000" cy="882000"/>
            <a:chOff x="5219640" y="1611360"/>
            <a:chExt cx="900000" cy="882000"/>
          </a:xfrm>
        </p:grpSpPr>
        <p:pic>
          <p:nvPicPr>
            <p:cNvPr id="168" name="" descr=""/>
            <p:cNvPicPr/>
            <p:nvPr/>
          </p:nvPicPr>
          <p:blipFill>
            <a:blip r:embed="rId16"/>
            <a:stretch/>
          </p:blipFill>
          <p:spPr>
            <a:xfrm>
              <a:off x="5219640" y="161136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254560" y="166824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19640" y="6004080"/>
            <a:ext cx="900000" cy="882000"/>
            <a:chOff x="5219640" y="6004080"/>
            <a:chExt cx="900000" cy="882000"/>
          </a:xfrm>
        </p:grpSpPr>
        <p:pic>
          <p:nvPicPr>
            <p:cNvPr id="171" name="" descr=""/>
            <p:cNvPicPr/>
            <p:nvPr/>
          </p:nvPicPr>
          <p:blipFill>
            <a:blip r:embed="rId17"/>
            <a:stretch/>
          </p:blipFill>
          <p:spPr>
            <a:xfrm>
              <a:off x="521964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5456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ffcc"/>
                  </a:solidFill>
                  <a:latin typeface="Times New Roman"/>
                  <a:ea typeface="楷体_GB2312"/>
                </a:rPr>
                <a:t>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77080" y="387360"/>
            <a:ext cx="900000" cy="882000"/>
            <a:chOff x="5977080" y="387360"/>
            <a:chExt cx="900000" cy="882000"/>
          </a:xfrm>
        </p:grpSpPr>
        <p:pic>
          <p:nvPicPr>
            <p:cNvPr id="174" name="" descr=""/>
            <p:cNvPicPr/>
            <p:nvPr/>
          </p:nvPicPr>
          <p:blipFill>
            <a:blip r:embed="rId18"/>
            <a:stretch/>
          </p:blipFill>
          <p:spPr>
            <a:xfrm>
              <a:off x="5977080" y="38736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012000" y="44424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77080" y="6004080"/>
            <a:ext cx="900000" cy="882000"/>
            <a:chOff x="5977080" y="6004080"/>
            <a:chExt cx="900000" cy="882000"/>
          </a:xfrm>
        </p:grpSpPr>
        <p:pic>
          <p:nvPicPr>
            <p:cNvPr id="177" name="" descr=""/>
            <p:cNvPicPr/>
            <p:nvPr/>
          </p:nvPicPr>
          <p:blipFill>
            <a:blip r:embed="rId19"/>
            <a:stretch/>
          </p:blipFill>
          <p:spPr>
            <a:xfrm>
              <a:off x="597708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01200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732720" y="907920"/>
            <a:ext cx="900000" cy="882360"/>
            <a:chOff x="6732720" y="907920"/>
            <a:chExt cx="900000" cy="882360"/>
          </a:xfrm>
        </p:grpSpPr>
        <p:pic>
          <p:nvPicPr>
            <p:cNvPr id="180" name="" descr=""/>
            <p:cNvPicPr/>
            <p:nvPr/>
          </p:nvPicPr>
          <p:blipFill>
            <a:blip r:embed="rId20"/>
            <a:stretch/>
          </p:blipFill>
          <p:spPr>
            <a:xfrm>
              <a:off x="6732720" y="90792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767640" y="9651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732720" y="6004080"/>
            <a:ext cx="900000" cy="882000"/>
            <a:chOff x="6732720" y="6004080"/>
            <a:chExt cx="900000" cy="882000"/>
          </a:xfrm>
        </p:grpSpPr>
        <p:pic>
          <p:nvPicPr>
            <p:cNvPr id="183" name="" descr=""/>
            <p:cNvPicPr/>
            <p:nvPr/>
          </p:nvPicPr>
          <p:blipFill>
            <a:blip r:embed="rId21"/>
            <a:stretch/>
          </p:blipFill>
          <p:spPr>
            <a:xfrm>
              <a:off x="673272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76764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cc"/>
                  </a:solidFill>
                  <a:latin typeface="Times New Roman"/>
                  <a:ea typeface="楷体_GB2312"/>
                </a:rPr>
                <a:t>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451640" y="2187720"/>
            <a:ext cx="900000" cy="882000"/>
            <a:chOff x="7451640" y="2187720"/>
            <a:chExt cx="900000" cy="882000"/>
          </a:xfrm>
        </p:grpSpPr>
        <p:pic>
          <p:nvPicPr>
            <p:cNvPr id="186" name="" descr=""/>
            <p:cNvPicPr/>
            <p:nvPr/>
          </p:nvPicPr>
          <p:blipFill>
            <a:blip r:embed="rId22"/>
            <a:stretch/>
          </p:blipFill>
          <p:spPr>
            <a:xfrm>
              <a:off x="7451640" y="218772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486560" y="224460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泄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51640" y="6004080"/>
            <a:ext cx="900000" cy="882000"/>
            <a:chOff x="7451640" y="6004080"/>
            <a:chExt cx="900000" cy="882000"/>
          </a:xfrm>
        </p:grpSpPr>
        <p:pic>
          <p:nvPicPr>
            <p:cNvPr id="189" name="" descr=""/>
            <p:cNvPicPr/>
            <p:nvPr/>
          </p:nvPicPr>
          <p:blipFill>
            <a:blip r:embed="rId23"/>
            <a:stretch/>
          </p:blipFill>
          <p:spPr>
            <a:xfrm>
              <a:off x="745164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48656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泄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172360" y="1179360"/>
            <a:ext cx="900000" cy="882360"/>
            <a:chOff x="8172360" y="1179360"/>
            <a:chExt cx="900000" cy="882360"/>
          </a:xfrm>
        </p:grpSpPr>
        <p:pic>
          <p:nvPicPr>
            <p:cNvPr id="192" name="" descr=""/>
            <p:cNvPicPr/>
            <p:nvPr/>
          </p:nvPicPr>
          <p:blipFill>
            <a:blip r:embed="rId24"/>
            <a:stretch/>
          </p:blipFill>
          <p:spPr>
            <a:xfrm>
              <a:off x="8172360" y="1179360"/>
              <a:ext cx="9000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207280" y="123660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172360" y="6004080"/>
            <a:ext cx="900000" cy="882000"/>
            <a:chOff x="8172360" y="6004080"/>
            <a:chExt cx="900000" cy="882000"/>
          </a:xfrm>
        </p:grpSpPr>
        <p:pic>
          <p:nvPicPr>
            <p:cNvPr id="195" name="" descr=""/>
            <p:cNvPicPr/>
            <p:nvPr/>
          </p:nvPicPr>
          <p:blipFill>
            <a:blip r:embed="rId25"/>
            <a:stretch/>
          </p:blipFill>
          <p:spPr>
            <a:xfrm>
              <a:off x="8172360" y="6004080"/>
              <a:ext cx="900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207280" y="60609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ff00"/>
                  </a:solidFill>
                  <a:latin typeface="Times New Roman"/>
                  <a:ea typeface="楷体_GB2312"/>
                </a:rPr>
                <a:t>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>
            <a:hlinkClick r:id="" action="ppaction://hlinkshowjump?jump=previousslide"/>
          </p:cNvPr>
          <p:cNvPicPr/>
          <p:nvPr/>
        </p:nvPicPr>
        <p:blipFill>
          <a:blip r:embed="rId26"/>
          <a:stretch/>
        </p:blipFill>
        <p:spPr>
          <a:xfrm>
            <a:off x="7451640" y="44280"/>
            <a:ext cx="571680" cy="190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nextslide"/>
          </p:cNvPr>
          <p:cNvPicPr/>
          <p:nvPr/>
        </p:nvPicPr>
        <p:blipFill>
          <a:blip r:embed="rId27"/>
          <a:stretch/>
        </p:blipFill>
        <p:spPr>
          <a:xfrm>
            <a:off x="8099280" y="44280"/>
            <a:ext cx="571680" cy="190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8"/>
          <a:stretch/>
        </p:blipFill>
        <p:spPr>
          <a:xfrm>
            <a:off x="1476360" y="378936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8532720" y="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9640" y="7668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121104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72000" y="3141720"/>
            <a:ext cx="846000" cy="13366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340000" y="1268280"/>
            <a:ext cx="2087640" cy="216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708280"/>
            <a:ext cx="2087640" cy="216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340000" y="1341360"/>
            <a:ext cx="1944720" cy="266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11280" y="2565360"/>
            <a:ext cx="1944720" cy="266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2920" y="189000"/>
            <a:ext cx="2341800" cy="792000"/>
          </a:xfrm>
          <a:prstGeom prst="cloudCallout">
            <a:avLst>
              <a:gd name="adj1" fmla="val -11694"/>
              <a:gd name="adj2" fmla="val 168037"/>
            </a:avLst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会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427640" y="1989000"/>
            <a:ext cx="1152360" cy="1125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356000" y="692280"/>
            <a:ext cx="1152720" cy="121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380360" y="6551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028000" y="6551640"/>
            <a:ext cx="571320" cy="190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47275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板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4040" y="3429000"/>
            <a:ext cx="200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椅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206064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楷体_GB2312"/>
              </a:rPr>
              <a:t>刺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459640" y="645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003640" y="692280"/>
            <a:ext cx="3672000" cy="5473440"/>
          </a:xfrm>
          <a:prstGeom prst="rect">
            <a:avLst/>
          </a:prstGeom>
          <a:solidFill>
            <a:srgbClr val="cdf7ff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138320" cy="163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16000" y="1341360"/>
            <a:ext cx="3600360" cy="81939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773360"/>
            <a:ext cx="144000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2781360"/>
            <a:ext cx="144000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3860640"/>
            <a:ext cx="144000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763640" y="1773360"/>
            <a:ext cx="1440000" cy="302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763640" y="2781360"/>
            <a:ext cx="1440000" cy="302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46840" y="998640"/>
            <a:ext cx="2622240" cy="4610160"/>
            <a:chOff x="5046840" y="998640"/>
            <a:chExt cx="2622240" cy="4610160"/>
          </a:xfrm>
        </p:grpSpPr>
        <p:sp>
          <p:nvSpPr>
            <p:cNvPr id="227" name=""/>
            <p:cNvSpPr/>
            <p:nvPr/>
          </p:nvSpPr>
          <p:spPr>
            <a:xfrm>
              <a:off x="6948360" y="998640"/>
              <a:ext cx="7207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046840" y="1358640"/>
              <a:ext cx="588600" cy="4250160"/>
              <a:chOff x="5046840" y="1358640"/>
              <a:chExt cx="588600" cy="4250160"/>
            </a:xfrm>
          </p:grpSpPr>
          <p:sp>
            <p:nvSpPr>
              <p:cNvPr id="229" name=""/>
              <p:cNvSpPr/>
              <p:nvPr/>
            </p:nvSpPr>
            <p:spPr>
              <a:xfrm>
                <a:off x="5072040" y="308736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6600"/>
                    </a:solidFill>
                    <a:latin typeface="Arial"/>
                    <a:ea typeface="楷体_GB2312"/>
                  </a:rPr>
                  <a:t>木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46840" y="135864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6600"/>
                    </a:solidFill>
                    <a:latin typeface="Arial"/>
                    <a:ea typeface="楷体_GB2312"/>
                  </a:rPr>
                  <a:t>犭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19560" y="4844520"/>
                <a:ext cx="51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6600"/>
                    </a:solidFill>
                    <a:latin typeface="Arial"/>
                    <a:ea typeface="楷体_GB2312"/>
                  </a:rPr>
                  <a:t>亻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 flipV="1">
            <a:off x="5580000" y="1197000"/>
            <a:ext cx="1440000" cy="2232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3429000"/>
            <a:ext cx="1440000" cy="21607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628640"/>
            <a:ext cx="1440000" cy="50508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80000" y="1628640"/>
            <a:ext cx="1440000" cy="21607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80000" y="2997000"/>
            <a:ext cx="1440000" cy="216036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580000" y="4724280"/>
            <a:ext cx="1440000" cy="43344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51280" y="1341360"/>
            <a:ext cx="865080" cy="824040"/>
            <a:chOff x="3851280" y="1341360"/>
            <a:chExt cx="865080" cy="82404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3851280" y="1341360"/>
              <a:ext cx="8650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902040" y="1385640"/>
              <a:ext cx="59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51280" y="2317680"/>
            <a:ext cx="865080" cy="824040"/>
            <a:chOff x="3851280" y="2317680"/>
            <a:chExt cx="865080" cy="824040"/>
          </a:xfrm>
        </p:grpSpPr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3851280" y="2317680"/>
              <a:ext cx="8650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902040" y="2361960"/>
              <a:ext cx="59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51280" y="3325680"/>
            <a:ext cx="865080" cy="824040"/>
            <a:chOff x="3851280" y="3325680"/>
            <a:chExt cx="865080" cy="8240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3851280" y="3325680"/>
              <a:ext cx="8650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902040" y="3369960"/>
              <a:ext cx="59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51280" y="4334040"/>
            <a:ext cx="865080" cy="823680"/>
            <a:chOff x="3851280" y="4334040"/>
            <a:chExt cx="865080" cy="823680"/>
          </a:xfrm>
        </p:grpSpPr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3851280" y="4334040"/>
              <a:ext cx="86508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902040" y="4377960"/>
              <a:ext cx="59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851280" y="5342040"/>
            <a:ext cx="865080" cy="823680"/>
            <a:chOff x="3851280" y="5342040"/>
            <a:chExt cx="865080" cy="8236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3851280" y="5342040"/>
              <a:ext cx="86508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902040" y="5385960"/>
              <a:ext cx="59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640280" y="542160"/>
            <a:ext cx="1105920" cy="1112040"/>
            <a:chOff x="7640280" y="542160"/>
            <a:chExt cx="1105920" cy="1112040"/>
          </a:xfrm>
        </p:grpSpPr>
        <p:pic>
          <p:nvPicPr>
            <p:cNvPr id="254" name="" descr=""/>
            <p:cNvPicPr/>
            <p:nvPr/>
          </p:nvPicPr>
          <p:blipFill>
            <a:blip r:embed="rId8"/>
            <a:stretch/>
          </p:blipFill>
          <p:spPr>
            <a:xfrm rot="18592200">
              <a:off x="7786800" y="71676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1431400">
              <a:off x="7858440" y="7862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670520" y="1458000"/>
            <a:ext cx="1105920" cy="1112040"/>
            <a:chOff x="7670520" y="1458000"/>
            <a:chExt cx="1105920" cy="1112040"/>
          </a:xfrm>
        </p:grpSpPr>
        <p:pic>
          <p:nvPicPr>
            <p:cNvPr id="257" name="" descr=""/>
            <p:cNvPicPr/>
            <p:nvPr/>
          </p:nvPicPr>
          <p:blipFill>
            <a:blip r:embed="rId9"/>
            <a:stretch/>
          </p:blipFill>
          <p:spPr>
            <a:xfrm rot="18592200">
              <a:off x="7817040" y="163260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 rot="21431400">
              <a:off x="788724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670520" y="2321640"/>
            <a:ext cx="1105920" cy="1112040"/>
            <a:chOff x="7670520" y="2321640"/>
            <a:chExt cx="1105920" cy="1112040"/>
          </a:xfrm>
        </p:grpSpPr>
        <p:pic>
          <p:nvPicPr>
            <p:cNvPr id="260" name="" descr=""/>
            <p:cNvPicPr/>
            <p:nvPr/>
          </p:nvPicPr>
          <p:blipFill>
            <a:blip r:embed="rId10"/>
            <a:stretch/>
          </p:blipFill>
          <p:spPr>
            <a:xfrm rot="18592200">
              <a:off x="7817040" y="249624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21431400">
              <a:off x="7888680" y="2565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640280" y="3186720"/>
            <a:ext cx="1105920" cy="1112040"/>
            <a:chOff x="7640280" y="3186720"/>
            <a:chExt cx="1105920" cy="1112040"/>
          </a:xfrm>
        </p:grpSpPr>
        <p:pic>
          <p:nvPicPr>
            <p:cNvPr id="263" name="" descr=""/>
            <p:cNvPicPr/>
            <p:nvPr/>
          </p:nvPicPr>
          <p:blipFill>
            <a:blip r:embed="rId11"/>
            <a:stretch/>
          </p:blipFill>
          <p:spPr>
            <a:xfrm rot="18592200">
              <a:off x="7786800" y="336132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1431400">
              <a:off x="7858440" y="34308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640280" y="4122000"/>
            <a:ext cx="1105920" cy="1112040"/>
            <a:chOff x="7640280" y="4122000"/>
            <a:chExt cx="1105920" cy="1112040"/>
          </a:xfrm>
        </p:grpSpPr>
        <p:pic>
          <p:nvPicPr>
            <p:cNvPr id="266" name="" descr=""/>
            <p:cNvPicPr/>
            <p:nvPr/>
          </p:nvPicPr>
          <p:blipFill>
            <a:blip r:embed="rId12"/>
            <a:stretch/>
          </p:blipFill>
          <p:spPr>
            <a:xfrm rot="18592200">
              <a:off x="7786800" y="429660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 rot="21431400">
              <a:off x="7858440" y="43660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640280" y="5058360"/>
            <a:ext cx="1105920" cy="1112040"/>
            <a:chOff x="7640280" y="5058360"/>
            <a:chExt cx="1105920" cy="1112040"/>
          </a:xfrm>
        </p:grpSpPr>
        <p:pic>
          <p:nvPicPr>
            <p:cNvPr id="269" name="" descr=""/>
            <p:cNvPicPr/>
            <p:nvPr/>
          </p:nvPicPr>
          <p:blipFill>
            <a:blip r:embed="rId13"/>
            <a:stretch/>
          </p:blipFill>
          <p:spPr>
            <a:xfrm rot="18592200">
              <a:off x="7786800" y="5232960"/>
              <a:ext cx="8125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21431400">
              <a:off x="7858440" y="53024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00"/>
                  </a:solidFill>
                  <a:latin typeface="Arial"/>
                  <a:ea typeface="楷体_GB2312"/>
                </a:rPr>
                <a:t>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26920" y="115920"/>
            <a:ext cx="2016360" cy="792000"/>
          </a:xfrm>
          <a:prstGeom prst="cloudCallout">
            <a:avLst>
              <a:gd name="adj1" fmla="val -52754"/>
              <a:gd name="adj2" fmla="val 84671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连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1371600"/>
            <a:ext cx="6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57040" y="3243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7040" y="4322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5760" y="5330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33280" y="23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62840" y="76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62840" y="1658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62840" y="2595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10360" y="338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62840" y="4322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10360" y="52592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circle/>
    <p:sndAc>
      <p:stSnd>
        <p:snd r:embed="rId6" name="2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4068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8320" y="65246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88360" y="6381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amond/>
    <p:sndAc>
      <p:stSnd>
        <p:snd r:embed="rId6" name="3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2:34:53Z</dcterms:created>
  <dc:creator>语文大师 xiexingcun.com</dc:creator>
  <dc:description/>
  <dc:language>en-US</dc:language>
  <cp:lastModifiedBy>王瑞静</cp:lastModifiedBy>
  <dcterms:modified xsi:type="dcterms:W3CDTF">2014-07-21T18:55:43Z</dcterms:modified>
  <cp:revision>0</cp:revision>
  <dc:subject/>
  <dc:title>语文大师 xiexingcun.com</dc:title>
</cp:coreProperties>
</file>