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E249-8E66-4638-A2BB-C53B63DF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2D4-54BD-42FC-BE5A-5E1D088E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C0DE-9D5B-41D6-954B-52F1D6B8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56D-6F51-444C-9976-99FD554D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506-CFBF-46F8-9F2A-35D8263F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D48-ABAE-422F-A861-C9451F39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39A-99C3-4AC4-9C42-E4ADB21D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BFA-02CA-4997-BF81-196BFB44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A55-0ACA-4199-8022-36EEE04D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8A92-20CC-445C-9146-1C7CB38F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43A-86A5-4AA2-B8A7-939A9C8D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510-FEA5-4D1F-9AAF-E69398B9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2C65-B627-4EFF-B498-9AA38DF42BA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959E-EE0F-46E2-9DE3-5AB10CFBC9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403280" y="1123920"/>
            <a:ext cx="5545080" cy="1556280"/>
          </a:xfrm>
          <a:prstGeom prst="rect">
            <a:avLst/>
          </a:prstGeom>
          <a:noFill/>
          <a:ln w="9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文言文的翻译原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042920" y="2565360"/>
            <a:ext cx="70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忠实原作，字字敲定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直译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为主，</a:t>
            </a: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意译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为辅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力争做到“信、达、雅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539640" y="549360"/>
            <a:ext cx="79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文言文翻译的步骤和方法有一首口诀：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古文翻译，有其顺序；通读全文，了解大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句不离段，词不离句；难解句子，前后联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仔细斟酌，揣摩语气；省略句子，适当补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上括号，表示增益。遇有倒装，调整词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专有名词，不必翻译；人身称谓，依照惯例，“吾”“余”为我，“尔”“汝”为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见虚词，因句而异；实词活用，考察全句；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删留变，合情合理；如无标点，审慎段句；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照原文，力求直译；直译不便，酌情意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字词句篇，贯通一气；全文译完，检查仔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lenovo\appdata\roaming\360se6\USERDA~1\Temp\W02009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1403280" y="285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21.</a:t>
            </a:r>
            <a:r>
              <a:rPr b="0" lang="en-US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《</a:t>
            </a:r>
            <a:r>
              <a:rPr b="0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论语</a:t>
            </a:r>
            <a:r>
              <a:rPr b="0" lang="en-US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》</a:t>
            </a:r>
            <a:r>
              <a:rPr b="0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六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324000" y="40464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755640" y="1484280"/>
            <a:ext cx="71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孔子（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5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7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春秋末期思想家、政治家、教育家，儒家的创始者。名丘，字仲尼。鲁国陬邑（今山东曲阜）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世宋国贵族。少年时家境衰落。成年后做过“委吏”（司会计）和“乘田”（管畜牧）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时由鲁国中都宰升任司寇，摄行相事。后罢官，曾经周游列国、终不再任。晚年致力于教育，是第一个把教育普及到平民的人，还整理《诗》《书》，并把鲁国史官所记《春秋》加以删修，成为我国第一部编年体历史著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682560" y="692280"/>
            <a:ext cx="748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认识论和教育思想方面，注重“学”与“思”的结合，提出了不少很有启发意义的见解。他首创私人讲学之风，主张“有教无类”，因材施教。相传弟子有三千，著名学者七十二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政治上，主张“君君、臣臣、父父、子子”，维护奴隶制秩序，在维护贵族统治的基础上提倡教化。自汉以后，孔子学说成为两千余年封建思想的正统，影响极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611280" y="1268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《论语》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孔子弟子及再传弟子关于孔子言行的记录，共二十篇。内容有孔子谈话，答弟子问及弟子间的相互谈论。它是研究孔子思想的重要依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lenovo\appdata\roaming\360se6\USERDA~1\Temp\112194~1.JPG"/>
          <p:cNvPicPr/>
          <p:nvPr/>
        </p:nvPicPr>
        <p:blipFill>
          <a:blip r:embed="rId1"/>
          <a:stretch/>
        </p:blipFill>
        <p:spPr>
          <a:xfrm>
            <a:off x="0" y="0"/>
            <a:ext cx="19796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2050920" y="549360"/>
            <a:ext cx="6626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四书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论语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孟子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学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庸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五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诗经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尚书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礼记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周易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春秋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简称为“诗、书、礼、易、春秋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lenovo\appdata\roaming\360se6\USERDA~1\Temp\840286~1.JPG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324000" y="981000"/>
            <a:ext cx="882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孔子说：“学了并时常温习它，不也很高兴吗</a:t>
            </a: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有同门师兄弟从远方来</a:t>
            </a: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与我探讨学问</a:t>
            </a: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，不也很快乐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别人不了解自己而自己又没什么不满，不也算得上君子吗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lenovo\appdata\roaming\360se6\USERDA~1\Temp\840286~1.JPG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324000" y="981000"/>
            <a:ext cx="88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二</a:t>
            </a:r>
            <a:r>
              <a:rPr b="0" lang="en-US" sz="54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孔子说：“温习学过的知识，获得新的理解和体会，就可以做老师了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lenovo\appdata\roaming\360se6\USERDA~1\Temp\840286~1.JPG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324000" y="981000"/>
            <a:ext cx="88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（三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孔子说：“只学习而不思考就会迷惑不解，只思考而不学习就会在学业上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入困境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lenovo\appdata\roaming\360se6\USERDA~1\Temp\840286~1.JPG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324000" y="981000"/>
            <a:ext cx="88200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（四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孔子说：“知道它比不上喜爱它，喜爱它比不上以它为乐。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835280" y="1052640"/>
            <a:ext cx="5329080" cy="825120"/>
          </a:xfrm>
          <a:prstGeom prst="rect">
            <a:avLst/>
          </a:prstGeom>
          <a:noFill/>
          <a:ln w="9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文言文的翻译原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1187280" y="2565360"/>
            <a:ext cx="691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信：紧扣（忠实）原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达：字通语顺，语气不走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雅：要求简明，优美，讲究文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lenovo\appdata\roaming\360se6\USERDA~1\Temp\840286~1.JPG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324000" y="671400"/>
            <a:ext cx="8820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（五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孔子说：“几个人在一起走，其中也一定有我的老师；选取他们的好的东西加以学习、采纳，他们</a:t>
            </a:r>
            <a:r>
              <a:rPr b="0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身上</a:t>
            </a:r>
            <a:r>
              <a:rPr b="0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不好的东西</a:t>
            </a:r>
            <a:r>
              <a:rPr b="0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自己身上如果有，就</a:t>
            </a:r>
            <a:r>
              <a:rPr b="0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加以改正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lenovo\appdata\roaming\360se6\USERDA~1\Temp\840286~1.JPG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324000" y="671400"/>
            <a:ext cx="8820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（六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孔子说：“我十五岁立志做学问，三十岁有所成就，四十岁不再疑惑，五十岁知道由天主宰的命运，六十岁可以听出话里隐而未露的意思，七十岁随自己心意，想怎样就怎样，不超越法度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lenovo\appdata\roaming\360se6\USERDA~1\Temp\U_4062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682560" y="2997360"/>
            <a:ext cx="806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《论语》六则表明了学习上几个方面的问题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lenovo\appdata\roaming\360se6\USERDA~1\Temp\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395280" y="1917720"/>
            <a:ext cx="83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学而时习之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温故而知新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学而不思则罔，思而不学则殆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1187280" y="765000"/>
            <a:ext cx="4464360" cy="703440"/>
          </a:xfrm>
          <a:prstGeom prst="rect">
            <a:avLst/>
          </a:prstGeom>
          <a:noFill/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习的正确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lenovo\appdata\roaming\360se6\USERDA~1\Temp\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1187280" y="765000"/>
            <a:ext cx="4464360" cy="703440"/>
          </a:xfrm>
          <a:prstGeom prst="rect">
            <a:avLst/>
          </a:prstGeom>
          <a:noFill/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习的正确态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755640" y="1844640"/>
            <a:ext cx="80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知之者不如好之者，好之者不如</a:t>
            </a: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乐之者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三人行，必有我师焉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择其善者而从之，其不善者而改之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lenovo\appdata\roaming\360se6\USERDA~1\Temp\28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682560" y="177336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“</a:t>
            </a: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吾十有五而志于学，三十而立，四十而不惑，五十而知天命，六十而耳顺，七十而从心所欲，不逾矩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187280" y="765000"/>
            <a:ext cx="4464360" cy="703440"/>
          </a:xfrm>
          <a:prstGeom prst="rect">
            <a:avLst/>
          </a:prstGeom>
          <a:noFill/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习效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lenovo\pictures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324000" y="54936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成语归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539640" y="1844640"/>
            <a:ext cx="784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温故而知新 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温故知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三人行，必有我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择其善者而从之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择善而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三十而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四十而不惑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四十不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lenovo\pictures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324000" y="54936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成语归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539640" y="1844640"/>
            <a:ext cx="784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温故而知新 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温故知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三人行，必有我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择其善者而从之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择善而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三十而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四十而不惑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四十不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lenovo\pictures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324000" y="549360"/>
            <a:ext cx="51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中考必考虚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611280" y="198900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之、其、而、以、于、乃、虽、为、者、且、则、然、乎、与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324000" y="54936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虚词“而”的用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79280" y="2924280"/>
            <a:ext cx="10810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而</a:t>
            </a:r>
            <a:r>
              <a:rPr b="0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（连词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左大括号 4"/>
          <p:cNvSpPr/>
          <p:nvPr/>
        </p:nvSpPr>
        <p:spPr>
          <a:xfrm>
            <a:off x="1042920" y="1557360"/>
            <a:ext cx="720720" cy="3744720"/>
          </a:xfrm>
          <a:custGeom>
            <a:avLst/>
            <a:gdLst>
              <a:gd name="textAreaLeft" fmla="*/ 460440 w 720720"/>
              <a:gd name="textAreaRight" fmla="*/ 721080 w 720720"/>
              <a:gd name="textAreaTop" fmla="*/ 18000 h 3744720"/>
              <a:gd name="textAreaBottom" fmla="*/ 3726720 h 37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6"/>
                  <a:pt x="10800" y="332"/>
                </a:cubicBezTo>
                <a:lnTo>
                  <a:pt x="10800" y="10468"/>
                </a:lnTo>
                <a:cubicBezTo>
                  <a:pt x="10800" y="10634"/>
                  <a:pt x="5400" y="10800"/>
                  <a:pt x="0" y="10800"/>
                </a:cubicBezTo>
                <a:cubicBezTo>
                  <a:pt x="5400" y="10800"/>
                  <a:pt x="10800" y="10966"/>
                  <a:pt x="10800" y="11132"/>
                </a:cubicBezTo>
                <a:lnTo>
                  <a:pt x="10800" y="21268"/>
                </a:lnTo>
                <a:cubicBezTo>
                  <a:pt x="10800" y="214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1692360" y="1557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并列，相当于“和”、“与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1692360" y="2205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顺承，相当于“就”、“才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1692360" y="2781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假设，相当于“如果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1692360" y="342900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转折，相当于“却”、“但是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1692360" y="40766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因果，相当于“因而”、“所以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1692360" y="472428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修饰，可不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042920" y="981000"/>
            <a:ext cx="6913800" cy="764280"/>
          </a:xfrm>
          <a:prstGeom prst="rect">
            <a:avLst/>
          </a:prstGeom>
          <a:noFill/>
          <a:ln w="9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文言文翻译的具体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826920" y="2492280"/>
            <a:ext cx="71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留、删、补、换、调、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lenovo\pictures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324000" y="54936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本课虚词总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324000" y="2205000"/>
            <a:ext cx="1150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左大括号 5"/>
          <p:cNvSpPr/>
          <p:nvPr/>
        </p:nvSpPr>
        <p:spPr>
          <a:xfrm>
            <a:off x="1187280" y="2060640"/>
            <a:ext cx="360360" cy="2305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8640 h 2305080"/>
              <a:gd name="textAreaBottom" fmla="*/ 229644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69"/>
                </a:cubicBezTo>
                <a:lnTo>
                  <a:pt x="10800" y="10531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69"/>
                </a:cubicBezTo>
                <a:lnTo>
                  <a:pt x="10800" y="21331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1403280" y="1628640"/>
            <a:ext cx="774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表转折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不知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愠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思则罔，思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学则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03280" y="2708280"/>
            <a:ext cx="75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顺承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温故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知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择其善者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之，其不善者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改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1547640" y="429264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修饰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十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立，四十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惑，五十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知天命，六十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耳顺，七十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心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欲，不逾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2843280" y="3645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而时习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lenovo\pictures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466560" y="476280"/>
            <a:ext cx="8498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孔子看来，“人不知而不愠”是一种“君子风范”，那么作为“君子”应具有哪些风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应具有高尚的道德，宽广的胸襟，善良的心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则讲了三个方面的内容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①要勤勉学习，还要按时温习，把学习当作一件乐事。②学须有友。③个人修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者阐述志同道合的人在一起探讨问题是一种乐趣的句子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有朋自远方来，不亦乐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中阐述对别人的优点如何正确对待的句子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择其善者而从之，其不善者而改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lenovo\pictures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539640" y="620640"/>
            <a:ext cx="813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生活中，我们应当向有长处的人学习，用原文回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三人行，必有我师焉；择其善者而从之，其不善者而改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老师教导我们说：“兴趣是最好的老师，所谓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知之者不如好之者，好之者不如乐之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唐太宗李世民有一句名言：“以人为镜，可以明得失。”由此可以联想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论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的一句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择其善者而从之，其不善者而改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温故”和“知新”是不是两件并列的事？该如何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并非并列的两件事，关键在于“知新”，这就需要独立思考 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lenovo\pictures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lenovo\pictures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lenovo\pictures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lenovo\pictures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lenovo\pictures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971640" y="112392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留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，就是保留。凡是古今意义相同的词，以及古代的人名、地名、物名、官名、国号、年号、度量衡单位、书名等，翻译时可保留不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682560" y="1268280"/>
            <a:ext cx="68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，就是删除。删掉无须译出的文言虚词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611280" y="14842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补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，就是增补。（</a:t>
            </a:r>
            <a:r>
              <a:rPr b="0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）补出省略句中的省略成分；（</a:t>
            </a:r>
            <a:r>
              <a:rPr b="0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）补出省略了的语句。注意：补出省略的成分或语句，要加括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755640" y="105264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换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，就是替换。用现代词汇替换古代词汇，即变单音词为双音词；通假字换成被通假字；古今异义的词需要替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826920" y="1123920"/>
            <a:ext cx="7488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调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，就是调整。把古汉语倒装句调整为现代汉语句式。主谓倒装句、宾语前置句、介宾后置句、定语后置句等翻译时一般应调整语序，以便符合现代汉语表达习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042920" y="98100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变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，就是变通。在忠实于原文的基础上，活译有关文字。如</a:t>
            </a:r>
            <a:r>
              <a:rPr b="0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波澜不惊</a:t>
            </a:r>
            <a:r>
              <a:rPr b="0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，可活译成</a:t>
            </a:r>
            <a:r>
              <a:rPr b="0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（湖面）风平浪静</a:t>
            </a:r>
            <a:r>
              <a:rPr b="0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06:10:00Z</dcterms:created>
  <dc:creator>语文备课大师</dc:creator>
  <dc:description/>
  <dc:language>en-US</dc:language>
  <cp:lastModifiedBy>User</cp:lastModifiedBy>
  <dcterms:modified xsi:type="dcterms:W3CDTF">2013-11-28T03:49:55Z</dcterms:modified>
  <cp:revision>0</cp:revision>
  <dc:subject/>
  <dc:title>语文备课大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