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13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type.wav" ContentType="audio/x-wav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0701-10E2-43C9-9B79-2D18CC77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5671-3341-4135-AE88-C5F61D35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B505-07CA-475E-B380-92B45946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12EA-734D-4F4D-90AF-B3F98163C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C09B-324A-4269-8DCE-2FE810C57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38A1-B40F-4433-BC6C-A5BB0BC78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7AE1-230C-47BE-845C-B125B51F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5D1E-DC51-46FF-9BAB-5A08F8D1B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96BA-B99A-4117-B077-2E1E6F5DB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6AA4-8492-447D-AE9C-C7F79DAAC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3065-F275-40AC-AAA3-70D54B079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40E1-7CDD-4A1F-9148-CC058B36C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3354-1EAE-4BBA-9152-071B31674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CE0C-CA12-4812-B127-CD50D3F8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10D9-EB5B-4A92-8E31-FAC59466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4967-6428-438A-9018-C9C20B960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AEE2-F649-48D6-9D04-22A65985B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269B-7369-4DB1-90B3-F7B126568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D3C3-D776-4AD8-99B4-4E1CEDA13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9"/>
          <p:cNvSpPr/>
          <p:nvPr/>
        </p:nvSpPr>
        <p:spPr>
          <a:xfrm>
            <a:off x="5943600" y="34290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图片1"/>
          <p:cNvPicPr/>
          <p:nvPr/>
        </p:nvPicPr>
        <p:blipFill>
          <a:blip r:embed="rId1"/>
          <a:stretch/>
        </p:blipFill>
        <p:spPr>
          <a:xfrm>
            <a:off x="2971800" y="2081160"/>
            <a:ext cx="5218200" cy="431964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14" descr=""/>
          <p:cNvPicPr/>
          <p:nvPr/>
        </p:nvPicPr>
        <p:blipFill>
          <a:blip r:embed="rId2"/>
          <a:stretch/>
        </p:blipFill>
        <p:spPr>
          <a:xfrm>
            <a:off x="2077920" y="853920"/>
            <a:ext cx="49881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AutoShape 16"/>
          <p:cNvGrpSpPr/>
          <p:nvPr/>
        </p:nvGrpSpPr>
        <p:grpSpPr>
          <a:xfrm>
            <a:off x="639720" y="1352520"/>
            <a:ext cx="7686720" cy="3981600"/>
            <a:chOff x="639720" y="1352520"/>
            <a:chExt cx="7686720" cy="3981600"/>
          </a:xfrm>
        </p:grpSpPr>
        <p:pic>
          <p:nvPicPr>
            <p:cNvPr id="67" name="AutoShape 16" descr=""/>
            <p:cNvPicPr/>
            <p:nvPr/>
          </p:nvPicPr>
          <p:blipFill>
            <a:blip r:embed="rId1"/>
            <a:stretch/>
          </p:blipFill>
          <p:spPr>
            <a:xfrm>
              <a:off x="639720" y="1352520"/>
              <a:ext cx="7686720" cy="39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925560" y="1639800"/>
              <a:ext cx="7245360" cy="34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5"/>
          <p:cNvSpPr/>
          <p:nvPr/>
        </p:nvSpPr>
        <p:spPr>
          <a:xfrm>
            <a:off x="838080" y="25909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现代学者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湖南岳阳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553080" y="12193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5555"/>
          <p:cNvPicPr/>
          <p:nvPr/>
        </p:nvPicPr>
        <p:blipFill>
          <a:blip r:embed="rId2"/>
          <a:stretch/>
        </p:blipFill>
        <p:spPr>
          <a:xfrm>
            <a:off x="5410080" y="1905120"/>
            <a:ext cx="243864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9"/>
          <p:cNvSpPr/>
          <p:nvPr/>
        </p:nvSpPr>
        <p:spPr>
          <a:xfrm>
            <a:off x="22860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刘大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1423080" y="3276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家  、翻译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5"/>
          <p:cNvSpPr txBox="1"/>
          <p:nvPr/>
        </p:nvSpPr>
        <p:spPr>
          <a:xfrm>
            <a:off x="838080" y="99072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宋体"/>
              </a:rPr>
              <a:t>作者简介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8"/>
          <p:cNvGrpSpPr/>
          <p:nvPr/>
        </p:nvGrpSpPr>
        <p:grpSpPr>
          <a:xfrm>
            <a:off x="658800" y="1447920"/>
            <a:ext cx="7826400" cy="4647960"/>
            <a:chOff x="658800" y="1447920"/>
            <a:chExt cx="7826400" cy="4647960"/>
          </a:xfrm>
        </p:grpSpPr>
        <p:grpSp>
          <p:nvGrpSpPr>
            <p:cNvPr id="76" name="AutoShape 7"/>
            <p:cNvGrpSpPr/>
            <p:nvPr/>
          </p:nvGrpSpPr>
          <p:grpSpPr>
            <a:xfrm>
              <a:off x="658800" y="1447920"/>
              <a:ext cx="7826400" cy="4647960"/>
              <a:chOff x="658800" y="1447920"/>
              <a:chExt cx="7826400" cy="4647960"/>
            </a:xfrm>
          </p:grpSpPr>
          <p:pic>
            <p:nvPicPr>
              <p:cNvPr id="77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658800" y="1447920"/>
                <a:ext cx="7826400" cy="464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665280" y="1450800"/>
                <a:ext cx="7807320" cy="40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 Box 5"/>
            <p:cNvSpPr/>
            <p:nvPr/>
          </p:nvSpPr>
          <p:spPr>
            <a:xfrm>
              <a:off x="843840" y="1450800"/>
              <a:ext cx="7449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长江三峡以其险峻的地形、绮丽的风光、磅礴的气势和众多的名胜古迹闻名于世，为世界著名的旅游胜地，是我国的旅游热点。三峡是瞿塘峡、巫峡、西陵峡的总称。它西起四川省奉节县的白帝城，东至湖北省宜昌市的南津关，跨奉节、巫山、巴东、秭归、宜昌五县市，全长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193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公里（其中狭谷段合长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90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公里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宽谷段合长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103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公里）。被游人誉为“山水画廊”，成为古往今来文人墨客吟咏的对象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WordArt 6"/>
          <p:cNvSpPr txBox="1"/>
          <p:nvPr/>
        </p:nvSpPr>
        <p:spPr>
          <a:xfrm>
            <a:off x="838080" y="9144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宋体"/>
              </a:rPr>
              <a:t>背景介绍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AutoShape 25"/>
          <p:cNvGrpSpPr/>
          <p:nvPr/>
        </p:nvGrpSpPr>
        <p:grpSpPr>
          <a:xfrm>
            <a:off x="628560" y="1603440"/>
            <a:ext cx="7680240" cy="3181320"/>
            <a:chOff x="628560" y="1603440"/>
            <a:chExt cx="7680240" cy="3181320"/>
          </a:xfrm>
        </p:grpSpPr>
        <p:pic>
          <p:nvPicPr>
            <p:cNvPr id="82" name="AutoShape 25" descr=""/>
            <p:cNvPicPr/>
            <p:nvPr/>
          </p:nvPicPr>
          <p:blipFill>
            <a:blip r:embed="rId1"/>
            <a:stretch/>
          </p:blipFill>
          <p:spPr>
            <a:xfrm>
              <a:off x="628560" y="1603440"/>
              <a:ext cx="7680240" cy="31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81200" y="1755720"/>
              <a:ext cx="736920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23"/>
          <p:cNvSpPr/>
          <p:nvPr/>
        </p:nvSpPr>
        <p:spPr>
          <a:xfrm>
            <a:off x="1371600" y="191916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宋体"/>
              </a:rPr>
              <a:t>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岭           古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塘峡         玲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妆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38080" y="928800"/>
            <a:ext cx="22100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读准字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193840" y="22320"/>
            <a:ext cx="85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008080" y="207180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kō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894280" y="207180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h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144880" y="26049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q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665680" y="260496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ló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2362320" y="3124080"/>
            <a:ext cx="11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ni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716440" y="313848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ní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987560" y="3672000"/>
            <a:ext cx="10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5665680" y="374796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z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AutoShape 8"/>
          <p:cNvGrpSpPr/>
          <p:nvPr/>
        </p:nvGrpSpPr>
        <p:grpSpPr>
          <a:xfrm>
            <a:off x="841320" y="969840"/>
            <a:ext cx="2955960" cy="554040"/>
            <a:chOff x="841320" y="969840"/>
            <a:chExt cx="2955960" cy="554040"/>
          </a:xfrm>
        </p:grpSpPr>
        <p:pic>
          <p:nvPicPr>
            <p:cNvPr id="96" name="AutoShape 8" descr=""/>
            <p:cNvPicPr/>
            <p:nvPr/>
          </p:nvPicPr>
          <p:blipFill>
            <a:blip r:embed="rId1"/>
            <a:stretch/>
          </p:blipFill>
          <p:spPr>
            <a:xfrm>
              <a:off x="841320" y="96984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65080" y="996840"/>
              <a:ext cx="2907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6"/>
          <p:cNvGrpSpPr/>
          <p:nvPr/>
        </p:nvGrpSpPr>
        <p:grpSpPr>
          <a:xfrm>
            <a:off x="682560" y="1596960"/>
            <a:ext cx="7486560" cy="3444840"/>
            <a:chOff x="682560" y="1596960"/>
            <a:chExt cx="7486560" cy="3444840"/>
          </a:xfrm>
        </p:grpSpPr>
        <p:pic>
          <p:nvPicPr>
            <p:cNvPr id="99" name="AutoShape 6" descr=""/>
            <p:cNvPicPr/>
            <p:nvPr/>
          </p:nvPicPr>
          <p:blipFill>
            <a:blip r:embed="rId2"/>
            <a:stretch/>
          </p:blipFill>
          <p:spPr>
            <a:xfrm>
              <a:off x="682560" y="1596960"/>
              <a:ext cx="7486560" cy="34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52480" y="1766880"/>
              <a:ext cx="713412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2"/>
          <p:cNvSpPr/>
          <p:nvPr/>
        </p:nvSpPr>
        <p:spPr>
          <a:xfrm>
            <a:off x="838080" y="990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根据意思写词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38080" y="2649600"/>
            <a:ext cx="746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22240" y="1828800"/>
            <a:ext cx="749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险峻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横暴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高而陡的山崖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沿着弯弯曲曲的路走，比喻说话、写文章绕弯子，不直截了当：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405600" y="1887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山势）高而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3858480" y="24969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蛮横、凶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115880" y="3030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悬崖绝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3830040" y="4173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转弯抹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AutoShape 12"/>
          <p:cNvGrpSpPr/>
          <p:nvPr/>
        </p:nvGrpSpPr>
        <p:grpSpPr>
          <a:xfrm>
            <a:off x="689040" y="895320"/>
            <a:ext cx="2955960" cy="555480"/>
            <a:chOff x="689040" y="895320"/>
            <a:chExt cx="2955960" cy="555480"/>
          </a:xfrm>
        </p:grpSpPr>
        <p:pic>
          <p:nvPicPr>
            <p:cNvPr id="109" name="AutoShape 12" descr=""/>
            <p:cNvPicPr/>
            <p:nvPr/>
          </p:nvPicPr>
          <p:blipFill>
            <a:blip r:embed="rId1"/>
            <a:stretch/>
          </p:blipFill>
          <p:spPr>
            <a:xfrm>
              <a:off x="689040" y="895320"/>
              <a:ext cx="2955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12800" y="920880"/>
              <a:ext cx="2906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2"/>
          <p:cNvSpPr/>
          <p:nvPr/>
        </p:nvSpPr>
        <p:spPr>
          <a:xfrm>
            <a:off x="762120" y="92880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整体感悟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762120" y="1523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将课文快速读一遍，找出作者沿途经过了哪些地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06668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宜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2133720" y="2895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西陵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27672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黄猫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48006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灯影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6248520" y="2895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崆岭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9144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米仓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114800" y="3581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巫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5334120" y="3581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瞿塘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68580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白帝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22096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秭归和巴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533520" y="4267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者游览的顺序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838080" y="4876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逆流而上。 按时间、空间顺序依次记叙、描写，层次分明，条理清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915120" y="152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景观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380880" y="6858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者写三峡时重点写的是哪个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6324480" y="685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西陵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80880" y="12193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文中的句子或词语写出各峡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57200" y="42670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在极状三峡山险水急的自然景物特点时，还写了一些人文景观，引用了一些典故，提到了昭君幼居，刘备托孤，这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609480" y="1752480"/>
            <a:ext cx="6705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西陵峡：黄猫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山高不险，水急不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灯影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玲珑秀丽，非常调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崆岭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山形水势，突然可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米仓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山高水缓，群山如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533520" y="3429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巫峡：山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奇险美丽     云雾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奇形怪状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533520" y="3809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瞿塘峡：山低水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685800" y="55627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突出三峡丰富的历史文化内涵，更耐人寻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6"/>
          <p:cNvSpPr/>
          <p:nvPr/>
        </p:nvSpPr>
        <p:spPr>
          <a:xfrm>
            <a:off x="733320" y="1828800"/>
            <a:ext cx="7677360" cy="38098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800280" y="990720"/>
            <a:ext cx="262872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cc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914400" y="1905120"/>
            <a:ext cx="73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江水的险，险在窄，险在急，险在曲折，险在多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品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者用十分简洁的语言概括出江水的险，四个排比短促有力，读起来给人以窒息的感觉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窄、急、曲折、多滩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令人不寒而栗。排比句式整齐又稍有变化，读起来和谐有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207440" y="88416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语言品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Text Box 8"/>
          <p:cNvGrpSpPr/>
          <p:nvPr/>
        </p:nvGrpSpPr>
        <p:grpSpPr>
          <a:xfrm>
            <a:off x="609480" y="914400"/>
            <a:ext cx="7851960" cy="5334120"/>
            <a:chOff x="609480" y="914400"/>
            <a:chExt cx="7851960" cy="5334120"/>
          </a:xfrm>
        </p:grpSpPr>
        <p:pic>
          <p:nvPicPr>
            <p:cNvPr id="139" name="Text Box 8" descr=""/>
            <p:cNvPicPr/>
            <p:nvPr/>
          </p:nvPicPr>
          <p:blipFill>
            <a:blip r:embed="rId1"/>
            <a:stretch/>
          </p:blipFill>
          <p:spPr>
            <a:xfrm>
              <a:off x="609480" y="914400"/>
              <a:ext cx="78519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09480" y="914400"/>
              <a:ext cx="7848720" cy="53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6"/>
          <p:cNvSpPr/>
          <p:nvPr/>
        </p:nvSpPr>
        <p:spPr>
          <a:xfrm>
            <a:off x="671400" y="838080"/>
            <a:ext cx="77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这个峰很高，那个峰还要更高，前面有一排，后面还有一排，后面的后面，还有无数排，一层一层的，你围着我，我围着你，你咬着我，我咬着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65280" y="2577960"/>
            <a:ext cx="78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品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抓住峰多与高的特点，语言的排列就像大海的波浪，一浪高过一浪，给人以层层叠叠连绵不断的感觉。运用拟人的手法，以动写静，非常生动地表现出了山们你追我赶，互比高低的情态，另外还使用顶真的手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围着我，我围着你，你咬着我，我咬着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给人一种循环往复的感受，很有情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496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引用诗歌 谚语 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巴东三峡巫峡长，猿鸣三声泪沾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渲染三峡险恶形势 悲凉氛围 为全文定下基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黄陵庙下江南味，也有垂杨也有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垂杨、花突出了黄陵庙有江南风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青滩叶滩不算难，崆岭才是鬼门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运用对比的修辞手法。突出崆岭峡的险恶、可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群山万壑赴荆门，生长明妃尚有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‘’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赴‘’字妙，写出沿江两岸如群马奔驰的山势。</a:t>
            </a:r>
            <a:r>
              <a:rPr b="1" lang="zh-CN" sz="1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0" y="6483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D4D1-DC07-43D3-8417-F07875E71F9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010280" y="6483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8F4C-A0F5-4E38-A09E-2DEA9B06B5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Text Box 5"/>
          <p:cNvGrpSpPr/>
          <p:nvPr/>
        </p:nvGrpSpPr>
        <p:grpSpPr>
          <a:xfrm>
            <a:off x="554040" y="914400"/>
            <a:ext cx="7980480" cy="5413320"/>
            <a:chOff x="554040" y="914400"/>
            <a:chExt cx="7980480" cy="5413320"/>
          </a:xfrm>
        </p:grpSpPr>
        <p:pic>
          <p:nvPicPr>
            <p:cNvPr id="148" name="Text Box 5" descr=""/>
            <p:cNvPicPr/>
            <p:nvPr/>
          </p:nvPicPr>
          <p:blipFill>
            <a:blip r:embed="rId1"/>
            <a:stretch/>
          </p:blipFill>
          <p:spPr>
            <a:xfrm>
              <a:off x="555120" y="914400"/>
              <a:ext cx="7979040" cy="54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54040" y="914400"/>
              <a:ext cx="798048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6"/>
          <p:cNvSpPr/>
          <p:nvPr/>
        </p:nvSpPr>
        <p:spPr>
          <a:xfrm>
            <a:off x="571680" y="914400"/>
            <a:ext cx="796284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cc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838080" y="928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拓展延伸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保护景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85800" y="1379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几十年来，受深刻的社会经济因素影响，我国的文化遗产一直都在遭受不断的破坏。在快速城市化过程中，尤其是无约束的建筑热和房地产投机活动中，一座座旧城被摧残得面目全非，一片片具有传统风貌、积淀了丰富历史人文信息的城市历史街区被挤占或夷为平地。在不少地方文物古迹的狂热旅游开发过程中，许多重要文物古迹周围的历史环境甚至文物本体遭到严重破坏。此外，大量文物因为缺少经费和保护设备而遭受严重损坏。你是如何评价这样的做法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09480" y="3049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游记简介。游记是描写旅行见闻的一种散文形式。游记的取材范围极广，可以描绘名山大川的秀丽瑰奇，可以记录风土人情的有趣阜盛，可以反映一人一家的日常生活面貌，也可以记下一国的重大事件，并表达作者的思想感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游记，顾名思义，就是写旅游的作文。也就是对一次出行、游览、参观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的记录。在这里，游的含义有多种：游历、旅游、游玩、游览、参观、访问、考察等。文笔轻松，描写生动，记述翔实，给人以丰富的社会知识和美的感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33520" y="2590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游记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游记可以分为很多种。以记录行程为主的是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记叙型游记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翦伯赞的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内蒙访古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余秋雨的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山居笔记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；以描绘景物、景观为主的是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写景型游记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本单元的前三篇就是这种类型；通过游记来说明一个道理的，是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说理型游记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。如范仲淹的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岳阳楼记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、王安石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游褒禅山记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；以抒发感情为主的是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抒情型游记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；如柳宗元的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小石潭记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、欧阳修的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醉翁亭记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、袁宏道的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满井游记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。但是，不论哪一种游记，都是通过对自然风光、风景名胜、城市景观、景观中的人与事进行描绘，来达到记事、抒情、说理等目的。所以写作游记时，一定要具备“游”的记录，没有“游”，也就不会有“游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33520" y="54100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景游记的写法特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移步换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定点写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6"/>
          <p:cNvGrpSpPr/>
          <p:nvPr/>
        </p:nvGrpSpPr>
        <p:grpSpPr>
          <a:xfrm>
            <a:off x="639720" y="914400"/>
            <a:ext cx="7818480" cy="5486400"/>
            <a:chOff x="639720" y="914400"/>
            <a:chExt cx="7818480" cy="5486400"/>
          </a:xfrm>
        </p:grpSpPr>
        <p:sp>
          <p:nvSpPr>
            <p:cNvPr id="154" name="Rectangle 5"/>
            <p:cNvSpPr/>
            <p:nvPr/>
          </p:nvSpPr>
          <p:spPr>
            <a:xfrm>
              <a:off x="639720" y="914400"/>
              <a:ext cx="7818480" cy="548640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cap="rnd" w="3816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"/>
            <p:cNvSpPr/>
            <p:nvPr/>
          </p:nvSpPr>
          <p:spPr>
            <a:xfrm>
              <a:off x="762120" y="990720"/>
              <a:ext cx="754380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宋体"/>
                </a:rPr>
                <a:t>    </a:t>
              </a: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示例</a:t>
              </a:r>
              <a:r>
                <a:rPr b="1" lang="en-US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历史文化遗产是不可再生的特殊资源，如只顾经济效益不顾保护的旅游开发，无疑是</a:t>
              </a:r>
              <a:r>
                <a:rPr b="1" lang="zh-CN" sz="2200" spc="-1" strike="noStrike">
                  <a:solidFill>
                    <a:srgbClr val="ff0000"/>
                  </a:solidFill>
                  <a:latin typeface="宋体"/>
                  <a:ea typeface="楷体_GB2312"/>
                </a:rPr>
                <a:t>“</a:t>
              </a: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杀鸡取卵</a:t>
              </a:r>
              <a:r>
                <a:rPr b="1" lang="zh-CN" sz="2200" spc="-1" strike="noStrike">
                  <a:solidFill>
                    <a:srgbClr val="ff0000"/>
                  </a:solidFill>
                  <a:latin typeface="宋体"/>
                  <a:ea typeface="楷体_GB2312"/>
                </a:rPr>
                <a:t>”</a:t>
              </a: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、</a:t>
              </a:r>
              <a:r>
                <a:rPr b="1" lang="zh-CN" sz="2200" spc="-1" strike="noStrike">
                  <a:solidFill>
                    <a:srgbClr val="ff0000"/>
                  </a:solidFill>
                  <a:latin typeface="宋体"/>
                  <a:ea typeface="楷体_GB2312"/>
                </a:rPr>
                <a:t>“</a:t>
              </a: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涸泽而渔</a:t>
              </a:r>
              <a:r>
                <a:rPr b="1" lang="zh-CN" sz="2200" spc="-1" strike="noStrike">
                  <a:solidFill>
                    <a:srgbClr val="ff0000"/>
                  </a:solidFill>
                  <a:latin typeface="宋体"/>
                  <a:ea typeface="楷体_GB2312"/>
                </a:rPr>
                <a:t>”</a:t>
              </a: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。</a:t>
              </a:r>
              <a:r>
                <a:rPr b="1" lang="zh-CN" sz="2200" spc="-1" strike="noStrike">
                  <a:solidFill>
                    <a:srgbClr val="0000ff"/>
                  </a:solidFill>
                  <a:latin typeface="宋体"/>
                  <a:ea typeface="楷体_GB2312"/>
                </a:rPr>
                <a:t>“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历史不可重现，文物不可再生。</a:t>
              </a:r>
              <a:r>
                <a:rPr b="1" lang="zh-CN" sz="2200" spc="-1" strike="noStrike">
                  <a:solidFill>
                    <a:srgbClr val="0000ff"/>
                  </a:solidFill>
                  <a:latin typeface="宋体"/>
                  <a:ea typeface="楷体_GB2312"/>
                </a:rPr>
                <a:t>”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历史文化遗产毁了，它所包涵的历史信息也就丧失了。文物的</a:t>
              </a:r>
              <a:r>
                <a:rPr b="1" lang="zh-CN" sz="2200" spc="-1" strike="noStrike">
                  <a:solidFill>
                    <a:srgbClr val="0000ff"/>
                  </a:solidFill>
                  <a:latin typeface="宋体"/>
                  <a:ea typeface="楷体_GB2312"/>
                </a:rPr>
                <a:t>“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有效保护、合理利用，加强管理</a:t>
              </a:r>
              <a:r>
                <a:rPr b="1" lang="zh-CN" sz="2200" spc="-1" strike="noStrike">
                  <a:solidFill>
                    <a:srgbClr val="0000ff"/>
                  </a:solidFill>
                  <a:latin typeface="宋体"/>
                  <a:ea typeface="楷体_GB2312"/>
                </a:rPr>
                <a:t>”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原则，同样适用所有历史文化遗产的保护，只有在有效保护的前提下，才可以持续发展。片面的追求旅游经济效益，不合理的开发和过度利用， 在很大程度上破坏了历史文化遗产。</a:t>
              </a: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历史文化遗产不是</a:t>
              </a:r>
              <a:r>
                <a:rPr b="1" lang="zh-CN" sz="2200" spc="-1" strike="noStrike">
                  <a:solidFill>
                    <a:srgbClr val="ff0000"/>
                  </a:solidFill>
                  <a:latin typeface="宋体"/>
                  <a:ea typeface="楷体_GB2312"/>
                </a:rPr>
                <a:t>“</a:t>
              </a: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摇钱树</a:t>
              </a:r>
              <a:r>
                <a:rPr b="1" lang="zh-CN" sz="2200" spc="-1" strike="noStrike">
                  <a:solidFill>
                    <a:srgbClr val="ff0000"/>
                  </a:solidFill>
                  <a:latin typeface="宋体"/>
                  <a:ea typeface="楷体_GB2312"/>
                </a:rPr>
                <a:t>”</a:t>
              </a: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，盲目的追求旅游收入及其回报，破坏历史文化遗产，将成为历史的罪人</a:t>
              </a:r>
              <a:r>
                <a:rPr b="1" lang="en-US" sz="2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2"/>
          <p:cNvSpPr/>
          <p:nvPr/>
        </p:nvSpPr>
        <p:spPr>
          <a:xfrm>
            <a:off x="2057400" y="1295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灯影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124080" y="1295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陵庙（树木、花、竹子、青烟）——优秀美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057400" y="1752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崆岭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 flipH="1">
            <a:off x="3048120" y="1752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牛肝马肺、崆岭滩——最为可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20574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仓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3124080" y="2209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香溪、山峰——高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2057400" y="838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猫峡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3124080" y="838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水、山（略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5"/>
          <p:cNvSpPr/>
          <p:nvPr/>
        </p:nvSpPr>
        <p:spPr>
          <a:xfrm>
            <a:off x="838080" y="838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西陵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6"/>
          <p:cNvSpPr/>
          <p:nvPr/>
        </p:nvSpPr>
        <p:spPr>
          <a:xfrm>
            <a:off x="8380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巫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21337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水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2514600" y="2743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险（窄、急、曲折、多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9"/>
          <p:cNvSpPr/>
          <p:nvPr/>
        </p:nvSpPr>
        <p:spPr>
          <a:xfrm>
            <a:off x="2133720" y="3200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2514600" y="32767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高（笔直、整齐、险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2133720" y="3733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3"/>
          <p:cNvSpPr/>
          <p:nvPr/>
        </p:nvSpPr>
        <p:spPr>
          <a:xfrm>
            <a:off x="2590920" y="37339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奇妙多变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奇形怪状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4"/>
          <p:cNvSpPr/>
          <p:nvPr/>
        </p:nvSpPr>
        <p:spPr>
          <a:xfrm>
            <a:off x="9907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瞿塘峡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2286000" y="44197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滟滪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3200400" y="4419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险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8"/>
          <p:cNvSpPr/>
          <p:nvPr/>
        </p:nvSpPr>
        <p:spPr>
          <a:xfrm>
            <a:off x="2286000" y="5105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白帝城</a:t>
            </a:r>
            <a:r>
              <a:rPr b="1" lang="zh-CN" sz="1800" spc="-1" strike="noStrike">
                <a:solidFill>
                  <a:srgbClr val="d60093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9"/>
          <p:cNvSpPr/>
          <p:nvPr/>
        </p:nvSpPr>
        <p:spPr>
          <a:xfrm>
            <a:off x="3352680" y="5105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孙夫人庙</a:t>
            </a:r>
            <a:r>
              <a:rPr b="1" lang="zh-CN" sz="1800" spc="-1" strike="noStrike">
                <a:solidFill>
                  <a:srgbClr val="d60093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0"/>
          <p:cNvSpPr/>
          <p:nvPr/>
        </p:nvSpPr>
        <p:spPr>
          <a:xfrm>
            <a:off x="4648320" y="5105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八阵图遗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2"/>
          <p:cNvSpPr/>
          <p:nvPr/>
        </p:nvSpPr>
        <p:spPr>
          <a:xfrm>
            <a:off x="6095880" y="510552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三峡丰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                                            </a:t>
            </a: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的历史文化内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左中括号 31"/>
          <p:cNvSpPr/>
          <p:nvPr/>
        </p:nvSpPr>
        <p:spPr>
          <a:xfrm>
            <a:off x="685800" y="990720"/>
            <a:ext cx="304920" cy="3657600"/>
          </a:xfrm>
          <a:custGeom>
            <a:avLst/>
            <a:gdLst>
              <a:gd name="textAreaLeft" fmla="*/ 89640 w 304920"/>
              <a:gd name="textAreaRight" fmla="*/ 305280 w 304920"/>
              <a:gd name="textAreaTop" fmla="*/ 12600 h 3657600"/>
              <a:gd name="textAreaBottom" fmla="*/ 364500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5"/>
                  <a:pt x="0" y="150"/>
                </a:cubicBezTo>
                <a:lnTo>
                  <a:pt x="0" y="21450"/>
                </a:lnTo>
                <a:cubicBezTo>
                  <a:pt x="0" y="2152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3"/>
          <p:cNvSpPr/>
          <p:nvPr/>
        </p:nvSpPr>
        <p:spPr>
          <a:xfrm>
            <a:off x="-302400" y="1447920"/>
            <a:ext cx="91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巴东三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533520" y="7621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布置作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熟读课文，要求读句流畅，语速适中，声音洪亮，不回读，不添字不去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12589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黄陵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getimage"/>
          <p:cNvPicPr/>
          <p:nvPr/>
        </p:nvPicPr>
        <p:blipFill>
          <a:blip r:embed="rId1"/>
          <a:stretch/>
        </p:blipFill>
        <p:spPr>
          <a:xfrm>
            <a:off x="1835280" y="1989000"/>
            <a:ext cx="6912000" cy="4456080"/>
          </a:xfrm>
          <a:prstGeom prst="rect">
            <a:avLst/>
          </a:prstGeom>
          <a:ln w="0">
            <a:noFill/>
          </a:ln>
        </p:spPr>
      </p:pic>
      <p:sp>
        <p:nvSpPr>
          <p:cNvPr id="184" name="日期占位符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53C0-F5D4-495E-AC4A-61BF2F3B869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D840-8BDC-4FA8-9F20-62E3BCFABB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11280" y="260280"/>
            <a:ext cx="82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面枕江，三面围树。见不到的 竹子，倒悬着红色紫色的小花。庙的颜色和样式与山水和谐。有浓郁的江南风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75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白帝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0" y="6483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330E-AA57-48E6-A892-943BA65E147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7010280" y="6483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E54-2598-48DB-B423-D957705F34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白帝城"/>
          <p:cNvPicPr/>
          <p:nvPr/>
        </p:nvPicPr>
        <p:blipFill>
          <a:blip r:embed="rId1"/>
          <a:stretch/>
        </p:blipFill>
        <p:spPr>
          <a:xfrm>
            <a:off x="5486400" y="1981080"/>
            <a:ext cx="3365640" cy="3810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白帝城"/>
          <p:cNvPicPr/>
          <p:nvPr/>
        </p:nvPicPr>
        <p:blipFill>
          <a:blip r:embed="rId2"/>
          <a:stretch/>
        </p:blipFill>
        <p:spPr>
          <a:xfrm>
            <a:off x="152280" y="1981080"/>
            <a:ext cx="495324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tgt.jpg (21130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日期占位符 3"/>
          <p:cNvSpPr/>
          <p:nvPr/>
        </p:nvSpPr>
        <p:spPr>
          <a:xfrm>
            <a:off x="0" y="6483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F899-AA9B-442F-8C26-4D56A2F2440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7010280" y="6483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9BF9-47BE-4536-992A-B5601BE0C4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931760" y="4343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刘备托孤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608280" y="5762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刘备托孤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三峡地图"/>
          <p:cNvPicPr/>
          <p:nvPr/>
        </p:nvPicPr>
        <p:blipFill>
          <a:blip r:embed="rId1"/>
          <a:srcRect l="754" t="2566" r="0" b="0"/>
          <a:stretch/>
        </p:blipFill>
        <p:spPr>
          <a:xfrm>
            <a:off x="638280" y="914400"/>
            <a:ext cx="79722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图片2"/>
          <p:cNvPicPr/>
          <p:nvPr/>
        </p:nvPicPr>
        <p:blipFill>
          <a:blip r:embed="rId1"/>
          <a:stretch/>
        </p:blipFill>
        <p:spPr>
          <a:xfrm>
            <a:off x="666720" y="938160"/>
            <a:ext cx="7867800" cy="55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长江"/>
          <p:cNvPicPr/>
          <p:nvPr/>
        </p:nvPicPr>
        <p:blipFill>
          <a:blip r:embed="rId1"/>
          <a:stretch/>
        </p:blipFill>
        <p:spPr>
          <a:xfrm>
            <a:off x="533520" y="839880"/>
            <a:ext cx="8001000" cy="5713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838080" y="89856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瞿塘峡"/>
          <p:cNvPicPr/>
          <p:nvPr/>
        </p:nvPicPr>
        <p:blipFill>
          <a:blip r:embed="rId1"/>
          <a:srcRect l="0" t="10942" r="0" b="0"/>
          <a:stretch/>
        </p:blipFill>
        <p:spPr>
          <a:xfrm>
            <a:off x="541440" y="871560"/>
            <a:ext cx="8031240" cy="575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瞿塘峡1"/>
          <p:cNvPicPr/>
          <p:nvPr/>
        </p:nvPicPr>
        <p:blipFill>
          <a:blip r:embed="rId2"/>
          <a:stretch/>
        </p:blipFill>
        <p:spPr>
          <a:xfrm>
            <a:off x="560520" y="873000"/>
            <a:ext cx="8022960" cy="5756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554040" y="66528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矍塘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2057400" y="5638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西陵峡"/>
          <p:cNvPicPr/>
          <p:nvPr/>
        </p:nvPicPr>
        <p:blipFill>
          <a:blip r:embed="rId1"/>
          <a:stretch/>
        </p:blipFill>
        <p:spPr>
          <a:xfrm>
            <a:off x="566640" y="838080"/>
            <a:ext cx="8008920" cy="5722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6289560" y="5275440"/>
            <a:ext cx="2325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宋体-PUA"/>
              </a:rPr>
              <a:t>西陵峡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巫峡"/>
          <p:cNvPicPr/>
          <p:nvPr/>
        </p:nvPicPr>
        <p:blipFill>
          <a:blip r:embed="rId1"/>
          <a:srcRect l="0" t="0" r="0" b="8881"/>
          <a:stretch/>
        </p:blipFill>
        <p:spPr>
          <a:xfrm>
            <a:off x="533520" y="766800"/>
            <a:ext cx="8042040" cy="5786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246400" y="1035000"/>
            <a:ext cx="969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宋体-PUA"/>
              </a:rPr>
              <a:t>巫峡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AutoShape 7"/>
          <p:cNvGrpSpPr/>
          <p:nvPr/>
        </p:nvGrpSpPr>
        <p:grpSpPr>
          <a:xfrm>
            <a:off x="665280" y="2206800"/>
            <a:ext cx="7808760" cy="2987640"/>
            <a:chOff x="665280" y="2206800"/>
            <a:chExt cx="7808760" cy="2987640"/>
          </a:xfrm>
        </p:grpSpPr>
        <p:pic>
          <p:nvPicPr>
            <p:cNvPr id="62" name="AutoShape 7" descr=""/>
            <p:cNvPicPr/>
            <p:nvPr/>
          </p:nvPicPr>
          <p:blipFill>
            <a:blip r:embed="rId1"/>
            <a:stretch/>
          </p:blipFill>
          <p:spPr>
            <a:xfrm>
              <a:off x="665280" y="2206800"/>
              <a:ext cx="780876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12880" y="2354400"/>
              <a:ext cx="750096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4"/>
          <p:cNvSpPr/>
          <p:nvPr/>
        </p:nvSpPr>
        <p:spPr>
          <a:xfrm>
            <a:off x="824040" y="2209680"/>
            <a:ext cx="761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理清文章脉络，掌握游踪顺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品味文章的语言，学习作者根据各个景物的特点而采用的不同的描写方法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培养学生热爱祖国大好河山的感情，增强保护自然景观和人文景观的自觉意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838080" y="152388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宋体"/>
              </a:rPr>
              <a:t>学习目标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备课大师</dc:creator>
  <dc:description/>
  <dc:language>en-US</dc:language>
  <cp:lastModifiedBy>微软用户</cp:lastModifiedBy>
  <dcterms:modified xsi:type="dcterms:W3CDTF">2013-12-08T02:45:32Z</dcterms:modified>
  <cp:revision>0</cp:revision>
  <dc:subject/>
  <dc:title>语文备课大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">
    <vt:lpwstr>6ec8aac122bd4f6e</vt:lpwstr>
  </property>
</Properties>
</file>