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E0C-C3E9-49DE-BED5-F5F33225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D06-A107-46C4-A6DA-F21F5440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8439-1ACA-4875-B247-8371F7E4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0C23-26D6-43E8-97F9-6B3E539F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47CF-19C8-4FF6-A79C-3920AA7F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553-8CD6-4F88-9A0F-A167C209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33CD-F970-4074-AC52-76E71CBC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9F8D-B6CE-4EDC-8E32-9964BAA1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0992-47ED-4F96-84E3-A3AE02DE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E544-A49D-4E7B-8394-8122087C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A807-B9CF-4B5C-B409-85940A45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5F23-E9CF-4E25-BFBB-F2D55F7A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0EE2-CC2B-4F4E-B4CF-BD42F6CD00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但愿人长久" descr=""/>
          <p:cNvPicPr/>
          <p:nvPr/>
        </p:nvPicPr>
        <p:blipFill>
          <a:blip r:embed="rId1"/>
          <a:srcRect l="0" t="6333" r="0" b="23218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4572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苏教版语文第七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95280" y="1676520"/>
            <a:ext cx="6705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但愿人长久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但愿人长久" descr=""/>
          <p:cNvPicPr/>
          <p:nvPr/>
        </p:nvPicPr>
        <p:blipFill>
          <a:blip r:embed="rId1"/>
          <a:srcRect l="0" t="6333" r="0" b="23218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79" name="但愿人长久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5105160" cy="6162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867280" y="609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1066680"/>
            <a:ext cx="28954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人有悲欢离合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月有阴晴圆缺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此事古难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但愿人长久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千里共婵娟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304920"/>
            <a:ext cx="5105160" cy="6172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4952880"/>
            <a:ext cx="144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但愿人长久" descr=""/>
          <p:cNvPicPr/>
          <p:nvPr/>
        </p:nvPicPr>
        <p:blipFill>
          <a:blip r:embed="rId1"/>
          <a:srcRect l="0" t="6333" r="0" b="23218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33720" y="304920"/>
            <a:ext cx="4800600" cy="6172200"/>
          </a:xfrm>
          <a:custGeom>
            <a:avLst/>
            <a:gdLst>
              <a:gd name="textAreaLeft" fmla="*/ 234360 w 4800600"/>
              <a:gd name="textAreaRight" fmla="*/ 4566240 w 4800600"/>
              <a:gd name="textAreaTop" fmla="*/ 234360 h 6172200"/>
              <a:gd name="textAreaBottom" fmla="*/ 5937840 h 6172200"/>
            </a:gdLst>
            <a:ahLst/>
            <a:rect l="textAreaLeft" t="textAreaTop" r="textAreaRight" b="textAreaBottom"/>
            <a:pathLst>
              <a:path w="21600" h="27771">
                <a:moveTo>
                  <a:pt x="3600" y="0"/>
                </a:moveTo>
                <a:arcTo wR="3600" hR="3600" stAng="16200000" swAng="-5400000"/>
                <a:lnTo>
                  <a:pt x="0" y="24171"/>
                </a:lnTo>
                <a:arcTo wR="3600" hR="3600" stAng="10800000" swAng="-5400000"/>
                <a:lnTo>
                  <a:pt x="18000" y="277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6880" y="380880"/>
            <a:ext cx="4572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人有悲欢离合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月有阴晴圆缺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此事古难全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但愿人长久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千里共婵娟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但愿人长久" descr=""/>
          <p:cNvPicPr/>
          <p:nvPr/>
        </p:nvPicPr>
        <p:blipFill>
          <a:blip r:embed="rId1"/>
          <a:srcRect l="0" t="6333" r="0" b="23218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200" y="990720"/>
            <a:ext cx="3048120" cy="518148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181480"/>
              <a:gd name="textAreaBottom" fmla="*/ 5032800 h 5181480"/>
            </a:gdLst>
            <a:ahLst/>
            <a:rect l="textAreaLeft" t="textAreaTop" r="textAreaRight" b="textAreaBottom"/>
            <a:pathLst>
              <a:path w="21600" h="36716">
                <a:moveTo>
                  <a:pt x="3600" y="0"/>
                </a:moveTo>
                <a:arcTo wR="3600" hR="3600" stAng="16200000" swAng="-5400000"/>
                <a:lnTo>
                  <a:pt x="0" y="33116"/>
                </a:lnTo>
                <a:arcTo wR="3600" hR="3600" stAng="10800000" swAng="-5400000"/>
                <a:lnTo>
                  <a:pt x="18000" y="36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990720"/>
            <a:ext cx="35812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人有悲欢离合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月有阴晴圆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此事古难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但愿人长久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千里共婵娟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1371600"/>
            <a:ext cx="4952880" cy="4267080"/>
          </a:xfrm>
          <a:prstGeom prst="roundRect">
            <a:avLst>
              <a:gd name="adj" fmla="val 11310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1447920"/>
            <a:ext cx="487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世上本来就是有悲也有欢、有离也有合的，就像天上的月儿有隐也有现、有圆也有缺一样，哪里会十全十美呢！但愿美好的感情常留人们心间，虽然远隔千里，也能共同拥有这一轮明月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6333" r="0" b="23218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33720" y="304920"/>
            <a:ext cx="4800600" cy="6172200"/>
          </a:xfrm>
          <a:custGeom>
            <a:avLst/>
            <a:gdLst>
              <a:gd name="textAreaLeft" fmla="*/ 234360 w 4800600"/>
              <a:gd name="textAreaRight" fmla="*/ 4566240 w 4800600"/>
              <a:gd name="textAreaTop" fmla="*/ 234360 h 6172200"/>
              <a:gd name="textAreaBottom" fmla="*/ 5937840 h 6172200"/>
            </a:gdLst>
            <a:ahLst/>
            <a:rect l="textAreaLeft" t="textAreaTop" r="textAreaRight" b="textAreaBottom"/>
            <a:pathLst>
              <a:path w="21600" h="27771">
                <a:moveTo>
                  <a:pt x="3600" y="0"/>
                </a:moveTo>
                <a:arcTo wR="3600" hR="3600" stAng="16200000" swAng="-5400000"/>
                <a:lnTo>
                  <a:pt x="0" y="24171"/>
                </a:lnTo>
                <a:arcTo wR="3600" hR="3600" stAng="10800000" swAng="-5400000"/>
                <a:lnTo>
                  <a:pt x="18000" y="277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380880"/>
            <a:ext cx="55054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人有悲欢离合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月有阴晴圆缺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此事古难全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但愿人长久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千里共婵娟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153280" y="617220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但愿人长久" descr=""/>
          <p:cNvPicPr/>
          <p:nvPr/>
        </p:nvPicPr>
        <p:blipFill>
          <a:blip r:embed="rId1"/>
          <a:srcRect l="0" t="6333" r="0" b="23218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219320" y="1143000"/>
            <a:ext cx="6781680" cy="3886200"/>
          </a:xfrm>
          <a:prstGeom prst="roundRect">
            <a:avLst>
              <a:gd name="adj" fmla="val 19227"/>
            </a:avLst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4419720"/>
            <a:ext cx="3505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600200"/>
            <a:ext cx="5334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但愿美好的感情常留人们心间，虽然远隔千里，也能共同拥有这一轮明月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但愿人长久" descr=""/>
          <p:cNvPicPr/>
          <p:nvPr/>
        </p:nvPicPr>
        <p:blipFill>
          <a:blip r:embed="rId1"/>
          <a:srcRect l="0" t="6333" r="0" b="23218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33720" y="304920"/>
            <a:ext cx="4800600" cy="6172200"/>
          </a:xfrm>
          <a:custGeom>
            <a:avLst/>
            <a:gdLst>
              <a:gd name="textAreaLeft" fmla="*/ 234360 w 4800600"/>
              <a:gd name="textAreaRight" fmla="*/ 4566240 w 4800600"/>
              <a:gd name="textAreaTop" fmla="*/ 234360 h 6172200"/>
              <a:gd name="textAreaBottom" fmla="*/ 5937840 h 6172200"/>
            </a:gdLst>
            <a:ahLst/>
            <a:rect l="textAreaLeft" t="textAreaTop" r="textAreaRight" b="textAreaBottom"/>
            <a:pathLst>
              <a:path w="21600" h="27771">
                <a:moveTo>
                  <a:pt x="3600" y="0"/>
                </a:moveTo>
                <a:arcTo wR="3600" hR="3600" stAng="16200000" swAng="-5400000"/>
                <a:lnTo>
                  <a:pt x="0" y="24171"/>
                </a:lnTo>
                <a:arcTo wR="3600" hR="3600" stAng="10800000" swAng="-5400000"/>
                <a:lnTo>
                  <a:pt x="18000" y="277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380880"/>
            <a:ext cx="4572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人有悲欢离合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月有阴晴圆缺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此事古难全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但愿人长久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千里共婵娟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153280" y="617220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但愿人长久" descr=""/>
          <p:cNvPicPr/>
          <p:nvPr/>
        </p:nvPicPr>
        <p:blipFill>
          <a:blip r:embed="rId1"/>
          <a:srcRect l="0" t="6333" r="0" b="23218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8600" y="380880"/>
            <a:ext cx="8686800" cy="5943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42880"/>
            <a:ext cx="845820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水调歌头                                                                                                                   苏轼 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丙辰中秋，欢饮达旦大醉，作此篇，兼怀子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明月几时有？把酒问青天。不知天上宫阙，今夕是何年？我欲乘风归去，又恐琼楼玉宇，高处不胜寒。起舞弄清影，何似在人间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转朱阁，低绮户，照无眠。不应有恨，何事长向别时圆？人有悲欢离合，月有阴晴圆缺，此事古难全。但愿人长久，千里共婵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但愿人长久" descr=""/>
          <p:cNvPicPr/>
          <p:nvPr/>
        </p:nvPicPr>
        <p:blipFill>
          <a:blip r:embed="rId1"/>
          <a:srcRect l="0" t="6333" r="0" b="23218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00400" y="1371600"/>
            <a:ext cx="3048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Times New Roman"/>
                <a:ea typeface="隶书"/>
              </a:rPr>
              <a:t>结   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但愿人长久" descr=""/>
          <p:cNvPicPr/>
          <p:nvPr/>
        </p:nvPicPr>
        <p:blipFill>
          <a:blip r:embed="rId1"/>
          <a:srcRect l="0" t="6333" r="0" b="23218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45" name="月亮成事" descr=""/>
          <p:cNvPicPr/>
          <p:nvPr/>
        </p:nvPicPr>
        <p:blipFill>
          <a:blip r:embed="rId2"/>
          <a:stretch/>
        </p:blipFill>
        <p:spPr>
          <a:xfrm>
            <a:off x="1828800" y="609480"/>
            <a:ext cx="5562720" cy="4297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510552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欢 欢 喜 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但愿人长久" descr=""/>
          <p:cNvPicPr/>
          <p:nvPr/>
        </p:nvPicPr>
        <p:blipFill>
          <a:blip r:embed="rId1"/>
          <a:srcRect l="0" t="6333" r="0" b="23218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48" name="但愿人长久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5105160" cy="6162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76520" y="304920"/>
            <a:ext cx="5105160" cy="617220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62920" y="1295280"/>
            <a:ext cx="914400" cy="3505320"/>
          </a:xfrm>
          <a:custGeom>
            <a:avLst/>
            <a:gdLst>
              <a:gd name="textAreaLeft" fmla="*/ 56160 w 914400"/>
              <a:gd name="textAreaRight" fmla="*/ 858240 w 914400"/>
              <a:gd name="textAreaTop" fmla="*/ 56160 h 3505320"/>
              <a:gd name="textAreaBottom" fmla="*/ 3449160 h 3505320"/>
            </a:gdLst>
            <a:ahLst/>
            <a:rect l="textAreaLeft" t="textAreaTop" r="textAreaRight" b="textAreaBottom"/>
            <a:pathLst>
              <a:path w="21600" h="82779">
                <a:moveTo>
                  <a:pt x="4538" y="0"/>
                </a:moveTo>
                <a:arcTo wR="4538" hR="4538" stAng="16200000" swAng="-5400000"/>
                <a:lnTo>
                  <a:pt x="0" y="78241"/>
                </a:lnTo>
                <a:arcTo wR="4538" hR="4538" stAng="10800000" swAng="-5400000"/>
                <a:lnTo>
                  <a:pt x="17062" y="82779"/>
                </a:lnTo>
                <a:arcTo wR="4538" hR="4538" stAng="5400000" swAng="-5400000"/>
                <a:lnTo>
                  <a:pt x="21600" y="4538"/>
                </a:lnTo>
                <a:arcTo wR="4538" hR="4538" stAng="0" swAng="-5400000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33360" y="1600200"/>
            <a:ext cx="1399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心  绪  不  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但愿人长久" descr=""/>
          <p:cNvPicPr/>
          <p:nvPr/>
        </p:nvPicPr>
        <p:blipFill>
          <a:blip r:embed="rId1"/>
          <a:srcRect l="0" t="6333" r="0" b="23218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5280" y="13716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苏轼跟弟弟苏辙手足情深。小时侯，他们俩一起读书，一起玩耍，整天形影不离。长大以后，他们就各奔东西，很少再有见面的机会。如今屈指算来，分别又有七个年头了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838080"/>
            <a:ext cx="8001000" cy="4953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114300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</a:rPr>
              <a:t>. .  . 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426708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</a:rPr>
              <a:t>. 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23623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</a:rPr>
              <a:t>. .  . 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但愿人长久" descr=""/>
          <p:cNvPicPr/>
          <p:nvPr/>
        </p:nvPicPr>
        <p:blipFill>
          <a:blip r:embed="rId1"/>
          <a:srcRect l="0" t="6333" r="0" b="23218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59" name="但愿人长久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5105160" cy="6162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76520" y="304920"/>
            <a:ext cx="5105160" cy="617220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但愿人长久" descr=""/>
          <p:cNvPicPr/>
          <p:nvPr/>
        </p:nvPicPr>
        <p:blipFill>
          <a:blip r:embed="rId1"/>
          <a:srcRect l="0" t="6333" r="0" b="23218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62" name="但愿人长久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5105160" cy="6162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76520" y="304920"/>
            <a:ext cx="5105160" cy="617220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13880" y="2286000"/>
            <a:ext cx="850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00"/>
                </a:solidFill>
                <a:latin typeface="Times New Roman"/>
              </a:rPr>
              <a:t>埋    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1676520"/>
            <a:ext cx="914400" cy="320040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3200400"/>
              <a:gd name="textAreaBottom" fmla="*/ 3155760 h 3200400"/>
            </a:gdLst>
            <a:ahLst/>
            <a:rect l="textAreaLeft" t="textAreaTop" r="textAreaRight" b="textAreaBottom"/>
            <a:pathLst>
              <a:path w="21600" h="75579">
                <a:moveTo>
                  <a:pt x="3600" y="0"/>
                </a:moveTo>
                <a:arcTo wR="3600" hR="3600" stAng="16200000" swAng="-5400000"/>
                <a:lnTo>
                  <a:pt x="0" y="71979"/>
                </a:lnTo>
                <a:arcTo wR="3600" hR="3600" stAng="10800000" swAng="-5400000"/>
                <a:lnTo>
                  <a:pt x="18000" y="755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但愿人长久" descr=""/>
          <p:cNvPicPr/>
          <p:nvPr/>
        </p:nvPicPr>
        <p:blipFill>
          <a:blip r:embed="rId1"/>
          <a:srcRect l="0" t="6333" r="0" b="232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19320" y="1523880"/>
            <a:ext cx="6933960" cy="3810240"/>
          </a:xfrm>
          <a:prstGeom prst="flowChartAlternateProcess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21337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无情的月亮啊，你为什么偏偏在别人分离的时候变得这么圆、这么亮呢？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153280" y="617220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但愿人长久" descr=""/>
          <p:cNvPicPr/>
          <p:nvPr/>
        </p:nvPicPr>
        <p:blipFill>
          <a:blip r:embed="rId1"/>
          <a:srcRect l="0" t="6333" r="0" b="232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但愿人长久" descr=""/>
          <p:cNvPicPr/>
          <p:nvPr/>
        </p:nvPicPr>
        <p:blipFill>
          <a:blip r:embed="rId2"/>
          <a:stretch/>
        </p:blipFill>
        <p:spPr>
          <a:xfrm>
            <a:off x="1905120" y="304920"/>
            <a:ext cx="5105160" cy="6162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05120" y="304920"/>
            <a:ext cx="5105160" cy="6172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1676520"/>
            <a:ext cx="914400" cy="304776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3047760"/>
              <a:gd name="textAreaBottom" fmla="*/ 2990160 h 3047760"/>
            </a:gdLst>
            <a:ahLst/>
            <a:rect l="textAreaLeft" t="textAreaTop" r="textAreaRight" b="textAreaBottom"/>
            <a:pathLst>
              <a:path w="21600" h="71974">
                <a:moveTo>
                  <a:pt x="4664" y="0"/>
                </a:moveTo>
                <a:arcTo wR="4664" hR="4664" stAng="16200000" swAng="-5400000"/>
                <a:lnTo>
                  <a:pt x="0" y="67310"/>
                </a:lnTo>
                <a:arcTo wR="4664" hR="4664" stAng="10800000" swAng="-5400000"/>
                <a:lnTo>
                  <a:pt x="16936" y="71974"/>
                </a:lnTo>
                <a:arcTo wR="4664" hR="4664" stAng="5400000" swAng="-5400000"/>
                <a:lnTo>
                  <a:pt x="21600" y="4664"/>
                </a:lnTo>
                <a:arcTo wR="4664" hR="4664" stAng="0" swAng="-5400000"/>
                <a:close/>
              </a:path>
            </a:pathLst>
          </a:cu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98200" y="2057400"/>
            <a:ext cx="2023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ff"/>
                </a:solidFill>
                <a:latin typeface="Times New Roman"/>
              </a:rPr>
              <a:t>宽    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但愿人长久" descr=""/>
          <p:cNvPicPr/>
          <p:nvPr/>
        </p:nvPicPr>
        <p:blipFill>
          <a:blip r:embed="rId1"/>
          <a:srcRect l="0" t="6333" r="0" b="232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19320" y="1066680"/>
            <a:ext cx="70102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世上本来就是有悲也有欢、有离也有合的，就像天上的月儿有隐也有现、有圆也有缺一样，哪里会十全十美呢！但愿美好的感情常留人们心间，虽然远隔千里，也能共同拥有这一轮明月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838080"/>
            <a:ext cx="7543800" cy="5181840"/>
          </a:xfrm>
          <a:prstGeom prst="roundRect">
            <a:avLst>
              <a:gd name="adj" fmla="val 15625"/>
            </a:avLst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1T14:40:33Z</dcterms:created>
  <dc:creator>语文大师 xiexingcun.com</dc:creator>
  <dc:description/>
  <dc:language>en-US</dc:language>
  <cp:lastModifiedBy>lzj</cp:lastModifiedBy>
  <dcterms:modified xsi:type="dcterms:W3CDTF">2014-08-02T19:21:36Z</dcterms:modified>
  <cp:revision>0</cp:revision>
  <dc:subject/>
  <dc:title>语文大师 xiexingcun.com</dc:title>
</cp:coreProperties>
</file>