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7.jpeg" ContentType="image/jpeg"/>
  <Override PartName="/ppt/media/image17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975-6409-40BF-8F9A-43D5472C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944-C004-4F36-9CA7-D16B96AC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C55-CE23-4D96-B141-4034E16D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DDF-A998-4A43-BBD8-E5CCBC95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9950-F42C-4577-973D-5584AF30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E9A1-6021-4DD3-9B3B-5FE3C078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1761-A662-43BF-9C15-6ED20CF4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BEED-3939-48EB-BA14-55727268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B89F-D566-4EBE-BA40-BBD48DA8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54DC-A148-43B6-9FB7-1AE6209E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4819-5343-4F8E-AEFC-4BE6832D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E61-A622-41D1-9E54-F594A4AE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5B91-D8DC-423D-9F08-109A6C9D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F51B-8F07-4ECB-8A54-D8579E03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2200-E5F0-4D61-AE09-A60C6EC0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6117-6BDD-40C5-BDDD-89AF336C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2D88-0297-439D-962A-BB0711E1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EA7-6912-4B03-B2E2-FD3860A6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1604-9886-4B77-A3EF-2F18DE75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AA8-29AC-423A-8B45-CA46A52C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2DB-882E-4CA3-8ABB-50820D6D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C05-5384-45F0-996D-E485D7B8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600-8EE1-4B6F-BEB5-71802B8D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3E1-D206-41AB-943E-0A54D051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3A1F-6D6F-4497-82C0-17FA3CADFDE4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F965-54B1-4087-A60F-5713AC359B12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angss.com/dvbbs/bbs/UploadFile/2005-7/200577193322198.jpg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pic.91.com/freeimg/web/freeimg/bigpic.aspx?name=&#20013;&#22269;&#22899;&#25490;&#31934;&#24425;&#22270;&#29255;5&amp;pic=PostImg/10011/543/10011000000543.jpg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hyperlink" Target="http://image.baidu.com/i?ct=503316480&amp;z=634213102&amp;tn=baiduimagedetail&amp;word=&#30005;&#33041;&#21069;&#30340;&#23567;&#23398;&#29983;&amp;in=1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948360" y="0"/>
            <a:ext cx="86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传统文化</a:t>
            </a:r>
            <a:br>
              <a:rPr sz="4800"/>
            </a:b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1880" y="2565360"/>
            <a:ext cx="16426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  <a:ea typeface="华文新魏"/>
              </a:rPr>
              <a:t>与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华文新魏"/>
              </a:rPr>
              <a:t>文化传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隶书"/>
              </a:rPr>
              <a:t>它是一幅春秋战国地图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7020000" cy="390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572"/>
                </a:solidFill>
                <a:latin typeface="Arial"/>
                <a:ea typeface="隶书"/>
              </a:rPr>
              <a:t>它是故宫，是长城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761080" y="2852640"/>
            <a:ext cx="3097080" cy="3716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3284640"/>
            <a:ext cx="500400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572"/>
                </a:solidFill>
                <a:latin typeface="Arial"/>
                <a:ea typeface="隶书"/>
              </a:rPr>
              <a:t>它是春节，是端午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3986280" cy="4149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859280" y="2421000"/>
            <a:ext cx="40705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隶书"/>
              </a:rPr>
              <a:t>它是瓷器，是壁画，是方砖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3276720" cy="2830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492360" y="1484280"/>
            <a:ext cx="1622520" cy="2160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292720" y="3689280"/>
            <a:ext cx="3529080" cy="28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572"/>
                </a:solidFill>
                <a:latin typeface="Arial"/>
                <a:ea typeface="隶书"/>
              </a:rPr>
              <a:t>它是脸谱，是礼节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16000" y="2816280"/>
            <a:ext cx="2511360" cy="306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003640" y="2685960"/>
            <a:ext cx="2851200" cy="33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  <a:ea typeface="隶书"/>
              </a:rPr>
              <a:t>它是闻鸡起舞，是岳母刺字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96000" y="2852640"/>
            <a:ext cx="2798640" cy="3670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95280" y="2852640"/>
            <a:ext cx="330372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  <a:ea typeface="隶书"/>
              </a:rPr>
              <a:t>它是琴棋书画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1463760" cy="2952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835280" y="4316400"/>
            <a:ext cx="2520720" cy="2281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88000" y="3262320"/>
            <a:ext cx="1728720" cy="3335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912000" y="2133720"/>
            <a:ext cx="19810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  <a:ea typeface="隶书"/>
              </a:rPr>
              <a:t>它是牌坊，是三寸金莲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59280" y="4111560"/>
            <a:ext cx="3916440" cy="2425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95280" y="2205000"/>
            <a:ext cx="3809880" cy="22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56080" y="2057400"/>
            <a:ext cx="667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传统文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93240" y="4572000"/>
            <a:ext cx="1155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文化传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410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  <a:ea typeface="华文新魏"/>
              </a:rPr>
              <a:t>问题探讨：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68360" y="2708280"/>
            <a:ext cx="43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书本第</a:t>
            </a:r>
            <a:r>
              <a:rPr b="1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69</a:t>
            </a:r>
            <a:r>
              <a:rPr b="1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页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  <a:ea typeface="隶书"/>
              </a:rPr>
              <a:t>词语积累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2472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媲美  事过境迁  抱残守缺  明日黄花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褒贬  昙花一现  销声匿迹  孤芳自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威慑  一蹴而就  面目全非  班驳陆离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积淀  筛选  攻讦  咀嚼  时髦  蜕除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8243640" cy="4313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0920" y="4329000"/>
            <a:ext cx="428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四合院就是房屋从四面“合（拢）”过来。四合院除了正房必须朝南，还有个“左厨右厕”的老规矩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56040" y="4329000"/>
            <a:ext cx="42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世纪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9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年代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苏州建造的住宅小区。围墙内是一幢幢别墅和公寓房，都有墙分隔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按此在新窗口浏览图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692280"/>
            <a:ext cx="3809880" cy="4924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59280" y="765000"/>
            <a:ext cx="38098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6734160" cy="3467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47640" y="3645000"/>
            <a:ext cx="5975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55640" y="620640"/>
            <a:ext cx="770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36360" y="692280"/>
            <a:ext cx="92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2162d"/>
                </a:solidFill>
                <a:latin typeface="华文新魏"/>
                <a:ea typeface="华文新魏"/>
              </a:rPr>
              <a:t>       </a:t>
            </a:r>
            <a:r>
              <a:rPr b="1" lang="zh-CN" sz="4400" spc="-1" strike="noStrike">
                <a:solidFill>
                  <a:srgbClr val="a2162d"/>
                </a:solidFill>
                <a:latin typeface="华文新魏"/>
                <a:ea typeface="华文新魏"/>
              </a:rPr>
              <a:t>对待传统文化和文化传统正确态度应该是什么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2637000"/>
            <a:ext cx="8604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4d6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2204d6"/>
                </a:solidFill>
                <a:latin typeface="黑体"/>
                <a:ea typeface="黑体"/>
              </a:rPr>
              <a:t>辨证地了解和掌握传统的这两种属性，运用它而不被其吞没，防止它而不被拒之千里之外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32880" y="4653000"/>
            <a:ext cx="115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化传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24520" y="4581360"/>
            <a:ext cx="11552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传统文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3573360"/>
            <a:ext cx="361800" cy="936720"/>
          </a:xfrm>
          <a:custGeom>
            <a:avLst/>
            <a:gdLst>
              <a:gd name="textAreaLeft" fmla="*/ 48240 w 361800"/>
              <a:gd name="textAreaRight" fmla="*/ 313560 w 36180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59280" y="3573360"/>
            <a:ext cx="433440" cy="935280"/>
          </a:xfrm>
          <a:custGeom>
            <a:avLst/>
            <a:gdLst>
              <a:gd name="textAreaLeft" fmla="*/ 57960 w 433440"/>
              <a:gd name="textAreaRight" fmla="*/ 375480 w 433440"/>
              <a:gd name="textAreaTop" fmla="*/ 163440 h 935280"/>
              <a:gd name="textAreaBottom" fmla="*/ 6782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2997360"/>
            <a:ext cx="45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隶书"/>
              </a:rPr>
              <a:t>总——分——总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3960" y="4941720"/>
            <a:ext cx="6678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传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56520" y="4869000"/>
            <a:ext cx="11552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重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260280"/>
            <a:ext cx="827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阅读课文</a:t>
            </a:r>
            <a:r>
              <a:rPr b="1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r>
              <a:rPr b="1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整体感知</a:t>
            </a:r>
            <a:br>
              <a:rPr sz="6000"/>
            </a:b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思考本文的思路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每个部分写什么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结构上有什么特点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285840" y="1628640"/>
          <a:ext cx="8534160" cy="4684680"/>
        </p:xfrm>
        <a:graphic>
          <a:graphicData uri="http://schemas.openxmlformats.org/drawingml/2006/table">
            <a:tbl>
              <a:tblPr/>
              <a:tblGrid>
                <a:gridCol w="2133360"/>
                <a:gridCol w="2133360"/>
                <a:gridCol w="2133720"/>
                <a:gridCol w="2133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比较对象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概念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特点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举例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99ff"/>
                          </a:solidFill>
                          <a:latin typeface="Arial"/>
                          <a:ea typeface="黑体"/>
                        </a:rPr>
                        <a:t>传统文化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07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文化传统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633240" y="533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在课文中找出相关语句，完成下表的填空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762120"/>
            <a:ext cx="864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280" y="1066680"/>
          <a:ext cx="8991720" cy="5229360"/>
        </p:xfrm>
        <a:graphic>
          <a:graphicData uri="http://schemas.openxmlformats.org/drawingml/2006/table">
            <a:tbl>
              <a:tblPr/>
              <a:tblGrid>
                <a:gridCol w="2133720"/>
                <a:gridCol w="2430360"/>
                <a:gridCol w="2141640"/>
                <a:gridCol w="2286000"/>
              </a:tblGrid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比较对象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概念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特点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举例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99ff"/>
                          </a:solidFill>
                          <a:latin typeface="Arial"/>
                          <a:ea typeface="黑体"/>
                        </a:rPr>
                        <a:t>传统文化</a:t>
                      </a:r>
                      <a:endParaRPr b="0" lang="en-US" sz="3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99ff"/>
                          </a:solidFill>
                          <a:latin typeface="黑体"/>
                          <a:ea typeface="黑体"/>
                        </a:rPr>
                        <a:t>历代存在过的种种物质的、制度的和精神的文化实体和文化意识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99ff"/>
                          </a:solidFill>
                          <a:latin typeface="Arial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3399ff"/>
                          </a:solidFill>
                          <a:latin typeface="Arial"/>
                          <a:ea typeface="黑体"/>
                        </a:rPr>
                        <a:t>时代性、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99ff"/>
                          </a:solidFill>
                          <a:latin typeface="Arial"/>
                          <a:ea typeface="黑体"/>
                        </a:rPr>
                        <a:t>民族性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99ff"/>
                          </a:solidFill>
                          <a:latin typeface="Arial"/>
                          <a:ea typeface="黑体"/>
                        </a:rPr>
                        <a:t>（文化遗产）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99ff"/>
                          </a:solidFill>
                          <a:latin typeface="Arial"/>
                          <a:ea typeface="黑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3399ff"/>
                          </a:solidFill>
                          <a:latin typeface="Arial"/>
                          <a:ea typeface="黑体"/>
                        </a:rPr>
                        <a:t>民族服饰、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99ff"/>
                          </a:solidFill>
                          <a:latin typeface="Arial"/>
                          <a:ea typeface="黑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3399ff"/>
                          </a:solidFill>
                          <a:latin typeface="Arial"/>
                          <a:ea typeface="黑体"/>
                        </a:rPr>
                        <a:t>古典诗文、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99ff"/>
                          </a:solidFill>
                          <a:latin typeface="Arial"/>
                          <a:ea typeface="黑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3399ff"/>
                          </a:solidFill>
                          <a:latin typeface="Arial"/>
                          <a:ea typeface="黑体"/>
                        </a:rPr>
                        <a:t>生活习俗、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99ff"/>
                          </a:solidFill>
                          <a:latin typeface="Arial"/>
                          <a:ea typeface="黑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3399ff"/>
                          </a:solidFill>
                          <a:latin typeface="Arial"/>
                          <a:ea typeface="黑体"/>
                        </a:rPr>
                        <a:t>古典诗文、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99ff"/>
                          </a:solidFill>
                          <a:latin typeface="Arial"/>
                          <a:ea typeface="黑体"/>
                        </a:rPr>
                        <a:t>忠孝观念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2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文化传统</a:t>
                      </a:r>
                      <a:endParaRPr b="0" lang="en-US" sz="3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产生于民族的历代生活，成长于民族的反复实践，从而形成为民族的集体意识和集体无意识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不可捉摸、无处不在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（民族精神）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和睦相处、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尊老爱幼、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团结奋进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271520" y="2286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比较两个概念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11280" y="1711440"/>
            <a:ext cx="81374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04d6"/>
                </a:solidFill>
                <a:latin typeface="黑体"/>
                <a:ea typeface="黑体"/>
              </a:rPr>
              <a:t>    “ </a:t>
            </a:r>
            <a:r>
              <a:rPr b="1" lang="zh-CN" sz="3200" spc="-1" strike="noStrike">
                <a:solidFill>
                  <a:srgbClr val="2204d6"/>
                </a:solidFill>
                <a:latin typeface="黑体"/>
                <a:ea typeface="黑体"/>
              </a:rPr>
              <a:t>文化传统与传统文化差别之大，几乎可以跟蜜蜂和蜂蜜的差别媲美”中的“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蜜蜂和蜂蜜</a:t>
            </a:r>
            <a:r>
              <a:rPr b="1" lang="zh-CN" sz="3200" spc="-1" strike="noStrike">
                <a:solidFill>
                  <a:srgbClr val="2204d6"/>
                </a:solidFill>
                <a:latin typeface="黑体"/>
                <a:ea typeface="黑体"/>
              </a:rPr>
              <a:t> ”分别指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4920" y="365112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蜜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3500280"/>
            <a:ext cx="381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04d6"/>
                </a:solidFill>
                <a:latin typeface="Times New Roman"/>
                <a:ea typeface="黑体"/>
              </a:rPr>
              <a:t>文化传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04d6"/>
                </a:solidFill>
                <a:latin typeface="Times New Roman"/>
                <a:ea typeface="黑体"/>
              </a:rPr>
              <a:t>（不死民族精神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50198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蜂蜜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4941720"/>
            <a:ext cx="302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04d6"/>
                </a:solidFill>
                <a:latin typeface="Times New Roman"/>
                <a:ea typeface="黑体"/>
              </a:rPr>
              <a:t>传统文化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04d6"/>
                </a:solidFill>
                <a:latin typeface="Times New Roman"/>
                <a:ea typeface="黑体"/>
              </a:rPr>
              <a:t>（文化遗产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3860640"/>
            <a:ext cx="1727280" cy="360360"/>
          </a:xfrm>
          <a:prstGeom prst="rightArrow">
            <a:avLst>
              <a:gd name="adj1" fmla="val 50000"/>
              <a:gd name="adj2" fmla="val 11983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5164200"/>
            <a:ext cx="1727280" cy="360360"/>
          </a:xfrm>
          <a:prstGeom prst="rightArrow">
            <a:avLst>
              <a:gd name="adj1" fmla="val 50000"/>
              <a:gd name="adj2" fmla="val 11983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47628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思考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8280" y="115560"/>
            <a:ext cx="274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思考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468360" y="1988640"/>
            <a:ext cx="979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  </a:t>
            </a:r>
            <a:r>
              <a:rPr b="1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如何理解“一般来说，文化传统是一种惰性的力量”，和“这并非说文化传统是不变的”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223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思考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90010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举例说说，你是如何理解传统“既是财富，又是包袱”这两重性的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492280"/>
            <a:ext cx="84978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7572"/>
                </a:solidFill>
                <a:latin typeface="黑体"/>
                <a:ea typeface="黑体"/>
              </a:rPr>
              <a:t>如果某个民族没有自己的传统文化和文化传统，每天都得从头开始去练习生存本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4076640"/>
            <a:ext cx="80643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7572"/>
                </a:solidFill>
                <a:latin typeface="黑体"/>
                <a:ea typeface="黑体"/>
              </a:rPr>
              <a:t>因为传统是一种惰性的力量，保守的因素，它具有钳制思想、束缚行动的本性，常常造成原地踏步的局面，也会引起某种不堪设想和不忍设想的后果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336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根据你的直觉，发挥你的联想力和想象力，说说什么是传统文化。比如——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03280" y="2205000"/>
            <a:ext cx="7345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它是龙，是周庄，是茶壶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2627280" cy="2414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627280" y="3284640"/>
            <a:ext cx="3311640" cy="2455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940360" y="32860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02:18:17Z</dcterms:created>
  <dc:creator>Lenovo User</dc:creator>
  <dc:description/>
  <dc:language>en-US</dc:language>
  <cp:lastModifiedBy>微软用户</cp:lastModifiedBy>
  <dcterms:modified xsi:type="dcterms:W3CDTF">2008-03-24T13:12:20Z</dcterms:modified>
  <cp:revision>36</cp:revision>
  <dc:subject/>
  <dc:title>传统文化与文化传统</dc:title>
</cp:coreProperties>
</file>