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FF5-9BEE-4452-BB96-FCF58624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66A-8B53-41B0-BBB0-827C41EB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B23-E062-4E31-BBEB-EC3CCAA4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409-74F2-47E8-BF9A-1E70353C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1B7-4643-49E9-B123-4BB31090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13E-4EC0-4C06-9402-AB1775DC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925-A8B8-4E38-B692-1B450A16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FD4-4744-403C-8DC6-FB4E07F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8E5-ADF6-45BB-9799-03993950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CB2-01F3-49A7-A8B4-A63469D2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DD0-D297-4DE8-AFF0-B77A30A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4DA-889D-45F6-8DFF-A1EE7E88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1CAD-08F9-466A-B5A3-23DB6235F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04920"/>
            <a:ext cx="3886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时候，乡愁是一枚小小的邮票，我在这头，母亲在那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   　长大后，乡愁是一张窄窄的船票，我在这头，新娘在那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   　后来呵，乡愁是一方矮矮的坟墓，我在外头，母亲在里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   　而现在，乡愁是一湾浅浅的海峡，我在这头，大陆在那头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66080" y="914400"/>
            <a:ext cx="1563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乡愁渐生灯影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客愁多在雨声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99072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文中引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现古典诗意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杜甫《望岳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岱宗夫如何？齐鲁青未了。造化钟神秀，阴阳割昏晓。荡胸生层云，绝眦入归鸟。会当凌绝顶，一览众山小。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姜夔《点绛唇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燕雁无心，太湖西畔随云去。数峰清苦，商略黄昏雨。第四桥边，拟共天随往。今何许？凭栏怀古，残柳参差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12193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蒋捷《虞美人  听雨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少年听雨歌楼上，红烛罗帐昏。壮年听雨客舟中，江阔云低断雁叫西风。 而今听雨僧庐下，鬓已星星也。悲欢离合总无情，点滴到天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1905120"/>
            <a:ext cx="457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凝练准确的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诗化隽永的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380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作者在不同的地方看雨、听雨、体会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066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时      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971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台北街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1752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走入霏霏细雨，想入非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2096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品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汉字寄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666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嗅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666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嗅春雨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情思涌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048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观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124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观台北云雨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走入历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美国落基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难睹云情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听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038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雨大陆秋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回首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44956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屋瓦雨乐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品柔和情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雨日式古屋中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感秋意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思故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4100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雨在公寓时代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雨乐成绝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6019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台北街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0199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梦醒时分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雨雾中体味深深的家国之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回想体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13716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今——昔——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666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眼前——回忆联想——眼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82880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间与空间，历史与现实，眼前与回忆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交融汇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038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现实——历史——现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14800" y="12193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雨网斜织    满纸离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657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难遣的家园之思，难舍的文化恋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8380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隶书"/>
                <a:ea typeface="隶书"/>
              </a:rPr>
              <a:t>雨</a:t>
            </a:r>
            <a:r>
              <a:rPr b="0" lang="zh-CN" sz="9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52880" y="1160640"/>
            <a:ext cx="3886200" cy="370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8098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6520" y="380880"/>
            <a:ext cx="26182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隶书"/>
              </a:rPr>
              <a:t>听听那冷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5562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余光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380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371600"/>
            <a:ext cx="76197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余光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国文坛杰出的诗人与散文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生于南京，祖籍福建永春，母亲原籍江苏武进，故他也自称“江南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余光中热爱中国传统文化，热爱中国。他说“中国，最美最母亲的国度”，“我的血系中有一条黄河的支流。”“蓝墨水的上游是汨罗江”，自己“要做屈原和李白的传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990720"/>
            <a:ext cx="746748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掉头一去是风吹乌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回首再来已雪满白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年离开内地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乃此生最大伤痛。幸好那时我已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岁，故土的回忆，文化的濡染已经深长，所以日后的欧风美雨都不能夺走我的汉唐魂魄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1295280"/>
            <a:ext cx="784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美读课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涵咏品味字段文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12952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朗读时的表情达意要做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音乐美——快慢、轻重、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构图美——带出意境、人物性格及             时间的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感情美——丰富的情感，要表达处理得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95280" y="182880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文章写游子思乡之忧，声调应气短声细，曲折升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全篇应以轻快舒缓节奏为主，适当加入沉稳强疾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68580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叠词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叠词叠音有轻音乐的美感，或短促轻快，或高长婉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如“淋淋沥沥”“淅淅沥沥”“料料峭峭”淋漓尽致地刻画了雨的特点，写出春雨的缠绵细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连缀叠词叠音可以组成一幅图景一幅画卷，在朗读中可以感受体味想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5335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通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日常经验里，视觉、听觉、味觉、触觉、嗅觉往往可以彼此打通或交通，眼、耳、鼻、舌、身各个官能的领域可以不分界限。颜色似乎会有温度，声音似乎会有形象，冷暖似乎会有重量，气味似乎会有体质。如“红杏枝头春意闹”，把枝头杏花盛开的繁茂姿态说成好象有声音的波动，仿佛在视觉里获得了听觉的享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1-21T16:27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