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whoosh.wav" ContentType="audio/x-wav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E6F-58A5-4DF5-ACF1-D8CE2EB4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994-DDC6-408E-8C27-C1B94B32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F7A-2596-461E-8586-FA945AE0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650-E815-4761-BC13-BAB3679D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FAB-BC27-4CC1-BB3B-1B473150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B32-5CEB-4EB4-B816-EAFFE8CF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CED-9082-4415-ACC8-95EFAD62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05C-EDDC-4986-BD22-80FCDE3D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D62-2707-4DC5-9688-BF5280C4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ED3-D624-42E8-B86A-C75A6AC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41F-FE15-404F-AB58-BD815A6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D31-4E8E-4136-9E6C-75A40145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861-866C-41EC-83EF-E1D8F9B918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D:\&#39640;&#19968;&#24517;&#20462;&#20108;\&#20551;&#22914;&#32473;&#25105;&#19977;&#22825;&#20809;&#26126;\&#30495;&#24515;&#33521;&#38596;.mp3" TargetMode="Externa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news.xinlian.net/zhuanji/hy/photo/7.jpg" TargetMode="External"/><Relationship Id="rId3" Type="http://schemas.openxmlformats.org/officeDocument/2006/relationships/hyperlink" Target="http://news.xinlian.net/zhuanji/hy/photo/7.jpg" TargetMode="External"/><Relationship Id="rId4" Type="http://schemas.openxmlformats.org/officeDocument/2006/relationships/image" Target="../media/image1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cjr.org.cn/zqdf/zhanghaidi/zhanghaidi.htm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png"/><Relationship Id="rId5" Type="http://schemas.openxmlformats.org/officeDocument/2006/relationships/hyperlink" Target="D:\&#39640;&#19968;&#24517;&#20462;&#20108;\&#20551;&#22914;&#32473;&#25105;&#19977;&#22825;&#20809;&#26126;\&#21629;&#36816;&#20132;&#21709;&#20048; &#36125;&#22810;&#33452;.wma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1932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阿炳瞎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4724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请欣赏《二泉映月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2019240" cy="2590920"/>
          </a:xfrm>
          <a:prstGeom prst="rect">
            <a:avLst/>
          </a:prstGeom>
          <a:ln w="0">
            <a:noFill/>
          </a:ln>
        </p:spPr>
      </p:pic>
      <p:sp>
        <p:nvSpPr>
          <p:cNvPr id="46" name="chair"/>
          <p:cNvSpPr/>
          <p:nvPr/>
        </p:nvSpPr>
        <p:spPr>
          <a:xfrm>
            <a:off x="8459640" y="6237360"/>
            <a:ext cx="473400" cy="388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30560" y="2971800"/>
            <a:ext cx="1155240" cy="1295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33520"/>
            <a:ext cx="22860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房屋、东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600200"/>
            <a:ext cx="2133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纽约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743200"/>
            <a:ext cx="3048120" cy="5814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帝国大厦的顶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886200"/>
            <a:ext cx="1905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五大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029200"/>
            <a:ext cx="220968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整个城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533520"/>
            <a:ext cx="3048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安静、热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600200"/>
            <a:ext cx="1066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奇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2286000" cy="5814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另一个世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3886200"/>
            <a:ext cx="4038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多姿多彩、五光十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5029200"/>
            <a:ext cx="289548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欢乐与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474120" y="1905120"/>
            <a:ext cx="1155240" cy="312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坚强乐观进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114800"/>
            <a:ext cx="990720" cy="457200"/>
          </a:xfrm>
          <a:prstGeom prst="upArrowCallout">
            <a:avLst>
              <a:gd name="adj1" fmla="val 54178"/>
              <a:gd name="adj2" fmla="val 54173"/>
              <a:gd name="adj3" fmla="val 16667"/>
              <a:gd name="adj4" fmla="val 666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6019920"/>
            <a:ext cx="1752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滑稽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25909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喜剧泛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333360"/>
            <a:ext cx="8353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对自己周围的人怀着极其真挚的友爱，希望能看到表现他们内心美的外部特征，这说明她是何等善良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希望看到地球和它的居民的简要历史，还要看到人类精神的千姿百态，这又显示了她积极进取的精神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关心日常世界，希望看到现实生活中的许多场面，把别人的欢乐和痛苦当成自己的欢乐和痛苦，这又表现了她的博爱精神以及跟外部世界交流的强烈愿望。 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800" y="304920"/>
            <a:ext cx="5105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探究性学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05120"/>
            <a:ext cx="5334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何理解作者在能见到光明的第三天，最后一眼要看的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剧，欣赏人类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精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界的喜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提示：海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凯勒的奇迹可以说是在逆境中创造的，“绝处逢生”取决于什么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8672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3526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90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凯勒的奇迹是在逆境中甚至可以说是在绝境中创造的。“绝处逢生”取决于什么因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人的本体角度来看，取决于一个人对待生活和生命的态度。坚强不屈是海伦非凡生命的一个基点，而乐观向上的品质，更是她创造奇迹的源泉和亮点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作者虽写了“假如”中的三天时间，但却展示了自己最突出的精神品质。联系到第一天她最想看到自己教师的愿望，可以认为，海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凯勒的内心世界里充满着真挚友爱和乐观的情怀。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在文中多次提到了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视力的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（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处）对诸多“奇观”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忽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如何理解其中所要表达的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提示：请同学们先找出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处“有视力的人”，回答这个问题要联系我们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习以为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生活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60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节选部分中，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地方提到了“有视力的人”，这中间有善意的批评，也有真诚的规劝。提醒有健全的五官和四肢的人，要意识到这种天赋的可贵。要充分利用眼睛和其他感官，感受生活的美好，做幸福的人，充实地活着。这种情感是真挚的，是关爱的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海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凯勒说，“由黑夜变成白天”是“奇观”，这对正常视力的人来说，如果不会感到“激动人心”，似乎还可以理解。但对于历史和艺术的“奇迹”和巧夺天工的纽约塔，人们的眼睛也“看不见这壮美的奇观”，这确实是我们每个身体正常的人要进行反省的。我们是不是对生活缺少了必要的欣赏，必要的热情和美感。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99ff66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33520"/>
            <a:ext cx="830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80880"/>
            <a:ext cx="86104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何理解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于欢乐与悲哀，我总是睁大眼睛去关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一句中作者所要表达的感情，体现了海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凯勒怎样的精神实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5562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提示：请从作者是位残疾人的角度考虑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73392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76720" y="2209680"/>
            <a:ext cx="2743200" cy="3124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18900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在游览整个城市时，要到花园大街去，到贫民区去，到工厂去，到孩子们玩耍的公园去。“对于欢乐和悲哀，我总是睁大眼睛去关心。”一个残疾人，本应该让世人同情、关怀，但她却同情、关怀别人，表达了海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凯勒对世人的博爱襟怀。从她的身上，我们可以看到人类最美好的心灵和最善良的天性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海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凯勒让人们不要对“悲哀和忧郁”闭上眼睛，就是要直面现实、直面人生。尽管她善良，但她并不回避世间的阴暗和痛苦；她客观、冷静，具有坚韧不拔的性格和直面抗争的勇气，这也是她另外一个突出的精神品质。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26960" y="380880"/>
            <a:ext cx="18262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朗读最后一节考虑，作者重新面对黑暗有没有恐惧，失落，懊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152388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19160" y="1523880"/>
            <a:ext cx="671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350496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6920" y="2602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到午夜，我从盲人痛苦中得到的暂时解脱就要终结了，永久的黑夜将重新笼罩我周围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276640"/>
            <a:ext cx="7632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没有。作者心里充满了美好的回忆，没有时间作其他感想，从更深一层意义上说，作者内心世界是光明的，意志是坚强的，对生活充满了爱，也从社会得到了友爱和尊重，因此不可能产生低落情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57200"/>
            <a:ext cx="1066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295280" y="1219320"/>
            <a:ext cx="457200" cy="4114800"/>
            <a:chOff x="1295280" y="1219320"/>
            <a:chExt cx="457200" cy="4114800"/>
          </a:xfrm>
        </p:grpSpPr>
        <p:sp>
          <p:nvSpPr>
            <p:cNvPr id="50" name=""/>
            <p:cNvSpPr/>
            <p:nvPr/>
          </p:nvSpPr>
          <p:spPr>
            <a:xfrm>
              <a:off x="1371600" y="1219320"/>
              <a:ext cx="304920" cy="411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95280" y="1371600"/>
              <a:ext cx="457200" cy="36576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752480" y="1523880"/>
            <a:ext cx="5486400" cy="3429000"/>
            <a:chOff x="1752480" y="1523880"/>
            <a:chExt cx="5486400" cy="3429000"/>
          </a:xfrm>
        </p:grpSpPr>
        <p:sp>
          <p:nvSpPr>
            <p:cNvPr id="53" name=""/>
            <p:cNvSpPr/>
            <p:nvPr/>
          </p:nvSpPr>
          <p:spPr>
            <a:xfrm>
              <a:off x="1752480" y="1523880"/>
              <a:ext cx="5486400" cy="3429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120" y="1676520"/>
              <a:ext cx="5257800" cy="31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238880" y="1219320"/>
            <a:ext cx="457200" cy="4114800"/>
            <a:chOff x="7238880" y="1219320"/>
            <a:chExt cx="457200" cy="4114800"/>
          </a:xfrm>
        </p:grpSpPr>
        <p:sp>
          <p:nvSpPr>
            <p:cNvPr id="56" name=""/>
            <p:cNvSpPr/>
            <p:nvPr/>
          </p:nvSpPr>
          <p:spPr>
            <a:xfrm>
              <a:off x="7315200" y="1219320"/>
              <a:ext cx="304920" cy="411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38880" y="1371600"/>
              <a:ext cx="457200" cy="36576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981080" y="243828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假如给我三天光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657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Impact"/>
              </a:rPr>
              <a:t>Three Days to 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5715000"/>
            <a:ext cx="571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丰富的想象，朴素的语言</a:t>
            </a: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297864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文都是想象出来的，活动是虚构的。全凭触觉感知世界的作者，对活生生的感性世界了解很少，但作者偏是虚构她不能看到或听到的那些场景和事情。没有丰富的想象是做不到的，没有内心世界的美好善良，没有对生活的热爱，和那些崇高伟大的精神，更是难以做到的。从想象中，我们更真切体会到作者的思想感情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作者采用白描写法，直白地写自己的内心世界，全篇都是家常话，既与坦诚、真挚的内心活动相适应，又有感染人、鼓舞人的神奇力量，这是独特的朴素美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189000"/>
            <a:ext cx="8496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琥珀"/>
                <a:ea typeface="华文琥珀"/>
              </a:rPr>
              <a:t>            </a:t>
            </a:r>
            <a:r>
              <a:rPr b="1" lang="zh-CN" sz="3200" spc="-1" strike="noStrike">
                <a:solidFill>
                  <a:srgbClr val="3333cc"/>
                </a:solidFill>
                <a:latin typeface="华文琥珀"/>
                <a:ea typeface="华文琥珀"/>
              </a:rPr>
              <a:t>作者要表达的思想感情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世人的规劝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虽然大多数人有正常的天赋——健全的五官和四肢，但他们并没有意识到这种天赋的可贵，没有感受到大自然的美丽和生活的美好，而是在懒怠中虚度光阴。如作者带着善意批评的：“然而有人告诉我，对于你们许多有视力的人来说，艺术的世界是一个沉沉的黑夜，是一个无法探索和难以找到光明的世界。”“这是多么令人敬畏的奇景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些灿烂夺目的尖塔，那些用钢铁和石块筑起的巨大堤岸……我不知道究竟有多少人愿意对它多看一眼，恐怕是很少、很少的。”因此规劝人们要像明天就会变成瞎子一样充分利用眼睛和其他感官，感受生活的美好，做幸福的人、充实地活着的人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333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白自己的内心世界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作者虽然身有残疾，但品性、人格却是美好的；虽然面对种种在他人看来难以克服的困难，但以微笑面对厄运，以顽强的毅力克服困难，以杰出的成就显示一个残疾人的生命价值。同时，我们也可以感觉到，作者身处黑暗中，渴望与人类交流，并得到世人的厚爱，也想借此文表达对世人的博爱襟怀。从一个残疾人身上，我们看到了人类最美好的心灵、最善良的天性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430200"/>
            <a:ext cx="7777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朴素、真挚的语言 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不像其他散文那样设计许多机巧，运用许多修辞方法来表情达意。与热切、坦诚、真挚的内心活动相适应的是，作者采用白描手法，直白地写自己的内心世界。虽然全篇都是家常话语，但用到本文中，却具有感染人、鼓舞人的神奇力量。无须用太多的写作技巧，她的故事、她发自内心的召唤，已经具有这种力量。因此，从审美角度来看，本文表现出别具一格的朴素美。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6858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归纳文章的主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426708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90720" y="2362320"/>
            <a:ext cx="7315200" cy="1447920"/>
            <a:chOff x="990720" y="2362320"/>
            <a:chExt cx="7315200" cy="1447920"/>
          </a:xfrm>
        </p:grpSpPr>
        <p:sp>
          <p:nvSpPr>
            <p:cNvPr id="157" name=""/>
            <p:cNvSpPr/>
            <p:nvPr/>
          </p:nvSpPr>
          <p:spPr>
            <a:xfrm>
              <a:off x="990720" y="2362320"/>
              <a:ext cx="7315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本文叙写了海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凯勒                  ，赞美了她                     的可贵品质，启迪和劝戒那些健康的人们要                             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981080" y="2819520"/>
              <a:ext cx="5715000" cy="990720"/>
              <a:chOff x="1981080" y="2819520"/>
              <a:chExt cx="5715000" cy="990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029200" y="2819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81080" y="3276720"/>
                <a:ext cx="198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00600" y="381024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057400" y="464832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4114800" cy="2247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rId3"/>
          </p:cNvPr>
          <p:cNvSpPr/>
          <p:nvPr/>
        </p:nvSpPr>
        <p:spPr>
          <a:xfrm>
            <a:off x="7308720" y="6021360"/>
            <a:ext cx="1295640" cy="647640"/>
          </a:xfrm>
          <a:custGeom>
            <a:avLst/>
            <a:gdLst>
              <a:gd name="textAreaLeft" fmla="*/ 41760 w 1295640"/>
              <a:gd name="textAreaRight" fmla="*/ 1253880 w 129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138120"/>
            <a:ext cx="91440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口头表达练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请谈谈你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凯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精神实质的理解 。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经典繁毛楷"/>
              </a:rPr>
              <a:t>任选一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3886200"/>
            <a:ext cx="388620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2438280" y="152280"/>
          <a:ext cx="4572000" cy="191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152280"/>
                    <a:ext cx="457200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99ff99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2680" y="10587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876920" y="1143000"/>
            <a:ext cx="144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34120" y="304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43000" y="441972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724280" y="4267080"/>
            <a:ext cx="22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828800" y="243828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楷体_GB2312"/>
              </a:rPr>
              <a:t>命运由我们主宰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3886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 is man and master of his f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17680" y="380880"/>
            <a:ext cx="2682720" cy="6096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3733920" y="795240"/>
            <a:ext cx="4952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路德维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范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贝多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770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德国伟大的作曲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时听觉衰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时完全耳聋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世界不给他欢乐  他却创造了欢乐给与世界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37080" y="457200"/>
            <a:ext cx="2701800" cy="3657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343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十多岁时患眼疾双眼相继失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胡作品《二泉映月》获二十世纪华人经典音乐作品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29528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阿炳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893-19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原名华彦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038480" cy="3011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304920" y="413064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学掌握了英语 日语 德语和世界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当代知名作家 翻译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92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“生命之歌”张海迪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85800"/>
            <a:ext cx="1781280" cy="243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3733920" y="190512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时胸部以下完全失去知觉  高位截瘫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01480" y="868320"/>
            <a:ext cx="23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张海迪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55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600200"/>
            <a:ext cx="6858000" cy="3657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600200"/>
            <a:ext cx="8534160" cy="4267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335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971800"/>
            <a:ext cx="762012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训练学生对精警语言的感悟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领会本文所蕴含的具体精神力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257800" y="4495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顽强的意志创作了长篇小说《钢铁是怎样炼成的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2643120" cy="4114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400800" y="1066680"/>
            <a:ext cx="1927080" cy="274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609480" y="30492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奥斯特洛夫斯基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904-19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苏联俄罗斯作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全身瘫痪 双目失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851360" y="1600200"/>
            <a:ext cx="4064040" cy="487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533520" y="3154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天生跛足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5320" y="4952880"/>
            <a:ext cx="32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乔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戈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拜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788-182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81760" y="60948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英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世纪著名浪漫主义诗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02480" y="201132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被称为“诗坛的拿破仑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90400" y="1295280"/>
            <a:ext cx="3295800" cy="487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1846440"/>
            <a:ext cx="434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美国政治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岁时因患脊髓灰质炎 下肢瘫痪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3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当选美国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美国历史上唯一蝉联四届的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4572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Unicode MS"/>
                <a:ea typeface="黑体"/>
              </a:rPr>
              <a:t>富兰克林</a:t>
            </a:r>
            <a:r>
              <a:rPr b="1" lang="zh-CN" sz="3200" spc="-1" strike="noStrike">
                <a:solidFill>
                  <a:srgbClr val="ff3300"/>
                </a:solidFill>
                <a:latin typeface="Arial Unicode MS"/>
                <a:ea typeface="黑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罗斯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882-19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3733920"/>
            <a:ext cx="5410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333360"/>
            <a:ext cx="784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炽热、求索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坦诚、趋势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朴素、博爱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对生活热恋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对知识渴望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对人类友爱的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坚忍不拔的执着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积极乐观的上进心。 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颗追寻人类美和崇高精神的心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……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04000" y="3933720"/>
            <a:ext cx="2019240" cy="1758960"/>
          </a:xfrm>
          <a:custGeom>
            <a:avLst/>
            <a:gdLst>
              <a:gd name="textAreaLeft" fmla="*/ 474480 w 2019240"/>
              <a:gd name="textAreaRight" fmla="*/ 1543320 w 2019240"/>
              <a:gd name="textAreaTop" fmla="*/ 206640 h 1758960"/>
              <a:gd name="textAreaBottom" fmla="*/ 1103400 h 175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3581280" cy="3886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-380880" y="457200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路德维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贝多芬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Ludwig Van Beethoven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770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410080" y="990720"/>
          <a:ext cx="273060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990720"/>
                    <a:ext cx="27306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>
            <a:hlinkClick r:id="rId5"/>
          </p:cNvPr>
          <p:cNvSpPr/>
          <p:nvPr/>
        </p:nvSpPr>
        <p:spPr>
          <a:xfrm>
            <a:off x="6372360" y="5950080"/>
            <a:ext cx="1224000" cy="287280"/>
          </a:xfrm>
          <a:custGeom>
            <a:avLst/>
            <a:gdLst>
              <a:gd name="textAreaLeft" fmla="*/ 18360 w 1224000"/>
              <a:gd name="textAreaRight" fmla="*/ 1205640 w 12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91942" h="21600">
                <a:moveTo>
                  <a:pt x="0" y="0"/>
                </a:moveTo>
                <a:lnTo>
                  <a:pt x="91942" y="0"/>
                </a:lnTo>
                <a:lnTo>
                  <a:pt x="91942" y="21600"/>
                </a:lnTo>
                <a:lnTo>
                  <a:pt x="0" y="21600"/>
                </a:lnTo>
                <a:close/>
              </a:path>
              <a:path fill="lightenLess" w="91942" h="21600">
                <a:moveTo>
                  <a:pt x="0" y="0"/>
                </a:moveTo>
                <a:lnTo>
                  <a:pt x="91942" y="0"/>
                </a:lnTo>
                <a:lnTo>
                  <a:pt x="90542" y="1400"/>
                </a:lnTo>
                <a:lnTo>
                  <a:pt x="1400" y="1400"/>
                </a:lnTo>
                <a:close/>
              </a:path>
              <a:path fill="darken" w="91942" h="21600">
                <a:moveTo>
                  <a:pt x="91942" y="0"/>
                </a:moveTo>
                <a:lnTo>
                  <a:pt x="91942" y="21600"/>
                </a:lnTo>
                <a:lnTo>
                  <a:pt x="90542" y="20200"/>
                </a:lnTo>
                <a:lnTo>
                  <a:pt x="90542" y="1400"/>
                </a:lnTo>
                <a:close/>
              </a:path>
              <a:path fill="darkenLess" w="91942" h="21600">
                <a:moveTo>
                  <a:pt x="9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542" y="20200"/>
                </a:lnTo>
                <a:close/>
              </a:path>
              <a:path fill="lighten" w="9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942" h="21600">
                <a:moveTo>
                  <a:pt x="45971" y="3837"/>
                </a:moveTo>
                <a:lnTo>
                  <a:pt x="48547" y="6448"/>
                </a:lnTo>
                <a:lnTo>
                  <a:pt x="48547" y="4707"/>
                </a:lnTo>
                <a:lnTo>
                  <a:pt x="50323" y="4707"/>
                </a:lnTo>
                <a:lnTo>
                  <a:pt x="50323" y="8224"/>
                </a:lnTo>
                <a:lnTo>
                  <a:pt x="52934" y="10800"/>
                </a:lnTo>
                <a:lnTo>
                  <a:pt x="51280" y="10800"/>
                </a:lnTo>
                <a:lnTo>
                  <a:pt x="51280" y="17989"/>
                </a:lnTo>
                <a:lnTo>
                  <a:pt x="40662" y="17989"/>
                </a:lnTo>
                <a:lnTo>
                  <a:pt x="40662" y="10800"/>
                </a:lnTo>
                <a:lnTo>
                  <a:pt x="39008" y="10800"/>
                </a:lnTo>
                <a:close/>
              </a:path>
              <a:path fill="darkenLess" w="91942" h="21600">
                <a:moveTo>
                  <a:pt x="48547" y="6448"/>
                </a:moveTo>
                <a:lnTo>
                  <a:pt x="48547" y="4707"/>
                </a:lnTo>
                <a:lnTo>
                  <a:pt x="50323" y="4707"/>
                </a:lnTo>
                <a:lnTo>
                  <a:pt x="50323" y="8224"/>
                </a:lnTo>
                <a:close/>
              </a:path>
              <a:path fill="darkenLess" w="91942" h="21600">
                <a:moveTo>
                  <a:pt x="45048" y="14299"/>
                </a:moveTo>
                <a:lnTo>
                  <a:pt x="46894" y="14299"/>
                </a:lnTo>
                <a:lnTo>
                  <a:pt x="46894" y="17989"/>
                </a:lnTo>
                <a:lnTo>
                  <a:pt x="51280" y="17989"/>
                </a:lnTo>
                <a:lnTo>
                  <a:pt x="51280" y="10800"/>
                </a:lnTo>
                <a:lnTo>
                  <a:pt x="40662" y="10800"/>
                </a:lnTo>
                <a:lnTo>
                  <a:pt x="40662" y="17989"/>
                </a:lnTo>
                <a:lnTo>
                  <a:pt x="45048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76200"/>
            <a:ext cx="5410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海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凯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美国女作家、教育家。幼时患病，两耳失聪，双目失明。七岁时，安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莎莉文担任她的家庭教师，从此成了她的良师益友，相处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。在大学期间写了第一本书《我生命的故事》，叙述她如何战胜病残，不仅给盲人而且给成千上万的正常人带来了鼓舞。这本书被译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文字，在世界各国流传。还写了几部自传性小说，《我所生活的世界》《从黑暗中出来》《我的信仰》，在这些著作中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表明黑暗与寂静并不存在，她自己也是个有理智的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次年又被推选为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世界十名杰出妇女之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著名的传记作家范怀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布鲁克斯为她写了传记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271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89000"/>
            <a:ext cx="7850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. 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生在美国亚拉巴马州塔斯喀姆比亚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8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因患猩红热致盲致聋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8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安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利文成为凯勒的老师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9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考入哈佛大学拉德克利夫女子学院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02––––190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撰写出版《我的一生》（有的译作《我生活的故事》）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0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以优等成绩大学毕业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08––––1913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著《我的天地》（又译作《我生活中的世界》）、《石墙之歌》、《冲出黑暗》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遭受婚姻不幸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应邀去好莱坞主演电影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成为美国盲人基金会的主要领导人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著《我的后半生》（也译作《中流––––我以后的生活》）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旅游英国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1––––193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荣获坦普尔大学荣誉学位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        访问法国、南斯拉夫、英国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老师安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沙利文去世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42––––195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出访欧、亚、非、澳各大洲十三国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5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美国上映凯勒生活和工作的记录片《不可征服的人》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5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著《老师：安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沙利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西》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     荣获哈佛大学荣誉学位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5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联合国发起“海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凯勒”世界运动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6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美国海外盲人基金会颁布“海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凯勒”奖金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荣获总统自由勋章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与世长辞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更多地了解作者的生平，其目的在于更清楚地认识海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凯勒以盲聋之驱，创造了那么多辉煌的业绩，足以为世人瞩目，为世人景仰，从而更深地体会作者那伟大崇高的精神，而这些坚韧不拔、自我超脱、追求美和崇高的精神，恰恰是我们走向未来需要的精神。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2120" y="2209680"/>
          <a:ext cx="18730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18730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952880" y="0"/>
          <a:ext cx="419112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0"/>
                    <a:ext cx="4191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38080" y="68580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假如你面对三天黑暗，你将如何度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019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To be or not to b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28600"/>
            <a:ext cx="2286000" cy="64260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所见所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228600"/>
            <a:ext cx="2133360" cy="642600"/>
          </a:xfrm>
          <a:prstGeom prst="rect">
            <a:avLst/>
          </a:prstGeom>
          <a:solidFill>
            <a:srgbClr val="ff000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所思所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295280"/>
            <a:ext cx="221004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教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286000"/>
            <a:ext cx="312444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朋友、婴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200400"/>
            <a:ext cx="243828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狗的眼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952880"/>
            <a:ext cx="43434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林中漫步、农场、日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791320"/>
            <a:ext cx="18288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造光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1295280"/>
            <a:ext cx="487692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温柔、耐心、坚强、同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286000"/>
            <a:ext cx="472464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内在美的外貌、天真无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3200400"/>
            <a:ext cx="381024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热情、温柔、淘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4952880"/>
            <a:ext cx="373392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壮丽、宁静、绚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5791320"/>
            <a:ext cx="289548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类的天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00" y="2743200"/>
            <a:ext cx="66780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114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038480"/>
            <a:ext cx="281916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看清家里摆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038480"/>
            <a:ext cx="48006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类生活、精神最深泉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83840" y="2362320"/>
            <a:ext cx="1155240" cy="1523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981080"/>
            <a:ext cx="3936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纽约自然历史博物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83360" y="2209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91600" y="2209680"/>
            <a:ext cx="54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981080"/>
            <a:ext cx="3886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艰难曲折、沧桑多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276720"/>
            <a:ext cx="37083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都会艺术博物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276720"/>
            <a:ext cx="41148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精神之美、人类灵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304812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戏院、电影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495680"/>
            <a:ext cx="41148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迷人的色彩、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762120"/>
            <a:ext cx="221004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观看日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62120"/>
            <a:ext cx="365760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激动人心的奇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486400"/>
            <a:ext cx="3581280" cy="581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对知识的渴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26:55Z</dcterms:created>
  <dc:creator/>
  <dc:description/>
  <dc:language>en-US</dc:language>
  <cp:lastModifiedBy>雨林木风</cp:lastModifiedBy>
  <dcterms:modified xsi:type="dcterms:W3CDTF">2012-11-21T16:27:25Z</dcterms:modified>
  <cp:revision>0</cp:revision>
  <dc:subject/>
  <dc:title/>
</cp:coreProperties>
</file>