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whoosh.wav" ContentType="audio/x-wav"/>
  <Override PartName="/ppt/media/image8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10.gif" ContentType="image/gif"/>
  <Override PartName="/ppt/media/image12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DD6-E293-45C9-97F3-36058B20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FE0-3F2D-4C91-A25F-4BB3CF29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7EE-8474-48AB-AB2C-C089CCCF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24B-A74F-4BF5-A146-5B0BB102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00D-3942-4BC4-9CD1-53F4246A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37B3-3CA5-427F-985B-CDAADA13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28CB-C432-4587-8CD4-E57CE62F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E092-62F5-4AE6-B8C0-1BB6ADE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57A6-F9C7-4B2B-8A8F-FF367B4F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4B7C-7B58-442B-BC2B-C284A8B9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EB02-7D79-4184-805C-148FC1F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6EF-42CC-4C3F-8D60-69276775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8A7C-149A-4ACA-9A38-DBA28BBE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81D1-3329-452D-9087-59714E2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267E-92FE-4C3C-8970-AABFEAC1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CA74-13B0-468B-8FB4-D97B33E2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DC4D-205D-4443-8B7A-7A5195B1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B32-37C8-47FD-BCE8-527A563C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9A8-41B7-4B6D-A061-DCF267F4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FB4-F75B-4470-A4DA-4EBB6014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6A8-8D9E-4EA8-BFF4-BD9318C1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89E-84E0-4855-B1F9-0A26C9C8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BD3-1E97-4D44-AB54-01EEB10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952-A939-4CBA-971E-C902AE5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60EA-2A51-4786-9D42-56EFF9B3F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2F60-F435-425B-9A1B-A2536023C3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6085;&#33853;&#35828;.sw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短文两篇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414972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课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268360" y="333360"/>
            <a:ext cx="38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关于《山海经》</a:t>
            </a:r>
            <a:endParaRPr b="1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557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　　《山海经》：书名。</a:t>
            </a: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18</a:t>
            </a: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篇，作者不详，其中</a:t>
            </a: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14</a:t>
            </a: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篇是战国时期的作品，《海内经》</a:t>
            </a: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ccccff"/>
                </a:solidFill>
                <a:latin typeface="隶书"/>
                <a:ea typeface="隶书"/>
              </a:rPr>
              <a:t>篇则为西汉初年作品。内容主要为民间传说中的地理知识，保存了不少远古的神话传说。对古代历史、地理、文化、中外交通、民俗、神话等研究有参考价值。其中的矿物记录，为世界最早的有关文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WW_070" descr=""/>
          <p:cNvPicPr/>
          <p:nvPr/>
        </p:nvPicPr>
        <p:blipFill>
          <a:blip r:embed="rId3"/>
          <a:stretch/>
        </p:blipFill>
        <p:spPr>
          <a:xfrm>
            <a:off x="7020000" y="189000"/>
            <a:ext cx="15843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黑体"/>
              </a:rPr>
              <a:t>问课堂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黑体"/>
              </a:rPr>
              <a:t>                  小组合作：翻译字词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676520"/>
            <a:ext cx="85345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　　　  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  <a:ea typeface="楷体_GB2312"/>
              </a:rPr>
              <a:t>夸父与日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逐走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  <a:ea typeface="楷体_GB2312"/>
              </a:rPr>
              <a:t>，入日；渴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欲得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  <a:ea typeface="楷体_GB2312"/>
              </a:rPr>
              <a:t>饮，饮于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河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  <a:ea typeface="楷体_GB2312"/>
              </a:rPr>
              <a:t>、渭；河、渭不足，北饮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大泽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  <a:ea typeface="楷体_GB2312"/>
              </a:rPr>
              <a:t>。未至，道渴而死。弃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Arial"/>
                <a:ea typeface="楷体_GB2312"/>
              </a:rPr>
              <a:t>杖，化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邓林</a:t>
            </a:r>
            <a:r>
              <a:rPr b="1" lang="zh-CN" sz="5400" spc="-1" strike="noStrike">
                <a:solidFill>
                  <a:srgbClr val="003366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23040" y="4581360"/>
            <a:ext cx="1814760" cy="194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867280" y="838080"/>
            <a:ext cx="14479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竞跑，赛跑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051440" y="1844640"/>
            <a:ext cx="1242720" cy="703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想要</a:t>
            </a:r>
            <a:r>
              <a:rPr b="0" lang="zh-CN" sz="4000" spc="-1" strike="noStrike">
                <a:solidFill>
                  <a:srgbClr val="4a4a48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438280"/>
            <a:ext cx="16002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黄河</a:t>
            </a:r>
            <a:r>
              <a:rPr b="0" lang="zh-CN" sz="2400" spc="-1" strike="noStrike">
                <a:solidFill>
                  <a:srgbClr val="4a4a48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3429000"/>
            <a:ext cx="1447920" cy="703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大湖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181480"/>
            <a:ext cx="16765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桃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夸父与日逐走，入日；渴，欲得饮，饮于河、渭；河、渭不足，北饮大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828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译文：夸父与太阳竞跑，一直赶到太阳落下的地方；他感到口渴，就到黄河、渭水喝水。黄河、渭水的水不够，又去北方的大湖喝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657600"/>
            <a:ext cx="568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至，道渴而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343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译文：还没有赶到大湖，就在半路渴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952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弃其杖，化为邓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5627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译文：他遗弃的手杖，化成了桃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762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全文仅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37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个字，但故事情节波澜曲折，这篇神话共分几个画面来描述夸父？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2408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逐走，入日——渴，饮于河渭——北饮大泽——道渴而死——弃杖化邓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76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问题探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97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这篇短文的主要内容是什么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52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a4a48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《夸父逐日》是我国最早的神话之一。在这篇神话中，巨人夸父敢于与太阳竞跑，最后口渴而死，他的手杖化为桃林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6200" y="1447920"/>
            <a:ext cx="1447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286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夸父为什么逐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6483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5943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你对夸父追日的行为有什么看法？你能不能小结一下夸父临死前的内心独白？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8288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夸父是一个古代神话英雄，他不向自然屈服，敢于和自然斗争，甚至为此献身，更令人感动的是，死后，他的手杖，还要化成一片桃林，将顽强的生命延续下去。勇于探索、不怕牺牲、造福人类的可贵精神这篇神话对后世影响很大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67080" y="990720"/>
            <a:ext cx="6098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2597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3300"/>
                </a:solidFill>
                <a:latin typeface="Times New Roman"/>
              </a:rPr>
              <a:t>失败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86400" y="6091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</a:rPr>
              <a:t>英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2178000"/>
            <a:ext cx="9144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684360" y="549360"/>
            <a:ext cx="25192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幼圆"/>
              </a:rPr>
              <a:t>人物与主题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幼圆"/>
              <a:ea typeface="幼圆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41300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54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幼圆"/>
                <a:ea typeface="幼圆"/>
              </a:rPr>
              <a:t>你怎么看待夸父这一人物</a:t>
            </a:r>
            <a:r>
              <a:rPr b="1" lang="zh-CN" sz="5400" spc="-1" strike="noStrike">
                <a:solidFill>
                  <a:srgbClr val="0000ff"/>
                </a:solidFill>
                <a:latin typeface="幼圆"/>
                <a:ea typeface="幼圆"/>
              </a:rPr>
              <a:t>?</a:t>
            </a:r>
            <a:r>
              <a:rPr b="1" lang="zh-CN" sz="4800" spc="-1" strike="noStrike">
                <a:solidFill>
                  <a:srgbClr val="ff9900"/>
                </a:solidFill>
                <a:latin typeface="华文隶书"/>
                <a:ea typeface="华文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幼圆"/>
                <a:ea typeface="幼圆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夸父是一个有胆量有决心，目标远大，气魄非凡，意志坚强的英雄人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24987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99"/>
                </a:solidFill>
                <a:latin typeface="幼圆"/>
                <a:ea typeface="幼圆"/>
              </a:rPr>
              <a:t>所以，现在人们常以</a:t>
            </a:r>
            <a:r>
              <a:rPr b="1" lang="zh-CN" sz="4000" spc="-1" strike="noStrike">
                <a:solidFill>
                  <a:srgbClr val="ff3300"/>
                </a:solidFill>
                <a:latin typeface="幼圆"/>
                <a:ea typeface="幼圆"/>
              </a:rPr>
              <a:t>“夸父逐日” “夸父追日” “逐日”</a:t>
            </a:r>
            <a:r>
              <a:rPr b="1" lang="zh-CN" sz="4000" spc="-1" strike="noStrike">
                <a:solidFill>
                  <a:srgbClr val="000099"/>
                </a:solidFill>
                <a:latin typeface="幼圆"/>
                <a:ea typeface="幼圆"/>
              </a:rPr>
              <a:t> 这些词比喻人有宏大的志向或巨大的力量和气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6761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Times New Roman"/>
                <a:ea typeface="隶书"/>
              </a:rPr>
              <a:t>夸 父 逐 日</a:t>
            </a:r>
            <a:endParaRPr b="1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300" spc="-1" strike="noStrike">
                <a:solidFill>
                  <a:srgbClr val="000000"/>
                </a:solidFill>
                <a:latin typeface="Times New Roman"/>
                <a:ea typeface="隶书"/>
              </a:rPr>
              <a:t>《山海经》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这篇神话对后世影响很大。人们常以“夸父逐日”或“夸父追日”“逐日”比喻 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喻人有宏大的志向或巨大的力量和气魄。如陶潜《读山海经》诗有“夸父诞宏志，乃与日竞走”句，柳宗元《行路难》诗有“君不见夸父逐日窥虞渊，跳踉北海超昆仑”句。有时也用“夸父逐日”来比喻不自量力，但这是从消极方面理解这个神话，不合乎《夸父逐日》作为神话在本质上所具有的积极意义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762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对《夸父逐日》的结尾：弃其杖，化为邓林。应如何理解？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a4a48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夸父口渴而死，“弃其杖，化为邓林。” 为人们提供甘甜多汁果实和成片绿阴的桃林，运用夸父遗下的手杖化为一片桃林这一结尾，以富有诗意的高度想像力，丰富了《夸父逐日》这一神话的内涵，丰富了夸父的形象，表现了一种勇敢追求，死而不已，甘为人类造福的精神，使整个神话更具有浪漫主义的魅力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5435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通过神话，表现夸父无比的英雄气概，反映了古代人民探索自然、征服大自然的强烈愿望和顽强意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问中考      拓展训练激活思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19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宋体"/>
              </a:rPr>
              <a:t>朗读余光中的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590920"/>
            <a:ext cx="464832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为什么要苦苦去挽救黄昏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那只是落日的背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不必吸尽大洋与长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那只是落日的倒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与其穷追苍茫的暮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埋没在紫蔼的余烬，</a:t>
            </a: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514600"/>
            <a:ext cx="457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何不回身挥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迎面奔向新绽的旭阳，去探千瓣之光的蕊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壮士的前途不在昨夜，在明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西奔是徒劳，奔回东方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既然是追不上了，就撞上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160020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夸    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生思考，谈谈读后感受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600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余光中的诗引领我们换一个角度思考：所谓“追不上”，也并不表示结束，面对人生的困境与僵局，不是一味的勇往直前，浪掷生命于错误的目标上，而是冷静理性地思索确认方向追逐希望，一切都将有峰回路转的突破。（转换思维的视角，便柳暗花明。这就是逆向思维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。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 rot="1398000">
            <a:off x="4019040" y="1247400"/>
            <a:ext cx="56422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878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拓展延伸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sp>
        <p:nvSpPr>
          <p:cNvPr id="157" name=""/>
          <p:cNvSpPr/>
          <p:nvPr/>
        </p:nvSpPr>
        <p:spPr>
          <a:xfrm>
            <a:off x="7882560" y="1341360"/>
            <a:ext cx="78984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27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问自己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637000"/>
            <a:ext cx="73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99"/>
                </a:solidFill>
                <a:uFillTx/>
                <a:latin typeface="Times New Roman"/>
              </a:rPr>
              <a:t>从夸父这个神话人物的身上，我们得到了什么启示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contrast="-12000"/>
          </a:blip>
          <a:srcRect l="0" t="633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116000" y="692280"/>
            <a:ext cx="7056360" cy="51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方正姚体"/>
              </a:rPr>
              <a:t>树立远大的理想，</a:t>
            </a:r>
            <a:endParaRPr b="1" lang="en-US" sz="24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方正姚体"/>
              </a:rPr>
              <a:t>为实现理想不畏艰难，不懈努力！</a:t>
            </a:r>
            <a:endParaRPr b="1" lang="en-US" sz="24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95280" y="404640"/>
            <a:ext cx="9239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送给同学们的“礼物”</a:t>
            </a:r>
            <a:endParaRPr b="1" lang="en-US" sz="72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64500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黑夜给了我黑色的眼睛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我却用它寻找光明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                                                                                  ——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顾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译文：夸父与太阳竞跑，一直赶到太阳落下的地方；他感到口渴，就到黄河、渭水喝水。黄河、渭水的水不够，又去北方的大湖喝水。还没有赶到大湖，就在半路渴死了。他遗弃的手杖，化成了桃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问课标               本课学习目标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朗读课文，正确掌握句中停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一些文言实词和虚词的用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本文内容和主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夸父的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333360"/>
            <a:ext cx="91440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问课本   什么是神话？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773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　　神话：关于神仙或神化的古代英雄的故事，是古代人民对自然现象和社会生活的一种天真的解释和美丽的向往。所以，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神话作品通常具有超现实想象、夸张的浪漫主义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特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84560" y="191628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舒体"/>
              </a:rPr>
              <a:t>说说你听过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舒体"/>
              </a:rPr>
              <a:t>一些古代神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舒体"/>
              </a:rPr>
              <a:t>故事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0600" y="0"/>
            <a:ext cx="793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4191120"/>
            <a:ext cx="79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72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根据这些图片请的提示说出自己知道的神话名称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19520"/>
            <a:ext cx="7696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盘古开天        精卫填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嫦娥奔月        哪咤闹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愚公移山        大禹治水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6:10:21Z</dcterms:created>
  <dc:creator>王亚东</dc:creator>
  <dc:description/>
  <dc:language>en-US</dc:language>
  <cp:lastModifiedBy>微软用户</cp:lastModifiedBy>
  <dcterms:modified xsi:type="dcterms:W3CDTF">2009-04-16T13:02:37Z</dcterms:modified>
  <cp:revision>19</cp:revision>
  <dc:subject/>
  <dc:title>夸 父 逐 日</dc:title>
</cp:coreProperties>
</file>