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8F598-103E-4C9D-A641-7278CF93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AEC7-F8CF-4850-9A34-60C7E4CF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2663-94D0-48FB-956F-DC80E123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60D7-3FF4-4335-BD61-BA9FA65C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EB79-FEA4-4F8E-AADA-D46B5FE7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03D-A81E-4717-885C-95E9428D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BF57-D183-4FE1-A56E-B524B336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D0DA-9BA0-4CDB-A861-3742C146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F759-9601-4A01-9532-E9110DF5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6FFB-35C4-407A-A5EA-2646DC7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1199-1ED3-45D6-8AB2-586D8E01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1959-2EFC-475E-BDE3-7B7B042B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EB7-FE0B-42B2-BF85-2322123E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0984-F064-4D19-8E34-E753DCC6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06D3-8ED5-42E1-B97A-5F2C517D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3AC4-72B1-437D-99D3-C16B3E4D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8F9A-0B26-48DD-A60E-83D5CBB2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CCB0-D754-465D-82FC-D5242C0A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58BE-40E2-4CB6-A6FD-76E5B1BE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DDD9-7D74-4034-8E8D-EF243993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FCE0-60EE-4574-BD5E-E3558832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D1F8-D245-4FDD-85B3-89DB815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2DE7-F158-445F-B4FE-CBE2CFB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343C-583B-4FCA-8F4A-FC1466B5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3BB8-C898-4BBA-9BB2-65E9E0735BD4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9890-B742-488D-B1AF-51F997B915C5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ics.dahangzhou.com/HtmlPage/2005-09-30/TT_1294_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天安门广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7920"/>
            <a:ext cx="9601200" cy="8321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6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天安门广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5562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隶书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4952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盐城市马沟小学     葛继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cc"/>
                </a:solidFill>
                <a:latin typeface="Tahoma"/>
              </a:rPr>
              <a:t>毛主席纪念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30480" y="1600200"/>
            <a:ext cx="66862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2458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cc"/>
                </a:solidFill>
                <a:latin typeface="Tahoma"/>
              </a:rPr>
              <a:t>中国国家博物馆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国家博物馆"/>
          <p:cNvPicPr/>
          <p:nvPr/>
        </p:nvPicPr>
        <p:blipFill>
          <a:blip r:embed="rId1"/>
          <a:stretch/>
        </p:blipFill>
        <p:spPr>
          <a:xfrm>
            <a:off x="3492360" y="0"/>
            <a:ext cx="5400720" cy="3483000"/>
          </a:xfrm>
          <a:prstGeom prst="rect">
            <a:avLst/>
          </a:prstGeom>
          <a:ln w="0">
            <a:noFill/>
          </a:ln>
        </p:spPr>
      </p:pic>
      <p:pic>
        <p:nvPicPr>
          <p:cNvPr id="146" name="imgsrc" descr="中国国家博物馆"/>
          <p:cNvPicPr/>
          <p:nvPr/>
        </p:nvPicPr>
        <p:blipFill>
          <a:blip r:embed="rId2"/>
          <a:stretch/>
        </p:blipFill>
        <p:spPr>
          <a:xfrm>
            <a:off x="0" y="3546360"/>
            <a:ext cx="521964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cc"/>
                </a:solidFill>
                <a:latin typeface="Tahoma"/>
              </a:rPr>
              <a:t>人民大会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2076480"/>
            <a:ext cx="6553080" cy="444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Tahoma"/>
              </a:rPr>
              <a:t>天安门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人民英雄纪念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600560" y="1413000"/>
            <a:ext cx="667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民大会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38080" y="40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毛主席纪念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07440" y="907920"/>
            <a:ext cx="127764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国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国家博物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28000" y="47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8720" y="5516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532720" y="551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95640" y="1197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雄伟壮丽的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天安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2637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民英雄纪念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724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毛主席纪念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54800" y="1773360"/>
            <a:ext cx="10335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中国国家博物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5960" y="2349360"/>
            <a:ext cx="667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民大会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巍峨壮丽的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2000" y="2205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高大的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93240" y="2637000"/>
            <a:ext cx="4852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宏伟的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508464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庄严的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ahoma"/>
                <a:ea typeface="楷体_GB2312"/>
              </a:rPr>
              <a:t>活动二：感悟象征意义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朗读课文第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自然段，根据课文内容用上“因为……所以……”说说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①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为什么全国人民“无比向往”天安门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②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为什么说天安门是新中国的象征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.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小组交流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3.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展示质疑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81560" y="2743200"/>
            <a:ext cx="4762440" cy="4114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4222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280" y="4221000"/>
            <a:ext cx="40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天安门是新中国的象征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94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日，北京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万人在天安门广场举行了开国大典。人民领袖毛泽东在天安门城楼上向全世界庄严宣告：中华人民共和国中央人民政府成立了！从此，天安门广场成了全国各族人民无比向往的地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33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天安门广场成了全国各族人民无比向往的地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5.  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清晨，东方露出了淡淡的曙光，天安门城楼在晨曦中显现出它的雄姿。庄严的升旗仪式就在这时开始，五星红旗与旭日一同升起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6588000" cy="4249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-371520"/>
            <a:ext cx="510552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ahoma"/>
                <a:ea typeface="楷体_GB2312"/>
              </a:rPr>
              <a:t>活动三：感受节日广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轻声读第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自然段，思考：节日到来时，天安门广场怎么样？夜晚又是怎样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小组交流：①看到这么美好的景象，这么热闹的场面，你们心里感到怎样？把你的感受读给组内伙伴听听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     ②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试着把这一段背下来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3.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展示质疑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228600" y="68580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红墙黄瓦   雕梁画栋   雄伟壮丽   格外挺拔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巍峨壮丽   遥遥相对   庄严宣告   花团锦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姹紫嫣红   五彩缤纷   华灯齐放   礼花飞舞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鲜花与彩灯辉映      礼花伴歌声齐飞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宽广                     壮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每当节日到来，天安门广场更是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Tahoma"/>
              </a:rPr>
              <a:t>花团锦簇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6000" spc="-1" strike="noStrike" u="sng">
                <a:solidFill>
                  <a:srgbClr val="ffffff"/>
                </a:solidFill>
                <a:uFillTx/>
                <a:latin typeface="Tahoma"/>
              </a:rPr>
              <a:t>姹紫嫣红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ahoma"/>
              </a:rPr>
              <a:t>节日的天安门</a:t>
            </a: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广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114800" cy="3818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38080" y="51055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无数盆鲜花组成一个个大花坛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，把广场装点得犹如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五彩缤纷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大花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7200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1295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入夜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华灯齐放、礼花飞舞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天安门广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一片辉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来自祖国各地的人们翩翩起舞，纵情歌唱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41911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鲜花与彩灯辉映，礼花伴歌声齐飞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天安门广场沸腾起来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节日的天安门广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小练笔：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此时此刻，如果你也是其中的一名少先队员，站在天安门广场，你的心情是怎样的？你想对祖国说些什么呢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【检测反馈】                 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根据课文内容填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．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是新中国的象征。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1949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日，北京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30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万人在天安门广场举行了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。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毛泽东在天安门城楼上向全世界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：中华人民共和国中央人民政府成立了！从此，天安门广场成了全国各族人民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的地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．入夜，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，天安门广场一片辉煌。来自祖国各地的人们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，纵情歌唱。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，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，天安门广场沸腾起来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．天安门广场位于首都北京的中心，它是世界上最宽广、最壮观的城市广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          ①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用“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”画出广场的特点。  ②本段在文中起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ahoma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作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2286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它是世界上最宽广、最壮观的城市广场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ahoma"/>
                <a:ea typeface="楷体_GB2312"/>
              </a:rPr>
              <a:t>活动一：走进天安门广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默读课文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自然段，想一想天安门广场到底有哪些雄伟的建筑物呢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?</a:t>
            </a:r>
            <a:r>
              <a:rPr b="0" lang="zh-CN" sz="4400" spc="-1" strike="noStrike">
                <a:solidFill>
                  <a:srgbClr val="ffff00"/>
                </a:solidFill>
                <a:latin typeface="Tahoma"/>
              </a:rPr>
              <a:t>想一想作者为什么能介绍得这么清楚呢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①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画出建筑物的名称     ②找出方位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小组合作用文具摆一摆，完成课后第四题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3.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展示质疑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.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登上天安门城楼向南眺望，整个广场尽收眼底。广场中央矗立着高大的人民英雄纪念碑，碑身正面是毛泽东主席题写的“人民英雄永垂不朽”八个金光闪闪的大字。广场南端是毛主席纪念堂。东西两侧，中国国家博物馆与巍峨壮丽的人民大会堂遥遥相对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3.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登上天安门城楼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向南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眺望，整个广场尽收眼底。广场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中央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矗立着高大的人民英雄纪念碑，碑身正面是毛泽东主席题写的“人民英雄永垂不朽”八个金光闪闪的大字。广场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南端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是毛主席纪念堂。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东西两侧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，中国国家博物馆与巍峨壮丽的人民大会堂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ahoma"/>
              </a:rPr>
              <a:t>遥遥相对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81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cc"/>
                </a:solidFill>
                <a:latin typeface="Tahoma"/>
              </a:rPr>
              <a:t>金水河   金水桥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337440" cy="4508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汉白玉华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597708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562284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49160" y="67356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人民英雄纪念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>语文大师 xiexingcun.com</dc:description>
  <dc:language>en-US</dc:language>
  <cp:lastModifiedBy>user</cp:lastModifiedBy>
  <dcterms:modified xsi:type="dcterms:W3CDTF">2014-10-24T06:49:59Z</dcterms:modified>
  <cp:revision>0</cp:revision>
  <dc:subject/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