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projctor.wav" ContentType="audio/x-wav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6.jpeg" ContentType="image/jpeg"/>
  <Override PartName="/ppt/media/image27.jpeg" ContentType="image/jpeg"/>
  <Override PartName="/ppt/media/image28.wmf" ContentType="image/x-wm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5C3E-770B-4CDF-A955-046238A8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EA61-3A83-4F34-BB16-39108FC2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845C-0C8A-4226-BDAF-39B44821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20CA-5924-4D71-ABE4-5AE6AE86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5C7A-24D6-4ABE-BF7A-4D33804B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DD64-279F-4592-BA23-E916E0AB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77D4-4218-4468-BE81-D4ECC16C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9FC9-69D6-4548-BEA9-323B4F79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1C1B-AFAD-41CF-A208-D73E6AD9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51C0-309F-4F07-B1D0-CE4BBC3B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4314-AB9C-4750-B666-9A917FD4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0925-1AC4-40BF-A8B5-5D92B6B4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7979-2F3B-4E76-84BD-4B7D5B59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1546-75E4-4E8E-8B15-6ECEC02C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6AC5-C8ED-4CE2-A1AD-270B6720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779B-78DF-43C1-82E5-DE2CA7A2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E736-7C48-44D0-BD82-3F65D62C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B312-59CC-46D7-951A-26A645FD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51BD-957B-46A7-8594-0E5C1DC7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7D98-EA4A-470C-A71E-B6AECECF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6666-9782-43EA-B45A-B9F231E9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9451-0406-471B-B729-63015E59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74F8-6755-4346-8061-E322DD2B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D823-2722-4406-A813-53875D81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8723-DB79-4C8F-8310-B5785049C746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FCA3-C35C-43D7-AA3C-0DBDF0CAF418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213984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黑体"/>
                <a:ea typeface="黑体"/>
              </a:rPr>
              <a:t>语文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七年级  下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projctor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5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6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7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rojctor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0" y="28764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9640" y="115920"/>
            <a:ext cx="82090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a50021"/>
                </a:solidFill>
                <a:latin typeface="Arial"/>
              </a:rPr>
              <a:t>送              别</a:t>
            </a:r>
            <a:br>
              <a:rPr sz="4400"/>
            </a:br>
            <a:r>
              <a:rPr b="1" lang="zh-CN" sz="2000" spc="-1" strike="noStrike">
                <a:solidFill>
                  <a:srgbClr val="004000"/>
                </a:solidFill>
                <a:latin typeface="Arial"/>
              </a:rPr>
              <a:t>李叔同 词　  </a:t>
            </a:r>
            <a:r>
              <a:rPr b="1" lang="en-US" sz="2000" spc="-1" strike="noStrike">
                <a:solidFill>
                  <a:srgbClr val="004000"/>
                </a:solidFill>
                <a:latin typeface="Arial"/>
              </a:rPr>
              <a:t>J.P.</a:t>
            </a:r>
            <a:r>
              <a:rPr b="1" lang="zh-CN" sz="2000" spc="-1" strike="noStrike">
                <a:solidFill>
                  <a:srgbClr val="004000"/>
                </a:solidFill>
                <a:latin typeface="Arial"/>
              </a:rPr>
              <a:t>奥德韦 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长亭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古道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芳草碧连天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晚风拂柳笛声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夕阳山外山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天之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地之角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知交半零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一壶浊酒尽余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今宵别梦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长亭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古道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芳草碧连天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问君此去几时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来时莫徘徊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天之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海之角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知交半零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人生难得是欢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唯有别离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812000" y="57164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524720" y="112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6" name="projctor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7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39878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-387720"/>
            <a:ext cx="3581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了新娘子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3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lhy1" descr=""/>
          <p:cNvPicPr/>
          <p:nvPr/>
        </p:nvPicPr>
        <p:blipFill>
          <a:blip r:embed="rId2"/>
          <a:stretch/>
        </p:blipFill>
        <p:spPr>
          <a:xfrm>
            <a:off x="69840" y="1125360"/>
            <a:ext cx="3997440" cy="5639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140360" y="2421000"/>
            <a:ext cx="4925880" cy="3911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753080" y="749160"/>
            <a:ext cx="49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sө_x0002_"/>
              </a:rPr>
              <a:t>林海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sө_x0002_"/>
              </a:rPr>
              <a:t>丈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sө_x0002_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sө_x0002_"/>
              </a:rPr>
              <a:t>夏承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4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51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初为人母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4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lhy2" descr=""/>
          <p:cNvPicPr/>
          <p:nvPr/>
        </p:nvPicPr>
        <p:blipFill>
          <a:blip r:embed="rId2"/>
          <a:stretch/>
        </p:blipFill>
        <p:spPr>
          <a:xfrm>
            <a:off x="1332000" y="1630440"/>
            <a:ext cx="6264360" cy="4174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4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lhy3" descr=""/>
          <p:cNvPicPr/>
          <p:nvPr/>
        </p:nvPicPr>
        <p:blipFill>
          <a:blip r:embed="rId2"/>
          <a:stretch/>
        </p:blipFill>
        <p:spPr>
          <a:xfrm>
            <a:off x="539640" y="1111320"/>
            <a:ext cx="3768840" cy="5486400"/>
          </a:xfrm>
          <a:prstGeom prst="rect">
            <a:avLst/>
          </a:prstGeom>
          <a:ln w="0">
            <a:noFill/>
          </a:ln>
        </p:spPr>
      </p:pic>
      <p:pic>
        <p:nvPicPr>
          <p:cNvPr id="118" name="lhy11" descr=""/>
          <p:cNvPicPr/>
          <p:nvPr/>
        </p:nvPicPr>
        <p:blipFill>
          <a:blip r:embed="rId3"/>
          <a:stretch/>
        </p:blipFill>
        <p:spPr>
          <a:xfrm>
            <a:off x="4764240" y="1125360"/>
            <a:ext cx="3768480" cy="5484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33920" y="44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4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49920" y="16999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岁的林海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lhy8" descr=""/>
          <p:cNvPicPr/>
          <p:nvPr/>
        </p:nvPicPr>
        <p:blipFill>
          <a:blip r:embed="rId2"/>
          <a:stretch/>
        </p:blipFill>
        <p:spPr>
          <a:xfrm>
            <a:off x="749160" y="692280"/>
            <a:ext cx="4038840" cy="5562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296040" y="3573360"/>
            <a:ext cx="1228680" cy="16192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366480"/>
            <a:ext cx="8148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林海音传》封面两种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3257640" cy="4419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010120" y="1557360"/>
            <a:ext cx="3143160" cy="4495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4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cc6600"/>
                </a:solidFill>
                <a:latin typeface="Arial"/>
              </a:rPr>
              <a:t>爸爸的花儿落了</a:t>
            </a: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16000" y="1052280"/>
            <a:ext cx="860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城南旧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城南旧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一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性质的小说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林海音说：“ 我是多么想念童年住在北京城南的那些景色和人为啊！我对自己说，把它们写下来吧，让实际的童年过去，心灵的童年永存下来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说透过主人公英子童年生活故事的描述，寄托了作者对童年对北京的缅怀，是悼念她过早离开人世的父亲的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489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整 体 感 知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import36649_1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5095800" cy="3824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68360" y="981000"/>
            <a:ext cx="8459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◆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人物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中两个主要人物是谁？</a:t>
            </a:r>
            <a:br>
              <a:rPr sz="28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3200"/>
            </a:br>
            <a:br>
              <a:rPr sz="3200"/>
            </a:b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◆题解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什么说爸爸的花落了？你怎样理解？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◆内容与主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64360" y="141300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61080" y="1628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爸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8360" y="1628640"/>
            <a:ext cx="17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英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1880" y="305928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章的题目一语双关，一是指爸爸种的夹竹桃凋谢了，花落又象征着爸爸离开人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001" descr=""/>
          <p:cNvPicPr/>
          <p:nvPr/>
        </p:nvPicPr>
        <p:blipFill>
          <a:blip r:embed="rId3"/>
          <a:stretch/>
        </p:blipFill>
        <p:spPr>
          <a:xfrm>
            <a:off x="6908760" y="260280"/>
            <a:ext cx="1550880" cy="1800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84360" y="4653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文主要记叙了 “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参加毕业典礼由眼前的事物而引发的对父亲的回忆，表达对父亲深深的思念；同时说明在爸爸的悉心教导下我已经成长，突出了父爱的伟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  <p:sndAc>
      <p:stSnd>
        <p:snd r:embed="rId4" name="projctor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9640" y="260280"/>
            <a:ext cx="853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理清文章内容 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文中哪些写的是眼前事，哪些是回忆过去的事，回忆的事情是怎样引出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7680" y="1978200"/>
            <a:ext cx="169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衣襟上的   夹竹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8000" y="3500280"/>
            <a:ext cx="0" cy="792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66760" y="4221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  <a:ea typeface="华文新魏"/>
              </a:rPr>
              <a:t>医院探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9000" y="2421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ahoma"/>
                <a:ea typeface="华文彩云"/>
              </a:rPr>
              <a:t>眼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0600" y="4221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ahoma"/>
                <a:ea typeface="华文彩云"/>
              </a:rPr>
              <a:t>回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4800600"/>
            <a:ext cx="0" cy="304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34920" y="5105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  <a:ea typeface="华文新魏"/>
              </a:rPr>
              <a:t>探病时的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5638680"/>
            <a:ext cx="0" cy="304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88840" y="601992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  <a:ea typeface="华文新魏"/>
              </a:rPr>
              <a:t>六年前赖床受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198900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礼堂钟声响了，爸爸不能来，不能料理花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24360" y="3500280"/>
            <a:ext cx="0" cy="792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03560" y="4221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  <a:ea typeface="华文新魏"/>
              </a:rPr>
              <a:t>爸爸爱花的情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95880" y="198432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韩主任讲话，我们唱骊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3500280"/>
            <a:ext cx="0" cy="792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78600" y="422100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  <a:ea typeface="华文新魏"/>
              </a:rPr>
              <a:t>爸爸要她闯练，叫她到银行汇款给日本的陈叔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12000" y="198432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毕业典礼回来，看见零落的花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56560" y="3279600"/>
            <a:ext cx="48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ahoma"/>
                <a:ea typeface="华文新魏"/>
              </a:rPr>
              <a:t>意识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88000" y="4581360"/>
            <a:ext cx="27576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  <a:ea typeface="华文新魏"/>
              </a:rPr>
              <a:t>自己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  <a:ea typeface="华文新魏"/>
              </a:rPr>
              <a:t>爸爸去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939080" y="907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526400" y="1268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毕业典礼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40080" y="1268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毕业典礼开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00440" y="1268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毕业典礼进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31840" y="1268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毕业典礼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8840" y="162864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59960" y="162864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32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92440" y="162864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35—37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92800" y="162864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54—68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75960" y="3854520"/>
            <a:ext cx="11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—12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36440" y="565452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3—31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76440" y="522288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58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33—34</a:t>
            </a:r>
            <a:r>
              <a:rPr b="1" lang="zh-CN" sz="1800" spc="-1" strike="noStrike">
                <a:solidFill>
                  <a:srgbClr val="000058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79720" y="608652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58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38—53</a:t>
            </a:r>
            <a:r>
              <a:rPr b="1" lang="zh-CN" sz="1800" spc="-1" strike="noStrike">
                <a:solidFill>
                  <a:srgbClr val="000058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040" y="4653000"/>
            <a:ext cx="60696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 插   叙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  <p:sndAc>
      <p:stSnd>
        <p:snd r:embed="rId3" name="camera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97000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28764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11280" y="49417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文章行文波澜起伏，内容丰富而不不混乱，可读性增强，更深刻体现了对父亲 的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插叙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351000"/>
            <a:ext cx="806436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用“插叙”，要特别注意写好与正常叙述的“转折点”。课文标志着又从“插叙”回到“顺叙”的转折点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2349360"/>
            <a:ext cx="78483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Arial"/>
                <a:ea typeface="楷体_GB2312"/>
              </a:rPr>
              <a:t>啊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  <a:ea typeface="楷体_GB2312"/>
              </a:rPr>
              <a:t>!</a:t>
            </a:r>
            <a:r>
              <a:rPr b="1" lang="zh-CN" sz="2800" spc="-1" strike="noStrike">
                <a:solidFill>
                  <a:srgbClr val="336600"/>
                </a:solidFill>
                <a:latin typeface="Arial"/>
                <a:ea typeface="楷体_GB2312"/>
              </a:rPr>
              <a:t>这样的早晨，一年年都过去了，今天是我最后一天在这学校里啦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  <a:ea typeface="楷体_GB2312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Arial"/>
                <a:ea typeface="楷体_GB2312"/>
              </a:rPr>
              <a:t>当当当，钟声响了，毕业典礼就要开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前半句承上，是对插叙内容的总结；后一句半启下，接着写毕业典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6922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转换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4941720"/>
            <a:ext cx="17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作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  <p:sndAc>
      <p:stSnd>
        <p:snd r:embed="rId3" name="projctor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-36720" y="475920"/>
            <a:ext cx="82645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梳理本文线索（有两条线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线索一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线索二 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4360" y="53737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双线穿插</a:t>
            </a:r>
            <a:endParaRPr b="0" lang="en-US" sz="2400" spc="1" strike="noStrike">
              <a:ln w="1260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515772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既有利于情节的展开，又使两个人物主次分明，相映生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35280" y="436572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24000" y="2122560"/>
            <a:ext cx="708516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是副线，是为情节的发展有序而设置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对主线起烘托、映衬、推动的作用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24000" y="3789360"/>
            <a:ext cx="676908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是主线，因为爸爸是作品要刻画的主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物形象，   在作品中起主导作用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24000" y="148104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眼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——“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我”参加毕业典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95640" y="3141720"/>
            <a:ext cx="64800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忆往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爸爸爱花、对我的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城南旧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宣传画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port36649_1" descr=""/>
          <p:cNvPicPr/>
          <p:nvPr/>
        </p:nvPicPr>
        <p:blipFill>
          <a:blip r:embed="rId2"/>
          <a:stretch/>
        </p:blipFill>
        <p:spPr>
          <a:xfrm>
            <a:off x="1692360" y="907920"/>
            <a:ext cx="5695920" cy="4273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58920" y="5135760"/>
            <a:ext cx="777708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方正隶变简体"/>
                <a:ea typeface="方正隶变简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方正隶变简体"/>
                <a:ea typeface="方正隶变简体"/>
              </a:rPr>
              <a:t>1983</a:t>
            </a:r>
            <a:r>
              <a:rPr b="1" lang="zh-CN" sz="2000" spc="-1" strike="noStrike">
                <a:solidFill>
                  <a:srgbClr val="000000"/>
                </a:solidFill>
                <a:latin typeface="方正隶变简体"/>
                <a:ea typeface="方正隶变简体"/>
              </a:rPr>
              <a:t>年新春伊始的北京，人们相互传递着一个令人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隶变简体"/>
                <a:ea typeface="方正隶变简体"/>
              </a:rPr>
              <a:t>欣的消息：电影</a:t>
            </a:r>
            <a:r>
              <a:rPr b="1" lang="en-US" sz="2000" spc="-1" strike="noStrike">
                <a:solidFill>
                  <a:srgbClr val="000000"/>
                </a:solidFill>
                <a:latin typeface="方正隶变简体"/>
                <a:ea typeface="方正隶变简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方正隶变简体"/>
                <a:ea typeface="方正隶变简体"/>
              </a:rPr>
              <a:t>城南旧事</a:t>
            </a:r>
            <a:r>
              <a:rPr b="1" lang="en-US" sz="2000" spc="-1" strike="noStrike">
                <a:solidFill>
                  <a:srgbClr val="000000"/>
                </a:solidFill>
                <a:latin typeface="方正隶变简体"/>
                <a:ea typeface="方正隶变简体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方正隶变简体"/>
                <a:ea typeface="方正隶变简体"/>
              </a:rPr>
              <a:t>，获得马尼拉第二届国际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隶变简体"/>
                <a:ea typeface="方正隶变简体"/>
              </a:rPr>
              <a:t>影节金鹰奖！  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方正隶变简体"/>
              </a:rPr>
              <a:t>曾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方正隶变简体"/>
              </a:rPr>
              <a:t>4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方正隶变简体"/>
              </a:rPr>
              <a:t>个国家放映，获过多项国际大奖。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方正隶变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隶变简体"/>
                <a:ea typeface="方正隶变简体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projcto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0" y="28764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09480" y="33336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你如何看待爸爸这个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119700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爸爸表面很严厉，实际上却充满爱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19303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很重感情。听到弟弟被日本人害死的消息，便急得吐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3480" y="3154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热爱生活，特别爱花。每天下班回来，第一件事就是浇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图片1" descr=""/>
          <p:cNvPicPr/>
          <p:nvPr/>
        </p:nvPicPr>
        <p:blipFill>
          <a:blip r:embed="rId4"/>
          <a:stretch/>
        </p:blipFill>
        <p:spPr>
          <a:xfrm>
            <a:off x="6357960" y="3933720"/>
            <a:ext cx="1932120" cy="244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84360" y="4508640"/>
            <a:ext cx="54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父爱如山，厚重；父爱似海，深沉。严在外爱在中，道是无情却有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  <p:sndAc>
      <p:stSnd>
        <p:snd r:embed="rId5" name="projctor.wav"/>
      </p:stSnd>
    </p:sndAc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0" y="28764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95" name="20061214184449437381" descr=""/>
          <p:cNvPicPr/>
          <p:nvPr/>
        </p:nvPicPr>
        <p:blipFill>
          <a:blip r:embed="rId4"/>
          <a:stretch/>
        </p:blipFill>
        <p:spPr>
          <a:xfrm>
            <a:off x="4427640" y="4414680"/>
            <a:ext cx="3816360" cy="2254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24000" y="907920"/>
            <a:ext cx="8497800" cy="70344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仿宋"/>
              </a:rPr>
              <a:t>生命如花，纵使多情而美丽，但有一天，它会无奈地凋谢，殒落枝头，但一个飘香的灵魂却可以超越时间与空间，在另一个心灵继续散发为阵阵幽香，在爱的缅怀中得到永生，永远绽放在另一个心灵之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projcto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0" y="28764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47640" y="687240"/>
            <a:ext cx="5472360" cy="375084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生命是一树繁花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时间是一根铁鞭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一朵一朵的击落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等到击完的时候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把满地残红踏入泥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                  </a:t>
            </a:r>
            <a:r>
              <a:rPr b="1" lang="en-US" sz="4000" spc="-1" strike="noStrike">
                <a:solidFill>
                  <a:srgbClr val="336600"/>
                </a:solidFill>
                <a:latin typeface="Arial"/>
                <a:ea typeface="华文行楷"/>
              </a:rPr>
              <a:t>----</a:t>
            </a:r>
            <a:r>
              <a:rPr b="1" lang="zh-CN" sz="4000" spc="-1" strike="noStrike">
                <a:solidFill>
                  <a:srgbClr val="336600"/>
                </a:solidFill>
                <a:latin typeface="Arial"/>
                <a:ea typeface="华文行楷"/>
              </a:rPr>
              <a:t>汪静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2007102791015739_2" descr=""/>
          <p:cNvPicPr/>
          <p:nvPr/>
        </p:nvPicPr>
        <p:blipFill>
          <a:blip r:embed="rId4"/>
          <a:stretch/>
        </p:blipFill>
        <p:spPr>
          <a:xfrm>
            <a:off x="3635280" y="4581360"/>
            <a:ext cx="3457800" cy="1751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projcto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292720" y="4581360"/>
            <a:ext cx="3048120" cy="2016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71640" y="2377080"/>
            <a:ext cx="7777080" cy="131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父亲是一本书，记载了对子女的付出、关爱和希望；父亲是一片海，宽阔的胸怀里容有对子女深深的爱；父亲是路，让子女踏着走向未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让我们把发自内心的最美的歌送给我们的父亲大人，衷心地道一声：父亲，谢谢你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3" name="projctor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42920" y="40464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说一说英子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1125360"/>
            <a:ext cx="78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哪些地方我们可以感受到英子的成长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71640" y="1773360"/>
            <a:ext cx="72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非常用功，被选做代表为同学领毕业证书和致谢词。从六年前的那一次后从不迟到。硬着头皮完成了汇款给在日本的陈叔叔这件事。闻说爸爸去世而处乱不惊从容面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4071960"/>
            <a:ext cx="755784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此文表现了爸爸对孩子严格要求、殷切的希望与深沉伟大的爱，也告诉我们孩子只有经过严格的教育、艰苦的磨炼才能真正的成熟起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梳      理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1125360"/>
            <a:ext cx="6716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语双关的文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爸爸的花儿落了”  一方面实指夹竹桃的败落，一方面象征天性爱花的爸爸的辞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双线并行的结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章一是以花为线索贯穿小说始末，二是毕业典礼，“两线相互辉映，既有利于情节的展开，又使两个人物主次分明，相映生辉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别致生动的穿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而写眼前的事，时而又穿插往事，但每次忆述往事都是由眼前的事引发的，这样显得波澜起伏，跌宕有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71640" y="1197000"/>
            <a:ext cx="720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首尾圆合的照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章从“我的襟上”的“粉红色的夹竹桃”起笔，到爱花的爸爸病死，处处有伏笔，事事有照应，沉郁的氛围和丧父的伤痛一直笼罩着全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质朴淡雅的语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中人是最平凡的人；事，是最平凡的事，都是人们司空见惯的。但读者却能从这些人们司空见惯的人和事中，感受到人性的美和人情的美。作者正是用这种质朴、淡雅、含蓄而深邃的语言拨动了读者的心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785808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章没有正面提及爸爸病危、濒死，写得很含蓄，但文中处处有伏笔。请找出这些伏笔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4640" y="2341440"/>
            <a:ext cx="7580520" cy="35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6600"/>
                </a:solidFill>
                <a:latin typeface="Arial"/>
                <a:ea typeface="楷体_GB2312"/>
              </a:rPr>
              <a:t>我”去医院看望爸爸，爸爸说：“没有爸爸，你更要自己管自己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  <a:ea typeface="楷体_GB2312"/>
              </a:rPr>
              <a:t>……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Arial"/>
                <a:ea typeface="楷体_GB2312"/>
              </a:rPr>
              <a:t>毕业典礼的钟声响起后，我突然疑惑“妈妈今早的眼睛为什么红肿着” 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Arial"/>
                <a:ea typeface="楷体_GB2312"/>
              </a:rPr>
              <a:t>典礼结束后，“催着自己，我好像怕赶不上什么事情似的”，急急忙忙赶回家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Arial"/>
                <a:ea typeface="楷体_GB2312"/>
              </a:rPr>
              <a:t>回到家，见夹竹桃不知什么时候垂下了好几枝子，散散落落的，很不像样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43280" y="62064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伏          笔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6600"/>
                </a:solidFill>
                <a:latin typeface="Arial"/>
                <a:ea typeface="仿宋_GB2312"/>
              </a:rPr>
              <a:t>小说</a:t>
            </a:r>
            <a:r>
              <a:rPr b="1" lang="en-US" sz="5400" spc="-1" strike="noStrike">
                <a:solidFill>
                  <a:srgbClr val="006600"/>
                </a:solidFill>
                <a:latin typeface="Arial"/>
                <a:ea typeface="仿宋_GB2312"/>
              </a:rPr>
              <a:t>《</a:t>
            </a:r>
            <a:r>
              <a:rPr b="1" lang="zh-CN" sz="5400" spc="-1" strike="noStrike">
                <a:solidFill>
                  <a:srgbClr val="006600"/>
                </a:solidFill>
                <a:latin typeface="Arial"/>
                <a:ea typeface="仿宋_GB2312"/>
              </a:rPr>
              <a:t>城南旧事</a:t>
            </a:r>
            <a:r>
              <a:rPr b="1" lang="en-US" sz="5400" spc="-1" strike="noStrike">
                <a:solidFill>
                  <a:srgbClr val="006600"/>
                </a:solidFill>
                <a:latin typeface="Arial"/>
                <a:ea typeface="仿宋_GB2312"/>
              </a:rPr>
              <a:t>》</a:t>
            </a:r>
            <a:r>
              <a:rPr b="1" lang="zh-CN" sz="5400" spc="-1" strike="noStrike">
                <a:solidFill>
                  <a:srgbClr val="006600"/>
                </a:solidFill>
                <a:latin typeface="Arial"/>
                <a:ea typeface="仿宋_GB2312"/>
              </a:rPr>
              <a:t>简介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9001080" cy="57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代末，六岁的小姑娘林英子住在北京城南的一条小胡同里。经常痴立在胡同口寻找女儿的“疯”女人秀贞，是英子结交的第一个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友。秀贞曾与一个大学生暗中相爱，后大学生被警察抓走，秀贞生下的女儿小桂子又被家人扔到城根下，生死不明。英子对她非常同情。英子得知小伙伴妞儿的身世很像小桂子，又发现她脖颈后的青记，急忙带她去找秀贞。秀贞与离散六年的女儿相认后，立刻带妞儿去找寻爸爸，结果母女俩惨死在火车轮下。后英子一家迁居新帘子胡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英子又在附近的荒园中认识了一个厚嘴唇的年轻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431280"/>
            <a:ext cx="8675640" cy="702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为了供给弟弟上学不得不去偷东西。英子觉得他很善良，但又分不清他是好人还是坏人。不久，英子在荒草地上捡到一个小铜佛，被警察局暗探发现，带巡警来抓走了这个年轻人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件事使英子非常难过。英子九岁那年，她的奶妈宋妈的丈夫冯大明来到林家。英子得知宋妈的儿子两年前掉进河里淹死，女儿也被丈夫卖给别人，心里十分伤心，不明白宋妈为什么撇下自己的孩子不管，来伺候别人。后来，英子的爸爸因肺病去世，宋妈也被她丈夫用小毛驴接走。英子随家人乘上远行的马车，带着种种疑惑告别了童年。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945560" cy="3389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rcRect l="1518" t="4476" r="1518" b="4476"/>
          <a:stretch/>
        </p:blipFill>
        <p:spPr>
          <a:xfrm>
            <a:off x="6767640" y="3500280"/>
            <a:ext cx="2252520" cy="3222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124080" y="3500280"/>
            <a:ext cx="3535560" cy="3219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15920" y="3500280"/>
            <a:ext cx="2943360" cy="3221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071480" y="-27000"/>
            <a:ext cx="21088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10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岁 的 沈 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出 演 小 英 子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6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6553440" cy="5089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142840" y="549360"/>
            <a:ext cx="66780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《城南旧事》电影剧照。由左至右：英子的母亲、弟弟、父亲和宋妈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夹竹桃" descr=""/>
          <p:cNvPicPr/>
          <p:nvPr/>
        </p:nvPicPr>
        <p:blipFill>
          <a:blip r:embed="rId2"/>
          <a:stretch/>
        </p:blipFill>
        <p:spPr>
          <a:xfrm>
            <a:off x="0" y="2492280"/>
            <a:ext cx="4500720" cy="4365720"/>
          </a:xfrm>
          <a:prstGeom prst="rect">
            <a:avLst/>
          </a:prstGeom>
          <a:ln w="0">
            <a:noFill/>
          </a:ln>
        </p:spPr>
      </p:pic>
      <p:pic>
        <p:nvPicPr>
          <p:cNvPr id="101" name="200611060117097666" descr=""/>
          <p:cNvPicPr/>
          <p:nvPr/>
        </p:nvPicPr>
        <p:blipFill>
          <a:blip r:embed="rId3"/>
          <a:stretch/>
        </p:blipFill>
        <p:spPr>
          <a:xfrm>
            <a:off x="4427640" y="2492280"/>
            <a:ext cx="4716360" cy="4365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156360" y="765000"/>
            <a:ext cx="25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3300"/>
                </a:solidFill>
                <a:latin typeface="Arial"/>
                <a:ea typeface="楷体_GB2312"/>
              </a:rPr>
              <a:t>林海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692280"/>
            <a:ext cx="547344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6600"/>
                </a:solidFill>
                <a:latin typeface="Arial"/>
                <a:ea typeface="黑体"/>
              </a:rPr>
              <a:t>爸爸的花儿  </a:t>
            </a:r>
            <a:r>
              <a:rPr b="1" lang="zh-CN" sz="6000" spc="-1" strike="noStrike" baseline="-25000">
                <a:solidFill>
                  <a:srgbClr val="000000"/>
                </a:solidFill>
                <a:latin typeface="Arial"/>
              </a:rPr>
              <a:t>落</a:t>
            </a:r>
            <a:r>
              <a:rPr b="1" lang="zh-CN" sz="5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5400" spc="-1" strike="noStrike">
                <a:solidFill>
                  <a:srgbClr val="006600"/>
                </a:solidFill>
                <a:latin typeface="Arial"/>
                <a:ea typeface="黑体"/>
              </a:rPr>
              <a:t>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4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8000" y="1125360"/>
            <a:ext cx="8820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林海音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18-200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，原名林含英，小名英子，原籍台湾。父母曾东渡日本经商，林海音生于日本，不久返台。当时台湾已被日寇占领，她的父亲不甘在日寇蹄下生活，后举家迁居北京，她在北京长大，在北京生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。从北京新闻专科学校毕业后任记者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4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与丈夫带三个孩子回到台湾。一直在报社、杂志社、出版社工作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林海音创作丰富，她的作品风靡海内外，广为流传，六十年代就斐声台湾文坛，被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台湾文学“祖母级人物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333360"/>
            <a:ext cx="39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作 者 简 介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8920" y="5331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时的林海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33440" y="4797000"/>
            <a:ext cx="41752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上师大附小后与叔叔、妹妹在中央公园留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lhy7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2565360" cy="3733920"/>
          </a:xfrm>
          <a:prstGeom prst="rect">
            <a:avLst/>
          </a:prstGeom>
          <a:ln w="0">
            <a:noFill/>
          </a:ln>
        </p:spPr>
      </p:pic>
      <p:pic>
        <p:nvPicPr>
          <p:cNvPr id="109" name="lhy10" descr=""/>
          <p:cNvPicPr/>
          <p:nvPr/>
        </p:nvPicPr>
        <p:blipFill>
          <a:blip r:embed="rId3"/>
          <a:stretch/>
        </p:blipFill>
        <p:spPr>
          <a:xfrm>
            <a:off x="5580000" y="2060640"/>
            <a:ext cx="2789280" cy="41529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7T05:24:46Z</dcterms:created>
  <dc:creator>语文备课大师</dc:creator>
  <dc:description/>
  <dc:language>en-US</dc:language>
  <cp:lastModifiedBy>未知用户</cp:lastModifiedBy>
  <dcterms:modified xsi:type="dcterms:W3CDTF">2013-02-23T03:41:51Z</dcterms:modified>
  <cp:revision>137</cp:revision>
  <dc:subject/>
  <dc:title>语文备课大师</dc:title>
</cp:coreProperties>
</file>