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2603-BCED-43AB-BD8F-FD09EE582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C6DA-6B07-4A09-A985-D0EDC534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A18A-DFAE-4AA2-9CDB-A40A9C733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7BD7-4A3B-4630-9454-908D9B83A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7E9C-D76B-44B5-A4EF-C68149B6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4894-1D51-4E5F-9650-A41FE0C3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087A-2B47-4435-BC0F-78C32EFE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AB6B-3869-45A8-A684-CFC9E4CE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7471-EF15-4191-9FC6-5C36F7D9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998A-48B8-40EA-B592-11452FA5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D9CA-EE0A-4268-8A6F-E3200C39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FBF3-BB1D-45CB-B464-AF5E6BFC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D4FB-B90C-4068-8E63-28CD088CD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himes.wav" TargetMode="External"/><Relationship Id="rId2" Type="http://schemas.microsoft.com/office/2007/relationships/media" Target="file:///tmp/home/.config/libreoffice/4/user/gallery/chimes.wav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I:\&#19971;&#19979;&#35838;&#20214;\&#31532;&#22235;&#21333;&#20803;\19&#65294;&#35266;&#33310;&#35760;\19&#35266;&#33310;&#35760;.avi" TargetMode="External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0" y="504720"/>
            <a:ext cx="9144000" cy="5848200"/>
            <a:chOff x="0" y="504720"/>
            <a:chExt cx="9144000" cy="5848200"/>
          </a:xfrm>
        </p:grpSpPr>
        <p:sp>
          <p:nvSpPr>
            <p:cNvPr id="43" name=""/>
            <p:cNvSpPr/>
            <p:nvPr/>
          </p:nvSpPr>
          <p:spPr>
            <a:xfrm>
              <a:off x="0" y="504720"/>
              <a:ext cx="9144000" cy="58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504720"/>
              <a:ext cx="6786720" cy="73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486400" y="12952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457200"/>
            <a:ext cx="4114800" cy="21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印度是公认的世界传统舞蹈的发祥地。印度传统舞蹈有四大流派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而“婆罗多舞”是最古老的古典舞蹈。舞者衣裙华丽，姿态优美，头戴半圆形花环，耳环和鼻饰闪烁，光彩照人，演员的手、眼、身、脚、步严密配合，面部表情喜怒哀乐瞬息万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整体感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朗读课文，画出描写印度舞蹈特点的语句，并从文中挑选一个词来概括印度舞蹈的总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33720" y="3124080"/>
            <a:ext cx="45720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9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飞动的“美”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random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9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-360" y="99036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描写印度舞蹈特点的语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她用她的长眉，妙目，手指，腰肢，用她髻上的花朵，腰间的褶裙，用她细碎的舞步，繁响的铃声，轻云般慢移，旋风般疾转，舞蹈出诗句里的离合悲欢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rcRect l="64325" t="0" r="6705" b="0"/>
          <a:stretch/>
        </p:blipFill>
        <p:spPr>
          <a:xfrm>
            <a:off x="5867280" y="1181160"/>
            <a:ext cx="3276720" cy="5676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5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5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504960" y="75960"/>
            <a:ext cx="56386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忽而双眉颦蹙，表现出无限的哀愁；忽而笑颊粲然，表现出无边的喜乐；忽而侧身垂睫，表现出低回婉转的娇羞；忽而张目嗔视，表现出叱咤风云的盛怒；忽而轻柔地点额抚臂，画眼描眉，表演着细腻妥帖的梳妆；忽而挺身屹立，按箭引弓，使人几乎听得见铮铮的弦响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>
            <a:lum bright="6000"/>
          </a:blip>
          <a:srcRect l="0" t="0" r="57495" b="0"/>
          <a:stretch/>
        </p:blipFill>
        <p:spPr>
          <a:xfrm>
            <a:off x="0" y="533520"/>
            <a:ext cx="3809880" cy="541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-360" y="1142640"/>
            <a:ext cx="4267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莲花的花开瓣颤、小鹿的疾走惊跃、孔雀的高视阔步”“最精彩的是‘蛇舞’，颈的轻摇，肩的微颤”等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0" y="914400"/>
            <a:ext cx="4114800" cy="4572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朗读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帘幕慢慢地拉开……只能借用白居易的两句诗“珠缨炫转星宿摇，花鬘斗薮龙蛇动”来概括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2895480"/>
            <a:ext cx="78487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思考：课文是从哪些方面表现卡拉玛姐妹舞蹈的“飞动的美”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09480" y="685800"/>
            <a:ext cx="76993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作者是从卡拉玛姐妹的身体、神态、服饰等方面来表现飞动的“美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371600" y="2362320"/>
            <a:ext cx="5715000" cy="3429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4495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光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秀丽的面庞和那能说出万千种话的一对长眉，一双眼睛。女性的妩媚不仅表现在美丽的五官，更多地表现在眉目之间。未舞先有光彩先有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724280" y="914400"/>
            <a:ext cx="3971880" cy="480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8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9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曼舞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长眉、妙目、手指、腰肢、髻花、褶裙、细步响铃、“轻云般慢移，旋风般疾转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533520" y="1143000"/>
            <a:ext cx="3371760" cy="4495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5029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5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神韵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卡拉玛姐妹“舞蹈出诗句里的离合悲欢”，“我们看她忽而双眉颦蹙……使人几乎听得见铮铮的弦响！”通过表演各种神态来表现万种风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>
            <a:lum bright="12000"/>
          </a:blip>
          <a:srcRect l="0" t="0" r="15218" b="10746"/>
          <a:stretch/>
        </p:blipFill>
        <p:spPr>
          <a:xfrm>
            <a:off x="5338800" y="914400"/>
            <a:ext cx="3576600" cy="495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深层阅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文本探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“我们虽然不晓得故事的内容，但是我们的情感，却能随着她的动作，起了共鸣！”在作者观看时，既然看不懂，为什么会起共鸣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3733920"/>
            <a:ext cx="8001000" cy="7765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幼圆"/>
              </a:rPr>
              <a:t>我们看不懂的是舞蹈背后的故事，但是卡拉玛姐妹高超的舞技，让人可以感受到一切悲欢离合，让观众随舞蹈的起伏而起伏，引起了大家的共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5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5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9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作者为什么只描写卡拉玛姐妹的舞蹈动作，为什么不描写观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2057400"/>
            <a:ext cx="7162560" cy="3429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6705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5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作者完全被卡拉玛姐妹的舞蹈吸引，根本没有注意到观众的反应。从侧面写出卡拉玛姐妹舞蹈的精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为什么说“卡拉玛在舞蹈的狂欢中，她忘怀了观众也忘怀了自己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2362320"/>
            <a:ext cx="7238880" cy="3124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3200040"/>
            <a:ext cx="6858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幼圆"/>
              </a:rPr>
              <a:t>因为好的舞蹈不仅要动作美，还要全身心地投入，这样才是好的舞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语言赏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课文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段一连四个“假如……”句的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2514600"/>
            <a:ext cx="7010640" cy="849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作者运用排比的修辞手法，作种种假设，从不同角度表达了对卡拉玛姐妹的舞蹈的赞美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“用她细碎的舞步，繁响的铃声，轻云般慢移，旋风般疾转…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7010280" cy="2361960"/>
          </a:xfrm>
          <a:prstGeom prst="rect">
            <a:avLst/>
          </a:prstGeom>
          <a:solidFill>
            <a:srgbClr val="99cc00">
              <a:alpha val="5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5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作者运用形象的比喻，采用整齐的对句，生动形象地表现了舞姿的轻重缓急的变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3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8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“我们看她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忽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双眉颦蹙，表现出无限的哀愁；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忽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；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忽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57400" y="2819520"/>
            <a:ext cx="5715000" cy="2743200"/>
          </a:xfrm>
          <a:prstGeom prst="cloudCallout">
            <a:avLst>
              <a:gd name="adj1" fmla="val -22499"/>
              <a:gd name="adj2" fmla="val -100347"/>
            </a:avLst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0" y="3504960"/>
            <a:ext cx="54100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反复与排比联用，突出了表演者神态之多变，情感之丰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“如莲花的花开瓣颤、小鹿的疾走惊跃、孔雀的高视阔步，都能形容尽致，尽态极妍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2057400"/>
            <a:ext cx="6934320" cy="43434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76520" y="3017520"/>
            <a:ext cx="640080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运用排比，整齐句与散句联用，形象地突出表演者形体动作之逼真，达到了形神兼备的境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“最精彩的是‘蛇舞’，颈的轻摇，肩的微颤：一阵一阵的柔韧的蠕动，从右手的指尖，一直传到左手的指尖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2362320"/>
            <a:ext cx="5790960" cy="35812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904760" y="2742840"/>
            <a:ext cx="518148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轻摇”“微颤”“柔韧的蠕动”，用词生动准确、传神，表现了舞姿阴柔之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77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3" dur="77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5" dur="77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7" dur="77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语文积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09680" y="167652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华文隶书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隶书"/>
              </a:rPr>
              <a:t>春水（四三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隶书"/>
              </a:rPr>
              <a:t>春何曾说话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隶书"/>
              </a:rPr>
              <a:t>但她那伟大潜隐的力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隶书"/>
              </a:rPr>
              <a:t>已这般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隶书"/>
              </a:rPr>
              <a:t>温柔了世界了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286000" y="533520"/>
            <a:ext cx="563868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隶书"/>
              </a:rPr>
              <a:t>繁星（一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隶书"/>
              </a:rPr>
              <a:t>繁星闪烁着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隶书"/>
              </a:rPr>
              <a:t>深蓝的天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隶书"/>
              </a:rPr>
              <a:t>何曾听得见它们对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隶书"/>
              </a:rPr>
              <a:t>沉默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隶书"/>
              </a:rPr>
              <a:t>微光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隶书"/>
              </a:rPr>
              <a:t>它们深深的互相颂赞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038960" y="281952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卡拉玛姐妹的舞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80400" y="1371600"/>
            <a:ext cx="668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身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服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神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心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90400" y="2895480"/>
            <a:ext cx="151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飞动的“美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1676520"/>
            <a:ext cx="304920" cy="2971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57800" y="1676520"/>
            <a:ext cx="304920" cy="3047760"/>
          </a:xfrm>
          <a:custGeom>
            <a:avLst/>
            <a:gdLst>
              <a:gd name="textAreaLeft" fmla="*/ 0 w 304920"/>
              <a:gd name="textAreaRight" fmla="*/ 110160 w 304920"/>
              <a:gd name="textAreaTop" fmla="*/ 79200 h 3047760"/>
              <a:gd name="textAreaBottom" fmla="*/ 2968560 h 304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4572000" cy="6859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455760" y="5409720"/>
            <a:ext cx="45705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Arial"/>
                <a:ea typeface="华文隶书"/>
              </a:rPr>
              <a:t>冰  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905120" y="762120"/>
            <a:ext cx="51814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华文行楷"/>
              </a:rPr>
              <a:t>19</a:t>
            </a: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华文行楷"/>
              </a:rPr>
              <a:t>．观舞记 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60" name="">
            <a:hlinkClick r:id="rId2"/>
          </p:cNvPr>
          <p:cNvSpPr/>
          <p:nvPr/>
        </p:nvSpPr>
        <p:spPr>
          <a:xfrm>
            <a:off x="2133720" y="3581280"/>
            <a:ext cx="1066680" cy="838440"/>
          </a:xfrm>
          <a:custGeom>
            <a:avLst/>
            <a:gdLst>
              <a:gd name="textAreaLeft" fmla="*/ 52200 w 1066680"/>
              <a:gd name="textAreaRight" fmla="*/ 1014480 w 1066680"/>
              <a:gd name="textAreaTop" fmla="*/ 52200 h 838440"/>
              <a:gd name="textAreaBottom" fmla="*/ 786240 h 838440"/>
            </a:gdLst>
            <a:ahLst/>
            <a:rect l="textAreaLeft" t="textAreaTop" r="textAreaRight" b="textAreaBottom"/>
            <a:pathLst>
              <a:path w="27477" h="21600">
                <a:moveTo>
                  <a:pt x="0" y="0"/>
                </a:moveTo>
                <a:lnTo>
                  <a:pt x="27477" y="0"/>
                </a:lnTo>
                <a:lnTo>
                  <a:pt x="27477" y="21600"/>
                </a:lnTo>
                <a:lnTo>
                  <a:pt x="0" y="21600"/>
                </a:lnTo>
                <a:close/>
              </a:path>
              <a:path fill="lightenLess" w="27477" h="21600">
                <a:moveTo>
                  <a:pt x="0" y="0"/>
                </a:moveTo>
                <a:lnTo>
                  <a:pt x="27477" y="0"/>
                </a:lnTo>
                <a:lnTo>
                  <a:pt x="26127" y="1350"/>
                </a:lnTo>
                <a:lnTo>
                  <a:pt x="1350" y="1350"/>
                </a:lnTo>
                <a:close/>
              </a:path>
              <a:path fill="darken" w="27477" h="21600">
                <a:moveTo>
                  <a:pt x="27477" y="0"/>
                </a:moveTo>
                <a:lnTo>
                  <a:pt x="27477" y="21600"/>
                </a:lnTo>
                <a:lnTo>
                  <a:pt x="26127" y="20250"/>
                </a:lnTo>
                <a:lnTo>
                  <a:pt x="26127" y="1350"/>
                </a:lnTo>
                <a:close/>
              </a:path>
              <a:path fill="darkenLess" w="27477" h="21600">
                <a:moveTo>
                  <a:pt x="27477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127" y="20250"/>
                </a:lnTo>
                <a:close/>
              </a:path>
              <a:path fill="lighten" w="27477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477" h="21600">
                <a:moveTo>
                  <a:pt x="6695" y="7283"/>
                </a:moveTo>
                <a:lnTo>
                  <a:pt x="7614" y="7283"/>
                </a:lnTo>
                <a:lnTo>
                  <a:pt x="7999" y="7650"/>
                </a:lnTo>
                <a:lnTo>
                  <a:pt x="17256" y="7650"/>
                </a:lnTo>
                <a:lnTo>
                  <a:pt x="17816" y="8210"/>
                </a:lnTo>
                <a:lnTo>
                  <a:pt x="17816" y="8761"/>
                </a:lnTo>
                <a:lnTo>
                  <a:pt x="19671" y="8761"/>
                </a:lnTo>
                <a:lnTo>
                  <a:pt x="20039" y="8210"/>
                </a:lnTo>
                <a:lnTo>
                  <a:pt x="20782" y="8210"/>
                </a:lnTo>
                <a:lnTo>
                  <a:pt x="20782" y="13390"/>
                </a:lnTo>
                <a:lnTo>
                  <a:pt x="20039" y="13390"/>
                </a:lnTo>
                <a:lnTo>
                  <a:pt x="19671" y="12839"/>
                </a:lnTo>
                <a:lnTo>
                  <a:pt x="17816" y="12839"/>
                </a:lnTo>
                <a:lnTo>
                  <a:pt x="17816" y="14125"/>
                </a:lnTo>
                <a:lnTo>
                  <a:pt x="8182" y="14125"/>
                </a:lnTo>
                <a:lnTo>
                  <a:pt x="8182" y="9873"/>
                </a:lnTo>
                <a:lnTo>
                  <a:pt x="7999" y="9873"/>
                </a:lnTo>
                <a:lnTo>
                  <a:pt x="7614" y="10240"/>
                </a:lnTo>
                <a:lnTo>
                  <a:pt x="6695" y="1024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浅层阅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54100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作家作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ff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幼圆"/>
                <a:ea typeface="幼圆"/>
              </a:rPr>
              <a:t>冰心（</a:t>
            </a:r>
            <a:r>
              <a:rPr b="1" lang="en-US" sz="2800" spc="-1" strike="noStrike">
                <a:solidFill>
                  <a:srgbClr val="0066ff"/>
                </a:solidFill>
                <a:latin typeface="幼圆"/>
                <a:ea typeface="幼圆"/>
              </a:rPr>
              <a:t>1900-1999</a:t>
            </a:r>
            <a:r>
              <a:rPr b="1" lang="zh-CN" sz="2800" spc="-1" strike="noStrike">
                <a:solidFill>
                  <a:srgbClr val="0066ff"/>
                </a:solidFill>
                <a:latin typeface="幼圆"/>
                <a:ea typeface="幼圆"/>
              </a:rPr>
              <a:t>），现当代女作家，儿童文学作家。原名谢婉莹。生于福建省福州市。著有小说集《超人》，诗集《繁星》《春水》等，作品多以“母爱”或“人类之爱”为解决社会人生问题的理想。另有《寄小读者》《再寄小读者》《我们把春天吵醒了》《樱花赞》《拾穗小札》《小橘灯》，以及《冰心小说散文选》等。</a:t>
            </a:r>
            <a:r>
              <a:rPr b="1" lang="en-US" sz="2800" spc="-1" strike="noStrike">
                <a:solidFill>
                  <a:srgbClr val="0066ff"/>
                </a:solidFill>
                <a:latin typeface="Dotum"/>
                <a:ea typeface="Dotum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562720" y="1600200"/>
            <a:ext cx="3257280" cy="3962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给下列加点字注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咿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哑（          ）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粲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然（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颦蹙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（               ）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叱咤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（ 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嗔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视（            ）        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凝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（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解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数（          ）          尽态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妍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（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惆怅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（              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鬘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斗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薮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（     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本色当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行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（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25520" y="1143000"/>
            <a:ext cx="7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ｙ</a:t>
            </a:r>
            <a:r>
              <a:rPr b="1" lang="en-US" sz="3200" spc="-1" strike="noStrike">
                <a:solidFill>
                  <a:srgbClr val="ff0000"/>
                </a:solidFill>
                <a:latin typeface="幼圆"/>
                <a:ea typeface="幼圆"/>
              </a:rPr>
              <a:t>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927040" y="1219320"/>
            <a:ext cx="110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ｃ</a:t>
            </a:r>
            <a:r>
              <a:rPr b="1" lang="en-US" sz="3200" spc="-1" strike="noStrike">
                <a:solidFill>
                  <a:srgbClr val="ff0000"/>
                </a:solidFill>
                <a:latin typeface="幼圆"/>
                <a:ea typeface="幼圆"/>
              </a:rPr>
              <a:t>à</a:t>
            </a: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19600" y="2011320"/>
            <a:ext cx="16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ｐ</a:t>
            </a:r>
            <a:r>
              <a:rPr b="1" lang="en-US" sz="3200" spc="-1" strike="noStrike">
                <a:solidFill>
                  <a:srgbClr val="ff0000"/>
                </a:solidFill>
                <a:latin typeface="幼圆"/>
                <a:ea typeface="幼圆"/>
              </a:rPr>
              <a:t>í</a:t>
            </a: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ｎｃ</a:t>
            </a:r>
            <a:r>
              <a:rPr b="1" lang="en-US" sz="3200" spc="-1" strike="noStrike">
                <a:solidFill>
                  <a:srgbClr val="ff0000"/>
                </a:solidFill>
                <a:latin typeface="幼圆"/>
                <a:ea typeface="幼圆"/>
              </a:rPr>
              <a:t>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79880" y="1981080"/>
            <a:ext cx="193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ｃｈ</a:t>
            </a:r>
            <a:r>
              <a:rPr b="1" lang="en-US" sz="3200" spc="-1" strike="noStrike">
                <a:solidFill>
                  <a:srgbClr val="ff0000"/>
                </a:solidFill>
                <a:latin typeface="幼圆"/>
                <a:ea typeface="幼圆"/>
              </a:rPr>
              <a:t>ì</a:t>
            </a: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ｚｈ</a:t>
            </a:r>
            <a:r>
              <a:rPr b="1" lang="en-US" sz="3200" spc="-1" strike="noStrike">
                <a:solidFill>
                  <a:srgbClr val="ff0000"/>
                </a:solidFill>
                <a:latin typeface="幼圆"/>
                <a:ea typeface="幼圆"/>
              </a:rPr>
              <a:t>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12480" y="2743200"/>
            <a:ext cx="135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ｃｈ</a:t>
            </a:r>
            <a:r>
              <a:rPr b="1" lang="en-US" sz="3200" spc="-1" strike="noStrike">
                <a:solidFill>
                  <a:srgbClr val="ff0000"/>
                </a:solidFill>
                <a:latin typeface="幼圆"/>
                <a:ea typeface="幼圆"/>
              </a:rPr>
              <a:t>ē</a:t>
            </a: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78800" y="2743200"/>
            <a:ext cx="144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ｎ</a:t>
            </a:r>
            <a:r>
              <a:rPr b="1" lang="en-US" sz="3200" spc="-1" strike="noStrike">
                <a:solidFill>
                  <a:srgbClr val="ff0000"/>
                </a:solidFill>
                <a:latin typeface="幼圆"/>
                <a:ea typeface="幼圆"/>
              </a:rPr>
              <a:t>í</a:t>
            </a: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ｎ</a:t>
            </a:r>
            <a:r>
              <a:rPr b="1" lang="en-US" sz="3200" spc="-1" strike="noStrike">
                <a:solidFill>
                  <a:srgbClr val="ff0000"/>
                </a:solidFill>
                <a:latin typeface="幼圆"/>
                <a:ea typeface="幼圆"/>
              </a:rPr>
              <a:t>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65400" y="353520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ｘｉ</a:t>
            </a:r>
            <a:r>
              <a:rPr b="1" lang="en-US" sz="3200" spc="-1" strike="noStrike">
                <a:solidFill>
                  <a:srgbClr val="ff0000"/>
                </a:solidFill>
                <a:latin typeface="幼圆"/>
                <a:ea typeface="幼圆"/>
              </a:rPr>
              <a:t>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41440" y="3535200"/>
            <a:ext cx="110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ｙ</a:t>
            </a:r>
            <a:r>
              <a:rPr b="1" lang="en-US" sz="3200" spc="-1" strike="noStrike">
                <a:solidFill>
                  <a:srgbClr val="ff0000"/>
                </a:solidFill>
                <a:latin typeface="幼圆"/>
                <a:ea typeface="幼圆"/>
              </a:rPr>
              <a:t>á</a:t>
            </a: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05720" y="4297320"/>
            <a:ext cx="28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ｃｈ</a:t>
            </a:r>
            <a:r>
              <a:rPr b="1" lang="en-US" sz="3200" spc="-1" strike="noStrike">
                <a:solidFill>
                  <a:srgbClr val="ff0000"/>
                </a:solidFill>
                <a:latin typeface="幼圆"/>
                <a:ea typeface="幼圆"/>
              </a:rPr>
              <a:t>ó</a:t>
            </a: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ｕｃｈ</a:t>
            </a:r>
            <a:r>
              <a:rPr b="1" lang="en-US" sz="3200" spc="-1" strike="noStrike">
                <a:solidFill>
                  <a:srgbClr val="ff0000"/>
                </a:solidFill>
                <a:latin typeface="幼圆"/>
                <a:ea typeface="幼圆"/>
              </a:rPr>
              <a:t>à</a:t>
            </a: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ｎ</a:t>
            </a:r>
            <a:r>
              <a:rPr b="1" lang="en-US" sz="3200" spc="-1" strike="noStrike">
                <a:solidFill>
                  <a:srgbClr val="ff0000"/>
                </a:solidFill>
                <a:latin typeface="幼圆"/>
                <a:ea typeface="幼圆"/>
              </a:rPr>
              <a:t>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70360" y="5105520"/>
            <a:ext cx="227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ｍ</a:t>
            </a:r>
            <a:r>
              <a:rPr b="1" lang="en-US" sz="3200" spc="-1" strike="noStrike">
                <a:solidFill>
                  <a:srgbClr val="ff0000"/>
                </a:solidFill>
                <a:latin typeface="幼圆"/>
                <a:ea typeface="幼圆"/>
              </a:rPr>
              <a:t>á</a:t>
            </a: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ｎ ｓ</a:t>
            </a:r>
            <a:r>
              <a:rPr b="1" lang="en-US" sz="3200" spc="-1" strike="noStrike">
                <a:solidFill>
                  <a:srgbClr val="ff0000"/>
                </a:solidFill>
                <a:latin typeface="幼圆"/>
                <a:ea typeface="幼圆"/>
              </a:rPr>
              <a:t>ǒ</a:t>
            </a: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05920" y="58975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幼圆"/>
                <a:ea typeface="幼圆"/>
              </a:rPr>
              <a:t>há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重点词语解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35816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颦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粲然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嗔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④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叱咤风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⑤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浑身解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高视阔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尽态极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⑧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息息相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本色当行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⑩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离合悲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05600" y="8380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皱着眉头，形容忧愁的样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33880" y="14479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笑容灿烂的样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61120" y="19810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生气地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00800" y="26208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形容威力极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60960" y="32004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全身招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37960" y="38401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形容气度不凡或态度傲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36720" y="437364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使仪态和丽质最充分地显示出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91400" y="49831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呼吸相关联，比喻关系密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81680" y="54864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做本行的事，成绩十分显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90720" y="6222960"/>
            <a:ext cx="843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泛指团聚、别离、欢乐、悲伤的种种遭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1T06:03:31Z</dcterms:created>
  <dc:creator>语文备课大师网</dc:creator>
  <dc:description/>
  <dc:language>en-US</dc:language>
  <cp:lastModifiedBy>未知用户</cp:lastModifiedBy>
  <dcterms:modified xsi:type="dcterms:W3CDTF">2014-03-18T01:50:31Z</dcterms:modified>
  <cp:revision>0</cp:revision>
  <dc:subject/>
  <dc:title>语文备课大师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  <property fmtid="{D5CDD505-2E9C-101B-9397-08002B2CF9AE}" pid="3" name="Version">
    <vt:r8>1</vt:r8>
  </property>
</Properties>
</file>