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C56-06D0-4942-A6E0-12250865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E79-3EEE-4945-A418-2F3081F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98E-F0F7-4C77-8889-58D15B0D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1DE-7634-482F-AF9D-A486CE53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8A2-7F50-4361-BB3B-D58EEF20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638-1504-45E0-ACB2-6451528E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F7E-6C0B-433D-9D37-417053F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08C-FA0C-442E-AEBF-BFD6E3D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FBE-A00B-48B7-B6D8-918438E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AAD-E074-43B5-951D-688EDF1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E43-DE22-4109-B2A9-1435B905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8C9-A3AB-4375-B738-3B13463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7F4E-510F-4C10-A5CC-60269F7E3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I:\&#19971;&#19979;&#35838;&#20214;\&#31532;&#22235;&#21333;&#20803;\17&#65294;&#23433;&#22622;&#33136;&#40723;\&#23433;&#22622;&#33136;&#40723;.avi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29240" y="0"/>
            <a:ext cx="451476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828800" y="1143000"/>
            <a:ext cx="6019920" cy="450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快速阅读全文，清理结构，概括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按照安塞腰鼓表演的程序，将全文划分为三个部分；并以腰鼓为线，用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腰鼓”形式的短语概括三部分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5146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塞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3480" y="1523880"/>
            <a:ext cx="41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静的腰鼓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~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3581280"/>
            <a:ext cx="265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激越的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~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996920"/>
            <a:ext cx="472428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宏伟的场面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~1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雄壮的响声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~1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击鼓的后生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8~2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奇丽的舞姿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3~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寂静的腰鼓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8~3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51460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9051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给第二部分划分层次，并概括层意。（要求说明划分的理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句子“好一个安塞腰鼓”在文中出现四次，充当层次标志，自然将第二部分分成四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0" y="3429000"/>
            <a:ext cx="4348080" cy="21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好一个安塞腰鼓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朗读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语言铿锵激昂、急促有力、感情强烈，气势充沛，完美地表现了安塞腰鼓舞蹈的特色，达到了形式与内容的完美统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根据朗读方案，组成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小集体，尝试朗诵全文三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全班学生共同参与，集体“大合唱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语文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86400" y="1143000"/>
            <a:ext cx="3657240" cy="3390480"/>
            <a:chOff x="5486400" y="1143000"/>
            <a:chExt cx="3657240" cy="339048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5486400" y="1143000"/>
              <a:ext cx="3657240" cy="33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816160" y="37648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雕版印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" y="3733920"/>
            <a:ext cx="4572000" cy="3124080"/>
            <a:chOff x="685800" y="3733920"/>
            <a:chExt cx="4572000" cy="312408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85800" y="3733920"/>
              <a:ext cx="4572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14800" y="3962520"/>
              <a:ext cx="100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藏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7200" y="9144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14800" y="5334120"/>
            <a:ext cx="4667400" cy="11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国家级非物质文化遗产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0" y="0"/>
            <a:ext cx="4276800" cy="2857680"/>
            <a:chOff x="0" y="0"/>
            <a:chExt cx="4276800" cy="28576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27680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692080" y="22096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安徽宣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29040" y="0"/>
            <a:ext cx="4314960" cy="2857680"/>
            <a:chOff x="4829040" y="0"/>
            <a:chExt cx="4314960" cy="285768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4829040" y="0"/>
              <a:ext cx="43149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657920" y="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南京云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2895480"/>
            <a:ext cx="4800600" cy="3206880"/>
            <a:chOff x="2133720" y="2895480"/>
            <a:chExt cx="4800600" cy="320688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133720" y="2895480"/>
              <a:ext cx="480060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375640" y="5333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剪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 rot="20200200">
            <a:off x="4476240" y="4266720"/>
            <a:ext cx="46674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国家级非物质文化遗产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952880" y="0"/>
            <a:ext cx="4191120" cy="3017880"/>
            <a:chOff x="4952880" y="0"/>
            <a:chExt cx="4191120" cy="301788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952880" y="0"/>
              <a:ext cx="419112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791480" y="23623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太极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819520" y="1676520"/>
            <a:ext cx="4038480" cy="3028680"/>
            <a:chOff x="2819520" y="1676520"/>
            <a:chExt cx="4038480" cy="302868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2819520" y="1676520"/>
              <a:ext cx="40384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207040" y="175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少林功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0"/>
            <a:ext cx="3428640" cy="3657240"/>
            <a:chOff x="0" y="0"/>
            <a:chExt cx="3428640" cy="3657240"/>
          </a:xfrm>
        </p:grpSpPr>
        <p:pic>
          <p:nvPicPr>
            <p:cNvPr id="138" name="" descr=""/>
            <p:cNvPicPr/>
            <p:nvPr/>
          </p:nvPicPr>
          <p:blipFill>
            <a:blip r:embed="rId4"/>
            <a:srcRect l="8480" t="0" r="0" b="0"/>
            <a:stretch/>
          </p:blipFill>
          <p:spPr>
            <a:xfrm>
              <a:off x="0" y="0"/>
              <a:ext cx="34286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65600" y="2844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昆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0" y="3817800"/>
            <a:ext cx="4572000" cy="3040200"/>
            <a:chOff x="0" y="3817800"/>
            <a:chExt cx="4572000" cy="304020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0" y="3817800"/>
              <a:ext cx="4572000" cy="30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692080" y="4038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福建南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4191120" y="4648320"/>
            <a:ext cx="466704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国家级非物质文化遗产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00"/>
                </a:solidFill>
                <a:latin typeface="Arial"/>
                <a:ea typeface="华文隶书"/>
              </a:rPr>
              <a:t>第二课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深层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文本探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容不得束缚，容不得羁绊，容不得闭塞。是挣脱了、冲破了、撞开了的那么一股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“那么一股”要“挣脱”“冲破”“撞开”什么？是什么“束缚”“羁绊”“闭塞”了“那么一股劲”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28005" r="0" b="0"/>
          <a:stretch/>
        </p:blipFill>
        <p:spPr>
          <a:xfrm>
            <a:off x="0" y="4800600"/>
            <a:ext cx="914400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7924680" cy="457200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幼圆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那么一股劲”要打破人们身上层层坚硬的外壳，让生命宣泄在这天地之间，让人“遗落了一切冗杂”“痛快了山河、蓬勃了想象力”，使人明白人之所以为人，生命之所以为生命。这一句是对生命力量的赞颂，生命的力量在这里以不可阻挡的气势得到了充分的宣泄，并带动着生命奔腾升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2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29200" y="28195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刘成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80880"/>
            <a:ext cx="5791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17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．安塞腰鼓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7999" r="0" b="6664"/>
          <a:stretch/>
        </p:blipFill>
        <p:spPr>
          <a:xfrm>
            <a:off x="0" y="251460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它使你惊异于那农民衣着包裹着的躯体，那消化着红豆角角老南瓜的躯体，居然可以释放出那么奇伟磅礴的能量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过着贫困生活的农民，哪里来得那么强大的力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7999" r="0" b="6664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54380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原人民有着自然、健康的生命，这种生命是原始的、未经人工雕饰的、没有半点污染的、不掺杂任何杂质的完全全的生命，因为苦难，他们有着最原始、最热烈的对美好生活的憧憬和追求，这是他们力量的源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为什么说“多水的江南……打不得这样的腰鼓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2880" y="2742840"/>
            <a:ext cx="3810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幼圆"/>
              </a:rPr>
              <a:t>多水的江南过于柔媚，承载不了安塞腰鼓这种原始的、粗犷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4495680" cy="333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文中“除了黄土高原，哪里再有这么厚这么厚的土层啊”是什么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3337" t="3223" r="3337" b="0"/>
          <a:stretch/>
        </p:blipFill>
        <p:spPr>
          <a:xfrm>
            <a:off x="0" y="1959120"/>
            <a:ext cx="9144000" cy="4898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6934320" cy="1523880"/>
          </a:xfrm>
          <a:prstGeom prst="rect">
            <a:avLst/>
          </a:prstGeom>
          <a:solidFill>
            <a:srgbClr val="bbe0e3">
              <a:alpha val="7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幼圆"/>
              </a:rPr>
              <a:t>黄土高原是中华民族厚实的精神文化土壤，也是它风雨变迁的见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3911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耳畔是一声渺远的鸡啼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为什么听到这样的“鸡啼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鼓声停止后，人们仍沉浸在激情中，好像炽热后的沉寂，这是以“鸡啼”反衬寂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西北现在好像成了贫困落后的代名词，作者为什么这样歌颂西北汉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086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西北是中华民族的主要发源地；在今天，西北好像落伍了。但那里的人民并没有因生活的贫困和环境的封闭而丧失希望，生命的能量就在这沉重的躯壳内奔突，终有一天会喷发。这里的人们，这里的土地是有希望的。落后是暂时的，只要生命还在期盼“搏击”，重生之日并不遥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语言赏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找出文中所运用的修辞，并举例分析其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紧贴在他们身体一侧的腰鼓，呆呆地，似乎从来不曾响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呆呆地”一词用拟人手法形象地写出了安静时安塞腰鼓的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0" b="1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3048120"/>
            <a:ext cx="6781680" cy="3809880"/>
          </a:xfrm>
          <a:prstGeom prst="cloudCallout">
            <a:avLst>
              <a:gd name="adj1" fmla="val -16481"/>
              <a:gd name="adj2" fmla="val -108458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“骤雨一样，是急促的鼓点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旋风一样，是飞扬的流苏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乱蛙一样，是蹦跳的脚步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火花一样，是闪射的瞳仁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斗虎一样，是强健的风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350496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运用比喻的修辞手法，使对象更加形象具体，从而把腰鼓舞壮阔、豪放、火烈的场面写得别致感人，使人如闻其声，如临其境。表达出对安塞腰鼓强烈的赞美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腰鼓，使冰冷的空气立即变得燥热了，使恬静的阳光立即变得飞溅了，使困倦的世界立即变得亢奋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43040" y="24379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这个句子运用排比句式，使语言气势充沛、节奏鲜明、抒发了对安塞腰鼓强烈的赞美之情。同时运用对比的修辞手法，更加突出安塞腰鼓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4648320" cy="41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语文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模仿文中的排比句写一段话，描述一个表演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示例：（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旋风一样，是神速的飞奔，乱蛙一样，是跳远的动作；飞鸟一样，是空中的掷球；精灵一样，是蹦跳的毽球。运动会上的健儿们强健的身姿遍布在操场上的每个地方，就连角落也不放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00"/>
                </a:solidFill>
                <a:latin typeface="Arial"/>
                <a:ea typeface="华文隶书"/>
              </a:rPr>
              <a:t>第一课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66720" y="1066320"/>
            <a:ext cx="4800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）在运动会上，运动员们的每一个动作都充满了激情，每块肌肉都充满了活力，每一个表情都充满了严肃，每一个眼神都充满了对胜利的渴望，让人折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）回忆我们的合唱表演，那声音黄河一样是惊涛的声响；老人一样，是沉稳的步调；岩浆一样，是流动的激情，真是充满热情的合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82880" y="1828800"/>
            <a:ext cx="23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塞腰鼓”表演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609480"/>
            <a:ext cx="14083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场面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鼓声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后生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舞姿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8840" y="4114800"/>
            <a:ext cx="23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塞腰鼓”形式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3720" y="3227400"/>
            <a:ext cx="91224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构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句式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修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法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1066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5812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浅层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背景链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安塞腰鼓是流传在陕西省北部安塞县一带的一种民间广场群体艺术，是陕北民间艺术中独特而具代表性的艺术形式。它在长期流传过程中形成了粗犷豪放、剽悍威武、刚劲激昂、气势磅礴、浑厚雄壮、威猛刚烈、铿锵有力、舞姿优美、潇洒大方、流畅飘逸、快收猛放、有张有弛、群而不乱、变化多端等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安塞腰鼓融舞蹈、武术、体操、打击乐、吹奏乐、民歌为一体。集中表现了陕北人夺取胜利和丰收后的喜悦心情，融合了黄土高原人憨厚、实在、乐观开朗的性格。同时，它是中华民族精神风貌的再现，是黄河流域文化的组成部分。因而，它不仅深受广大群众的喜爱，而且名扬海外，堪称“中国一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153280" cy="441972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安塞腰鼓从农村打到城市；从黄土高原打向大江南北；从农家小院打到天安门前；从自编自演走向电影电视屏幕；从农运会打到亚运会；从陕北的穷山沟走上世界领奖台。安塞腰鼓以它独特而精湛的艺术打遍全国，冲出亚洲，走向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736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62920" y="533520"/>
            <a:ext cx="1676160" cy="1739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黑体"/>
              </a:rPr>
              <a:t>朗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/>
          </p:cNvPr>
          <p:cNvSpPr/>
          <p:nvPr/>
        </p:nvSpPr>
        <p:spPr>
          <a:xfrm>
            <a:off x="7391520" y="3809880"/>
            <a:ext cx="990360" cy="914400"/>
          </a:xfrm>
          <a:custGeom>
            <a:avLst/>
            <a:gdLst>
              <a:gd name="textAreaLeft" fmla="*/ 56880 w 990360"/>
              <a:gd name="textAreaRight" fmla="*/ 933480 w 990360"/>
              <a:gd name="textAreaTop" fmla="*/ 56880 h 914400"/>
              <a:gd name="textAreaBottom" fmla="*/ 85752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2044" y="1350"/>
                </a:lnTo>
                <a:lnTo>
                  <a:pt x="1350" y="135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2044" y="20250"/>
                </a:lnTo>
                <a:lnTo>
                  <a:pt x="22044" y="135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044" y="2025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394" h="21600">
                <a:moveTo>
                  <a:pt x="4653" y="7283"/>
                </a:moveTo>
                <a:lnTo>
                  <a:pt x="5572" y="7283"/>
                </a:lnTo>
                <a:lnTo>
                  <a:pt x="5957" y="7650"/>
                </a:lnTo>
                <a:lnTo>
                  <a:pt x="15214" y="7650"/>
                </a:lnTo>
                <a:lnTo>
                  <a:pt x="15774" y="8210"/>
                </a:lnTo>
                <a:lnTo>
                  <a:pt x="15774" y="8761"/>
                </a:lnTo>
                <a:lnTo>
                  <a:pt x="17629" y="8761"/>
                </a:lnTo>
                <a:lnTo>
                  <a:pt x="17997" y="8210"/>
                </a:lnTo>
                <a:lnTo>
                  <a:pt x="18741" y="8210"/>
                </a:lnTo>
                <a:lnTo>
                  <a:pt x="18741" y="13390"/>
                </a:lnTo>
                <a:lnTo>
                  <a:pt x="17997" y="13390"/>
                </a:lnTo>
                <a:lnTo>
                  <a:pt x="17629" y="12839"/>
                </a:lnTo>
                <a:lnTo>
                  <a:pt x="15774" y="12839"/>
                </a:lnTo>
                <a:lnTo>
                  <a:pt x="15774" y="14125"/>
                </a:lnTo>
                <a:lnTo>
                  <a:pt x="6141" y="14125"/>
                </a:lnTo>
                <a:lnTo>
                  <a:pt x="6141" y="9873"/>
                </a:lnTo>
                <a:lnTo>
                  <a:pt x="5957" y="9873"/>
                </a:lnTo>
                <a:lnTo>
                  <a:pt x="5572" y="10240"/>
                </a:lnTo>
                <a:lnTo>
                  <a:pt x="4653" y="1024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给下列加点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铿锵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    ）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暗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）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仁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）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然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烧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灼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奋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绊（         ）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加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静（            ）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杂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）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漓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雨（           ）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磅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61400" y="108108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ｋ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ē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ｑｉ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31520" y="1066680"/>
            <a:ext cx="8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ｈｕ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6920" y="1782720"/>
            <a:ext cx="13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ｊｕ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5680" y="1752480"/>
            <a:ext cx="14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ｔ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ó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13000" y="251460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ｃｈｕ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6840" y="246852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ｊｉ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73800" y="3200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ｚｈｕ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03720" y="3200400"/>
            <a:ext cx="14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ｋ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040" y="3886200"/>
            <a:ext cx="6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ｊ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5480" y="3916440"/>
            <a:ext cx="7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ｙ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16920" y="4648320"/>
            <a:ext cx="13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ｔｉ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14080" y="4572000"/>
            <a:ext cx="14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ｒ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ǒ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54360" y="5334120"/>
            <a:ext cx="7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ｆ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9240" y="5334120"/>
            <a:ext cx="9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ｌ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í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3600" y="597384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ｚ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ò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62760" y="6019920"/>
            <a:ext cx="21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ｐ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ｂ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重点词语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亢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恬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冗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磅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羁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叹为观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戛然而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惊心动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0080" y="1173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极度兴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560" y="18590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安静、宁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254484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繁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03200" y="3276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气势盛大；充满气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41360" y="391644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缠住不能脱身，束缚。羁，约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48600" y="4572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赞美看到的事物好到了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58000" y="5257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声音突然中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25720" y="5943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容使人感受很深，震动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3:38:34Z</dcterms:created>
  <dc:creator>语文备课大师网</dc:creator>
  <dc:description/>
  <dc:language>en-US</dc:language>
  <cp:lastModifiedBy>未知用户</cp:lastModifiedBy>
  <dcterms:modified xsi:type="dcterms:W3CDTF">2014-03-18T01:50:31Z</dcterms:modified>
  <cp:revision>0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