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camera.wav" ContentType="audio/x-wav"/>
  <Override PartName="/ppt/media/image5.jpeg" ContentType="image/jpeg"/>
  <Override PartName="/ppt/media/image6.gif" ContentType="image/gif"/>
  <Override PartName="/ppt/media/chimes.wav" ContentType="audio/x-wav"/>
  <Override PartName="/ppt/media/image7.gif" ContentType="image/gi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2AC-BC32-4ED3-B7BD-5F2D1FCB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E29-EA9D-4BE0-87C2-96C8C8F0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74A-DBF3-4E77-8B60-6778CB8C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FEE-1FB4-4A55-B86C-88122A34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00F-124D-4C59-9466-CBCCD635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5BB-1E3B-48C9-A3E7-2E37ED2C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21C-273F-481F-A525-6A7D5F14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667-7460-4CE4-886B-5C52C981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071-665F-438B-94F4-3F84446E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FD2-169B-4DA4-937C-CF19D084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845-4E72-4E3E-81E7-A0C627D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0F9-B769-41AA-940E-94DF2F80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D195-37EF-4191-94FC-198B8FD58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ulture.163.com/edit/011203/011203_55652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culture.163.com/edit/011203/011203_55652.html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454120"/>
            <a:ext cx="835164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父爱是一座巍峨的大山，父爱是一片辽阔的草原；父爱是燃烧的太阳，父爱是奔涌的江河；父爱是厚重的抚摸，父爱是深情的凝望；父爱是一本书，父爱是一杯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5084640"/>
            <a:ext cx="6048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1197000"/>
            <a:ext cx="87138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 .</a:t>
            </a: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爸爸表面很严厉，实际上却充满爱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、鼓励孩子要坚强，无论什么困难的事，只要硬着头皮去做，就闯过去了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、很重感情，他听到弟弟被日本人害死的消息，便急得吐血了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、特别爱花，每天下班回来，第一件事就是浇花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33360"/>
            <a:ext cx="860436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、从全文看，爸爸是个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060640"/>
            <a:ext cx="8610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文章题目为“爸爸的花儿落了”，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与题目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相映，文章也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多处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写到花，如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开头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由衣襟上的夹竹桃引出爸爸生病住院，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中间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还写了爸爸的爱花，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结尾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用“垂落的夹竹桃”回应前文，点出爸爸已不在人间，可以看出“花”是作为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线索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贯穿小说始末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04640"/>
            <a:ext cx="7920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、“花”在全文结构中起着怎样的作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576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</a:rPr>
              <a:t>文章线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16000" y="141300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线</a:t>
            </a: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宋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爱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189080" y="3645000"/>
            <a:ext cx="54007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副线</a:t>
            </a: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宋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2781360"/>
            <a:ext cx="287280" cy="2509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65160 h 2509920"/>
              <a:gd name="textAreaBottom" fmla="*/ 2444760 h 25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24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毕业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716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毕业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941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毕业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700360" y="4005360"/>
            <a:ext cx="12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364500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毕业典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2565360"/>
            <a:ext cx="216000" cy="2449440"/>
          </a:xfrm>
          <a:prstGeom prst="downArrow">
            <a:avLst>
              <a:gd name="adj1" fmla="val 50000"/>
              <a:gd name="adj2" fmla="val 283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78600" y="2852640"/>
            <a:ext cx="10033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顺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9640" y="620640"/>
            <a:ext cx="885672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、文章表达了作者怎样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773360"/>
            <a:ext cx="748980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表达了作者失去父亲后痛楚，无奈，同时又深深眷念的感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4360" y="404640"/>
            <a:ext cx="2735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研读与赏析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700280"/>
            <a:ext cx="835344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文中哪些写的是眼前事，哪些是回忆过去的事，回忆的事情是怎样引出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50028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文中是如何暗示爸爸已经病得很重，可能将不久于人世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013360"/>
            <a:ext cx="828036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怎样理解文章结尾“我”默念的话的含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9640" y="189000"/>
            <a:ext cx="8375760" cy="11912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文中哪些写的是眼前事，哪些是回忆过去的事，回忆的事情是怎样引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75248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衣襟上的夹竹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1240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267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医院探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14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彩云"/>
              </a:rPr>
              <a:t>眼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91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彩云"/>
              </a:rPr>
              <a:t>回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480060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105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探病时的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63868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19920"/>
            <a:ext cx="28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六年前赖床受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1752480"/>
            <a:ext cx="246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礼堂钟声响了，爸爸不能来，不能料理花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1240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爸爸爱花的情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17524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韩主任讲话，我们唱骊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1240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42670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爸爸要她闯练，叫她到银行汇款给日本的陈叔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17524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毕业典礼回来，看见零落的花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72400" y="3124080"/>
            <a:ext cx="4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意识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3962520"/>
            <a:ext cx="1752840" cy="17398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Tahoma"/>
                <a:ea typeface="楷体_GB2312"/>
              </a:rPr>
              <a:t>自己已经长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92200" y="90792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907920"/>
            <a:ext cx="799128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文中是如何暗示爸爸已经病得很重，可能将不久于人世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3789360"/>
            <a:ext cx="82087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其实文中已多处为爸爸的不久于人世埋下伏笔，你能在文中划出来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430200"/>
            <a:ext cx="8064360" cy="3018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比如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开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我”回忆去医院看望爸爸时，爸爸曾说：“没有爸爸，你更要自己管自己，并且管弟弟和妹妹，你已经长大了，是不是？”这是一处伏笔。又如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当毕业典礼的钟声响起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我突然又想到妈妈爸爸，疑惑“妈妈今早的眼睛为什么红肿着”，是在暗示妈妈对爸爸的病情很了解，知道他将去世。而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毕业典礼结束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“催着自己，我好像怕赶不上什么事情似的”，急急忙忙赶回家去，这恐怕是一种预感。至于写她进家门以后看到“旁边的夹竹桃不知什么时候垂下了好几枝子，散散落落的，很不像样”，更是</a:t>
            </a:r>
            <a:r>
              <a:rPr b="1" lang="zh-CN" sz="3200" spc="-1" strike="noStrike">
                <a:solidFill>
                  <a:srgbClr val="00cc99"/>
                </a:solidFill>
                <a:latin typeface="黑体"/>
                <a:ea typeface="黑体"/>
              </a:rPr>
              <a:t>以花喻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把即将丧父的伤痛推到极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2276640"/>
            <a:ext cx="77040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是说作者在爸爸去世之时，终于体会到自己已经长大了，不再是小孩子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549360"/>
            <a:ext cx="756144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、怎样理解文章结尾“我”默念的话的含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99ff"/>
                </a:solidFill>
                <a:latin typeface="Times New Roman"/>
                <a:ea typeface="隶书"/>
              </a:rPr>
              <a:t>插叙的好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7524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使文章的行文波澜起伏，同时浓缩了时间，增大了文章的容量，可读性增强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5493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191120" cy="579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19720" y="404640"/>
            <a:ext cx="4724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林海音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918—200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，原名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林含英，小名英子，原籍台湾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苗栗县。父母曾东渡日本经商。生于日本大阪，不久即返台，因父亲不甘在日寇铁蹄下生活，举家迁居北京，林海音即在北京长大，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948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回到故乡台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692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黑体"/>
              </a:rPr>
              <a:t>简单归纳一下“我”</a:t>
            </a: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黑体"/>
              </a:rPr>
              <a:t>成长的历程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5480" y="2133720"/>
            <a:ext cx="858852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我”在爸爸的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管教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下克服了懒惰的毛病，在爸爸的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鼓励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下有了挑战困难的信心和勇气，在爸爸话语的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激励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下最终以成人的姿态镇定地面对爸爸去世的噩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4800600"/>
            <a:ext cx="4038480" cy="2057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914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华文隶书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《城南旧事》描写了一个小姑娘长大的历程，小说的主人公英子在经历了一系列人生的遭遇和挫折后，告别了动荡的童年。而当我们每一个人走到这一天时，都会产生一种复杂情感，既想成为一个大人，又不愿长大，你们有这种心情吗？说说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522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体验与反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638680" y="4797360"/>
            <a:ext cx="3048120" cy="2016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200400" y="18900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小 结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129480"/>
            <a:ext cx="835164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父亲是一本书，记载了对子女的付出、关爱和希望；父亲是一片海，宽阔的胸怀里容有对子女深深的爱；父亲是路，让子女踏着走向未来。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让我们把发自内心的最美的歌送给我们的父亲大人。我们要衷心地道一声：父亲，谢谢你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720"/>
            <a:ext cx="259236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791080"/>
            <a:ext cx="820728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修改下面句子不符合语境的一个词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　走过院子，看那粉红色的夹竹桃，我默念着：爸爸的花儿落了。我已不再是小孩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125360"/>
            <a:ext cx="8368920" cy="4269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挥想像，仿写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童年是一个谜，混沌初开，稚嫩好奇；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　少年是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__________________________</a:t>
            </a: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　青年是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__________________________</a:t>
            </a: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　中年是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__________________________</a:t>
            </a: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</a:rPr>
              <a:t>　老年是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__________________________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189000"/>
            <a:ext cx="547200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作  业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62120"/>
            <a:ext cx="9144000" cy="54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914400"/>
            <a:ext cx="4648320" cy="518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990720"/>
            <a:ext cx="38098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出版了众多文学名作，被称为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台湾文学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祖母级的人物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林海音对北京有着深厚的情感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城南旧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书既是她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童年生活的写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更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年北京平民生活的写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也是她最具影响的作品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9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第三届世界华文作家大会荣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终身成就奖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907920"/>
            <a:ext cx="4648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311040"/>
            <a:ext cx="8569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夏天过去，秋天过去，冬天又来了，骆驼队又来了，但是童年却一去不还。冬阳底下学骆驼咀嚼的傻事，我也不会再做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可是，是多么想念童年住在北京场面的那些景色和人物啊！我对自己说，把它们写下来吧，让实际的童年过去，心灵的童年永存下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就这样，我写了一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城南旧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默默地想，慢慢地写。看见冬阳下的骆驼队走过来，听见缓慢悦耳的铃声，童年重临于我的心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192720" cy="525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79160" y="15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《城南旧事》电影剧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6172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sө_x0002_"/>
              </a:rPr>
              <a:t>英子和爸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669960"/>
            <a:ext cx="813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本文选自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城南旧事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城南旧事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是一本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自传性质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小说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说透过主人公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英子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童年生活故事的描述，寄托了作者对童年、对北京的缅怀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爸爸的花儿落了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是小说的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最后篇章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是悼念她过早离开人世的父亲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70120" y="22068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黑体"/>
              </a:rPr>
              <a:t>题解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26028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ahoma"/>
                <a:ea typeface="黑体"/>
              </a:rPr>
              <a:t>检 查 预 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6765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鸡毛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掸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5146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咻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玉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簪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4956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骊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6765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肿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叮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5812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恐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4572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花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676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25146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ū xi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35053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ā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572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167652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ǒng zhà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5909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īng zh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36576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kǒng j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9720" y="4495680"/>
            <a:ext cx="8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47880" y="54100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挪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窝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2080" y="5410080"/>
            <a:ext cx="11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u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43160" y="544500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耻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5960" y="5410080"/>
            <a:ext cx="9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h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5335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黑体"/>
              </a:rPr>
              <a:t>题目含义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335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隶书"/>
              </a:rPr>
              <a:t>一语“</a:t>
            </a:r>
            <a:r>
              <a:rPr b="1" lang="zh-CN" sz="5400" spc="-1" strike="noStrike">
                <a:solidFill>
                  <a:srgbClr val="ff00ff"/>
                </a:solidFill>
                <a:latin typeface="Tahoma"/>
                <a:ea typeface="隶书"/>
              </a:rPr>
              <a:t>双关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隶书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8108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隶书"/>
              </a:rPr>
              <a:t>实指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133720"/>
            <a:ext cx="54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ahoma"/>
                <a:ea typeface="黑体"/>
              </a:rPr>
              <a:t>爸爸种的夹竹桃的败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4290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隶书"/>
              </a:rPr>
              <a:t>象征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581280"/>
            <a:ext cx="55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ahoma"/>
                <a:ea typeface="黑体"/>
              </a:rPr>
              <a:t>天性爱花的爸爸的辞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30480" y="48006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隶书"/>
              </a:rPr>
              <a:t>含而不露、哀而不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3716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从全文看，爸爸是个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2421000"/>
            <a:ext cx="81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“花”在全文结构中起着怎样的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14972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文章表达了作者怎样的感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0"/>
            <a:ext cx="2376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整体感知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网</dc:creator>
  <dc:description/>
  <dc:language>en-US</dc:language>
  <cp:lastModifiedBy>Lenovo User</cp:lastModifiedBy>
  <dcterms:modified xsi:type="dcterms:W3CDTF">2014-03-20T06:53:43Z</dcterms:modified>
  <cp:revision>0</cp:revision>
  <dc:subject/>
  <dc:title>语文备课大师网</dc:title>
</cp:coreProperties>
</file>