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660-F49D-4525-9C9A-0527A814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60B-DA36-44AC-AE0C-AA7899C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A23-B20C-4278-B9BA-EEA8D18F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3CF-887F-4674-8566-E7B76F84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AA3-142A-4759-927F-B75737D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23A-B61D-4D06-9C7E-46FF67F9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3B0-B7F4-4BA4-AC05-59500FE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058-E628-47E1-B4D8-38C0A152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0163-93E0-4A87-9A5B-286CE8F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6A7-28C5-4E91-B8EC-FDBF7D2E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2E5-7BA7-403E-81E9-83CD760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DAE-D6C2-43BA-93D1-69AE9F5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D2D2-FAC7-44C9-B527-3E9AF23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90CD-602B-4A69-AB95-6FE6C20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BFD-638C-47F6-8C52-21881E3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672-9B55-4162-880D-A09CC7B7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DD54-E8D6-4EB7-9C12-F8B9760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8B9B-FEF7-4AAB-9CEC-983DE5B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5D4-E437-4CA5-B13F-64EA498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803-763E-43D5-88AA-2CFD01EB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B38-2A74-45F0-A234-9EB1CE83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44D-9DE5-4C96-BAD3-09BCD2B4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0B9-2438-4406-9B3A-F956B6F0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251-5953-454C-908D-3814B44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93F-193C-4606-A959-A6DB7EAA4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8B29-8379-4ACE-AF95-977C481AC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0200" y="785520"/>
            <a:ext cx="264816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Calibri"/>
                <a:ea typeface="楷体_GB2312"/>
              </a:rPr>
              <a:t>导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276720" y="2420640"/>
            <a:ext cx="5462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的候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Georgi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8000"/>
                </a:solidFill>
                <a:latin typeface="Georgia"/>
                <a:ea typeface="楷体_GB2312"/>
              </a:rPr>
              <a:t>大雁归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Georgia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Georgia"/>
                <a:ea typeface="楷体_GB2312"/>
              </a:rPr>
              <a:t>利奥波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alibri"/>
                <a:ea typeface="楷体_GB2312"/>
              </a:rPr>
              <a:t>自学指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820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作者对大雁作了哪些描写？表达了他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对大雁什么样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感情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作者笔下的大雁有哪些特点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文中作者多用什么手法描写大雁，找出这样的句子，并体会其作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品味语言：理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11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练习二中句子的含义并揣摩作者的感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64720" y="907920"/>
            <a:ext cx="8541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41440" y="6858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隶书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93672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作者对大雁作了哪些描写？表达了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对大雁什么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081080" y="1628640"/>
            <a:ext cx="38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十一月南飞的大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0810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三月的大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081080" y="306864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大雁归来的情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081080" y="3860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春雁觅食过程的鸣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1080" y="46576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孤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1080" y="5445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四月夜间大雁群居的鸣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7129440" y="404640"/>
            <a:ext cx="14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6337440" y="2997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喜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88640"/>
            <a:ext cx="8086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Calibri"/>
                <a:ea typeface="楷体_GB2312"/>
              </a:rPr>
              <a:t>二、作者笔下的大雁有哪些特点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00000" y="981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来的季节是三月春天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飞行的路线是笔直的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3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三月的大雁一触到水就叫，喧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4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十一月份的大雁一声不吭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爱寻食玉米粒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6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常六只列队飞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7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、四月的夜间，大雁会一阵阵喧闹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68360" y="6567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隶书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863640" y="10526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a19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三、文中作者多用 </a:t>
            </a:r>
            <a:r>
              <a:rPr b="1" lang="zh-CN" sz="48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     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手法描写大雁，找一找这样的句子，读出来，体会其作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936720" y="35733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作用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文章充满生动性和趣味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表达了作者对大雁的喜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416720" y="10526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拟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3720" y="-360"/>
            <a:ext cx="8541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品味语言：理解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116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后练习二中句子的含义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并揣摩作者的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4640" y="1197000"/>
            <a:ext cx="8541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楷体"/>
              </a:rPr>
              <a:t>第一句：写出了大雁带给人们春天的气息，它们是春天的使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楷体"/>
              </a:rPr>
              <a:t>第二句：表明了归来的大雁让香蒲乃至万物摆脱了冬天的严寒，香蒲乃至万物从此迎来春天，欣欣向荣，生动形象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华文楷体"/>
              </a:rPr>
              <a:t>第三句：迁徙中的大雁，它的鸣叫，是带着野性的诗歌，给整个大陆带来诗意。作者觉得大雁是非常可爱的动物，是人类的朋友，他喜欢大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68360" y="65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936720" y="189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a19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楷体"/>
              </a:rPr>
              <a:t>小结本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>
            <a:hlinkClick r:id="rId1" action="ppaction://hlinksldjump"/>
          </p:cNvPr>
          <p:cNvSpPr/>
          <p:nvPr/>
        </p:nvSpPr>
        <p:spPr>
          <a:xfrm>
            <a:off x="863640" y="9810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是一篇优美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抒情散文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通过自己的观察和描写传达出这样一个信息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动物是我们的朋友，世界因了它们的存在才有了如许的生机和情趣，我们与它们和谐共处，这才是人类在这个世界上的最恰当的定位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863640" y="4581360"/>
            <a:ext cx="8137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文章主旨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保护野生动物，共建和谐家园。</a:t>
            </a:r>
            <a:r>
              <a:rPr b="1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1632960" y="228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>
            <a:hlinkClick r:id="rId1" action="ppaction://hlinksldjump"/>
          </p:cNvPr>
          <p:cNvSpPr/>
          <p:nvPr/>
        </p:nvSpPr>
        <p:spPr>
          <a:xfrm>
            <a:off x="969840" y="105264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请回顾学过的诗歌，积累有关写“雁”的诗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46b"/>
          <p:cNvPicPr/>
          <p:nvPr/>
        </p:nvPicPr>
        <p:blipFill>
          <a:blip r:embed="rId2"/>
          <a:stretch/>
        </p:blipFill>
        <p:spPr>
          <a:xfrm>
            <a:off x="825480" y="4046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bird15"/>
          <p:cNvPicPr/>
          <p:nvPr/>
        </p:nvPicPr>
        <p:blipFill>
          <a:blip r:embed="rId3"/>
          <a:stretch/>
        </p:blipFill>
        <p:spPr>
          <a:xfrm>
            <a:off x="3851280" y="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bird15"/>
          <p:cNvPicPr/>
          <p:nvPr/>
        </p:nvPicPr>
        <p:blipFill>
          <a:blip r:embed="rId4"/>
          <a:stretch/>
        </p:blipFill>
        <p:spPr>
          <a:xfrm>
            <a:off x="4641840" y="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bird15"/>
          <p:cNvPicPr/>
          <p:nvPr/>
        </p:nvPicPr>
        <p:blipFill>
          <a:blip r:embed="rId5"/>
          <a:stretch/>
        </p:blipFill>
        <p:spPr>
          <a:xfrm>
            <a:off x="5433840" y="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bird15"/>
          <p:cNvPicPr/>
          <p:nvPr/>
        </p:nvPicPr>
        <p:blipFill>
          <a:blip r:embed="rId6"/>
          <a:stretch/>
        </p:blipFill>
        <p:spPr>
          <a:xfrm>
            <a:off x="6226200" y="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bird15"/>
          <p:cNvPicPr/>
          <p:nvPr/>
        </p:nvPicPr>
        <p:blipFill>
          <a:blip r:embed="rId7"/>
          <a:stretch/>
        </p:blipFill>
        <p:spPr>
          <a:xfrm>
            <a:off x="7018200" y="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bird15"/>
          <p:cNvPicPr/>
          <p:nvPr/>
        </p:nvPicPr>
        <p:blipFill>
          <a:blip r:embed="rId8"/>
          <a:stretch/>
        </p:blipFill>
        <p:spPr>
          <a:xfrm>
            <a:off x="7810560" y="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bird15"/>
          <p:cNvPicPr/>
          <p:nvPr/>
        </p:nvPicPr>
        <p:blipFill>
          <a:blip r:embed="rId9"/>
          <a:stretch/>
        </p:blipFill>
        <p:spPr>
          <a:xfrm>
            <a:off x="8602560" y="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bird15"/>
          <p:cNvPicPr/>
          <p:nvPr/>
        </p:nvPicPr>
        <p:blipFill>
          <a:blip r:embed="rId10"/>
          <a:stretch/>
        </p:blipFill>
        <p:spPr>
          <a:xfrm>
            <a:off x="3130560" y="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0">
            <a:hlinkClick r:id="rId11" action="ppaction://hlinksldjump"/>
          </p:cNvPr>
          <p:cNvSpPr/>
          <p:nvPr/>
        </p:nvSpPr>
        <p:spPr>
          <a:xfrm>
            <a:off x="1042920" y="1844640"/>
            <a:ext cx="835344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蓬出汉塞，归雁入胡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至塞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长风万里送秋雁，对此可以酣高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宣州谢眺楼饯别校书叔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乡书何处达？归雁洛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北固山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塞下秋来风景异，衡阳雁去无留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范仲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渔家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16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alibri"/>
                <a:ea typeface="黑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16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抄写课后词语。            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练习册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3720" y="-18504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大10"/>
          <p:cNvPicPr/>
          <p:nvPr/>
        </p:nvPicPr>
        <p:blipFill>
          <a:blip r:embed="rId1"/>
          <a:stretch/>
        </p:blipFill>
        <p:spPr>
          <a:xfrm>
            <a:off x="857160" y="333360"/>
            <a:ext cx="8425080" cy="626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用图!"/>
          <p:cNvPicPr/>
          <p:nvPr/>
        </p:nvPicPr>
        <p:blipFill>
          <a:blip r:embed="rId2"/>
          <a:stretch/>
        </p:blipFill>
        <p:spPr>
          <a:xfrm>
            <a:off x="693720" y="4572000"/>
            <a:ext cx="243828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8000" y="0"/>
            <a:ext cx="70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【学习目标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636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Calibri"/>
                <a:ea typeface="楷体_GB2312"/>
              </a:rPr>
              <a:t>１、积累词语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Calibri"/>
                <a:ea typeface="楷体_GB2312"/>
              </a:rPr>
              <a:t>２、朗读课文，把握文章内容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Calibri"/>
                <a:ea typeface="楷体_GB2312"/>
              </a:rPr>
              <a:t>３、品味文章优美的抒情性语言、体会作者对大雁的喜爱之情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1a19"/>
                </a:solidFill>
                <a:latin typeface="Calibri"/>
                <a:ea typeface="楷体_GB2312"/>
              </a:rPr>
              <a:t>４、培养环保意识和人文关怀的精神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 flipV="1">
            <a:off x="468360" y="66726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华文隶书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8320" y="269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Calibri"/>
                <a:ea typeface="华文行楷"/>
              </a:rPr>
              <a:t>第一课时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华文行楷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58320" y="1596600"/>
            <a:ext cx="8077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1</a:t>
            </a: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了解作者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2</a:t>
            </a: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初步感知课文内容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3</a:t>
            </a: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疏通字词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52720" y="1125000"/>
            <a:ext cx="64072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a19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、他是享誉世界的美国著名的伦理学家，又是一个造诣极深的文学巨匠。</a:t>
            </a:r>
            <a:br>
              <a:rPr sz="3200"/>
            </a:b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、他还是一个有着国际威望的科学家和环境保护主义者。</a:t>
            </a:r>
            <a:br>
              <a:rPr sz="3200"/>
            </a:b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、他所写的</a:t>
            </a:r>
            <a:r>
              <a:rPr b="1" lang="en-US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沙乡年鉴</a:t>
            </a:r>
            <a:r>
              <a:rPr b="1" lang="en-US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是一本自然随笔和哲学论文集。在文章里，我们可以看到大自然的伟力，也可以看出作者对人类为自身利益蹂躏自然而发出的悲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8436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808360" y="0"/>
            <a:ext cx="5759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【作者作品简介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u=938633545,394127377&amp;gp=0"/>
          <p:cNvPicPr/>
          <p:nvPr/>
        </p:nvPicPr>
        <p:blipFill>
          <a:blip r:embed="rId1"/>
          <a:stretch/>
        </p:blipFill>
        <p:spPr>
          <a:xfrm>
            <a:off x="934920" y="3645000"/>
            <a:ext cx="1757520" cy="21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u=1444008514,1459316858&amp;gp=3"/>
          <p:cNvPicPr/>
          <p:nvPr/>
        </p:nvPicPr>
        <p:blipFill>
          <a:blip r:embed="rId2"/>
          <a:stretch/>
        </p:blipFill>
        <p:spPr>
          <a:xfrm>
            <a:off x="934920" y="1413000"/>
            <a:ext cx="17290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8960" y="189000"/>
            <a:ext cx="2614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Calibri"/>
                <a:ea typeface="华文行楷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9856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听读课文，标段序，划出生字词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交流听读感受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3</a:t>
            </a: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朗读课文，划出介绍大雁知识的语句和优美生动的语句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008000"/>
                </a:solidFill>
                <a:latin typeface="华文行楷"/>
                <a:ea typeface="华文行楷"/>
              </a:rPr>
              <a:t>、理清课文脉络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03240" y="691920"/>
            <a:ext cx="77724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速浏览课文，理清文章脉络</a:t>
            </a:r>
            <a:r>
              <a:rPr b="0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雁归来的情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雁归来的日常生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赞美大雁的迁徙给人类带来了生机和情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684360" y="1916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685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华文隶书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162864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a19"/>
                </a:solidFill>
                <a:latin typeface="Calibri"/>
              </a:rPr>
              <a:t>         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1a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迁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徙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)         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雾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霭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 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窥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) 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探        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缄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 ) 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狩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 )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猎        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凋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 ) 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零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滑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翔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  )        </a:t>
            </a:r>
            <a:r>
              <a:rPr b="1" lang="zh-CN" sz="3200" spc="-1" strike="noStrike">
                <a:solidFill>
                  <a:srgbClr val="001a19"/>
                </a:solidFill>
                <a:latin typeface="Calibri"/>
              </a:rPr>
              <a:t>顾</a:t>
            </a:r>
            <a:r>
              <a:rPr b="1" lang="zh-CN" sz="3200" spc="-1" strike="noStrike" u="sng">
                <a:solidFill>
                  <a:srgbClr val="001a19"/>
                </a:solidFill>
                <a:uFillTx/>
                <a:latin typeface="Calibri"/>
              </a:rPr>
              <a:t>忌 </a:t>
            </a:r>
            <a:r>
              <a:rPr b="1" lang="en-US" sz="3200" spc="-1" strike="noStrike">
                <a:solidFill>
                  <a:srgbClr val="001a19"/>
                </a:solidFill>
                <a:latin typeface="Calibri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1a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476360" y="3500280"/>
            <a:ext cx="107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ku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050920" y="2781360"/>
            <a:ext cx="107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859280" y="29242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356000" y="3500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j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547640" y="414972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hò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4356000" y="4149720"/>
            <a:ext cx="122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692360" y="4653000"/>
            <a:ext cx="143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iá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932360" y="47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95280" y="692280"/>
            <a:ext cx="7921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达标训练</a:t>
            </a: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1a19"/>
                </a:solidFill>
                <a:latin typeface="Arial"/>
              </a:rPr>
              <a:t>给下列带下画线的字注音</a:t>
            </a: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0840" y="333360"/>
            <a:ext cx="7654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第二课时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3720" y="1412640"/>
            <a:ext cx="854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品味文章优美的抒情性语言、体会作者对大雁的喜爱之情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培养环保意识和人文关怀的精神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2:57:58Z</dcterms:created>
  <dc:creator>Micro</dc:creator>
  <dc:description/>
  <dc:language>en-US</dc:language>
  <cp:lastModifiedBy>wxsw</cp:lastModifiedBy>
  <dcterms:modified xsi:type="dcterms:W3CDTF">2012-10-23T01:32:50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1000000000001024120</vt:lpwstr>
  </property>
  <property fmtid="{D5CDD505-2E9C-101B-9397-08002B2CF9AE}" pid="3" name="Version">
    <vt:r8>2</vt:r8>
  </property>
</Properties>
</file>