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wmf" ContentType="image/x-wmf"/>
  <Override PartName="/ppt/media/image22.wmf" ContentType="image/x-wmf"/>
  <Override PartName="/ppt/media/image21.gif" ContentType="image/gif"/>
  <Override PartName="/ppt/media/image14.png" ContentType="image/png"/>
  <Override PartName="/ppt/media/image10.jpeg" ContentType="image/jpeg"/>
  <Override PartName="/ppt/media/image19.gif" ContentType="image/gif"/>
  <Override PartName="/ppt/media/image18.png" ContentType="image/png"/>
  <Override PartName="/ppt/media/image6.jpeg" ContentType="image/jpeg"/>
  <Override PartName="/ppt/media/image17.gif" ContentType="image/gif"/>
  <Override PartName="/ppt/media/image16.gif" ContentType="image/gif"/>
  <Override PartName="/ppt/media/image4.wmf" ContentType="image/x-wmf"/>
  <Override PartName="/ppt/media/image25.wmf" ContentType="image/x-wmf"/>
  <Override PartName="/ppt/media/image15.jpeg" ContentType="image/jpeg"/>
  <Override PartName="/ppt/media/image23.wmf" ContentType="image/x-wmf"/>
  <Override PartName="/ppt/media/image40.png" ContentType="image/png"/>
  <Override PartName="/ppt/media/image9.jpeg" ContentType="image/jpeg"/>
  <Override PartName="/ppt/media/image11.png" ContentType="image/png"/>
  <Override PartName="/ppt/media/image31.png" ContentType="image/png"/>
  <Override PartName="/ppt/media/image29.wmf" ContentType="image/x-wmf"/>
  <Override PartName="/ppt/media/image12.jpeg" ContentType="image/jpeg"/>
  <Override PartName="/ppt/media/image32.png" ContentType="image/png"/>
  <Override PartName="/ppt/media/image38.jpeg" ContentType="image/jpeg"/>
  <Override PartName="/ppt/media/image41.png" ContentType="image/png"/>
  <Override PartName="/ppt/media/image42.jpeg" ContentType="image/jpeg"/>
  <Override PartName="/ppt/media/image43.jpeg" ContentType="image/jpeg"/>
  <Override PartName="/ppt/media/image44.gif" ContentType="image/gif"/>
  <Override PartName="/ppt/media/image7.png" ContentType="image/png"/>
  <Override PartName="/ppt/media/image34.jpeg" ContentType="image/jpeg"/>
  <Override PartName="/ppt/media/image1.jpeg" ContentType="image/jpeg"/>
  <Override PartName="/ppt/media/image35.jpeg" ContentType="image/jpeg"/>
  <Override PartName="/ppt/media/image37.jpeg" ContentType="image/jpeg"/>
  <Override PartName="/ppt/media/image30.png" ContentType="image/png"/>
  <Override PartName="/ppt/media/image28.wmf" ContentType="image/x-wmf"/>
  <Override PartName="/ppt/media/image8.jpeg" ContentType="image/jpeg"/>
  <Override PartName="/ppt/media/image39.jpeg" ContentType="image/jpeg"/>
  <Override PartName="/ppt/media/image5.jpeg" ContentType="image/jpeg"/>
  <Override PartName="/ppt/media/image20.wmf" ContentType="image/x-wmf"/>
  <Override PartName="/ppt/media/image13.jpeg" ContentType="image/jpeg"/>
  <Override PartName="/ppt/media/image3.wmf" ContentType="image/x-wmf"/>
  <Override PartName="/ppt/media/image26.wmf" ContentType="image/x-wmf"/>
  <Override PartName="/ppt/media/image36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6AF1-116C-46A6-8F78-6A2460C2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8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32D7-2C67-4BBC-A944-7531A305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8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C0A2-B51C-4848-BFDD-BF7D8D7D6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8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02E5-EA37-43EC-983E-97068FEFE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B6DB-F33E-4D3B-917B-06DA75E4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8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E998-602D-4CD6-800F-DE965B1C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58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A79A-AFA7-4CEF-BB3A-5CF1A546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58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3680-559B-4836-AA56-CB8DD305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8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FBB0-4816-4F91-B057-3E281A8F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45864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371D-1EE2-4E03-ADB7-2D605293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8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8918-2DCA-4FD7-A110-2118AF5D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8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24DC-5E23-46D9-BFEA-D211F1AF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8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BD1D-CF52-4656-89BD-3BA9FE11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8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3E76-F895-4B22-99CE-2AB32CB2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8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39E9-5EC4-46D3-90B0-49126EB4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8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5DF4-6F21-4AA3-9CE8-6C6BD826D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8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6782-2F85-457B-9D33-E145C32B0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8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7DB1-B360-44AE-B70D-F77E8EED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8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5DB0-E1EF-454F-A0B4-EA5D2DED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8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A324-7D15-4172-8E6F-AE090918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864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EFEF-C433-45CB-B482-60396D7B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8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2CFB-FD26-40D6-B1F5-953214D7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8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D9CE-AE2D-441A-866B-FED3CEC6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8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2BFB-1915-4D2F-A166-CEFCAF57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58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C0FC-5E0E-4BD3-A152-A044B949C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B42D-8804-4AD4-A796-4F5A20984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hyperlink" Target="C:\Documents and Settings\TEACH\&#26700;&#38754;\&#21487;&#35265;&#19979;&#36733;\&#21890;&#65292;&#20986;&#26469;\3.swf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8.png"/><Relationship Id="rId6" Type="http://schemas.openxmlformats.org/officeDocument/2006/relationships/image" Target="../media/image19.gif"/><Relationship Id="rId7" Type="http://schemas.openxmlformats.org/officeDocument/2006/relationships/image" Target="../media/image20.wmf"/><Relationship Id="rId8" Type="http://schemas.openxmlformats.org/officeDocument/2006/relationships/image" Target="../media/image21.gif"/><Relationship Id="rId9" Type="http://schemas.openxmlformats.org/officeDocument/2006/relationships/image" Target="../media/image22.wmf"/><Relationship Id="rId10" Type="http://schemas.openxmlformats.org/officeDocument/2006/relationships/image" Target="../media/image23.wmf"/><Relationship Id="rId11" Type="http://schemas.openxmlformats.org/officeDocument/2006/relationships/image" Target="../media/image16.gif"/><Relationship Id="rId12" Type="http://schemas.openxmlformats.org/officeDocument/2006/relationships/image" Target="../media/image24.wmf"/><Relationship Id="rId13" Type="http://schemas.openxmlformats.org/officeDocument/2006/relationships/image" Target="../media/image25.wmf"/><Relationship Id="rId14" Type="http://schemas.openxmlformats.org/officeDocument/2006/relationships/image" Target="../media/image26.wmf"/><Relationship Id="rId15" Type="http://schemas.openxmlformats.org/officeDocument/2006/relationships/image" Target="../media/image20.wmf"/><Relationship Id="rId16" Type="http://schemas.openxmlformats.org/officeDocument/2006/relationships/image" Target="../media/image24.wmf"/><Relationship Id="rId17" Type="http://schemas.openxmlformats.org/officeDocument/2006/relationships/image" Target="../media/image24.wmf"/><Relationship Id="rId18" Type="http://schemas.openxmlformats.org/officeDocument/2006/relationships/image" Target="../media/image24.wmf"/><Relationship Id="rId1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29.wmf"/><Relationship Id="rId6" Type="http://schemas.openxmlformats.org/officeDocument/2006/relationships/image" Target="../media/image29.wmf"/><Relationship Id="rId7" Type="http://schemas.openxmlformats.org/officeDocument/2006/relationships/image" Target="../media/image29.wmf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195640" y="765000"/>
            <a:ext cx="5327640" cy="25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喂—出来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 rot="20793600">
            <a:off x="615960" y="3860280"/>
            <a:ext cx="3092400" cy="2100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148360" y="4724280"/>
            <a:ext cx="293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0033"/>
                </a:solidFill>
                <a:latin typeface="Arial"/>
                <a:ea typeface="华文新魏"/>
              </a:rPr>
              <a:t>星新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9640" y="2708280"/>
            <a:ext cx="2376720" cy="1441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2852640"/>
            <a:ext cx="10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华文新魏"/>
              </a:rPr>
              <a:t>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43280" y="981000"/>
            <a:ext cx="1800360" cy="719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2421000"/>
            <a:ext cx="201600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43280" y="3933720"/>
            <a:ext cx="187200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16360" y="5300640"/>
            <a:ext cx="180036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058920" y="2924280"/>
            <a:ext cx="1152360" cy="50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2556000" y="4436640"/>
            <a:ext cx="1800000" cy="7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08720" y="1844640"/>
            <a:ext cx="0" cy="50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626920" y="1700280"/>
            <a:ext cx="1297080" cy="1008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3131640" y="3716280"/>
            <a:ext cx="129708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08720" y="3213000"/>
            <a:ext cx="0" cy="549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50920" y="119700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华文行楷"/>
              </a:rPr>
              <a:t>开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03640" y="2349360"/>
            <a:ext cx="131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华文行楷"/>
              </a:rPr>
              <a:t>发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32000" y="3933720"/>
            <a:ext cx="160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华文行楷"/>
              </a:rPr>
              <a:t>高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95640" y="530064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华文行楷"/>
              </a:rPr>
              <a:t>结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80000" y="4797360"/>
            <a:ext cx="0" cy="549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90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91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92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35053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9880" y="35053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-65160"/>
            <a:ext cx="9144000" cy="6923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8172360" y="6453360"/>
            <a:ext cx="971640" cy="38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ff"/>
                </a:solidFill>
                <a:latin typeface="Arial"/>
                <a:ea typeface="黑体"/>
              </a:rPr>
              <a:t>喂—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3"/>
              </a:rPr>
              <a:t>3.swf</a:t>
            </a:r>
            <a:r>
              <a:rPr b="1" lang="zh-CN" sz="800" spc="-1" strike="noStrike">
                <a:solidFill>
                  <a:srgbClr val="0000ff"/>
                </a:solidFill>
                <a:latin typeface="Arial"/>
                <a:ea typeface="黑体"/>
              </a:rPr>
              <a:t>出来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  <a:ea typeface="黑体"/>
              </a:rPr>
              <a:t>\</a:t>
            </a:r>
            <a:r>
              <a:rPr b="1" lang="zh-CN" sz="800" spc="-1" strike="noStrike">
                <a:solidFill>
                  <a:srgbClr val="0000ff"/>
                </a:solidFill>
                <a:latin typeface="Arial"/>
                <a:ea typeface="黑体"/>
              </a:rPr>
              <a:t>喂出来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  <a:ea typeface="黑体"/>
              </a:rPr>
              <a:t>\3.sw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26920" y="3645000"/>
            <a:ext cx="3097440" cy="252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500720" y="5013360"/>
            <a:ext cx="1368360" cy="1844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5364000" y="3645000"/>
            <a:ext cx="936720" cy="1368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5435640" y="4365720"/>
            <a:ext cx="41760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4859280" y="3429000"/>
            <a:ext cx="792360" cy="1584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7"/>
          <a:stretch/>
        </p:blipFill>
        <p:spPr>
          <a:xfrm>
            <a:off x="5651640" y="4437000"/>
            <a:ext cx="1871640" cy="2052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8"/>
          <a:stretch/>
        </p:blipFill>
        <p:spPr>
          <a:xfrm>
            <a:off x="468360" y="2565360"/>
            <a:ext cx="863640" cy="1611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9"/>
          <a:stretch/>
        </p:blipFill>
        <p:spPr>
          <a:xfrm>
            <a:off x="1116000" y="2565360"/>
            <a:ext cx="1368360" cy="13446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0"/>
          <a:stretch/>
        </p:blipFill>
        <p:spPr>
          <a:xfrm>
            <a:off x="2411280" y="2421000"/>
            <a:ext cx="2521080" cy="1584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1"/>
          <a:stretch/>
        </p:blipFill>
        <p:spPr>
          <a:xfrm>
            <a:off x="5435640" y="2852640"/>
            <a:ext cx="628560" cy="1224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2"/>
          <a:stretch/>
        </p:blipFill>
        <p:spPr>
          <a:xfrm>
            <a:off x="5724360" y="2924280"/>
            <a:ext cx="863640" cy="1116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3"/>
          <a:stretch/>
        </p:blipFill>
        <p:spPr>
          <a:xfrm>
            <a:off x="6227640" y="3500280"/>
            <a:ext cx="1440000" cy="1584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4"/>
          <a:stretch/>
        </p:blipFill>
        <p:spPr>
          <a:xfrm>
            <a:off x="0" y="2997360"/>
            <a:ext cx="826920" cy="15634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187280" y="4005360"/>
            <a:ext cx="3600720" cy="25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5"/>
          <a:stretch/>
        </p:blipFill>
        <p:spPr>
          <a:xfrm>
            <a:off x="0" y="4805280"/>
            <a:ext cx="1547640" cy="2052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6"/>
          <a:stretch/>
        </p:blipFill>
        <p:spPr>
          <a:xfrm>
            <a:off x="3851280" y="5950080"/>
            <a:ext cx="1081080" cy="907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7"/>
          <a:stretch/>
        </p:blipFill>
        <p:spPr>
          <a:xfrm>
            <a:off x="1042920" y="5877000"/>
            <a:ext cx="649440" cy="981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8"/>
          <a:stretch/>
        </p:blipFill>
        <p:spPr>
          <a:xfrm>
            <a:off x="4356000" y="3716280"/>
            <a:ext cx="792360" cy="828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826920" y="3573360"/>
            <a:ext cx="3240360" cy="2808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4343400" y="3789360"/>
            <a:ext cx="1752480" cy="863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4356000" y="5719680"/>
            <a:ext cx="1752840" cy="7336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4356000" y="4797360"/>
            <a:ext cx="1752840" cy="792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6156360" y="5445000"/>
            <a:ext cx="1584360" cy="8226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7"/>
          <a:stretch/>
        </p:blipFill>
        <p:spPr>
          <a:xfrm>
            <a:off x="7812000" y="4952880"/>
            <a:ext cx="1542960" cy="781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8"/>
          <a:stretch/>
        </p:blipFill>
        <p:spPr>
          <a:xfrm>
            <a:off x="6168960" y="4437000"/>
            <a:ext cx="1571760" cy="792360"/>
          </a:xfrm>
          <a:prstGeom prst="rect">
            <a:avLst/>
          </a:prstGeom>
          <a:ln w="0">
            <a:noFill/>
          </a:ln>
        </p:spPr>
      </p:pic>
      <p:sp>
        <p:nvSpPr>
          <p:cNvPr id="176" name="未知"/>
          <p:cNvSpPr/>
          <p:nvPr/>
        </p:nvSpPr>
        <p:spPr>
          <a:xfrm>
            <a:off x="3124080" y="1430280"/>
            <a:ext cx="1828800" cy="2684520"/>
          </a:xfrm>
          <a:custGeom>
            <a:avLst/>
            <a:gdLst/>
            <a:ahLst/>
            <a:rect l="l" t="t" r="r" b="b"/>
            <a:pathLst>
              <a:path w="1152" h="1691">
                <a:moveTo>
                  <a:pt x="1152" y="1691"/>
                </a:moveTo>
                <a:cubicBezTo>
                  <a:pt x="1021" y="1447"/>
                  <a:pt x="555" y="448"/>
                  <a:pt x="363" y="224"/>
                </a:cubicBezTo>
                <a:cubicBezTo>
                  <a:pt x="171" y="0"/>
                  <a:pt x="76" y="322"/>
                  <a:pt x="0" y="34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1614600"/>
            <a:ext cx="198108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小石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未知"/>
          <p:cNvSpPr/>
          <p:nvPr/>
        </p:nvSpPr>
        <p:spPr>
          <a:xfrm>
            <a:off x="2527200" y="2057400"/>
            <a:ext cx="596880" cy="3033720"/>
          </a:xfrm>
          <a:custGeom>
            <a:avLst/>
            <a:gdLst/>
            <a:ahLst/>
            <a:rect l="l" t="t" r="r" b="b"/>
            <a:pathLst>
              <a:path w="376" h="1911">
                <a:moveTo>
                  <a:pt x="376" y="0"/>
                </a:moveTo>
                <a:cubicBezTo>
                  <a:pt x="344" y="21"/>
                  <a:pt x="324" y="41"/>
                  <a:pt x="303" y="73"/>
                </a:cubicBezTo>
                <a:cubicBezTo>
                  <a:pt x="285" y="129"/>
                  <a:pt x="270" y="189"/>
                  <a:pt x="239" y="238"/>
                </a:cubicBezTo>
                <a:cubicBezTo>
                  <a:pt x="203" y="381"/>
                  <a:pt x="165" y="524"/>
                  <a:pt x="129" y="667"/>
                </a:cubicBezTo>
                <a:cubicBezTo>
                  <a:pt x="121" y="733"/>
                  <a:pt x="107" y="795"/>
                  <a:pt x="92" y="859"/>
                </a:cubicBezTo>
                <a:cubicBezTo>
                  <a:pt x="89" y="871"/>
                  <a:pt x="86" y="884"/>
                  <a:pt x="83" y="896"/>
                </a:cubicBezTo>
                <a:cubicBezTo>
                  <a:pt x="80" y="908"/>
                  <a:pt x="74" y="933"/>
                  <a:pt x="74" y="933"/>
                </a:cubicBezTo>
                <a:cubicBezTo>
                  <a:pt x="56" y="1110"/>
                  <a:pt x="32" y="1286"/>
                  <a:pt x="10" y="1463"/>
                </a:cubicBezTo>
                <a:cubicBezTo>
                  <a:pt x="0" y="1844"/>
                  <a:pt x="1" y="1694"/>
                  <a:pt x="1" y="1911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未知"/>
          <p:cNvSpPr/>
          <p:nvPr/>
        </p:nvSpPr>
        <p:spPr>
          <a:xfrm>
            <a:off x="3276720" y="1582560"/>
            <a:ext cx="1828800" cy="2684520"/>
          </a:xfrm>
          <a:custGeom>
            <a:avLst/>
            <a:gdLst/>
            <a:ahLst/>
            <a:rect l="l" t="t" r="r" b="b"/>
            <a:pathLst>
              <a:path w="1152" h="1691">
                <a:moveTo>
                  <a:pt x="1152" y="1691"/>
                </a:moveTo>
                <a:cubicBezTo>
                  <a:pt x="1021" y="1447"/>
                  <a:pt x="555" y="448"/>
                  <a:pt x="363" y="224"/>
                </a:cubicBezTo>
                <a:cubicBezTo>
                  <a:pt x="171" y="0"/>
                  <a:pt x="76" y="322"/>
                  <a:pt x="0" y="34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未知"/>
          <p:cNvSpPr/>
          <p:nvPr/>
        </p:nvSpPr>
        <p:spPr>
          <a:xfrm>
            <a:off x="2679840" y="2209680"/>
            <a:ext cx="596880" cy="3033720"/>
          </a:xfrm>
          <a:custGeom>
            <a:avLst/>
            <a:gdLst/>
            <a:ahLst/>
            <a:rect l="l" t="t" r="r" b="b"/>
            <a:pathLst>
              <a:path w="376" h="1911">
                <a:moveTo>
                  <a:pt x="376" y="0"/>
                </a:moveTo>
                <a:cubicBezTo>
                  <a:pt x="344" y="21"/>
                  <a:pt x="324" y="41"/>
                  <a:pt x="303" y="73"/>
                </a:cubicBezTo>
                <a:cubicBezTo>
                  <a:pt x="285" y="129"/>
                  <a:pt x="270" y="189"/>
                  <a:pt x="239" y="238"/>
                </a:cubicBezTo>
                <a:cubicBezTo>
                  <a:pt x="203" y="381"/>
                  <a:pt x="165" y="524"/>
                  <a:pt x="129" y="667"/>
                </a:cubicBezTo>
                <a:cubicBezTo>
                  <a:pt x="121" y="733"/>
                  <a:pt x="107" y="795"/>
                  <a:pt x="92" y="859"/>
                </a:cubicBezTo>
                <a:cubicBezTo>
                  <a:pt x="89" y="871"/>
                  <a:pt x="86" y="884"/>
                  <a:pt x="83" y="896"/>
                </a:cubicBezTo>
                <a:cubicBezTo>
                  <a:pt x="80" y="908"/>
                  <a:pt x="74" y="933"/>
                  <a:pt x="74" y="933"/>
                </a:cubicBezTo>
                <a:cubicBezTo>
                  <a:pt x="56" y="1110"/>
                  <a:pt x="32" y="1286"/>
                  <a:pt x="10" y="1463"/>
                </a:cubicBezTo>
                <a:cubicBezTo>
                  <a:pt x="0" y="1844"/>
                  <a:pt x="1" y="1694"/>
                  <a:pt x="1" y="1911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57400" y="1752480"/>
            <a:ext cx="25146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原子能反应堆的废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3429000" y="2344680"/>
            <a:ext cx="1828800" cy="2684520"/>
          </a:xfrm>
          <a:custGeom>
            <a:avLst/>
            <a:gdLst/>
            <a:ahLst/>
            <a:rect l="l" t="t" r="r" b="b"/>
            <a:pathLst>
              <a:path w="1152" h="1691">
                <a:moveTo>
                  <a:pt x="1152" y="1691"/>
                </a:moveTo>
                <a:cubicBezTo>
                  <a:pt x="1021" y="1447"/>
                  <a:pt x="555" y="448"/>
                  <a:pt x="363" y="224"/>
                </a:cubicBezTo>
                <a:cubicBezTo>
                  <a:pt x="171" y="0"/>
                  <a:pt x="76" y="322"/>
                  <a:pt x="0" y="34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590920"/>
            <a:ext cx="20574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机密文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未知"/>
          <p:cNvSpPr/>
          <p:nvPr/>
        </p:nvSpPr>
        <p:spPr>
          <a:xfrm>
            <a:off x="2819520" y="2909880"/>
            <a:ext cx="609480" cy="2728800"/>
          </a:xfrm>
          <a:custGeom>
            <a:avLst/>
            <a:gdLst/>
            <a:ahLst/>
            <a:rect l="l" t="t" r="r" b="b"/>
            <a:pathLst>
              <a:path w="376" h="1911">
                <a:moveTo>
                  <a:pt x="376" y="0"/>
                </a:moveTo>
                <a:cubicBezTo>
                  <a:pt x="344" y="21"/>
                  <a:pt x="324" y="41"/>
                  <a:pt x="303" y="73"/>
                </a:cubicBezTo>
                <a:cubicBezTo>
                  <a:pt x="285" y="129"/>
                  <a:pt x="270" y="189"/>
                  <a:pt x="239" y="238"/>
                </a:cubicBezTo>
                <a:cubicBezTo>
                  <a:pt x="203" y="381"/>
                  <a:pt x="165" y="524"/>
                  <a:pt x="129" y="667"/>
                </a:cubicBezTo>
                <a:cubicBezTo>
                  <a:pt x="121" y="733"/>
                  <a:pt x="107" y="795"/>
                  <a:pt x="92" y="859"/>
                </a:cubicBezTo>
                <a:cubicBezTo>
                  <a:pt x="89" y="871"/>
                  <a:pt x="86" y="884"/>
                  <a:pt x="83" y="896"/>
                </a:cubicBezTo>
                <a:cubicBezTo>
                  <a:pt x="80" y="908"/>
                  <a:pt x="74" y="933"/>
                  <a:pt x="74" y="933"/>
                </a:cubicBezTo>
                <a:cubicBezTo>
                  <a:pt x="56" y="1110"/>
                  <a:pt x="32" y="1286"/>
                  <a:pt x="10" y="1463"/>
                </a:cubicBezTo>
                <a:cubicBezTo>
                  <a:pt x="0" y="1844"/>
                  <a:pt x="1" y="1694"/>
                  <a:pt x="1" y="1911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未知"/>
          <p:cNvSpPr/>
          <p:nvPr/>
        </p:nvSpPr>
        <p:spPr>
          <a:xfrm>
            <a:off x="3505320" y="2496960"/>
            <a:ext cx="1828800" cy="2684520"/>
          </a:xfrm>
          <a:custGeom>
            <a:avLst/>
            <a:gdLst/>
            <a:ahLst/>
            <a:rect l="l" t="t" r="r" b="b"/>
            <a:pathLst>
              <a:path w="1152" h="1691">
                <a:moveTo>
                  <a:pt x="1152" y="1691"/>
                </a:moveTo>
                <a:cubicBezTo>
                  <a:pt x="1021" y="1447"/>
                  <a:pt x="555" y="448"/>
                  <a:pt x="363" y="224"/>
                </a:cubicBezTo>
                <a:cubicBezTo>
                  <a:pt x="171" y="0"/>
                  <a:pt x="76" y="322"/>
                  <a:pt x="0" y="34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2895480"/>
            <a:ext cx="13716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尸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未知"/>
          <p:cNvSpPr/>
          <p:nvPr/>
        </p:nvSpPr>
        <p:spPr>
          <a:xfrm>
            <a:off x="2895480" y="3138480"/>
            <a:ext cx="609840" cy="2728800"/>
          </a:xfrm>
          <a:custGeom>
            <a:avLst/>
            <a:gdLst/>
            <a:ahLst/>
            <a:rect l="l" t="t" r="r" b="b"/>
            <a:pathLst>
              <a:path w="376" h="1911">
                <a:moveTo>
                  <a:pt x="376" y="0"/>
                </a:moveTo>
                <a:cubicBezTo>
                  <a:pt x="344" y="21"/>
                  <a:pt x="324" y="41"/>
                  <a:pt x="303" y="73"/>
                </a:cubicBezTo>
                <a:cubicBezTo>
                  <a:pt x="285" y="129"/>
                  <a:pt x="270" y="189"/>
                  <a:pt x="239" y="238"/>
                </a:cubicBezTo>
                <a:cubicBezTo>
                  <a:pt x="203" y="381"/>
                  <a:pt x="165" y="524"/>
                  <a:pt x="129" y="667"/>
                </a:cubicBezTo>
                <a:cubicBezTo>
                  <a:pt x="121" y="733"/>
                  <a:pt x="107" y="795"/>
                  <a:pt x="92" y="859"/>
                </a:cubicBezTo>
                <a:cubicBezTo>
                  <a:pt x="89" y="871"/>
                  <a:pt x="86" y="884"/>
                  <a:pt x="83" y="896"/>
                </a:cubicBezTo>
                <a:cubicBezTo>
                  <a:pt x="80" y="908"/>
                  <a:pt x="74" y="933"/>
                  <a:pt x="74" y="933"/>
                </a:cubicBezTo>
                <a:cubicBezTo>
                  <a:pt x="56" y="1110"/>
                  <a:pt x="32" y="1286"/>
                  <a:pt x="10" y="1463"/>
                </a:cubicBezTo>
                <a:cubicBezTo>
                  <a:pt x="0" y="1844"/>
                  <a:pt x="1" y="1694"/>
                  <a:pt x="1" y="1911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未知"/>
          <p:cNvSpPr/>
          <p:nvPr/>
        </p:nvSpPr>
        <p:spPr>
          <a:xfrm>
            <a:off x="3657600" y="3200400"/>
            <a:ext cx="1828800" cy="2684520"/>
          </a:xfrm>
          <a:custGeom>
            <a:avLst/>
            <a:gdLst/>
            <a:ahLst/>
            <a:rect l="l" t="t" r="r" b="b"/>
            <a:pathLst>
              <a:path w="1152" h="1691">
                <a:moveTo>
                  <a:pt x="1152" y="1691"/>
                </a:moveTo>
                <a:cubicBezTo>
                  <a:pt x="1021" y="1447"/>
                  <a:pt x="555" y="448"/>
                  <a:pt x="363" y="224"/>
                </a:cubicBezTo>
                <a:cubicBezTo>
                  <a:pt x="171" y="0"/>
                  <a:pt x="76" y="322"/>
                  <a:pt x="0" y="34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57400" y="2895480"/>
            <a:ext cx="30909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废物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`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污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未知"/>
          <p:cNvSpPr/>
          <p:nvPr/>
        </p:nvSpPr>
        <p:spPr>
          <a:xfrm>
            <a:off x="2438280" y="3505320"/>
            <a:ext cx="762120" cy="1828800"/>
          </a:xfrm>
          <a:custGeom>
            <a:avLst/>
            <a:gdLst/>
            <a:ahLst/>
            <a:rect l="l" t="t" r="r" b="b"/>
            <a:pathLst>
              <a:path w="376" h="1911">
                <a:moveTo>
                  <a:pt x="376" y="0"/>
                </a:moveTo>
                <a:cubicBezTo>
                  <a:pt x="344" y="21"/>
                  <a:pt x="324" y="41"/>
                  <a:pt x="303" y="73"/>
                </a:cubicBezTo>
                <a:cubicBezTo>
                  <a:pt x="285" y="129"/>
                  <a:pt x="270" y="189"/>
                  <a:pt x="239" y="238"/>
                </a:cubicBezTo>
                <a:cubicBezTo>
                  <a:pt x="203" y="381"/>
                  <a:pt x="165" y="524"/>
                  <a:pt x="129" y="667"/>
                </a:cubicBezTo>
                <a:cubicBezTo>
                  <a:pt x="121" y="733"/>
                  <a:pt x="107" y="795"/>
                  <a:pt x="92" y="859"/>
                </a:cubicBezTo>
                <a:cubicBezTo>
                  <a:pt x="89" y="871"/>
                  <a:pt x="86" y="884"/>
                  <a:pt x="83" y="896"/>
                </a:cubicBezTo>
                <a:cubicBezTo>
                  <a:pt x="80" y="908"/>
                  <a:pt x="74" y="933"/>
                  <a:pt x="74" y="933"/>
                </a:cubicBezTo>
                <a:cubicBezTo>
                  <a:pt x="56" y="1110"/>
                  <a:pt x="32" y="1286"/>
                  <a:pt x="10" y="1463"/>
                </a:cubicBezTo>
                <a:cubicBezTo>
                  <a:pt x="0" y="1844"/>
                  <a:pt x="1" y="1694"/>
                  <a:pt x="1" y="1911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未知"/>
          <p:cNvSpPr/>
          <p:nvPr/>
        </p:nvSpPr>
        <p:spPr>
          <a:xfrm>
            <a:off x="3657600" y="3352680"/>
            <a:ext cx="1828800" cy="2684520"/>
          </a:xfrm>
          <a:custGeom>
            <a:avLst/>
            <a:gdLst/>
            <a:ahLst/>
            <a:rect l="l" t="t" r="r" b="b"/>
            <a:pathLst>
              <a:path w="1152" h="1691">
                <a:moveTo>
                  <a:pt x="1152" y="1691"/>
                </a:moveTo>
                <a:cubicBezTo>
                  <a:pt x="1021" y="1447"/>
                  <a:pt x="555" y="448"/>
                  <a:pt x="363" y="224"/>
                </a:cubicBezTo>
                <a:cubicBezTo>
                  <a:pt x="171" y="0"/>
                  <a:pt x="76" y="322"/>
                  <a:pt x="0" y="34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2438280"/>
            <a:ext cx="213372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日记本、照片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未知"/>
          <p:cNvSpPr/>
          <p:nvPr/>
        </p:nvSpPr>
        <p:spPr>
          <a:xfrm>
            <a:off x="1981080" y="3429000"/>
            <a:ext cx="1143000" cy="2209680"/>
          </a:xfrm>
          <a:custGeom>
            <a:avLst/>
            <a:gdLst/>
            <a:ahLst/>
            <a:rect l="l" t="t" r="r" b="b"/>
            <a:pathLst>
              <a:path w="376" h="1911">
                <a:moveTo>
                  <a:pt x="376" y="0"/>
                </a:moveTo>
                <a:cubicBezTo>
                  <a:pt x="344" y="21"/>
                  <a:pt x="324" y="41"/>
                  <a:pt x="303" y="73"/>
                </a:cubicBezTo>
                <a:cubicBezTo>
                  <a:pt x="285" y="129"/>
                  <a:pt x="270" y="189"/>
                  <a:pt x="239" y="238"/>
                </a:cubicBezTo>
                <a:cubicBezTo>
                  <a:pt x="203" y="381"/>
                  <a:pt x="165" y="524"/>
                  <a:pt x="129" y="667"/>
                </a:cubicBezTo>
                <a:cubicBezTo>
                  <a:pt x="121" y="733"/>
                  <a:pt x="107" y="795"/>
                  <a:pt x="92" y="859"/>
                </a:cubicBezTo>
                <a:cubicBezTo>
                  <a:pt x="89" y="871"/>
                  <a:pt x="86" y="884"/>
                  <a:pt x="83" y="896"/>
                </a:cubicBezTo>
                <a:cubicBezTo>
                  <a:pt x="80" y="908"/>
                  <a:pt x="74" y="933"/>
                  <a:pt x="74" y="933"/>
                </a:cubicBezTo>
                <a:cubicBezTo>
                  <a:pt x="56" y="1110"/>
                  <a:pt x="32" y="1286"/>
                  <a:pt x="10" y="1463"/>
                </a:cubicBezTo>
                <a:cubicBezTo>
                  <a:pt x="0" y="1844"/>
                  <a:pt x="1" y="1694"/>
                  <a:pt x="1" y="1911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未知"/>
          <p:cNvSpPr/>
          <p:nvPr/>
        </p:nvSpPr>
        <p:spPr>
          <a:xfrm>
            <a:off x="3733920" y="1752480"/>
            <a:ext cx="3352680" cy="3141720"/>
          </a:xfrm>
          <a:custGeom>
            <a:avLst/>
            <a:gdLst/>
            <a:ahLst/>
            <a:rect l="l" t="t" r="r" b="b"/>
            <a:pathLst>
              <a:path w="2352" h="2114">
                <a:moveTo>
                  <a:pt x="2352" y="2114"/>
                </a:moveTo>
                <a:cubicBezTo>
                  <a:pt x="2199" y="1887"/>
                  <a:pt x="1827" y="1102"/>
                  <a:pt x="1435" y="750"/>
                </a:cubicBezTo>
                <a:cubicBezTo>
                  <a:pt x="1043" y="398"/>
                  <a:pt x="299" y="156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09680" y="1157400"/>
            <a:ext cx="19814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假钞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未知"/>
          <p:cNvSpPr/>
          <p:nvPr/>
        </p:nvSpPr>
        <p:spPr>
          <a:xfrm>
            <a:off x="1523880" y="1752480"/>
            <a:ext cx="1371600" cy="3657600"/>
          </a:xfrm>
          <a:custGeom>
            <a:avLst/>
            <a:gdLst/>
            <a:ahLst/>
            <a:rect l="l" t="t" r="r" b="b"/>
            <a:pathLst>
              <a:path w="1096" h="2276">
                <a:moveTo>
                  <a:pt x="1096" y="0"/>
                </a:moveTo>
                <a:cubicBezTo>
                  <a:pt x="1035" y="15"/>
                  <a:pt x="505" y="443"/>
                  <a:pt x="465" y="466"/>
                </a:cubicBezTo>
                <a:cubicBezTo>
                  <a:pt x="431" y="507"/>
                  <a:pt x="360" y="678"/>
                  <a:pt x="301" y="713"/>
                </a:cubicBezTo>
                <a:cubicBezTo>
                  <a:pt x="232" y="818"/>
                  <a:pt x="168" y="938"/>
                  <a:pt x="99" y="1042"/>
                </a:cubicBezTo>
                <a:cubicBezTo>
                  <a:pt x="84" y="1090"/>
                  <a:pt x="55" y="1151"/>
                  <a:pt x="26" y="1198"/>
                </a:cubicBezTo>
                <a:cubicBezTo>
                  <a:pt x="20" y="1206"/>
                  <a:pt x="41" y="1253"/>
                  <a:pt x="35" y="1262"/>
                </a:cubicBezTo>
                <a:cubicBezTo>
                  <a:pt x="29" y="1270"/>
                  <a:pt x="35" y="1344"/>
                  <a:pt x="35" y="1344"/>
                </a:cubicBezTo>
                <a:cubicBezTo>
                  <a:pt x="0" y="1473"/>
                  <a:pt x="68" y="1517"/>
                  <a:pt x="26" y="1646"/>
                </a:cubicBezTo>
                <a:cubicBezTo>
                  <a:pt x="7" y="1923"/>
                  <a:pt x="209" y="2118"/>
                  <a:pt x="209" y="2276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未知"/>
          <p:cNvSpPr/>
          <p:nvPr/>
        </p:nvSpPr>
        <p:spPr>
          <a:xfrm>
            <a:off x="3352680" y="2209680"/>
            <a:ext cx="3733920" cy="3505320"/>
          </a:xfrm>
          <a:custGeom>
            <a:avLst/>
            <a:gdLst/>
            <a:ahLst/>
            <a:rect l="l" t="t" r="r" b="b"/>
            <a:pathLst>
              <a:path w="2352" h="2114">
                <a:moveTo>
                  <a:pt x="2352" y="2114"/>
                </a:moveTo>
                <a:cubicBezTo>
                  <a:pt x="2199" y="1887"/>
                  <a:pt x="1827" y="1102"/>
                  <a:pt x="1435" y="750"/>
                </a:cubicBezTo>
                <a:cubicBezTo>
                  <a:pt x="1043" y="398"/>
                  <a:pt x="299" y="156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33720" y="1919160"/>
            <a:ext cx="2286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犯罪证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未知"/>
          <p:cNvSpPr/>
          <p:nvPr/>
        </p:nvSpPr>
        <p:spPr>
          <a:xfrm>
            <a:off x="1765440" y="2362320"/>
            <a:ext cx="901440" cy="3124080"/>
          </a:xfrm>
          <a:custGeom>
            <a:avLst/>
            <a:gdLst/>
            <a:ahLst/>
            <a:rect l="l" t="t" r="r" b="b"/>
            <a:pathLst>
              <a:path w="1096" h="2276">
                <a:moveTo>
                  <a:pt x="1096" y="0"/>
                </a:moveTo>
                <a:cubicBezTo>
                  <a:pt x="1035" y="15"/>
                  <a:pt x="505" y="443"/>
                  <a:pt x="465" y="466"/>
                </a:cubicBezTo>
                <a:cubicBezTo>
                  <a:pt x="431" y="507"/>
                  <a:pt x="360" y="678"/>
                  <a:pt x="301" y="713"/>
                </a:cubicBezTo>
                <a:cubicBezTo>
                  <a:pt x="232" y="818"/>
                  <a:pt x="168" y="938"/>
                  <a:pt x="99" y="1042"/>
                </a:cubicBezTo>
                <a:cubicBezTo>
                  <a:pt x="84" y="1090"/>
                  <a:pt x="55" y="1151"/>
                  <a:pt x="26" y="1198"/>
                </a:cubicBezTo>
                <a:cubicBezTo>
                  <a:pt x="20" y="1206"/>
                  <a:pt x="41" y="1253"/>
                  <a:pt x="35" y="1262"/>
                </a:cubicBezTo>
                <a:cubicBezTo>
                  <a:pt x="29" y="1270"/>
                  <a:pt x="35" y="1344"/>
                  <a:pt x="35" y="1344"/>
                </a:cubicBezTo>
                <a:cubicBezTo>
                  <a:pt x="0" y="1473"/>
                  <a:pt x="68" y="1517"/>
                  <a:pt x="26" y="1646"/>
                </a:cubicBezTo>
                <a:cubicBezTo>
                  <a:pt x="7" y="1923"/>
                  <a:pt x="209" y="2118"/>
                  <a:pt x="209" y="2276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2438280" y="2120760"/>
            <a:ext cx="6172200" cy="3517920"/>
          </a:xfrm>
          <a:custGeom>
            <a:avLst/>
            <a:gdLst/>
            <a:ahLst/>
            <a:rect l="l" t="t" r="r" b="b"/>
            <a:pathLst>
              <a:path w="3888" h="2216">
                <a:moveTo>
                  <a:pt x="3888" y="2168"/>
                </a:moveTo>
                <a:cubicBezTo>
                  <a:pt x="3036" y="1084"/>
                  <a:pt x="2184" y="0"/>
                  <a:pt x="1536" y="8"/>
                </a:cubicBezTo>
                <a:cubicBezTo>
                  <a:pt x="888" y="16"/>
                  <a:pt x="256" y="1848"/>
                  <a:pt x="0" y="221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000"/>
                            </p:stCondLst>
                            <p:childTnLst>
                              <p:par>
                                <p:cTn id="31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826920" y="3645000"/>
            <a:ext cx="2881440" cy="252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239000" y="5217120"/>
            <a:ext cx="2037600" cy="1299960"/>
            <a:chOff x="4239000" y="5217120"/>
            <a:chExt cx="2037600" cy="1299960"/>
          </a:xfrm>
        </p:grpSpPr>
        <p:grpSp>
          <p:nvGrpSpPr>
            <p:cNvPr id="204" name=""/>
            <p:cNvGrpSpPr/>
            <p:nvPr/>
          </p:nvGrpSpPr>
          <p:grpSpPr>
            <a:xfrm>
              <a:off x="4239000" y="5217120"/>
              <a:ext cx="2037600" cy="1299960"/>
              <a:chOff x="4239000" y="5217120"/>
              <a:chExt cx="2037600" cy="1299960"/>
            </a:xfrm>
          </p:grpSpPr>
          <p:sp>
            <p:nvSpPr>
              <p:cNvPr id="205" name=""/>
              <p:cNvSpPr/>
              <p:nvPr/>
            </p:nvSpPr>
            <p:spPr>
              <a:xfrm rot="15330600">
                <a:off x="4597200" y="5117040"/>
                <a:ext cx="914400" cy="1447920"/>
              </a:xfrm>
              <a:prstGeom prst="flowChartMultidocumen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5330600">
                <a:off x="5004000" y="5169240"/>
                <a:ext cx="914400" cy="1447920"/>
              </a:xfrm>
              <a:prstGeom prst="flowChartMultidocumen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4876920" y="579132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犯罪证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3733920" y="167652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喂！出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238880" y="5791320"/>
            <a:ext cx="1371600" cy="990360"/>
            <a:chOff x="7238880" y="5791320"/>
            <a:chExt cx="1371600" cy="990360"/>
          </a:xfrm>
        </p:grpSpPr>
        <p:sp>
          <p:nvSpPr>
            <p:cNvPr id="210" name=""/>
            <p:cNvSpPr/>
            <p:nvPr/>
          </p:nvSpPr>
          <p:spPr>
            <a:xfrm>
              <a:off x="7238880" y="5791320"/>
              <a:ext cx="1295280" cy="990360"/>
            </a:xfrm>
            <a:custGeom>
              <a:avLst/>
              <a:gdLst>
                <a:gd name="textAreaLeft" fmla="*/ 249480 w 1295280"/>
                <a:gd name="textAreaRight" fmla="*/ 1045800 w 1295280"/>
                <a:gd name="textAreaTop" fmla="*/ 249480 h 990360"/>
                <a:gd name="textAreaBottom" fmla="*/ 740880 h 990360"/>
              </a:gdLst>
              <a:ahLst/>
              <a:rect l="textAreaLeft" t="textAreaTop" r="textAreaRight" b="textAreaBottom"/>
              <a:pathLst>
                <a:path w="28248" h="21600">
                  <a:moveTo>
                    <a:pt x="7700" y="0"/>
                  </a:moveTo>
                  <a:arcTo wR="7700" hR="7700" stAng="0" swAng="5400000"/>
                  <a:lnTo>
                    <a:pt x="0" y="13900"/>
                  </a:lnTo>
                  <a:arcTo wR="7700" hR="7700" stAng="16200000" swAng="5400000"/>
                  <a:lnTo>
                    <a:pt x="20548" y="21600"/>
                  </a:lnTo>
                  <a:arcTo wR="7700" hR="7700" stAng="10800000" swAng="5400000"/>
                  <a:lnTo>
                    <a:pt x="28248" y="7700"/>
                  </a:lnTo>
                  <a:arcTo wR="7700" hR="7700" stAng="5400000" swAng="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238880" y="60195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Times New Roman"/>
                </a:rPr>
                <a:t>石头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286000" y="1600200"/>
            <a:ext cx="1143000" cy="30481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048120"/>
              <a:gd name="textAreaBottom" fmla="*/ 304848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412" stAng="10800000" swAng="5400000"/>
                <a:lnTo>
                  <a:pt x="16039" y="4748"/>
                </a:lnTo>
                <a:lnTo>
                  <a:pt x="16039" y="0"/>
                </a:lnTo>
                <a:lnTo>
                  <a:pt x="21600" y="6079"/>
                </a:lnTo>
                <a:lnTo>
                  <a:pt x="16039" y="12158"/>
                </a:lnTo>
                <a:lnTo>
                  <a:pt x="16039" y="7410"/>
                </a:lnTo>
                <a:lnTo>
                  <a:pt x="12427" y="7410"/>
                </a:lnTo>
                <a:arcTo wR="9765" hR="4750" stAng="16200000" swAng="-5400000"/>
                <a:lnTo>
                  <a:pt x="2662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664240" y="4849920"/>
            <a:ext cx="2241000" cy="1760040"/>
            <a:chOff x="5664240" y="4849920"/>
            <a:chExt cx="2241000" cy="1760040"/>
          </a:xfrm>
        </p:grpSpPr>
        <p:sp>
          <p:nvSpPr>
            <p:cNvPr id="214" name=""/>
            <p:cNvSpPr/>
            <p:nvPr/>
          </p:nvSpPr>
          <p:spPr>
            <a:xfrm rot="20209800">
              <a:off x="5793840" y="5196240"/>
              <a:ext cx="1981080" cy="1066680"/>
            </a:xfrm>
            <a:prstGeom prst="irregularSeal2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20209800">
              <a:off x="5963040" y="53586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00"/>
                  </a:solidFill>
                  <a:latin typeface="Times New Roman"/>
                </a:rPr>
                <a:t>原子能反应堆的废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7623360" y="4648320"/>
            <a:ext cx="1063440" cy="1295280"/>
            <a:chOff x="7623360" y="4648320"/>
            <a:chExt cx="1063440" cy="1295280"/>
          </a:xfrm>
        </p:grpSpPr>
        <p:sp>
          <p:nvSpPr>
            <p:cNvPr id="217" name=""/>
            <p:cNvSpPr/>
            <p:nvPr/>
          </p:nvSpPr>
          <p:spPr>
            <a:xfrm>
              <a:off x="7696080" y="4648320"/>
              <a:ext cx="990720" cy="1219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23360" y="4724640"/>
              <a:ext cx="79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机密文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5064840" y="3581280"/>
            <a:ext cx="2331360" cy="1749960"/>
            <a:chOff x="5064840" y="3581280"/>
            <a:chExt cx="2331360" cy="1749960"/>
          </a:xfrm>
        </p:grpSpPr>
        <p:grpSp>
          <p:nvGrpSpPr>
            <p:cNvPr id="220" name=""/>
            <p:cNvGrpSpPr/>
            <p:nvPr/>
          </p:nvGrpSpPr>
          <p:grpSpPr>
            <a:xfrm>
              <a:off x="6240600" y="3657600"/>
              <a:ext cx="1079640" cy="1600200"/>
              <a:chOff x="6240600" y="3657600"/>
              <a:chExt cx="1079640" cy="1600200"/>
            </a:xfrm>
          </p:grpSpPr>
          <p:sp>
            <p:nvSpPr>
              <p:cNvPr id="221" name=""/>
              <p:cNvSpPr/>
              <p:nvPr/>
            </p:nvSpPr>
            <p:spPr>
              <a:xfrm>
                <a:off x="6240600" y="3657600"/>
                <a:ext cx="990720" cy="16002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240600" y="3733920"/>
                <a:ext cx="1079640" cy="1523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3" name=""/>
            <p:cNvGrpSpPr/>
            <p:nvPr/>
          </p:nvGrpSpPr>
          <p:grpSpPr>
            <a:xfrm>
              <a:off x="5064840" y="3790440"/>
              <a:ext cx="1219320" cy="1540800"/>
              <a:chOff x="5064840" y="3790440"/>
              <a:chExt cx="1219320" cy="1540800"/>
            </a:xfrm>
          </p:grpSpPr>
          <p:sp>
            <p:nvSpPr>
              <p:cNvPr id="224" name=""/>
              <p:cNvSpPr/>
              <p:nvPr/>
            </p:nvSpPr>
            <p:spPr>
              <a:xfrm rot="5250000">
                <a:off x="5062680" y="4080240"/>
                <a:ext cx="1460520" cy="919080"/>
              </a:xfrm>
              <a:prstGeom prst="flowChartProcess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21259200">
                <a:off x="5122440" y="4063680"/>
                <a:ext cx="103356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日记本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6253200" y="35812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Times New Roman"/>
                </a:rPr>
                <a:t>照    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7010280" y="1828800"/>
            <a:ext cx="2057400" cy="2881440"/>
            <a:chOff x="7010280" y="1828800"/>
            <a:chExt cx="2057400" cy="2881440"/>
          </a:xfrm>
        </p:grpSpPr>
        <p:grpSp>
          <p:nvGrpSpPr>
            <p:cNvPr id="228" name=""/>
            <p:cNvGrpSpPr/>
            <p:nvPr/>
          </p:nvGrpSpPr>
          <p:grpSpPr>
            <a:xfrm>
              <a:off x="7010280" y="1828800"/>
              <a:ext cx="2057400" cy="2881440"/>
              <a:chOff x="7010280" y="1828800"/>
              <a:chExt cx="2057400" cy="2881440"/>
            </a:xfrm>
          </p:grpSpPr>
          <p:pic>
            <p:nvPicPr>
              <p:cNvPr id="22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493040" y="3048120"/>
                <a:ext cx="1574640" cy="1662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30" name=""/>
              <p:cNvGrpSpPr/>
              <p:nvPr/>
            </p:nvGrpSpPr>
            <p:grpSpPr>
              <a:xfrm>
                <a:off x="7010280" y="1828800"/>
                <a:ext cx="1879560" cy="2286000"/>
                <a:chOff x="7010280" y="1828800"/>
                <a:chExt cx="1879560" cy="2286000"/>
              </a:xfrm>
            </p:grpSpPr>
            <p:pic>
              <p:nvPicPr>
                <p:cNvPr id="23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010280" y="1828800"/>
                  <a:ext cx="1574640" cy="166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162560" y="1981080"/>
                  <a:ext cx="1575000" cy="166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315200" y="2133720"/>
                  <a:ext cx="1574640" cy="166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162560" y="2452680"/>
                  <a:ext cx="1575000" cy="1662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35" name=""/>
            <p:cNvSpPr/>
            <p:nvPr/>
          </p:nvSpPr>
          <p:spPr>
            <a:xfrm>
              <a:off x="7471080" y="2514600"/>
              <a:ext cx="790200" cy="9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假钞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未知"/>
          <p:cNvSpPr/>
          <p:nvPr/>
        </p:nvSpPr>
        <p:spPr>
          <a:xfrm>
            <a:off x="2438280" y="1019160"/>
            <a:ext cx="5334120" cy="5305320"/>
          </a:xfrm>
          <a:custGeom>
            <a:avLst/>
            <a:gdLst/>
            <a:ahLst/>
            <a:rect l="l" t="t" r="r" b="b"/>
            <a:pathLst>
              <a:path w="3168" h="3054">
                <a:moveTo>
                  <a:pt x="0" y="2190"/>
                </a:moveTo>
                <a:cubicBezTo>
                  <a:pt x="297" y="1849"/>
                  <a:pt x="1255" y="0"/>
                  <a:pt x="1783" y="144"/>
                </a:cubicBezTo>
                <a:cubicBezTo>
                  <a:pt x="2311" y="288"/>
                  <a:pt x="2880" y="2448"/>
                  <a:pt x="3168" y="305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未知"/>
          <p:cNvSpPr/>
          <p:nvPr/>
        </p:nvSpPr>
        <p:spPr>
          <a:xfrm>
            <a:off x="2351160" y="380880"/>
            <a:ext cx="4583160" cy="5135760"/>
          </a:xfrm>
          <a:custGeom>
            <a:avLst/>
            <a:gdLst/>
            <a:ahLst/>
            <a:rect l="l" t="t" r="r" b="b"/>
            <a:pathLst>
              <a:path w="2887" h="3235">
                <a:moveTo>
                  <a:pt x="0" y="2929"/>
                </a:moveTo>
                <a:cubicBezTo>
                  <a:pt x="236" y="2451"/>
                  <a:pt x="937" y="0"/>
                  <a:pt x="1418" y="51"/>
                </a:cubicBezTo>
                <a:cubicBezTo>
                  <a:pt x="1899" y="102"/>
                  <a:pt x="2582" y="2572"/>
                  <a:pt x="2887" y="323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未知"/>
          <p:cNvSpPr/>
          <p:nvPr/>
        </p:nvSpPr>
        <p:spPr>
          <a:xfrm>
            <a:off x="2819520" y="351000"/>
            <a:ext cx="5181480" cy="4906800"/>
          </a:xfrm>
          <a:custGeom>
            <a:avLst/>
            <a:gdLst/>
            <a:ahLst/>
            <a:rect l="l" t="t" r="r" b="b"/>
            <a:pathLst>
              <a:path w="2887" h="3235">
                <a:moveTo>
                  <a:pt x="0" y="2929"/>
                </a:moveTo>
                <a:cubicBezTo>
                  <a:pt x="236" y="2451"/>
                  <a:pt x="937" y="0"/>
                  <a:pt x="1418" y="51"/>
                </a:cubicBezTo>
                <a:cubicBezTo>
                  <a:pt x="1899" y="102"/>
                  <a:pt x="2582" y="2572"/>
                  <a:pt x="2887" y="323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未知"/>
          <p:cNvSpPr/>
          <p:nvPr/>
        </p:nvSpPr>
        <p:spPr>
          <a:xfrm>
            <a:off x="2452680" y="304920"/>
            <a:ext cx="4176720" cy="4949640"/>
          </a:xfrm>
          <a:custGeom>
            <a:avLst/>
            <a:gdLst/>
            <a:ahLst/>
            <a:rect l="l" t="t" r="r" b="b"/>
            <a:pathLst>
              <a:path w="2631" h="3745">
                <a:moveTo>
                  <a:pt x="0" y="3745"/>
                </a:moveTo>
                <a:cubicBezTo>
                  <a:pt x="162" y="3139"/>
                  <a:pt x="532" y="200"/>
                  <a:pt x="970" y="100"/>
                </a:cubicBezTo>
                <a:cubicBezTo>
                  <a:pt x="1408" y="0"/>
                  <a:pt x="2286" y="2509"/>
                  <a:pt x="2631" y="314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未知"/>
          <p:cNvSpPr/>
          <p:nvPr/>
        </p:nvSpPr>
        <p:spPr>
          <a:xfrm>
            <a:off x="2666880" y="0"/>
            <a:ext cx="5319720" cy="4876920"/>
          </a:xfrm>
          <a:custGeom>
            <a:avLst/>
            <a:gdLst/>
            <a:ahLst/>
            <a:rect l="l" t="t" r="r" b="b"/>
            <a:pathLst>
              <a:path w="2631" h="3745">
                <a:moveTo>
                  <a:pt x="0" y="3745"/>
                </a:moveTo>
                <a:cubicBezTo>
                  <a:pt x="162" y="3139"/>
                  <a:pt x="532" y="200"/>
                  <a:pt x="970" y="100"/>
                </a:cubicBezTo>
                <a:cubicBezTo>
                  <a:pt x="1408" y="0"/>
                  <a:pt x="2286" y="2509"/>
                  <a:pt x="2631" y="314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未知"/>
          <p:cNvSpPr/>
          <p:nvPr/>
        </p:nvSpPr>
        <p:spPr>
          <a:xfrm>
            <a:off x="1981080" y="1117440"/>
            <a:ext cx="3273480" cy="4600800"/>
          </a:xfrm>
          <a:custGeom>
            <a:avLst/>
            <a:gdLst/>
            <a:ahLst/>
            <a:rect l="l" t="t" r="r" b="b"/>
            <a:pathLst>
              <a:path w="2062" h="2898">
                <a:moveTo>
                  <a:pt x="0" y="2656"/>
                </a:moveTo>
                <a:cubicBezTo>
                  <a:pt x="124" y="2221"/>
                  <a:pt x="399" y="0"/>
                  <a:pt x="743" y="40"/>
                </a:cubicBezTo>
                <a:cubicBezTo>
                  <a:pt x="1087" y="80"/>
                  <a:pt x="1787" y="2303"/>
                  <a:pt x="2062" y="289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152280"/>
            <a:ext cx="3809880" cy="76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洞真的无底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905120" y="914400"/>
            <a:ext cx="5486400" cy="76428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接下来会出现什么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87280" y="1628640"/>
            <a:ext cx="74170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个故事真实吗？这样的洞真的存在吗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4360" y="3789360"/>
            <a:ext cx="78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是虚构的幻想的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。不会有这样的无底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990720" y="692280"/>
            <a:ext cx="8153280" cy="8316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6026040" y="4508640"/>
            <a:ext cx="5616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但有生活的真实性。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332000" y="404640"/>
            <a:ext cx="3456000" cy="86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2232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华文行楷"/>
              </a:rPr>
              <a:t>深入探究</a:t>
            </a:r>
            <a:endParaRPr b="1" lang="en-US" sz="5400" spc="1" strike="noStrike">
              <a:ln w="2232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blinds dir="vert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233080" y="5516640"/>
            <a:ext cx="4569840" cy="114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人们毫不顾忌地向天空中排放废气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天空就象“无底洞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431640" y="6222960"/>
            <a:ext cx="871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Verdana"/>
                <a:ea typeface="黑体"/>
              </a:rPr>
              <a:t>随意向河水中排放生活废水，河水就象“无底洞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24000" y="580536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黑体"/>
              </a:rPr>
              <a:t>森林被无度地砍伐，森林就象“无底洞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514080"/>
            <a:ext cx="6553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隶书"/>
              </a:rPr>
              <a:t>科幻小说知多少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91600" y="18288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什么是科幻小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1640" y="48704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部科幻小说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66480" y="56386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科幻小说之父是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59080" y="198108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用幻想的形式，表现人类在未来世界的物质精神文化生活和科学技术远景，其内容交织着科学事实和预见、想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64880" y="501336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玛丽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雪莱的《弗兰肯斯坦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56386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法国作家凡尔纳（代表作《海底两万里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267680" y="76320"/>
            <a:ext cx="1724040" cy="1752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180080" y="37101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科幻小说三要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29080" y="3573360"/>
            <a:ext cx="242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科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幻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、小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94080"/>
            <a:ext cx="3887640" cy="1150920"/>
          </a:xfrm>
          <a:prstGeom prst="wedgeRoundRectCallout">
            <a:avLst>
              <a:gd name="adj1" fmla="val 101773"/>
              <a:gd name="adj2" fmla="val 14643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、构思新颖奇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二、情节相对完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三、结尾出人意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0833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220320" cy="69152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524880" cy="70866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955960" y="5877000"/>
            <a:ext cx="310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人们毫不顾忌地乱扔垃圾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大地就象“无底洞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in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108000" y="1773000"/>
            <a:ext cx="8362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有人说，到处都有垃圾，又不是我一个人丢的，我一个人不丢，环境也干净不了多少。你认为这个想法对吗？为什么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92360" y="4149720"/>
            <a:ext cx="61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环境保护，从我做起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457200" y="458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685440" y="1841400"/>
            <a:ext cx="3809880" cy="42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“喂－出来”奇怪的叫声之后，一块小小石头也飞回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47960" y="1841400"/>
            <a:ext cx="3809880" cy="42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现实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洪灾、干旱、沙尘暴、湖面干涸、全球气温升高等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05480" y="776160"/>
            <a:ext cx="4807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这深不可测的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最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给社会环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　带来了些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576360" y="5857200"/>
            <a:ext cx="8567640" cy="63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中国已是仅次于欧洲和北美的第三大酸雨区。 酸雨造成大量的植物死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rcRect l="10243" t="0" r="12586" b="17615"/>
          <a:stretch/>
        </p:blipFill>
        <p:spPr>
          <a:xfrm>
            <a:off x="0" y="-22320"/>
            <a:ext cx="9144000" cy="55850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5492880" y="189000"/>
            <a:ext cx="3651120" cy="764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大自然的惩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684360" y="44280"/>
            <a:ext cx="3651120" cy="764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大自然的惩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8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从这篇小说中你得到了那些启示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 种瓜得瓜，种豆得豆。破坏大自然必遭报应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 只有积极治理环境，世界才会真正美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 保护生态环境，需要的是长远的目光，不能只顾一时，不顾长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一切破坏环境的举动，到头来都将危害人类自己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不顾环境污染，漠视环境污染，总有一天人们将会遭到大自然的报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小说主旨的研读探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6120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提出了人类与自身生存环境的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揭示了人性的多面性和复杂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阐释了人对大自然的破坏总要遭到大自然的惩罚这一道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还有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804000" y="4076640"/>
            <a:ext cx="2016000" cy="1150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你认同哪个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6659640" y="5013360"/>
            <a:ext cx="2276280" cy="135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767412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阅读小说的结局部分，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     思考本文结尾的特点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95640" y="2951280"/>
            <a:ext cx="1511280" cy="288720"/>
          </a:xfrm>
          <a:prstGeom prst="rightArrow">
            <a:avLst>
              <a:gd name="adj1" fmla="val 40657"/>
              <a:gd name="adj2" fmla="val 132096"/>
            </a:avLst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22760" y="2260440"/>
            <a:ext cx="216000" cy="1656000"/>
          </a:xfrm>
          <a:custGeom>
            <a:avLst/>
            <a:gdLst>
              <a:gd name="textAreaLeft" fmla="*/ 0 w 216000"/>
              <a:gd name="textAreaRight" fmla="*/ 78120 w 21600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80000" y="2101680"/>
            <a:ext cx="216000" cy="201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51280" y="4797360"/>
            <a:ext cx="2808360" cy="7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出人意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211640" y="4076640"/>
            <a:ext cx="1800360" cy="7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含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48040" y="5486400"/>
            <a:ext cx="2811600" cy="7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引人深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59840" y="2031840"/>
            <a:ext cx="1400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越来越美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533600" y="3570120"/>
            <a:ext cx="29671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黑体"/>
              </a:rPr>
              <a:t>陶醉在其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867280" y="2030400"/>
            <a:ext cx="45720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“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出来”                                                       小石头从天而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00720" y="3141720"/>
            <a:ext cx="2448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黑体"/>
              </a:rPr>
              <a:t>浑然不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227640" y="3789360"/>
            <a:ext cx="2019600" cy="63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危机将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55640" y="1916280"/>
            <a:ext cx="1101600" cy="67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城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71080" y="3483000"/>
            <a:ext cx="424440" cy="67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黑体"/>
              </a:rPr>
              <a:t>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258920" y="404640"/>
            <a:ext cx="6553080" cy="916920"/>
          </a:xfrm>
          <a:prstGeom prst="rect">
            <a:avLst/>
          </a:prstGeom>
          <a:noFill/>
          <a:ln w="0">
            <a:noFill/>
          </a:ln>
          <a:effectLst>
            <a:outerShdw dist="52300" dir="2076356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Verdana"/>
                <a:ea typeface="华文新魏"/>
              </a:rPr>
              <a:t>关于小说和微型小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55840" y="1647720"/>
            <a:ext cx="38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小说三要素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47640" y="2421000"/>
            <a:ext cx="5040360" cy="5205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人物、环境、情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31360" y="321300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小说情节的四部分组成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03280" y="4005360"/>
            <a:ext cx="5348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开端、发展、高潮、结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83640" y="47242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小说根据篇幅长短分为几种类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6000" y="5445000"/>
            <a:ext cx="7740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长篇小说、中篇小说、短篇小说和微型小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77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770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826920" y="1844640"/>
            <a:ext cx="7921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微型小说常常</a:t>
            </a:r>
            <a:r>
              <a:rPr b="1" lang="zh-CN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戏剧性</a:t>
            </a:r>
            <a:r>
              <a:rPr b="1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地设计情节，埋下伏笔，作好铺垫，勾勒矛盾，最后在结尾处出现一个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华文细黑"/>
                <a:ea typeface="华文细黑"/>
              </a:rPr>
              <a:t>既在意料之外，又在情理之中</a:t>
            </a:r>
            <a:r>
              <a:rPr b="1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的结局，使读者感到豁然开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455840" y="390600"/>
            <a:ext cx="62118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Verdana"/>
                <a:ea typeface="黑体"/>
              </a:rPr>
              <a:t>微型小说的结尾特点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705040" y="404640"/>
            <a:ext cx="4295520" cy="9169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Verdana"/>
                <a:ea typeface="华文新魏"/>
              </a:rPr>
              <a:t>微型小说的三个特点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965680" y="309888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Verdana"/>
                <a:ea typeface="华文新魏"/>
              </a:rPr>
              <a:t>情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63640" y="3284640"/>
            <a:ext cx="719280" cy="6490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76080" y="306864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Verdana"/>
                <a:ea typeface="华文新魏"/>
              </a:rPr>
              <a:t>相对完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212640" y="33577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Verdana"/>
                <a:ea typeface="华文新魏"/>
              </a:rPr>
              <a:t>构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588480" y="206064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华文新魏"/>
              </a:rPr>
              <a:t>情节相对完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08000" y="2205000"/>
            <a:ext cx="57636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08000" y="3500280"/>
            <a:ext cx="57636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705040" y="404640"/>
            <a:ext cx="4295520" cy="9169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Verdana"/>
                <a:ea typeface="华文新魏"/>
              </a:rPr>
              <a:t>微型小说的三个特点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804920" y="33577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Verdana"/>
                <a:ea typeface="华文新魏"/>
              </a:rPr>
              <a:t>新颖奇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372480" y="206064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华文新魏"/>
              </a:rPr>
              <a:t>构思新颖奇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443760" y="328464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华文新魏"/>
              </a:rPr>
              <a:t>情节相对完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96640" y="45799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Verdana"/>
                <a:ea typeface="华文新魏"/>
              </a:rPr>
              <a:t>结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908000" y="2205000"/>
            <a:ext cx="57636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908000" y="3427560"/>
            <a:ext cx="576360" cy="5760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979640" y="4651200"/>
            <a:ext cx="57636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705040" y="404640"/>
            <a:ext cx="4295520" cy="9169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Verdana"/>
                <a:ea typeface="华文新魏"/>
              </a:rPr>
              <a:t>微型小说的三个特点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401720" y="455292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Verdana"/>
                <a:ea typeface="华文新魏"/>
              </a:rPr>
              <a:t>出人意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971640" y="1989000"/>
            <a:ext cx="7632720" cy="17575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作者通过微型小说的形式，通过相对完整的情节、新颖奇特的构思和出乎意料的结尾，使人们自然关注人类生活与自然环境的关系， 意识到环境保护的重要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03640" y="260280"/>
            <a:ext cx="28083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Verdana"/>
                <a:ea typeface="方正舒体"/>
              </a:rPr>
              <a:t>总 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16000" y="2133720"/>
            <a:ext cx="7416720" cy="424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细黑"/>
                <a:ea typeface="华文细黑"/>
              </a:rPr>
              <a:t>阅读星新一的微型小说《无微不至》、《宣传时代》，体会微型小说的特点。请针对本节所学，对本文的情节、构思和结尾的特点作一评价，写一篇读书笔记</a:t>
            </a:r>
            <a:r>
              <a:rPr b="1" lang="zh-CN" sz="4400" spc="-1" strike="noStrike">
                <a:solidFill>
                  <a:srgbClr val="ffffff"/>
                </a:solidFill>
                <a:latin typeface="华文细黑"/>
                <a:ea typeface="华文细黑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627280" y="260280"/>
            <a:ext cx="439272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Verdana"/>
                <a:ea typeface="方正舒体"/>
              </a:rPr>
              <a:t>拓展延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92360" y="260280"/>
            <a:ext cx="7272360" cy="24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333399"/>
                </a:solidFill>
                <a:latin typeface="华文行楷"/>
                <a:ea typeface="华文行楷"/>
              </a:rPr>
              <a:t>星新一</a:t>
            </a:r>
            <a:r>
              <a:rPr b="1" lang="en-US" sz="4400" spc="-1" strike="noStrike">
                <a:solidFill>
                  <a:srgbClr val="333399"/>
                </a:solidFill>
                <a:latin typeface="华文行楷"/>
                <a:ea typeface="华文行楷"/>
              </a:rPr>
              <a:t>(1926-199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堪称曰本科幻界的一个奇才。以</a:t>
            </a:r>
            <a:r>
              <a:rPr b="1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1000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多篇精巧别致、富于哲思的超短篇小说响誉世界，被称为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日本微型小说鼻祖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星新一的作品庞杂，除科幻小说外，还写有大量推理小说、幽默小说、散文和随笔。</a:t>
            </a:r>
            <a:r>
              <a:rPr b="1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1976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他荣获曰本推理小说家协会大奖。在科幻方面，代表作有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《恶魔天国》（短篇集）、《人造美人》（短篇集）、《声网》（长篇）和《梦魔的标靶》（长篇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 rot="5400000">
            <a:off x="-1168560" y="2833560"/>
            <a:ext cx="4724640" cy="1019160"/>
          </a:xfrm>
          <a:prstGeom prst="rect">
            <a:avLst/>
          </a:prstGeom>
        </p:spPr>
        <p:txBody>
          <a:bodyPr wrap="none" fromWordArt="1" lIns="90000" rIns="90000" tIns="46800" bIns="46800" anchor="t" anchorCtr="1" vert="eaVert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宋体"/>
              </a:rPr>
              <a:t>作者简介</a:t>
            </a:r>
            <a:endParaRPr b="0" lang="en-US" sz="8000" spc="-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宋体"/>
              <a:ea typeface="宋体"/>
            </a:endParaRPr>
          </a:p>
        </p:txBody>
      </p:sp>
    </p:spTree>
  </p:cSld>
  <p:transition>
    <p:dissolv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03280" y="54936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根据所学的知识判断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16000" y="1773360"/>
            <a:ext cx="76168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《喂——出来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这篇课文属于什么文体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47640" y="4149720"/>
            <a:ext cx="45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华文新魏"/>
              </a:rPr>
              <a:t>微型科幻小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00000" y="1125360"/>
            <a:ext cx="8291520" cy="55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哂笑（</a:t>
            </a:r>
            <a:r>
              <a:rPr b="1" lang="en-US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 ） 拍板（              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牟取（</a:t>
            </a:r>
            <a:r>
              <a:rPr b="1" lang="en-US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黑咕隆咚（              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颤颤巍巍（                         ）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莫衷一是（                         ）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胸有成竹（                         ）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不容置疑（                         ）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慷慨大方（                         ）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一视同仁（                         ）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任劳任怨（              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340000" y="333360"/>
            <a:ext cx="453708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读一读，写一写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1268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hěn xià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56360" y="1341360"/>
            <a:ext cx="12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āi bǎn</a:t>
            </a: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0920" y="184464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óu q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27280" y="24210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hēi gū lōng dō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00360" y="2924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hàn chàn wēi wē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71640" y="3500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ò zhōng yí sh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27280" y="40053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xiōng yǒu chéng zhú</a:t>
            </a: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71640" y="45813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ù róng zhì y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00360" y="5084640"/>
            <a:ext cx="25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kāng kǎi dà fā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71640" y="5661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í shì tóng ré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00360" y="61657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rèn láo rèn yuà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533520" y="380880"/>
            <a:ext cx="312408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词语解释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1400040"/>
            <a:ext cx="8353440" cy="5031000"/>
          </a:xfrm>
          <a:prstGeom prst="rect">
            <a:avLst/>
          </a:prstGeom>
          <a:solidFill>
            <a:srgbClr val="bbe0e3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华文行楷"/>
                <a:ea typeface="华文行楷"/>
              </a:rPr>
              <a:t>哂笑：讥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华文行楷"/>
                <a:ea typeface="华文行楷"/>
              </a:rPr>
              <a:t>拍板：比喻主事人作出决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华文行楷"/>
                <a:ea typeface="华文行楷"/>
              </a:rPr>
              <a:t>牟取：谋取（名利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华文行楷"/>
                <a:ea typeface="华文行楷"/>
              </a:rPr>
              <a:t>黑咕隆咚：形容非常黑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华文行楷"/>
                <a:ea typeface="华文行楷"/>
              </a:rPr>
              <a:t>莫衷一是：不能得出一致的结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华文行楷"/>
                <a:ea typeface="华文行楷"/>
              </a:rPr>
              <a:t>不容置疑：不容许有什么怀疑，指真实可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华文行楷"/>
                <a:ea typeface="华文行楷"/>
              </a:rPr>
              <a:t>慷慨大方：不吝惜，很大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09480" y="990720"/>
            <a:ext cx="8001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华文行楷"/>
                <a:ea typeface="华文行楷"/>
              </a:rPr>
              <a:t>一视同仁：同样看待，不分厚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华文行楷"/>
                <a:ea typeface="华文行楷"/>
              </a:rPr>
              <a:t>任劳任怨：做事不辞劳苦，不怕别人埋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华文行楷"/>
                <a:ea typeface="华文行楷"/>
              </a:rPr>
              <a:t>众目睽睽：大家的眼睛都注视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华文行楷"/>
                <a:ea typeface="华文行楷"/>
              </a:rPr>
              <a:t>胸有成竹：画竹子时心里有一幅竹子的形象，比喻做事之前已经有通盘的考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58920" y="333360"/>
            <a:ext cx="5473800" cy="764280"/>
          </a:xfrm>
          <a:prstGeom prst="rect">
            <a:avLst/>
          </a:prstGeom>
          <a:solidFill>
            <a:srgbClr val="d31d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华文行楷"/>
                <a:ea typeface="华文行楷"/>
              </a:rPr>
              <a:t>理清结构</a:t>
            </a:r>
            <a:r>
              <a:rPr b="1" lang="en-US" sz="4400" spc="-1" strike="noStrike">
                <a:solidFill>
                  <a:srgbClr val="ffff00"/>
                </a:solidFill>
                <a:latin typeface="华文行楷"/>
                <a:ea typeface="华文行楷"/>
              </a:rPr>
              <a:t>,</a:t>
            </a:r>
            <a:r>
              <a:rPr b="1" lang="zh-CN" sz="4400" spc="-1" strike="noStrike">
                <a:solidFill>
                  <a:srgbClr val="ffff00"/>
                </a:solidFill>
                <a:latin typeface="华文行楷"/>
                <a:ea typeface="华文行楷"/>
              </a:rPr>
              <a:t>概括情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990720" y="620640"/>
            <a:ext cx="8153280" cy="68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042920" y="1989000"/>
            <a:ext cx="7561440" cy="697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根据故事情节的发展把文章分成四个部分，并且用简洁的语句概括这四部分所写的内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4005360"/>
            <a:ext cx="7561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0280" indent="-14302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华文新魏"/>
              </a:rPr>
              <a:t>提示：要注意到情节中时间、地点的转换以及标志情节发展的语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3:05:42Z</dcterms:created>
  <dc:creator>备课大师网——全免费！</dc:creator>
  <dc:description/>
  <dc:language>en-US</dc:language>
  <cp:lastModifiedBy>Legend User</cp:lastModifiedBy>
  <dcterms:modified xsi:type="dcterms:W3CDTF">2014-04-17T01:48:24Z</dcterms:modified>
  <cp:revision>0</cp:revision>
  <dc:subject/>
  <dc:title>备课大师网——全免费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</Properties>
</file>