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58E-997A-46B7-8ABA-07052C4F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B93-0E13-4223-A863-E68A7B15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BF9-83E0-4E3F-93EA-C8E8B963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0FA-1222-4839-9573-1F2CF719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9A6-39E2-44F0-BF37-7AE6EF58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F340-4BA1-4343-9E71-A12C6C8D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D07C-928F-4510-BB38-04839EDE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B473-2BEA-4B0C-BEA5-DFEF83FA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3F41-7648-4FBF-A8D8-5C0EC41A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B103-10B5-429F-A5AB-CB22FE18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C3C-283F-4A31-BE5A-589124F6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CD0A-613D-45B2-9BB5-22022CAB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DB21-0DE5-4C91-80A3-E8E8C9F4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7EC9-C137-4D2B-9A20-9676B220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2561-8BC0-4B52-A20C-5E34724B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EAB9-B95E-4F0A-B0F4-0C962F77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8A07-0A12-4ADD-9CD5-4B019A11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9AF7-57C2-4E49-A578-200A28B1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E08-89F4-44A4-970F-5DA4407D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5F5-67F5-424D-AD47-05E114D2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147-B22C-4C21-9971-E69FB789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D26-422F-44D7-8782-C4104AB1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38D-4C41-4C56-A040-B22C329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4CC-C0FF-4A89-BDC5-42EFAC3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AD92-C214-4CA6-87E1-3DF841227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0" y="-2232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0" y="1440"/>
            <a:ext cx="37148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标题.JPG"/>
          <p:cNvPicPr/>
          <p:nvPr/>
        </p:nvPicPr>
        <p:blipFill>
          <a:blip r:embed="rId6"/>
          <a:stretch/>
        </p:blipFill>
        <p:spPr>
          <a:xfrm>
            <a:off x="7623000" y="5423040"/>
            <a:ext cx="15210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C355-977A-460B-A96C-E6D9FECF2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马1"/>
          <p:cNvPicPr/>
          <p:nvPr/>
        </p:nvPicPr>
        <p:blipFill>
          <a:blip r:embed="rId1"/>
          <a:stretch/>
        </p:blipFill>
        <p:spPr>
          <a:xfrm>
            <a:off x="1728720" y="0"/>
            <a:ext cx="7415280" cy="5562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2133720" y="457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马     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52680" y="22860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韩  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9840" y="78552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3300"/>
              </a:solidFill>
              <a:latin typeface="Calibri"/>
              <a:ea typeface="宋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429000" y="3000240"/>
            <a:ext cx="4772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Georgia"/>
              <a:ea typeface="宋体"/>
            </a:endParaRPr>
          </a:p>
        </p:txBody>
      </p:sp>
    </p:spTree>
  </p:cSld>
  <p:transition spd="med" advTm="2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027"/>
          <p:cNvSpPr/>
          <p:nvPr/>
        </p:nvSpPr>
        <p:spPr>
          <a:xfrm>
            <a:off x="1976400" y="5335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——           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其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——                        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安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—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28" descr="马6"/>
          <p:cNvPicPr/>
          <p:nvPr/>
        </p:nvPicPr>
        <p:blipFill>
          <a:blip r:embed="rId1"/>
          <a:stretch/>
        </p:blipFill>
        <p:spPr>
          <a:xfrm>
            <a:off x="75708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29"/>
          <p:cNvSpPr/>
          <p:nvPr/>
        </p:nvSpPr>
        <p:spPr>
          <a:xfrm>
            <a:off x="909720" y="533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虚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30"/>
          <p:cNvSpPr/>
          <p:nvPr/>
        </p:nvSpPr>
        <p:spPr>
          <a:xfrm>
            <a:off x="3119400" y="533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31"/>
          <p:cNvSpPr/>
          <p:nvPr/>
        </p:nvSpPr>
        <p:spPr>
          <a:xfrm>
            <a:off x="5481720" y="5335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代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千里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32"/>
          <p:cNvSpPr/>
          <p:nvPr/>
        </p:nvSpPr>
        <p:spPr>
          <a:xfrm>
            <a:off x="8910720" y="533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怎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马18"/>
          <p:cNvPicPr/>
          <p:nvPr/>
        </p:nvPicPr>
        <p:blipFill>
          <a:blip r:embed="rId1"/>
          <a:stretch/>
        </p:blipFill>
        <p:spPr>
          <a:xfrm>
            <a:off x="75564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479920" y="23623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哪些句子可以体现千里马不能日行千里的原因？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403960" y="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8976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概括第二段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40396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分析千里马被埋没的原因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479920" y="37339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食不饱，力不足，才美不外见，且欲与常马等不可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5" descr="马11"/>
          <p:cNvPicPr/>
          <p:nvPr/>
        </p:nvPicPr>
        <p:blipFill>
          <a:blip r:embed="rId1"/>
          <a:stretch/>
        </p:blipFill>
        <p:spPr>
          <a:xfrm>
            <a:off x="787320" y="129528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4"/>
          <p:cNvSpPr/>
          <p:nvPr/>
        </p:nvSpPr>
        <p:spPr>
          <a:xfrm>
            <a:off x="6426360" y="228600"/>
            <a:ext cx="350496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实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策之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执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宋体"/>
              </a:rPr>
              <a:t>策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道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尽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材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鸣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通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执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临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知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2463840" y="228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学习第三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7721640" y="838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用鞭子打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7721640" y="1371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马鞭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749304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749304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竭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7416720" y="30481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74167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鸣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7493040" y="419112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通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734076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拿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188120" y="603576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493040" y="5257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面对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749304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识别，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马24"/>
          <p:cNvPicPr/>
          <p:nvPr/>
        </p:nvPicPr>
        <p:blipFill>
          <a:blip r:embed="rId1"/>
          <a:stretch/>
        </p:blipFill>
        <p:spPr>
          <a:xfrm>
            <a:off x="757080" y="1905120"/>
            <a:ext cx="4572000" cy="4952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2205000" y="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策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</a:rPr>
              <a:t>之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以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鸣之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马20"/>
          <p:cNvPicPr/>
          <p:nvPr/>
        </p:nvPicPr>
        <p:blipFill>
          <a:blip r:embed="rId2"/>
          <a:stretch/>
        </p:blipFill>
        <p:spPr>
          <a:xfrm>
            <a:off x="5329080" y="1905120"/>
            <a:ext cx="4572000" cy="4952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062000" y="380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虚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881520" y="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作代词，代千里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576600" y="685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按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805200" y="1295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助词，无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2052720" y="152280"/>
            <a:ext cx="75960" cy="1447920"/>
          </a:xfrm>
          <a:custGeom>
            <a:avLst/>
            <a:gdLst>
              <a:gd name="textAreaLeft" fmla="*/ 48600 w 75960"/>
              <a:gd name="textAreaRight" fmla="*/ 76320 w 759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马23"/>
          <p:cNvPicPr/>
          <p:nvPr/>
        </p:nvPicPr>
        <p:blipFill>
          <a:blip r:embed="rId1"/>
          <a:stretch/>
        </p:blipFill>
        <p:spPr>
          <a:xfrm>
            <a:off x="75564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6546960" y="304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概括第三段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394320" y="914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抨击那些不能正确对待千里马却大呼“天下无马”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318360" y="266688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连用三个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字，将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食马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平庸刻画得入木三分，这是一种什么句式？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394320" y="45720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用排比的修辞手法刻画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食马者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的愚妄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900000" y="0"/>
            <a:ext cx="9144000" cy="7134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00000" y="973080"/>
            <a:ext cx="8610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有伯乐有千里马       </a:t>
            </a:r>
            <a:r>
              <a:rPr b="1" lang="zh-CN" sz="2800" spc="-1" strike="noStrike">
                <a:solidFill>
                  <a:srgbClr val="ccffcc"/>
                </a:solidFill>
                <a:latin typeface="宋体"/>
              </a:rPr>
              <a:t>（正面）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发现人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无伯乐无千里马 辱、死 </a:t>
            </a:r>
            <a:r>
              <a:rPr b="1" lang="zh-CN" sz="2800" spc="-1" strike="noStrike">
                <a:solidFill>
                  <a:srgbClr val="ccffcc"/>
                </a:solidFill>
                <a:latin typeface="宋体"/>
              </a:rPr>
              <a:t>（反面）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埋没人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357200" y="249696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一食进粟一石  行千里  </a:t>
            </a:r>
            <a:r>
              <a:rPr b="1" lang="zh-CN" sz="2800" spc="-1" strike="noStrike">
                <a:solidFill>
                  <a:srgbClr val="ccffcc"/>
                </a:solidFill>
                <a:latin typeface="宋体"/>
              </a:rPr>
              <a:t>（正面）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施展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食不饱力不足  难行千里</a:t>
            </a:r>
            <a:r>
              <a:rPr b="1" lang="zh-CN" sz="2800" spc="-1" strike="noStrike">
                <a:solidFill>
                  <a:srgbClr val="ccffcc"/>
                </a:solidFill>
                <a:latin typeface="宋体"/>
              </a:rPr>
              <a:t>（反面）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糟蹋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433520" y="419112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策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食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鸣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cffcc"/>
                </a:solidFill>
                <a:latin typeface="宋体"/>
              </a:rPr>
              <a:t>（排比）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封建统治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执策临之：天下无马             不识人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其真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？其真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！ </a:t>
            </a:r>
            <a:r>
              <a:rPr b="1" lang="zh-CN" sz="2800" spc="-1" strike="noStrike">
                <a:solidFill>
                  <a:srgbClr val="ccffcc"/>
                </a:solidFill>
                <a:latin typeface="宋体"/>
              </a:rPr>
              <a:t>（反问）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摧残人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043000" y="90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表层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7224840" y="76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深层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710240" y="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3185640" y="380880"/>
            <a:ext cx="1600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5776920" y="38088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2652840" y="609480"/>
            <a:ext cx="0" cy="38124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2652840" y="2057400"/>
            <a:ext cx="0" cy="53352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2652840" y="3657600"/>
            <a:ext cx="0" cy="60948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7834320" y="533520"/>
            <a:ext cx="0" cy="53316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7834320" y="2057400"/>
            <a:ext cx="0" cy="53352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9"/>
          <p:cNvSpPr/>
          <p:nvPr/>
        </p:nvSpPr>
        <p:spPr>
          <a:xfrm>
            <a:off x="7834320" y="3657600"/>
            <a:ext cx="0" cy="60948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8"/>
          <p:cNvSpPr/>
          <p:nvPr/>
        </p:nvSpPr>
        <p:spPr>
          <a:xfrm>
            <a:off x="828720" y="0"/>
            <a:ext cx="9144000" cy="7134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981000" y="3962520"/>
            <a:ext cx="899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99ff"/>
                </a:solidFill>
                <a:latin typeface="宋体"/>
              </a:rPr>
              <a:t>千里马</a:t>
            </a:r>
            <a:r>
              <a:rPr b="1" lang="en-US" sz="2800" spc="-1" strike="noStrike">
                <a:solidFill>
                  <a:srgbClr val="cc99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人才（被埋没摧残、怀才不遇明主的人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99ff"/>
                </a:solidFill>
                <a:latin typeface="宋体"/>
              </a:rPr>
              <a:t>伯 乐</a:t>
            </a:r>
            <a:r>
              <a:rPr b="1" lang="en-US" sz="2800" spc="-1" strike="noStrike">
                <a:solidFill>
                  <a:srgbClr val="cc99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识才之人（让人发挥作用的封建统治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99ff"/>
                </a:solidFill>
                <a:latin typeface="宋体"/>
              </a:rPr>
              <a:t>食马者</a:t>
            </a:r>
            <a:r>
              <a:rPr b="1" lang="en-US" sz="2800" spc="-1" strike="noStrike">
                <a:solidFill>
                  <a:srgbClr val="cc99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昏庸的统治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285920" y="380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本文通篇不离千里马，难道只是说“马”吗？</a:t>
            </a:r>
            <a:r>
              <a:rPr b="1" lang="zh-CN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62240" y="9907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是。借千里马难遇伯乐，最终被埋没，对埋没人才的现状作了揭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285920" y="19810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本文通过描写千里马的遭遇，表达作者怎样的思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124000" y="2819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表达作者怀才不遇，有志难酬的愤慨心情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362240" y="3429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伯乐”“千里马”各比喻了什么样的人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马"/>
          <p:cNvPicPr/>
          <p:nvPr/>
        </p:nvPicPr>
        <p:blipFill>
          <a:blip r:embed="rId1"/>
          <a:stretch/>
        </p:blipFill>
        <p:spPr>
          <a:xfrm>
            <a:off x="828720" y="1266840"/>
            <a:ext cx="9144000" cy="55911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1209600" y="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通借字：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        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现        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3"/>
          <p:cNvSpPr/>
          <p:nvPr/>
        </p:nvSpPr>
        <p:spPr>
          <a:xfrm>
            <a:off x="757080" y="0"/>
            <a:ext cx="9144000" cy="7134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985680" y="9907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解释下列句子中加线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才美不外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见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.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食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不饱，力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策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之不以其道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执策而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临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338720" y="152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  <a:ea typeface="华文彩云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3119400" y="137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通“现”，表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8682120" y="1371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3195720" y="16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驾驭，鞭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9963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面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09720" y="2286000"/>
            <a:ext cx="7696080" cy="46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指出句中加线词相当于现代汉语中什么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故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黑体"/>
              </a:rPr>
              <a:t>虽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有名马，祗辱于奴隶人之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黑体"/>
              </a:rPr>
              <a:t>虽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有千里之能，食不饱，力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用现代汉语翻译文中划线的句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宋体"/>
              </a:rPr>
              <a:t>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宋体"/>
              </a:rPr>
              <a:t>马之千里者，一食或尽粟一石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.“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千里马”在文中寓指怎样的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014880" y="2666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即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014880" y="3048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虽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062000" y="4648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日行千里的马，吃一顿有时能吃完一石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5786280" y="5181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有才能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828720" y="0"/>
            <a:ext cx="9144000" cy="7134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33640" y="99072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马之千里者，一食或尽粟一石。食马者不知其能千里而食也。是马也，虽有千里之能，食不饱，力不足，才美不外见，且欲与常马等不可得，安求其能千里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策之不以其道，食之不能尽其材，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仿宋_GB2312"/>
                <a:ea typeface="仿宋_GB2312"/>
              </a:rPr>
              <a:t>                 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，执策而临之，曰：“天下无马！”呜呼！其真无马耶？其真不知马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在上文横线上填上确切的文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从上文中找出能概括文章主旨的句子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宋体"/>
              </a:rPr>
              <a:t>              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宋体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952800" y="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阅读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467400" y="2057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鸣之而不能通其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62004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其真不知马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马4"/>
          <p:cNvPicPr/>
          <p:nvPr/>
        </p:nvPicPr>
        <p:blipFill>
          <a:blip r:embed="rId1"/>
          <a:stretch/>
        </p:blipFill>
        <p:spPr>
          <a:xfrm>
            <a:off x="777960" y="0"/>
            <a:ext cx="510516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5883120" y="0"/>
            <a:ext cx="365760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古代的一种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议论体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是一些文人志士对事对物有感而发，宣泄心中郁闷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托物寓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一种体裁。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马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即谈马、论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1"/>
          <p:cNvSpPr/>
          <p:nvPr/>
        </p:nvSpPr>
        <p:spPr>
          <a:xfrm>
            <a:off x="757080" y="0"/>
            <a:ext cx="9144000" cy="7134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062000" y="457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马之千里者，一食或尽粟一石。食马者不知其能千里而食也。是马也，虽有千里之能，食不饱，力不足，才美不外见，且欲与常马等不可得，安求其能千里也？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策之不以其道，食之不能尽其材，鸣之而不能通其意，执策而临之，曰：“天下无马！”呜呼！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其真无马耶？其真不知马也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138320" y="2819520"/>
            <a:ext cx="510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解释下列加线的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A.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食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马者不知其能千里而食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B.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策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之不以其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C.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安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求其能千里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一食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或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尽粟一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用现代汉语翻译文中划线的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其真无马耶？其真不知马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本文表达了作者怎样的思想感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5634000" y="3200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通“饲”，喂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652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驾驭，鞭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881520" y="3962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怎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4910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有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214280" y="5410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难道真的没有千里马吗？其实是他不识千里马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290600" y="6172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作者借千里马被埋没，抒发了自己怀才不遇的愤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Times New Roman"/>
              </a:rPr>
              <a:t>表达了对封建统治者埋没人才的强烈不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05200" y="-76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阅读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973080" y="0"/>
            <a:ext cx="9144000" cy="7134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马14"/>
          <p:cNvPicPr/>
          <p:nvPr/>
        </p:nvPicPr>
        <p:blipFill>
          <a:blip r:embed="rId1"/>
          <a:stretch/>
        </p:blipFill>
        <p:spPr>
          <a:xfrm>
            <a:off x="97308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7"/>
          <p:cNvSpPr/>
          <p:nvPr/>
        </p:nvSpPr>
        <p:spPr>
          <a:xfrm>
            <a:off x="6764400" y="9144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ff"/>
                </a:solidFill>
                <a:latin typeface="Times New Roman"/>
                <a:ea typeface="华文彩云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27"/>
          <p:cNvSpPr/>
          <p:nvPr/>
        </p:nvSpPr>
        <p:spPr>
          <a:xfrm>
            <a:off x="757080" y="0"/>
            <a:ext cx="9144000" cy="7134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28" descr="马19"/>
          <p:cNvPicPr/>
          <p:nvPr/>
        </p:nvPicPr>
        <p:blipFill>
          <a:blip r:embed="rId1"/>
          <a:stretch/>
        </p:blipFill>
        <p:spPr>
          <a:xfrm>
            <a:off x="757080" y="1905120"/>
            <a:ext cx="4648320" cy="4952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29"/>
          <p:cNvSpPr/>
          <p:nvPr/>
        </p:nvSpPr>
        <p:spPr>
          <a:xfrm>
            <a:off x="1062000" y="0"/>
            <a:ext cx="8610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66ffff"/>
                </a:solidFill>
                <a:latin typeface="宋体"/>
              </a:rPr>
              <a:t>托   物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——</a:t>
            </a:r>
            <a:r>
              <a:rPr b="1" lang="en-US" sz="2800" spc="-1" strike="noStrike">
                <a:solidFill>
                  <a:srgbClr val="66ffff"/>
                </a:solidFill>
                <a:latin typeface="宋体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66ffff"/>
                </a:solidFill>
                <a:latin typeface="宋体"/>
              </a:rPr>
              <a:t>寄   意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——</a:t>
            </a:r>
            <a:r>
              <a:rPr b="1" lang="en-US" sz="2800" spc="-1" strike="noStrike">
                <a:solidFill>
                  <a:srgbClr val="66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30"/>
          <p:cNvSpPr/>
          <p:nvPr/>
        </p:nvSpPr>
        <p:spPr>
          <a:xfrm>
            <a:off x="3652920" y="90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千里马的遭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31"/>
          <p:cNvSpPr/>
          <p:nvPr/>
        </p:nvSpPr>
        <p:spPr>
          <a:xfrm>
            <a:off x="2814480" y="6858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愤慨、不满 （对统治阶级不识人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重人才、摧残人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32"/>
          <p:cNvSpPr/>
          <p:nvPr/>
        </p:nvSpPr>
        <p:spPr>
          <a:xfrm>
            <a:off x="4186080" y="2743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韩愈"/>
          <p:cNvPicPr/>
          <p:nvPr/>
        </p:nvPicPr>
        <p:blipFill>
          <a:blip r:embed="rId1"/>
          <a:stretch/>
        </p:blipFill>
        <p:spPr>
          <a:xfrm>
            <a:off x="468000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912960" y="30492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韩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字退之，唐代散文家、诗人，散文尤其著名，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文起八代之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美誉，与柳宗元同为“古文运动”倡导者，是“唐宋八大家”之首。世称韩昌黎，谥号“文”，又称韩文公，官至吏部侍郎，故又称韩吏部。作品都收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昌黎先生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韩愈1"/>
          <p:cNvPicPr/>
          <p:nvPr/>
        </p:nvPicPr>
        <p:blipFill>
          <a:blip r:embed="rId1"/>
          <a:stretch/>
        </p:blipFill>
        <p:spPr>
          <a:xfrm>
            <a:off x="841320" y="0"/>
            <a:ext cx="46944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5489640" y="6858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早先，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岁中进士后，长期得不到任用，他曾三次上书宰相，被辞。后依附节度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，仕途坎坷。加上当时奸佞当权，政治黑暗，有才之士不受重用。这些都让他感到明主难遇，在这种悲愤心情下，写下寓意深刻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马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马2"/>
          <p:cNvPicPr/>
          <p:nvPr/>
        </p:nvPicPr>
        <p:blipFill>
          <a:blip r:embed="rId1"/>
          <a:stretch/>
        </p:blipFill>
        <p:spPr>
          <a:xfrm>
            <a:off x="82872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057320" y="2286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ián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槽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áolì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zhǐ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ù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h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ì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jiù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iàn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yé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d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7" descr="马17"/>
          <p:cNvPicPr/>
          <p:nvPr/>
        </p:nvPicPr>
        <p:blipFill>
          <a:blip r:embed="rId1"/>
          <a:stretch/>
        </p:blipFill>
        <p:spPr>
          <a:xfrm>
            <a:off x="74772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6"/>
          <p:cNvSpPr/>
          <p:nvPr/>
        </p:nvSpPr>
        <p:spPr>
          <a:xfrm>
            <a:off x="5548320" y="376200"/>
            <a:ext cx="4114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千里马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伯乐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辱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骈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称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故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          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之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以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              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虽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472000" y="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学习第一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7605720" y="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实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7224840" y="380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日行千里的马，本文指人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7072200" y="1295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擅长相马之人，本文指识别人才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46272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辱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4627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46272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著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75294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虚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615000" y="4038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表转折，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53904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因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874872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615000" y="5105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结构助词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539040" y="5715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凭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87487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即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马3"/>
          <p:cNvPicPr/>
          <p:nvPr/>
        </p:nvPicPr>
        <p:blipFill>
          <a:blip r:embed="rId1"/>
          <a:stretch/>
        </p:blipFill>
        <p:spPr>
          <a:xfrm>
            <a:off x="841320" y="1523880"/>
            <a:ext cx="6324480" cy="5334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74840" y="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第一段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87980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伯乐对千里马的决定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37484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是不是世上先有伯乐，然后才有千里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7242120" y="16002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是。强调伯乐能识马，如果不被伯乐识别，千里马就会被埋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马12"/>
          <p:cNvPicPr/>
          <p:nvPr/>
        </p:nvPicPr>
        <p:blipFill>
          <a:blip r:embed="rId1"/>
          <a:stretch/>
        </p:blipFill>
        <p:spPr>
          <a:xfrm>
            <a:off x="757080" y="1066680"/>
            <a:ext cx="5486400" cy="5791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6319800" y="304920"/>
            <a:ext cx="33526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实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一食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食马者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才美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见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等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常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691400" y="838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吃一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84368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饲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691400" y="19209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才能，美好的素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7386480" y="30481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表现在外面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见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现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7386480" y="4114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等同，一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738648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普通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128680" y="228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学习第二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31980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是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386480" y="5334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这种，作代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ull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7:51:14Z</dcterms:created>
  <dc:creator/>
  <dc:description/>
  <dc:language>en-US</dc:language>
  <cp:lastModifiedBy>wxsw</cp:lastModifiedBy>
  <dcterms:modified xsi:type="dcterms:W3CDTF">2012-10-17T06:42:53Z</dcterms:modified>
  <cp:revision>2</cp:revision>
  <dc:subject/>
  <dc:title>幻灯片 1</dc:title>
</cp:coreProperties>
</file>