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A3A-16DA-4BAC-86AD-B3DFEAE0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124-D062-4E34-B9BD-72F796A9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AB4-838F-4322-BA44-E97436F9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D33-FC6E-43BA-9C28-88A90082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2B8-CE29-45BA-91CD-4DD64D1B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C4F7-9650-4F19-8765-D6B57160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BE3B-FE39-47DA-A51D-7EDA395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3B3F-5F86-4F7B-A428-545D8DDA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E381-E78A-41D7-AFCA-EE583DF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A188-ADCD-4CBD-A9D0-5AA7B421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E9B-C7C7-4872-986C-D1F2CFC4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BB42-FE73-447B-84CC-63984A97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5AF0-DA3D-4A13-A30E-5574645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63A0-A9EA-4180-9683-8859700F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EC01-3D80-466A-AC99-23B71F20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E206-E6F5-4932-A3EC-5F3189EC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77A5-EB76-4A8C-B495-9B983B35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4271-45EB-4E11-B114-9FC44642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E316-8A60-41DD-BBA8-70991890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E52E-7256-4B0B-A944-5173F1A3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F404-FAF0-4B73-A530-CDF6080C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699-6A35-49B2-8D96-4C705456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160D-FEFB-40E8-9EB9-26D85E7D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C4CA-A20C-47F8-91DC-D6871C33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93D8-A473-407F-977B-7BE54692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AF4F-E941-4A1C-A882-1A8F273F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114C3-4205-40C9-AAB9-247641C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2D4DD-E749-4D61-9618-B65E300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A21E-4510-4652-B8C3-763B6363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535B-69D1-435E-AB00-1A19257D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6364-E885-4B57-AD0A-A77DDE98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D88-D30A-4E52-ACD9-D71F721C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D7D-DEEF-41F2-AD9A-6C6922BD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14B-81BC-4924-8323-047E8D7C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710-1792-4393-97E8-7448FD82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315-6248-4C48-B4A3-3133D1D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ACB-DFE7-4EB5-8A0C-8A72DD414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0840" y="-108000"/>
            <a:ext cx="817560" cy="708192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0840" y="-108000"/>
            <a:ext cx="817560" cy="708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0" y="-20520"/>
            <a:ext cx="9101160" cy="687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标题.JPG"/>
          <p:cNvPicPr/>
          <p:nvPr/>
        </p:nvPicPr>
        <p:blipFill>
          <a:blip r:embed="rId6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0840" y="-108000"/>
            <a:ext cx="817560" cy="7081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44ED-0DED-4CB2-9A9F-B196156E4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-150840" y="-108000"/>
            <a:ext cx="817560" cy="7081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69DA-C5C8-4F06-92BC-5629E2E74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&#38271;&#40483;.wav" TargetMode="External"/><Relationship Id="rId3" Type="http://schemas.microsoft.com/office/2007/relationships/media" Target="file:///tmp/home/.config/libreoffice/4/user/gallery/&#38271;&#40483;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a3-50-93"/>
          <p:cNvPicPr/>
          <p:nvPr/>
        </p:nvPicPr>
        <p:blipFill>
          <a:blip r:embed="rId1"/>
          <a:stretch/>
        </p:blipFill>
        <p:spPr>
          <a:xfrm>
            <a:off x="2073240" y="0"/>
            <a:ext cx="7070760" cy="5302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3230640" y="5181480"/>
            <a:ext cx="44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马说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韩愈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43000" y="36000"/>
            <a:ext cx="47782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33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656160" y="2152800"/>
            <a:ext cx="368928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6912000" y="115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352520" y="17064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è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544840" y="171756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h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ｒ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ǔ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275440" y="1681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ｎ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7411680" y="1568520"/>
            <a:ext cx="18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ｏ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587520" y="306540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í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ù  dà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083200" y="2986200"/>
            <a:ext cx="14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7821720" y="296712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ià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587520" y="4476600"/>
            <a:ext cx="175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2944800" y="44211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1044720" y="304920"/>
            <a:ext cx="79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把握准确字音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587520" y="2386080"/>
            <a:ext cx="894708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伯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乐     祗辱　      骈      </a:t>
            </a: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槽枥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食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或尽</a:t>
            </a: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粟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石   食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马者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外</a:t>
            </a: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邪          策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4718160" y="4756320"/>
            <a:ext cx="501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石：容量单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食：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食物／吃；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饲、喂养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50960" y="0"/>
            <a:ext cx="9144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50960" y="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世有伯乐，然后有千里马。千里马常有，而伯乐不常有。故虽有名马，祗辱于奴隶人之手，骈死于槽枥之间，不以千里称也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　　马之千里者，一食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或尽粟一石，食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马者不知其能千里而食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也。是马也，虽有千里之能，食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不饱，力不足，才美不外见，且欲与常马等不可得，安求其能千里也 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　　策之不以其道，食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ì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之不能尽其材，鸣之而不能通其意，执策而临之，曰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天下无马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呜呼！其真无马邪？其真不知马也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nimRot by="21600000">
                                      <p:cBhvr>
                                        <p:cTn id="9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01640" y="0"/>
            <a:ext cx="914400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有伯乐，然后有千里马。千里马常有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伯乐不常有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故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名马，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辱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奴隶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手，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槽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间，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960240" y="1746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辱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7665120" y="278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著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1"/>
          <p:cNvSpPr/>
          <p:nvPr/>
        </p:nvSpPr>
        <p:spPr>
          <a:xfrm>
            <a:off x="701640" y="4019400"/>
            <a:ext cx="86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世上先有了伯乐，然后才有千里马。千里马经常有，但是伯乐却不经常有。因此，即使有名贵的马，也只是在仆役的手里辱没，（和普通的马）一同死在槽枥之间，不能凭借日行千里而著称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701640" y="176364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是，转折连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44"/>
          <p:cNvSpPr/>
          <p:nvPr/>
        </p:nvSpPr>
        <p:spPr>
          <a:xfrm>
            <a:off x="3811680" y="82224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45"/>
          <p:cNvSpPr/>
          <p:nvPr/>
        </p:nvSpPr>
        <p:spPr>
          <a:xfrm>
            <a:off x="4254480" y="177624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46"/>
          <p:cNvSpPr/>
          <p:nvPr/>
        </p:nvSpPr>
        <p:spPr>
          <a:xfrm>
            <a:off x="7624800" y="174636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词，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47"/>
          <p:cNvSpPr/>
          <p:nvPr/>
        </p:nvSpPr>
        <p:spPr>
          <a:xfrm>
            <a:off x="701640" y="2744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词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48"/>
          <p:cNvSpPr/>
          <p:nvPr/>
        </p:nvSpPr>
        <p:spPr>
          <a:xfrm>
            <a:off x="6095880" y="279720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凭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669960" y="-26028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里者，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一食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尽粟一石，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食也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也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千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食不饱，力不足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美不外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常马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可得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千里也 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179800" y="15224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69760" y="617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种，这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669960" y="23828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046400" y="24336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才能，美好的素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640520" y="332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4015440" y="329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69960" y="3841920"/>
            <a:ext cx="883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日行千里的马，有时吃一顿能吃完一石小米，可是喂马的仆役不知道它能日行千里，（并按照千里马）来喂养。这样的马，虽然有日行千里的才能，可是由于吃不饱，力气不足，能力和特长表现不出来，要求它和普通的马一样尚且做不到，怎能要求它能够日行千里呢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290600" y="579600"/>
            <a:ext cx="346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语后置标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3098880" y="150336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顺接连词，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474840" y="152244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，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6912000" y="1511280"/>
            <a:ext cx="13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虽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8408880" y="239400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8408880" y="600120"/>
            <a:ext cx="16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878040" y="0"/>
            <a:ext cx="890244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策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以其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能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鸣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能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策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临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曰：“天下无马！”呜呼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真无马邪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真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也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96280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4093200" y="804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的，代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840000" y="27496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概、恐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3232080" y="269064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难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636480" y="35272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鞭策它不能按照（驱使千里马的）正确的方法，喂养它不能竭尽它的才能，听到它的鸣叫又不能通晓它的意思。拿着鞭子面对着它说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天下没有好马呀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唉，难道真的没有好马吗？大概真的是不能识别好马呀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316640" y="83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助词，不译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382600" y="28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识别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20640" y="692280"/>
            <a:ext cx="783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28840" y="765000"/>
            <a:ext cx="131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4408560" y="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虚词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620640" y="19350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1422360" y="1335240"/>
            <a:ext cx="395280" cy="1939680"/>
          </a:xfrm>
          <a:custGeom>
            <a:avLst/>
            <a:gdLst>
              <a:gd name="textAreaLeft" fmla="*/ 252720 w 395280"/>
              <a:gd name="textAreaRight" fmla="*/ 395640 w 395280"/>
              <a:gd name="textAreaTop" fmla="*/ 50400 h 1939680"/>
              <a:gd name="textAreaBottom" fmla="*/ 1889280 h 193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849320" y="1050840"/>
            <a:ext cx="36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策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以其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722600" y="1663560"/>
            <a:ext cx="42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祗辱于奴隶人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703520" y="22384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里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620640" y="49546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1393920" y="4332240"/>
            <a:ext cx="318960" cy="1982880"/>
          </a:xfrm>
          <a:custGeom>
            <a:avLst/>
            <a:gdLst>
              <a:gd name="textAreaLeft" fmla="*/ 203760 w 318960"/>
              <a:gd name="textAreaRight" fmla="*/ 319320 w 318960"/>
              <a:gd name="textAreaTop" fmla="*/ 51480 h 1982880"/>
              <a:gd name="textAreaBottom" fmla="*/ 1931400 h 198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1531800" y="621648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真不知马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582560" y="4186080"/>
            <a:ext cx="39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安求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千里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1736640" y="290196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鸣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不能通其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1595520" y="485316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真无马邪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517760" y="5508720"/>
            <a:ext cx="34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策之不以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620640" y="4200480"/>
            <a:ext cx="9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620640" y="0"/>
            <a:ext cx="361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知识小结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6585120" y="97308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词    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6597720" y="160956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助词    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25"/>
          <p:cNvSpPr/>
          <p:nvPr/>
        </p:nvSpPr>
        <p:spPr>
          <a:xfrm>
            <a:off x="6835320" y="2236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后置标志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3263760" y="2968560"/>
            <a:ext cx="622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助词          置于主谓之间，不译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6312960" y="4222800"/>
            <a:ext cx="18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词       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6062760" y="48927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语气词  反问   难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6136920" y="552780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词      它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1"/>
          <p:cNvSpPr/>
          <p:nvPr/>
        </p:nvSpPr>
        <p:spPr>
          <a:xfrm>
            <a:off x="5574600" y="621648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语气词 猜测  大概、恐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1542960" y="765000"/>
            <a:ext cx="131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735120" y="53172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373040" y="244440"/>
            <a:ext cx="346320" cy="1173240"/>
          </a:xfrm>
          <a:custGeom>
            <a:avLst/>
            <a:gdLst>
              <a:gd name="textAreaLeft" fmla="*/ 221400 w 346320"/>
              <a:gd name="textAreaRight" fmla="*/ 346680 w 346320"/>
              <a:gd name="textAreaTop" fmla="*/ 30600 h 1173240"/>
              <a:gd name="textAreaBottom" fmla="*/ 1142640 h 117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849320" y="0"/>
            <a:ext cx="39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里称也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720800" y="896760"/>
            <a:ext cx="36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策之不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735120" y="20811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1427040" y="1835280"/>
            <a:ext cx="254160" cy="1166760"/>
          </a:xfrm>
          <a:custGeom>
            <a:avLst/>
            <a:gdLst>
              <a:gd name="textAreaLeft" fmla="*/ 162360 w 254160"/>
              <a:gd name="textAreaRight" fmla="*/ 254520 w 254160"/>
              <a:gd name="textAreaTop" fmla="*/ 30240 h 1166760"/>
              <a:gd name="textAreaBottom" fmla="*/ 113652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1711440" y="26290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不知其能千里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食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712880" y="177156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伯乐不常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668052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介词，凭借、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20"/>
          <p:cNvSpPr/>
          <p:nvPr/>
        </p:nvSpPr>
        <p:spPr>
          <a:xfrm>
            <a:off x="5919840" y="923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介词，按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21"/>
          <p:cNvSpPr/>
          <p:nvPr/>
        </p:nvSpPr>
        <p:spPr>
          <a:xfrm>
            <a:off x="5840640" y="1800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转折连词，但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22"/>
          <p:cNvSpPr/>
          <p:nvPr/>
        </p:nvSpPr>
        <p:spPr>
          <a:xfrm>
            <a:off x="6973200" y="25700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接连词，来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735120" y="339732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735120" y="549432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不以其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25"/>
          <p:cNvSpPr/>
          <p:nvPr/>
        </p:nvSpPr>
        <p:spPr>
          <a:xfrm>
            <a:off x="5379120" y="55371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     用鞭子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26"/>
          <p:cNvSpPr/>
          <p:nvPr/>
        </p:nvSpPr>
        <p:spPr>
          <a:xfrm>
            <a:off x="1376640" y="417024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食或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粟一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食之不能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7"/>
          <p:cNvSpPr/>
          <p:nvPr/>
        </p:nvSpPr>
        <p:spPr>
          <a:xfrm>
            <a:off x="4721400" y="4141800"/>
            <a:ext cx="42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        吃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竭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1502280" y="3031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735120" y="1690560"/>
            <a:ext cx="573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者不知其能千里而食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才美不外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其真无马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邪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食之不能尽其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7069320" y="1670040"/>
            <a:ext cx="22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574520" y="2795760"/>
            <a:ext cx="250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表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716720" y="3922560"/>
            <a:ext cx="27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邪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语气词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5538240" y="4998960"/>
            <a:ext cx="250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材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Verdana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才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620640" y="0"/>
            <a:ext cx="31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一词多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620640" y="1206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198440" y="942840"/>
            <a:ext cx="274680" cy="1062000"/>
          </a:xfrm>
          <a:custGeom>
            <a:avLst/>
            <a:gdLst>
              <a:gd name="textAreaLeft" fmla="*/ 175680 w 274680"/>
              <a:gd name="textAreaRight" fmla="*/ 275040 w 274680"/>
              <a:gd name="textAreaTop" fmla="*/ 27360 h 1062000"/>
              <a:gd name="textAreaBottom" fmla="*/ 1034640 h 10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251000" y="4440240"/>
            <a:ext cx="274680" cy="1062000"/>
          </a:xfrm>
          <a:custGeom>
            <a:avLst/>
            <a:gdLst>
              <a:gd name="textAreaLeft" fmla="*/ 175680 w 274680"/>
              <a:gd name="textAreaRight" fmla="*/ 275040 w 274680"/>
              <a:gd name="textAreaTop" fmla="*/ 27360 h 1062000"/>
              <a:gd name="textAreaBottom" fmla="*/ 1034640 h 10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1238400" y="2679840"/>
            <a:ext cx="274320" cy="1062000"/>
          </a:xfrm>
          <a:custGeom>
            <a:avLst/>
            <a:gdLst>
              <a:gd name="textAreaLeft" fmla="*/ 175320 w 274320"/>
              <a:gd name="textAreaRight" fmla="*/ 274680 w 274320"/>
              <a:gd name="textAreaTop" fmla="*/ 27360 h 1062000"/>
              <a:gd name="textAreaBottom" fmla="*/ 1034640 h 10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20640" y="28638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620640" y="450864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506600" y="725400"/>
            <a:ext cx="49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尽粟一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08240" y="144288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者不知其能千里而食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482840" y="2341440"/>
            <a:ext cx="31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执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临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1444680" y="3208320"/>
            <a:ext cx="38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不以其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1400040" y="4227480"/>
            <a:ext cx="33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虽有千里之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411200" y="50054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安求其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里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5977800" y="693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7419600" y="144144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“饲”，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5202720" y="229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鞭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0"/>
          <p:cNvSpPr/>
          <p:nvPr/>
        </p:nvSpPr>
        <p:spPr>
          <a:xfrm>
            <a:off x="5010840" y="312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鞭子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21"/>
          <p:cNvSpPr/>
          <p:nvPr/>
        </p:nvSpPr>
        <p:spPr>
          <a:xfrm>
            <a:off x="5399280" y="4172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才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22"/>
          <p:cNvSpPr/>
          <p:nvPr/>
        </p:nvSpPr>
        <p:spPr>
          <a:xfrm>
            <a:off x="5429520" y="4938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669960" y="1125360"/>
            <a:ext cx="88171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</a:rPr>
              <a:t>读第一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、究竟是先有马，还是先有兑马的认识？千里马与伯乐是什么关系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、没有识马的伯乐，千里马有何遭遇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、这一段文字体现了作者什么样的情感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69960" y="0"/>
            <a:ext cx="333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0165"/>
          <p:cNvPicPr/>
          <p:nvPr/>
        </p:nvPicPr>
        <p:blipFill>
          <a:blip r:embed="rId1"/>
          <a:stretch/>
        </p:blipFill>
        <p:spPr>
          <a:xfrm>
            <a:off x="863640" y="0"/>
            <a:ext cx="9753480" cy="7099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4209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2662200" y="1698480"/>
            <a:ext cx="21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816120" y="1468440"/>
            <a:ext cx="7169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</a:rPr>
              <a:t>读第二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、千里马有此遭遇的原因是什么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、体现了作者怎样的情感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801720" y="295200"/>
            <a:ext cx="76248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Verdana"/>
              </a:rPr>
              <a:t>读第三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、本段三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字句是什么句式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、文章的主旨句是哪一句？千里马不常有的根本原因是什么？体现了作者什么样的情感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6"/>
          <p:cNvSpPr/>
          <p:nvPr/>
        </p:nvSpPr>
        <p:spPr>
          <a:xfrm>
            <a:off x="800280" y="0"/>
            <a:ext cx="7691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讨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：文中的千里马、伯乐、食马者各比喻什么？千里马与伯乐寓意之间有何关系？作者借此表现了怎样的情感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504720" y="1709640"/>
            <a:ext cx="35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千里马”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3614760" y="1690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寓指人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800280" y="246384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伯乐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2649600" y="2382840"/>
            <a:ext cx="729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寓指识别、赏识任用人才的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1140480" y="320832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食马者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3110040" y="3159000"/>
            <a:ext cx="68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寓指不识人才的封建统治者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2447640" y="402264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托物寓意：与深刻的思想与具体形象之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29"/>
          <p:cNvSpPr/>
          <p:nvPr/>
        </p:nvSpPr>
        <p:spPr>
          <a:xfrm>
            <a:off x="800280" y="4873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借千里马难遇伯乐，最终被埋没这一现象，对封建统治者埋没、摧残人才的愤懑和控诉，也流露了作者怀才不遇的愤激之情。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028880" y="1452600"/>
            <a:ext cx="74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方正姚体"/>
                <a:ea typeface="方正姚体"/>
              </a:rPr>
              <a:t>讨论</a:t>
            </a:r>
            <a:r>
              <a:rPr b="1" lang="en-US" sz="4000" spc="-1" strike="noStrike">
                <a:solidFill>
                  <a:srgbClr val="cc0099"/>
                </a:solidFill>
                <a:latin typeface="方正姚体"/>
                <a:ea typeface="方正姚体"/>
              </a:rPr>
              <a:t>2</a:t>
            </a:r>
            <a:r>
              <a:rPr b="1" lang="zh-CN" sz="4000" spc="-1" strike="noStrike">
                <a:solidFill>
                  <a:srgbClr val="cc0099"/>
                </a:solidFill>
                <a:latin typeface="方正姚体"/>
                <a:ea typeface="方正姚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请分析文中五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字的不同表达，请注意朗读时语气变化。七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字语气的变化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1006560" y="406440"/>
            <a:ext cx="8381520" cy="5826240"/>
            <a:chOff x="1006560" y="406440"/>
            <a:chExt cx="8381520" cy="5826240"/>
          </a:xfrm>
        </p:grpSpPr>
        <p:pic>
          <p:nvPicPr>
            <p:cNvPr id="329" name="Picture 4" descr="123"/>
            <p:cNvPicPr/>
            <p:nvPr/>
          </p:nvPicPr>
          <p:blipFill>
            <a:blip r:embed="rId1"/>
            <a:stretch/>
          </p:blipFill>
          <p:spPr>
            <a:xfrm>
              <a:off x="7232040" y="5330520"/>
              <a:ext cx="95112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Group 5"/>
            <p:cNvGrpSpPr/>
            <p:nvPr/>
          </p:nvGrpSpPr>
          <p:grpSpPr>
            <a:xfrm>
              <a:off x="1006560" y="406440"/>
              <a:ext cx="8381520" cy="1000080"/>
              <a:chOff x="1006560" y="406440"/>
              <a:chExt cx="8381520" cy="1000080"/>
            </a:xfrm>
          </p:grpSpPr>
          <p:grpSp>
            <p:nvGrpSpPr>
              <p:cNvPr id="331" name="Group 6"/>
              <p:cNvGrpSpPr/>
              <p:nvPr/>
            </p:nvGrpSpPr>
            <p:grpSpPr>
              <a:xfrm>
                <a:off x="1276560" y="509040"/>
                <a:ext cx="661320" cy="450720"/>
                <a:chOff x="1276560" y="509040"/>
                <a:chExt cx="661320" cy="450720"/>
              </a:xfrm>
            </p:grpSpPr>
            <p:sp>
              <p:nvSpPr>
                <p:cNvPr id="332" name="Rectangle 7"/>
                <p:cNvSpPr/>
                <p:nvPr/>
              </p:nvSpPr>
              <p:spPr>
                <a:xfrm>
                  <a:off x="1276560" y="509040"/>
                  <a:ext cx="40680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Rectangle 8"/>
                <p:cNvSpPr/>
                <p:nvPr/>
              </p:nvSpPr>
              <p:spPr>
                <a:xfrm>
                  <a:off x="1632600" y="509040"/>
                  <a:ext cx="30528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4" name="Group 9"/>
              <p:cNvGrpSpPr/>
              <p:nvPr/>
            </p:nvGrpSpPr>
            <p:grpSpPr>
              <a:xfrm>
                <a:off x="1391760" y="910080"/>
                <a:ext cx="686520" cy="450720"/>
                <a:chOff x="1391760" y="910080"/>
                <a:chExt cx="686520" cy="450720"/>
              </a:xfrm>
            </p:grpSpPr>
            <p:sp>
              <p:nvSpPr>
                <p:cNvPr id="335" name="Rectangle 10"/>
                <p:cNvSpPr/>
                <p:nvPr/>
              </p:nvSpPr>
              <p:spPr>
                <a:xfrm>
                  <a:off x="1391760" y="910080"/>
                  <a:ext cx="39204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Rectangle 11"/>
                <p:cNvSpPr/>
                <p:nvPr/>
              </p:nvSpPr>
              <p:spPr>
                <a:xfrm>
                  <a:off x="1735200" y="910080"/>
                  <a:ext cx="34308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37" name="Rectangle 12"/>
              <p:cNvSpPr/>
              <p:nvPr/>
            </p:nvSpPr>
            <p:spPr>
              <a:xfrm>
                <a:off x="1006560" y="84060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Rectangle 13"/>
              <p:cNvSpPr/>
              <p:nvPr/>
            </p:nvSpPr>
            <p:spPr>
              <a:xfrm>
                <a:off x="1597320" y="40644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Rectangle 14"/>
              <p:cNvSpPr/>
              <p:nvPr/>
            </p:nvSpPr>
            <p:spPr>
              <a:xfrm flipV="1">
                <a:off x="1300320" y="1186200"/>
                <a:ext cx="8087760" cy="5292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0" name="Text Box 15"/>
            <p:cNvSpPr/>
            <p:nvPr/>
          </p:nvSpPr>
          <p:spPr>
            <a:xfrm>
              <a:off x="2121120" y="47880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1473840" y="1782360"/>
              <a:ext cx="5175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2" name="Text Box 45"/>
          <p:cNvSpPr/>
          <p:nvPr/>
        </p:nvSpPr>
        <p:spPr>
          <a:xfrm>
            <a:off x="636480" y="4475160"/>
            <a:ext cx="74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方正姚体"/>
                <a:ea typeface="方正姚体"/>
              </a:rPr>
              <a:t>语言的特点：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含蓄    简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4603680" y="3854520"/>
            <a:ext cx="3094200" cy="22885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千里马被埋没的原因食马者不知其能 千里而食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1104840" y="426960"/>
            <a:ext cx="8381880" cy="5826240"/>
            <a:chOff x="1104840" y="426960"/>
            <a:chExt cx="8381880" cy="5826240"/>
          </a:xfrm>
        </p:grpSpPr>
        <p:pic>
          <p:nvPicPr>
            <p:cNvPr id="345" name="Picture 4" descr="123"/>
            <p:cNvPicPr/>
            <p:nvPr/>
          </p:nvPicPr>
          <p:blipFill>
            <a:blip r:embed="rId1"/>
            <a:stretch/>
          </p:blipFill>
          <p:spPr>
            <a:xfrm>
              <a:off x="7330680" y="5351040"/>
              <a:ext cx="95148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6" name="Group 5"/>
            <p:cNvGrpSpPr/>
            <p:nvPr/>
          </p:nvGrpSpPr>
          <p:grpSpPr>
            <a:xfrm>
              <a:off x="1104840" y="426960"/>
              <a:ext cx="8381880" cy="1000080"/>
              <a:chOff x="1104840" y="426960"/>
              <a:chExt cx="8381880" cy="1000080"/>
            </a:xfrm>
          </p:grpSpPr>
          <p:grpSp>
            <p:nvGrpSpPr>
              <p:cNvPr id="347" name="Group 6"/>
              <p:cNvGrpSpPr/>
              <p:nvPr/>
            </p:nvGrpSpPr>
            <p:grpSpPr>
              <a:xfrm>
                <a:off x="1374840" y="529560"/>
                <a:ext cx="661320" cy="450720"/>
                <a:chOff x="1374840" y="529560"/>
                <a:chExt cx="661320" cy="450720"/>
              </a:xfrm>
            </p:grpSpPr>
            <p:sp>
              <p:nvSpPr>
                <p:cNvPr id="348" name="Rectangle 7"/>
                <p:cNvSpPr/>
                <p:nvPr/>
              </p:nvSpPr>
              <p:spPr>
                <a:xfrm>
                  <a:off x="1374840" y="529560"/>
                  <a:ext cx="40680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Rectangle 8"/>
                <p:cNvSpPr/>
                <p:nvPr/>
              </p:nvSpPr>
              <p:spPr>
                <a:xfrm>
                  <a:off x="1730880" y="529560"/>
                  <a:ext cx="30528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0" name="Group 9"/>
              <p:cNvGrpSpPr/>
              <p:nvPr/>
            </p:nvGrpSpPr>
            <p:grpSpPr>
              <a:xfrm>
                <a:off x="1490040" y="930600"/>
                <a:ext cx="686520" cy="450720"/>
                <a:chOff x="1490040" y="930600"/>
                <a:chExt cx="686520" cy="450720"/>
              </a:xfrm>
            </p:grpSpPr>
            <p:sp>
              <p:nvSpPr>
                <p:cNvPr id="351" name="Rectangle 10"/>
                <p:cNvSpPr/>
                <p:nvPr/>
              </p:nvSpPr>
              <p:spPr>
                <a:xfrm>
                  <a:off x="1490040" y="930600"/>
                  <a:ext cx="39204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Rectangle 11"/>
                <p:cNvSpPr/>
                <p:nvPr/>
              </p:nvSpPr>
              <p:spPr>
                <a:xfrm>
                  <a:off x="1833480" y="930600"/>
                  <a:ext cx="343080" cy="45072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53" name="Rectangle 12"/>
              <p:cNvSpPr/>
              <p:nvPr/>
            </p:nvSpPr>
            <p:spPr>
              <a:xfrm>
                <a:off x="1104840" y="86112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Rectangle 13"/>
              <p:cNvSpPr/>
              <p:nvPr/>
            </p:nvSpPr>
            <p:spPr>
              <a:xfrm>
                <a:off x="1695600" y="42696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Rectangle 14"/>
              <p:cNvSpPr/>
              <p:nvPr/>
            </p:nvSpPr>
            <p:spPr>
              <a:xfrm flipV="1">
                <a:off x="1398600" y="1206720"/>
                <a:ext cx="8088120" cy="5292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6" name="Text Box 15"/>
            <p:cNvSpPr/>
            <p:nvPr/>
          </p:nvSpPr>
          <p:spPr>
            <a:xfrm>
              <a:off x="2219400" y="49932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Text Box 16"/>
            <p:cNvSpPr/>
            <p:nvPr/>
          </p:nvSpPr>
          <p:spPr>
            <a:xfrm>
              <a:off x="1572480" y="1802880"/>
              <a:ext cx="5175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8" name="Text Box 17"/>
          <p:cNvSpPr/>
          <p:nvPr/>
        </p:nvSpPr>
        <p:spPr>
          <a:xfrm>
            <a:off x="2054160" y="172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657000" y="208728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1339920" y="1527120"/>
            <a:ext cx="2122560" cy="15746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论点：世有伯乐，然后有千里马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0"/>
          <p:cNvSpPr/>
          <p:nvPr/>
        </p:nvSpPr>
        <p:spPr>
          <a:xfrm>
            <a:off x="3498840" y="2019240"/>
            <a:ext cx="681120" cy="486000"/>
          </a:xfrm>
          <a:prstGeom prst="rightArrow">
            <a:avLst>
              <a:gd name="adj1" fmla="val 43139"/>
              <a:gd name="adj2" fmla="val 5150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4176720" y="1562040"/>
            <a:ext cx="2120760" cy="15746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面论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里马常有，而伯乐不常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AutoShape 22"/>
          <p:cNvSpPr/>
          <p:nvPr/>
        </p:nvSpPr>
        <p:spPr>
          <a:xfrm>
            <a:off x="6308640" y="2041560"/>
            <a:ext cx="730440" cy="485640"/>
          </a:xfrm>
          <a:prstGeom prst="rightArrow">
            <a:avLst>
              <a:gd name="adj1" fmla="val 43139"/>
              <a:gd name="adj2" fmla="val 5527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7083360" y="1449360"/>
            <a:ext cx="2712960" cy="11912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面论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虽有名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以千里称也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52320" y="4486320"/>
            <a:ext cx="7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二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1657440" y="4537080"/>
            <a:ext cx="1776240" cy="6426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一步从反面论证</a:t>
            </a: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3795840" y="244440"/>
            <a:ext cx="319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小结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AutoShape 27"/>
          <p:cNvSpPr/>
          <p:nvPr/>
        </p:nvSpPr>
        <p:spPr>
          <a:xfrm>
            <a:off x="3468600" y="4913280"/>
            <a:ext cx="976320" cy="485640"/>
          </a:xfrm>
          <a:prstGeom prst="rightArrow">
            <a:avLst>
              <a:gd name="adj1" fmla="val 43139"/>
              <a:gd name="adj2" fmla="val 7388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7"/>
          <p:cNvSpPr/>
          <p:nvPr/>
        </p:nvSpPr>
        <p:spPr>
          <a:xfrm>
            <a:off x="636480" y="884160"/>
            <a:ext cx="6987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第三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1306440" y="311040"/>
            <a:ext cx="1978200" cy="15746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排比句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策马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辛辣的嘲讽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3855960" y="539640"/>
            <a:ext cx="1690920" cy="15746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勾画执策者狂妄无知的形象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6370560" y="198360"/>
            <a:ext cx="3035520" cy="6426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厉声反诘执策者，表达中心：其真不知马与开头的论点相照应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21"/>
          <p:cNvSpPr/>
          <p:nvPr/>
        </p:nvSpPr>
        <p:spPr>
          <a:xfrm>
            <a:off x="641160" y="34336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归纳全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1415880" y="3460680"/>
            <a:ext cx="8071200" cy="11912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文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，写法灵活，讲究文采，言辞华丽，是一篇寓言式杂文，借伯乐和千里马为喻，对在位者的不能识别人才，表达了强烈的愤慨。也流露了作者怀才不遇的愤激之情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23"/>
          <p:cNvSpPr/>
          <p:nvPr/>
        </p:nvSpPr>
        <p:spPr>
          <a:xfrm>
            <a:off x="3384720" y="1382760"/>
            <a:ext cx="258480" cy="485640"/>
          </a:xfrm>
          <a:prstGeom prst="rightArrow">
            <a:avLst>
              <a:gd name="adj1" fmla="val 43139"/>
              <a:gd name="adj2" fmla="val 367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24"/>
          <p:cNvSpPr/>
          <p:nvPr/>
        </p:nvSpPr>
        <p:spPr>
          <a:xfrm>
            <a:off x="5878440" y="1365120"/>
            <a:ext cx="304920" cy="486000"/>
          </a:xfrm>
          <a:prstGeom prst="rightArrow">
            <a:avLst>
              <a:gd name="adj1" fmla="val 43139"/>
              <a:gd name="adj2" fmla="val 367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a3-50-93"/>
          <p:cNvPicPr/>
          <p:nvPr/>
        </p:nvPicPr>
        <p:blipFill>
          <a:blip r:embed="rId1"/>
          <a:stretch/>
        </p:blipFill>
        <p:spPr>
          <a:xfrm>
            <a:off x="766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766800" y="872280"/>
            <a:ext cx="9144000" cy="52750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Verdana"/>
              </a:rPr>
              <a:t>思考：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马说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结合创作背景来看，作者借古代伯乐和千里马的故事，揭露封建统治者埋没人才的现象，也表达作者怀才不遇的愤意。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Verdana"/>
              </a:rPr>
              <a:t>人才发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为话题，结合现今社会的状况及自己身边的情况，试着从</a:t>
            </a:r>
            <a:r>
              <a:rPr b="1" lang="zh-CN" sz="3600" spc="-1" strike="noStrike">
                <a:solidFill>
                  <a:srgbClr val="cc0099"/>
                </a:solidFill>
                <a:latin typeface="Verdana"/>
              </a:rPr>
              <a:t>多个角度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谈谈你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人才发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的看法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a3-50-93"/>
          <p:cNvPicPr/>
          <p:nvPr/>
        </p:nvPicPr>
        <p:blipFill>
          <a:blip r:embed="rId1"/>
          <a:stretch/>
        </p:blipFill>
        <p:spPr>
          <a:xfrm>
            <a:off x="766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766800" y="1105560"/>
            <a:ext cx="9144000" cy="61974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99"/>
                </a:solidFill>
                <a:uFillTx/>
                <a:latin typeface="Verdana"/>
                <a:ea typeface="华文新魏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Verdana"/>
                <a:ea typeface="华文新魏"/>
              </a:rPr>
              <a:t>千里马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多好的草地也会有瘦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草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作为一个统一的生活环境或客观条件，同样会有不同的结果：同样的家庭、同样的重点班级，同样设备的企业，有的可以成才，有的一事无成，有的大有作为，有的被淘汰，有的壮大发展，有的被迫倒闭。</a:t>
            </a:r>
            <a:r>
              <a:rPr b="1" lang="zh-CN" sz="3200" spc="-1" strike="noStrike">
                <a:solidFill>
                  <a:srgbClr val="cc0099"/>
                </a:solidFill>
                <a:latin typeface="Verdana"/>
                <a:ea typeface="华文新魏"/>
              </a:rPr>
              <a:t>（自身不努力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Verdana"/>
                <a:ea typeface="华文新魏"/>
              </a:rPr>
              <a:t>伯乐：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马说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当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世有伯乐，然后有千里马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如果你是千里马，是否一定要得到伯乐的赏识？</a:t>
            </a:r>
            <a:r>
              <a:rPr b="1" lang="zh-CN" sz="3200" spc="-1" strike="noStrike">
                <a:solidFill>
                  <a:srgbClr val="cc0099"/>
                </a:solidFill>
                <a:latin typeface="Verdana"/>
                <a:ea typeface="华文新魏"/>
              </a:rPr>
              <a:t>（不靠他人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Verdana"/>
                <a:ea typeface="华文新魏"/>
              </a:rPr>
              <a:t>食马者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：对社会发展的负面影响、不要限制人才的发展方向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Verdana"/>
                <a:ea typeface="华文新魏"/>
              </a:rPr>
              <a:t>机遇：等待机遇、抓住机遇，勇于表现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Verdana"/>
                <a:ea typeface="华文新魏"/>
              </a:rPr>
              <a:t>大环境：公平、和平、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766800" y="5202360"/>
            <a:ext cx="907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2903400" y="-291960"/>
            <a:ext cx="54723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良马对    岳飞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620640" y="1341360"/>
            <a:ext cx="91440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高宗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宋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谓岳飞曰：“卿得良马否？”对曰：“臣有二马。日啖刍豆数斗，钦泉一斛（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ù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量器，一斛十斗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，然非精洁即不爱。介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披甲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而驰，初不甚疾，比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ì,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等到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行百里，始奋迅。自午至酉，犹可二百里。褫（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hǐ,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解脱）鞍甲而不息不汗，若无事然。此其受大而不苟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随便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取，力裕而不逞，致远之才也，不幸相继以死。今所乘者，日不过数升，而秣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mò,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饲料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不择粟，饮不择泉。揽辔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驾马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未安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稳当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，踊跃疾驱，甫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刚刚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百里，力竭汗喘，殆（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dài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，危险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欲毙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死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然。此其寡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少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取易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容易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盈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满足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，好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喜欢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逞易穷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穷尽，本领完了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，驽钝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不好的马，下等的马</a:t>
            </a: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）之材也。”高宗称善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620640" y="-103320"/>
            <a:ext cx="22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课外资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620640" y="684360"/>
            <a:ext cx="88772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有千里马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伯乐不常有。故虽有名马，祗辱于奴隶人之手，骈死于槽枥之间，不以千里称也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马之千里者，一食或尽粟一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食马者不知其能千里而食也。是马也，虽有千里之能，食不饱，力不足，才美不外见，且欲与常马等不可得，安求其能千里也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策之不以其道，食之不能尽其材，鸣之而不能通其意，执策而临之，曰：“天下无马！”呜呼！其真无马耶？其真不知马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154160" y="83340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世有伯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259680" y="91440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千里马常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38"/>
          <p:cNvSpPr/>
          <p:nvPr/>
        </p:nvSpPr>
        <p:spPr>
          <a:xfrm>
            <a:off x="1231920" y="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9966"/>
                </a:solidFill>
                <a:latin typeface="Times New Roman"/>
                <a:ea typeface="隶书"/>
              </a:rPr>
              <a:t>中考试题选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0160"/>
          <p:cNvPicPr/>
          <p:nvPr/>
        </p:nvPicPr>
        <p:blipFill>
          <a:blip r:embed="rId1"/>
          <a:stretch/>
        </p:blipFill>
        <p:spPr>
          <a:xfrm>
            <a:off x="784080" y="-23760"/>
            <a:ext cx="9677520" cy="6881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1792800" y="915840"/>
            <a:ext cx="6688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依次写出文中“</a:t>
            </a:r>
            <a:r>
              <a:rPr b="1" lang="en-US" sz="32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----------”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处应填入的语句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解释下列句子中加线的词。（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才美不外</a:t>
            </a:r>
            <a:r>
              <a:rPr b="1" lang="zh-CN" sz="3200" spc="-1" strike="noStrike" u="sng">
                <a:solidFill>
                  <a:srgbClr val="993366"/>
                </a:solidFill>
                <a:uFillTx/>
                <a:latin typeface="Times New Roman"/>
              </a:rPr>
              <a:t>见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B. </a:t>
            </a:r>
            <a:r>
              <a:rPr b="1" lang="zh-CN" sz="3200" spc="-1" strike="noStrike" u="sng">
                <a:solidFill>
                  <a:srgbClr val="993366"/>
                </a:solidFill>
                <a:uFillTx/>
                <a:latin typeface="Times New Roman"/>
              </a:rPr>
              <a:t>食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不饱，力不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C.</a:t>
            </a:r>
            <a:r>
              <a:rPr b="1" lang="zh-CN" sz="3200" spc="-1" strike="noStrike" u="sng">
                <a:solidFill>
                  <a:srgbClr val="993366"/>
                </a:solidFill>
                <a:uFillTx/>
                <a:latin typeface="Times New Roman"/>
              </a:rPr>
              <a:t>策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之不以其道                   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执策而</a:t>
            </a:r>
            <a:r>
              <a:rPr b="1" lang="zh-CN" sz="3200" spc="-1" strike="noStrike" u="sng">
                <a:solidFill>
                  <a:srgbClr val="993366"/>
                </a:solidFill>
                <a:uFillTx/>
                <a:latin typeface="Times New Roman"/>
              </a:rPr>
              <a:t>临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指出句中加粗词相当于现代汉语中什么词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故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虽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有名马，祗辱于奴隶人之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虽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有千里之能，食不饱，力不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用现代汉语翻译文中划线的句子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马之千里者，一食或尽粟一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5.“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千里马”在文中寓指怎样的人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836880" y="2338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驾驭，鞭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426120" y="1770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通</a:t>
            </a: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“现”表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8416080" y="233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面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7109640" y="3278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即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6846840" y="3881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虽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812880" y="53672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日行千里的马，吃一顿有时能吃完一石粮食</a:t>
            </a:r>
            <a:r>
              <a:rPr b="1" lang="zh-CN" sz="3200" spc="-1" strike="noStrike">
                <a:solidFill>
                  <a:srgbClr val="3399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9124560" y="175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833480" y="6237360"/>
            <a:ext cx="39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有才能的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29"/>
          <p:cNvSpPr/>
          <p:nvPr/>
        </p:nvSpPr>
        <p:spPr>
          <a:xfrm>
            <a:off x="1216080" y="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9966"/>
                </a:solidFill>
                <a:latin typeface="Times New Roman"/>
                <a:ea typeface="隶书"/>
              </a:rPr>
              <a:t>中考试题选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784080" y="609480"/>
            <a:ext cx="914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之千里者，一食或尽粟一石。食马者不知其能千里而食也。是马也，虽有千里之能，食不饱，力不足，才美不外见，且欲与常马等不可得，安求其能千里也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策之不以其道，食之不能尽其材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执策而临之，曰：“天下无马！”呜呼！其真无马耶？其真不知马也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在上文横线上填上确切的文字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从上文中找出能概括文章主旨的句子：</a:t>
            </a:r>
            <a:r>
              <a:rPr b="1" lang="en-US" sz="3200" spc="-1" strike="noStrike">
                <a:solidFill>
                  <a:srgbClr val="993366"/>
                </a:solidFill>
                <a:latin typeface="宋体"/>
              </a:rPr>
              <a:t>------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从上文的阅读中，围绕发现人才和使用人才的问题，简要说说你的想法</a:t>
            </a:r>
            <a:r>
              <a:rPr b="1" lang="en-US" sz="3200" spc="-1" strike="noStrike">
                <a:solidFill>
                  <a:srgbClr val="9933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7699320" y="216216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鸣之而不能通其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8097840" y="418320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其真不知马也</a:t>
            </a:r>
            <a:r>
              <a:rPr b="1" lang="zh-CN" sz="28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678040" y="6051600"/>
            <a:ext cx="57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评分标准：有正确的思想和独到的见解可以给满分</a:t>
            </a:r>
            <a:r>
              <a:rPr b="0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30176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130176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1650960" y="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9966"/>
                </a:solidFill>
                <a:latin typeface="Times New Roman"/>
                <a:ea typeface="隶书"/>
              </a:rPr>
              <a:t>中考试题选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5"/>
          <p:cNvGrpSpPr/>
          <p:nvPr/>
        </p:nvGrpSpPr>
        <p:grpSpPr>
          <a:xfrm>
            <a:off x="636480" y="0"/>
            <a:ext cx="8719920" cy="6857640"/>
            <a:chOff x="636480" y="0"/>
            <a:chExt cx="8719920" cy="6857640"/>
          </a:xfrm>
        </p:grpSpPr>
        <p:pic>
          <p:nvPicPr>
            <p:cNvPr id="407" name="Picture 16" descr="123"/>
            <p:cNvPicPr/>
            <p:nvPr/>
          </p:nvPicPr>
          <p:blipFill>
            <a:blip r:embed="rId1"/>
            <a:stretch/>
          </p:blipFill>
          <p:spPr>
            <a:xfrm>
              <a:off x="7113240" y="5796000"/>
              <a:ext cx="989640" cy="106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8" name="Group 17"/>
            <p:cNvGrpSpPr/>
            <p:nvPr/>
          </p:nvGrpSpPr>
          <p:grpSpPr>
            <a:xfrm>
              <a:off x="636480" y="0"/>
              <a:ext cx="8719920" cy="1176840"/>
              <a:chOff x="636480" y="0"/>
              <a:chExt cx="8719920" cy="1176840"/>
            </a:xfrm>
          </p:grpSpPr>
          <p:grpSp>
            <p:nvGrpSpPr>
              <p:cNvPr id="409" name="Group 18"/>
              <p:cNvGrpSpPr/>
              <p:nvPr/>
            </p:nvGrpSpPr>
            <p:grpSpPr>
              <a:xfrm>
                <a:off x="917640" y="120600"/>
                <a:ext cx="687960" cy="530280"/>
                <a:chOff x="917640" y="120600"/>
                <a:chExt cx="687960" cy="530280"/>
              </a:xfrm>
            </p:grpSpPr>
            <p:sp>
              <p:nvSpPr>
                <p:cNvPr id="410" name="Rectangle 19"/>
                <p:cNvSpPr/>
                <p:nvPr/>
              </p:nvSpPr>
              <p:spPr>
                <a:xfrm>
                  <a:off x="917640" y="120600"/>
                  <a:ext cx="423360" cy="5302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1" name="Rectangle 20"/>
                <p:cNvSpPr/>
                <p:nvPr/>
              </p:nvSpPr>
              <p:spPr>
                <a:xfrm>
                  <a:off x="1288080" y="120600"/>
                  <a:ext cx="317520" cy="5302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2" name="Group 21"/>
              <p:cNvGrpSpPr/>
              <p:nvPr/>
            </p:nvGrpSpPr>
            <p:grpSpPr>
              <a:xfrm>
                <a:off x="1037520" y="592920"/>
                <a:ext cx="713880" cy="530280"/>
                <a:chOff x="1037520" y="592920"/>
                <a:chExt cx="713880" cy="530280"/>
              </a:xfrm>
            </p:grpSpPr>
            <p:sp>
              <p:nvSpPr>
                <p:cNvPr id="413" name="Rectangle 22"/>
                <p:cNvSpPr/>
                <p:nvPr/>
              </p:nvSpPr>
              <p:spPr>
                <a:xfrm>
                  <a:off x="1037520" y="592920"/>
                  <a:ext cx="407880" cy="5302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4" name="Rectangle 23"/>
                <p:cNvSpPr/>
                <p:nvPr/>
              </p:nvSpPr>
              <p:spPr>
                <a:xfrm>
                  <a:off x="1394640" y="592920"/>
                  <a:ext cx="356760" cy="5302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15" name="Rectangle 24"/>
              <p:cNvSpPr/>
              <p:nvPr/>
            </p:nvSpPr>
            <p:spPr>
              <a:xfrm>
                <a:off x="636480" y="511200"/>
                <a:ext cx="542520" cy="4719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Rectangle 25"/>
              <p:cNvSpPr/>
              <p:nvPr/>
            </p:nvSpPr>
            <p:spPr>
              <a:xfrm>
                <a:off x="1251000" y="0"/>
                <a:ext cx="30600" cy="11768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7" name="Rectangle 26"/>
              <p:cNvSpPr/>
              <p:nvPr/>
            </p:nvSpPr>
            <p:spPr>
              <a:xfrm flipV="1">
                <a:off x="942120" y="918360"/>
                <a:ext cx="8414280" cy="622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8" name="Text Box 27"/>
            <p:cNvSpPr/>
            <p:nvPr/>
          </p:nvSpPr>
          <p:spPr>
            <a:xfrm>
              <a:off x="1794240" y="85320"/>
              <a:ext cx="6788160" cy="4575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Text Box 28"/>
            <p:cNvSpPr/>
            <p:nvPr/>
          </p:nvSpPr>
          <p:spPr>
            <a:xfrm>
              <a:off x="1121400" y="1619640"/>
              <a:ext cx="53859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0" name="Text Box 2"/>
          <p:cNvSpPr/>
          <p:nvPr/>
        </p:nvSpPr>
        <p:spPr>
          <a:xfrm>
            <a:off x="636480" y="13874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马之千里者，一食或尽粟一石。食马者不知其能千里而食也。是马也，虽有千里之能，食不饱，力不足，才美不外见，且欲与常马等不可得，安求其能千里也？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策之不以其道，食之不能尽其材，鸣之而不能通其意，执策而临之，曰：“天下无马！”呜呼！</a:t>
            </a:r>
            <a:r>
              <a:rPr b="1" lang="zh-CN" sz="3600" spc="-1" strike="noStrike" u="sng">
                <a:solidFill>
                  <a:srgbClr val="993366"/>
                </a:solidFill>
                <a:uFillTx/>
                <a:latin typeface="楷体_GB2312"/>
                <a:ea typeface="楷体_GB2312"/>
              </a:rPr>
              <a:t>其真无马耶？其真不知马也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。 </a:t>
            </a: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115416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11541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3659400" y="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9966"/>
                </a:solidFill>
                <a:latin typeface="Times New Roman"/>
                <a:ea typeface="隶书"/>
              </a:rPr>
              <a:t>中考试题选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026"/>
          <p:cNvSpPr/>
          <p:nvPr/>
        </p:nvSpPr>
        <p:spPr>
          <a:xfrm>
            <a:off x="1949400" y="1108080"/>
            <a:ext cx="428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解释下列加线的词语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宋体"/>
              </a:rPr>
              <a:t>A.</a:t>
            </a:r>
            <a:r>
              <a:rPr b="1" lang="zh-CN" sz="32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食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马者不知其能千里而食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宋体"/>
              </a:rPr>
              <a:t>B.</a:t>
            </a:r>
            <a:r>
              <a:rPr b="1" lang="zh-CN" sz="32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策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之不以其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宋体"/>
              </a:rPr>
              <a:t>C.</a:t>
            </a:r>
            <a:r>
              <a:rPr b="1" lang="zh-CN" sz="32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安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求其能千里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一食</a:t>
            </a:r>
            <a:r>
              <a:rPr b="1" lang="zh-CN" sz="32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尽粟一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用现代汉语翻译文中划线的句子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66"/>
                </a:solidFill>
                <a:uFillTx/>
                <a:latin typeface="楷体_GB2312"/>
                <a:ea typeface="楷体_GB2312"/>
              </a:rPr>
              <a:t>其真无马耶？其真不知马也</a:t>
            </a:r>
            <a:r>
              <a:rPr b="1" lang="zh-CN" sz="32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993366"/>
                </a:solidFill>
                <a:latin typeface="宋体"/>
              </a:rPr>
              <a:t>本文表达了作者怎样的思想感情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1027"/>
          <p:cNvSpPr/>
          <p:nvPr/>
        </p:nvSpPr>
        <p:spPr>
          <a:xfrm>
            <a:off x="2525040" y="45878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难道真的没有千里马吗？其实是他不识千里马啊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1028"/>
          <p:cNvSpPr/>
          <p:nvPr/>
        </p:nvSpPr>
        <p:spPr>
          <a:xfrm>
            <a:off x="2606040" y="5518080"/>
            <a:ext cx="5789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作者借千里马被埋没，抒发了自己怀才不遇的愤懑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表达了对封建统治者埋没人才的强烈不满</a:t>
            </a:r>
            <a:r>
              <a:rPr b="1" lang="zh-CN" sz="3600" spc="-1" strike="noStrike">
                <a:solidFill>
                  <a:srgbClr val="3399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1029"/>
          <p:cNvSpPr/>
          <p:nvPr/>
        </p:nvSpPr>
        <p:spPr>
          <a:xfrm>
            <a:off x="6852240" y="16318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通“饲”，喂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1030"/>
          <p:cNvSpPr/>
          <p:nvPr/>
        </p:nvSpPr>
        <p:spPr>
          <a:xfrm>
            <a:off x="4724280" y="212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驾驭，鞭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1031"/>
          <p:cNvSpPr/>
          <p:nvPr/>
        </p:nvSpPr>
        <p:spPr>
          <a:xfrm>
            <a:off x="4861440" y="2604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怎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1032"/>
          <p:cNvSpPr/>
          <p:nvPr/>
        </p:nvSpPr>
        <p:spPr>
          <a:xfrm>
            <a:off x="4769640" y="310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有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1062"/>
          <p:cNvSpPr/>
          <p:nvPr/>
        </p:nvSpPr>
        <p:spPr>
          <a:xfrm>
            <a:off x="1346400" y="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9966"/>
                </a:solidFill>
                <a:latin typeface="Times New Roman"/>
                <a:ea typeface="隶书"/>
              </a:rPr>
              <a:t>中考试题选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4"/>
          <p:cNvSpPr/>
          <p:nvPr/>
        </p:nvSpPr>
        <p:spPr>
          <a:xfrm>
            <a:off x="636480" y="1876320"/>
            <a:ext cx="9144000" cy="57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价十倍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战国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有卖骏马者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立市，人莫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                                                                                                 往见伯乐，曰：“臣有骏马欲卖之，比三        旦立于市，人莫与言。愿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顾之，臣请献 一朝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” 伯乐还而视之，去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。一旦而马价十倍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2639880" y="2467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接连，连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866880" y="196920"/>
            <a:ext cx="29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  <a:ea typeface="隶书"/>
              </a:rPr>
              <a:t>扩展阅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26"/>
          <p:cNvSpPr/>
          <p:nvPr/>
        </p:nvSpPr>
        <p:spPr>
          <a:xfrm>
            <a:off x="5045040" y="2428920"/>
            <a:ext cx="11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早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8479080" y="2370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过问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5366160" y="42879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同“环”，环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 Box 29"/>
          <p:cNvSpPr/>
          <p:nvPr/>
        </p:nvSpPr>
        <p:spPr>
          <a:xfrm>
            <a:off x="8218080" y="5043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回头望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30"/>
          <p:cNvSpPr/>
          <p:nvPr/>
        </p:nvSpPr>
        <p:spPr>
          <a:xfrm>
            <a:off x="1706400" y="5854680"/>
            <a:ext cx="32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同“价”，酬金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1066680" y="990720"/>
            <a:ext cx="6858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方正粗倩简体"/>
                <a:ea typeface="方正粗倩简体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方正粗倩简体"/>
                <a:ea typeface="方正粗倩简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方正粗倩简体"/>
                <a:ea typeface="方正粗倩简体"/>
              </a:rPr>
              <a:t>、背诵课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方正粗倩简体"/>
                <a:ea typeface="方正粗倩简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方正粗倩简体"/>
                <a:ea typeface="方正粗倩简体"/>
              </a:rPr>
              <a:t>、围绕课文当中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粗倩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方正粗倩简体"/>
                <a:ea typeface="方正粗倩简体"/>
              </a:rPr>
              <a:t>人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粗倩简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方正粗倩简体"/>
                <a:ea typeface="方正粗倩简体"/>
              </a:rPr>
              <a:t>这个话题，选取一个角度，写一篇不少于</a:t>
            </a:r>
            <a:r>
              <a:rPr b="1" lang="en-US" sz="4000" spc="-1" strike="noStrike">
                <a:solidFill>
                  <a:srgbClr val="0000ff"/>
                </a:solidFill>
                <a:latin typeface="方正粗倩简体"/>
                <a:ea typeface="方正粗倩简体"/>
              </a:rPr>
              <a:t>300</a:t>
            </a:r>
            <a:r>
              <a:rPr b="1" lang="zh-CN" sz="4000" spc="-1" strike="noStrike">
                <a:solidFill>
                  <a:srgbClr val="0000ff"/>
                </a:solidFill>
                <a:latin typeface="方正粗倩简体"/>
                <a:ea typeface="方正粗倩简体"/>
              </a:rPr>
              <a:t>字的读后感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0162"/>
          <p:cNvPicPr/>
          <p:nvPr/>
        </p:nvPicPr>
        <p:blipFill>
          <a:blip r:embed="rId1"/>
          <a:stretch/>
        </p:blipFill>
        <p:spPr>
          <a:xfrm>
            <a:off x="91440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4" name="Rectangle 6"/>
          <p:cNvSpPr/>
          <p:nvPr/>
        </p:nvSpPr>
        <p:spPr>
          <a:xfrm>
            <a:off x="136440" y="571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156200" y="5410080"/>
            <a:ext cx="1400040" cy="703440"/>
          </a:xfrm>
          <a:prstGeom prst="rect">
            <a:avLst/>
          </a:prstGeom>
          <a:solidFill>
            <a:srgbClr val="0080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并驾齐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0161"/>
          <p:cNvPicPr/>
          <p:nvPr/>
        </p:nvPicPr>
        <p:blipFill>
          <a:blip r:embed="rId1"/>
          <a:stretch/>
        </p:blipFill>
        <p:spPr>
          <a:xfrm>
            <a:off x="7509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4664160" y="5867280"/>
            <a:ext cx="688320" cy="703440"/>
          </a:xfrm>
          <a:prstGeom prst="rect">
            <a:avLst/>
          </a:prstGeom>
          <a:solidFill>
            <a:srgbClr val="8080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Times New Roman"/>
                <a:ea typeface="楷体_GB2312"/>
              </a:rPr>
              <a:t>骐骥一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719280" y="0"/>
            <a:ext cx="9221760" cy="1568520"/>
          </a:xfrm>
          <a:prstGeom prst="rect">
            <a:avLst/>
          </a:prstGeom>
          <a:solidFill>
            <a:srgbClr val="fee1a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：是古代的一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议论体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是一些文人志士对事对物有感而发，宣泄心中郁闷，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托物寓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一种体裁。说可以发表议论，也可以记事，都是为了说明一个道理，跟现在的杂文相近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马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即谈马、论马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19280" y="4556160"/>
            <a:ext cx="9144000" cy="1568520"/>
          </a:xfrm>
          <a:prstGeom prst="rect">
            <a:avLst/>
          </a:prstGeom>
          <a:solidFill>
            <a:srgbClr val="fee1a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比如此类文章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龙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师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爱莲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捕蛇者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等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735120" y="0"/>
            <a:ext cx="47019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735120" y="59436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14" descr="聊斋志异——促织1"/>
          <p:cNvPicPr/>
          <p:nvPr/>
        </p:nvPicPr>
        <p:blipFill>
          <a:blip r:embed="rId2"/>
          <a:srcRect l="44448" t="0" r="14283" b="13638"/>
          <a:stretch/>
        </p:blipFill>
        <p:spPr>
          <a:xfrm>
            <a:off x="5427720" y="0"/>
            <a:ext cx="44514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5"/>
          <p:cNvSpPr/>
          <p:nvPr/>
        </p:nvSpPr>
        <p:spPr>
          <a:xfrm>
            <a:off x="735120" y="0"/>
            <a:ext cx="8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Verdana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587520" y="0"/>
            <a:ext cx="88185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韩愈 （公元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768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－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824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年） ，字退之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河南河阳（今河南省孟县）人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唐代文学家、思想家。散文尤其著名，有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文起八代之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美誉，与柳宗元同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古文运动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倡导者，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唐宋八大家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之首。自谓郡望（郡里的显贵家族）昌黎，世称韩昌黎，谥号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文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，又称韩文公，官至吏部侍郎，故又称韩吏部。著有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昌黎先生集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。 在政治上，他反对藩政割剧，思想上尊儒排佛，文学上极力反对六朝以来的骈偶文风，提倡散体；其主张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文以载道、文道结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。与柳宗元并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韩柳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587520" y="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华文细黑"/>
                <a:ea typeface="华文细黑"/>
              </a:rPr>
              <a:t>创作背景：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细黑"/>
                <a:ea typeface="华文细黑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这篇</a:t>
            </a:r>
            <a:r>
              <a:rPr b="1" lang="en-US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马说</a:t>
            </a:r>
            <a:r>
              <a:rPr b="1" lang="en-US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》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大约作于贞元十一年至十六年间。这时，韩愈初登仕途，很不得志。他曾三次上书宰相求擢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（ｚｈｕ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ó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用。很可惜有“忧天下之心”的他，终未被采纳。后来又相继依附于一些节度使幕下，郁郁不得志，再加上当时奸佞当权，政治黑暗，有才能之士不受重视，所以他有“伯乐不常有”之叹。本文选自</a:t>
            </a:r>
            <a:r>
              <a:rPr b="1" lang="en-US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昌黎先生文集</a:t>
            </a:r>
            <a:r>
              <a:rPr b="1" lang="en-US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》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里的</a:t>
            </a:r>
            <a:r>
              <a:rPr b="1" lang="en-US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杂说</a:t>
            </a:r>
            <a:r>
              <a:rPr b="1" lang="en-US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》</a:t>
            </a:r>
            <a:r>
              <a:rPr b="1" lang="zh-CN" sz="3600" spc="-1" strike="noStrike">
                <a:solidFill>
                  <a:srgbClr val="000099"/>
                </a:solidFill>
                <a:latin typeface="华文细黑"/>
                <a:ea typeface="华文细黑"/>
              </a:rPr>
              <a:t>；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杂说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共有四篇，这是第四篇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0:54:13Z</dcterms:created>
  <dc:creator>jxp</dc:creator>
  <dc:description/>
  <dc:language>en-US</dc:language>
  <cp:lastModifiedBy>wxsw</cp:lastModifiedBy>
  <dcterms:modified xsi:type="dcterms:W3CDTF">2014-12-03T06:18:48Z</dcterms:modified>
  <cp:revision>1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