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chimes.wav" ContentType="audio/x-wav"/>
  <Override PartName="/ppt/media/Click.wav" ContentType="audio/x-wav"/>
  <Override PartName="/ppt/media/image1.jpeg" ContentType="image/jpeg"/>
  <Override PartName="/ppt/media/image5.png" ContentType="image/png"/>
  <Override PartName="/ppt/media/image10.png" ContentType="image/png"/>
  <Override PartName="/ppt/media/TYPE.WAV" ContentType="audio/x-wav"/>
  <Override PartName="/ppt/media/image8.png" ContentType="image/png"/>
  <Override PartName="/ppt/media/arrow.wav" ContentType="audio/x-wav"/>
  <Override PartName="/ppt/media/image7.gif" ContentType="image/gif"/>
  <Override PartName="/ppt/media/image3.png" ContentType="image/png"/>
  <Override PartName="/ppt/media/cashreg.wav" ContentType="audio/x-wav"/>
  <Override PartName="/ppt/media/%E6%96%87%E4%BD%93%E4%BD%9C%E8%80%85%E9%85%8D%E9%9F%B3.wav" ContentType="audio/x-wav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17B-305C-41EB-877F-DC0DEF8A8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136-1C1A-4E69-A0D0-EE690EE1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B52-F0B4-4088-97EC-867B86DC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B09-E897-4AA8-9978-4A6C6BD2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2A8-36CA-4A0E-98CC-FC79D9CD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7B9-F85C-469E-81DA-1D4DA696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B54-A924-4E00-A0DA-CF4D165A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D9A-5953-4D81-840A-A1D6947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C4F6-F1E0-498C-9C9F-CC4E6301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629-69A6-41C6-9C10-04B85798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3DD-6AB1-4B0E-B893-FABDAD31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E72-C46D-497D-9306-E11A0F4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2F18-C61B-489B-904B-3317F1F5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EDE-D9B9-4E7C-A343-1B655D9A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C22D-C996-4EF4-994D-91CD0E6E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FD87-0BCA-44A5-990C-582A8D5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EBD1-3E97-4860-B8AC-8B366C0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F8A2-CF92-4B8B-B13C-C791A97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301D-C187-4EBA-94FB-7062132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733-244A-4177-B586-5B84EAE4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DD0-9860-45B2-9840-D7369E16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5C5-E1FA-413B-A37F-4655163D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D85-0277-4417-8D37-2CD9946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EAA-92B6-43BE-9E91-24E3197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8D9-0EC1-452C-92A2-38D66C9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0E2-F68F-4D08-BFF0-A7AAA5F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0C6-70DF-4913-9BF7-93523A5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9F2-C738-4E35-834A-A2F12B9BD4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F50B-95CB-427F-864A-22A0739F17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&#39532;&#35828;&#35838;&#20214;&#37197;&#38899;.wav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&#25991;&#20307;&#20316;&#32773;&#37197;&#38899;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&#25991;&#20307;&#20316;&#32773;&#37197;&#38899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t2"/>
          <p:cNvPicPr/>
          <p:nvPr/>
        </p:nvPicPr>
        <p:blipFill>
          <a:blip r:embed="rId1"/>
          <a:stretch/>
        </p:blipFill>
        <p:spPr>
          <a:xfrm>
            <a:off x="1616040" y="0"/>
            <a:ext cx="7527960" cy="564516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 rot="5400000">
            <a:off x="2008080" y="1739880"/>
            <a:ext cx="2011320" cy="1379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16200000"/>
                </a:gradFill>
                <a:latin typeface="隶书"/>
              </a:rPr>
              <a:t>马说</a:t>
            </a:r>
            <a:endParaRPr b="1" lang="en-US" sz="2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ffbf00"/>
                  </a:gs>
                </a:gsLst>
                <a:lin ang="16200000"/>
              </a:gradFill>
              <a:latin typeface="隶书"/>
              <a:ea typeface="隶书"/>
            </a:endParaRPr>
          </a:p>
        </p:txBody>
      </p:sp>
      <p:pic>
        <p:nvPicPr>
          <p:cNvPr id="182" name="Picture 4" descr="gif0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3960" y="2781360"/>
            <a:ext cx="4516560" cy="32353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03400" y="577800"/>
            <a:ext cx="50882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33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637080" y="2633760"/>
            <a:ext cx="3929040" cy="5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马1"/>
          <p:cNvPicPr/>
          <p:nvPr/>
        </p:nvPicPr>
        <p:blipFill>
          <a:blip r:embed="rId1"/>
          <a:stretch/>
        </p:blipFill>
        <p:spPr>
          <a:xfrm>
            <a:off x="735120" y="0"/>
            <a:ext cx="9219960" cy="69152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3"/>
          <p:cNvSpPr txBox="1"/>
          <p:nvPr/>
        </p:nvSpPr>
        <p:spPr>
          <a:xfrm>
            <a:off x="3554280" y="1522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1" strike="noStrike">
                <a:ln w="1908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课文分析</a:t>
            </a:r>
            <a:endParaRPr b="1" lang="en-US" sz="2600" spc="1" strike="noStrike">
              <a:ln w="19080">
                <a:solidFill>
                  <a:srgbClr val="ccffff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64240" y="3048120"/>
            <a:ext cx="78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华文彩云"/>
                <a:ea typeface="华文彩云"/>
              </a:rPr>
              <a:t>马       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878120" y="2438280"/>
            <a:ext cx="304560" cy="3124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3164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639880" y="3505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335320" y="3672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揭示千里马被埋没的根本原因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4316400" y="44956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2259000" y="21477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说明伯乐对千里马命运的决定作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2259000" y="53341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对执策者的“不知马”进行辛辣的讽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12"/>
          <p:cNvGrpSpPr/>
          <p:nvPr/>
        </p:nvGrpSpPr>
        <p:grpSpPr>
          <a:xfrm>
            <a:off x="8550000" y="2133720"/>
            <a:ext cx="1023840" cy="3504960"/>
            <a:chOff x="8550000" y="2133720"/>
            <a:chExt cx="1023840" cy="3504960"/>
          </a:xfrm>
        </p:grpSpPr>
        <p:sp>
          <p:nvSpPr>
            <p:cNvPr id="266" name="Text Box 13"/>
            <p:cNvSpPr/>
            <p:nvPr/>
          </p:nvSpPr>
          <p:spPr>
            <a:xfrm>
              <a:off x="8799120" y="2133720"/>
              <a:ext cx="54612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14"/>
            <p:cNvSpPr/>
            <p:nvPr/>
          </p:nvSpPr>
          <p:spPr>
            <a:xfrm rot="10726800">
              <a:off x="8583120" y="2361600"/>
              <a:ext cx="304560" cy="31240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81360 h 3124080"/>
                <a:gd name="textAreaBottom" fmla="*/ 304272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8906040" y="2806920"/>
              <a:ext cx="667800" cy="23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Times New Roman"/>
                </a:rPr>
                <a:t>层层递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16"/>
          <p:cNvSpPr/>
          <p:nvPr/>
        </p:nvSpPr>
        <p:spPr>
          <a:xfrm>
            <a:off x="1116000" y="1371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课文共三小节，每一小节分别阐述了什么观点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750960" y="136440"/>
            <a:ext cx="88995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718f75"/>
                </a:solidFill>
                <a:latin typeface="黑体"/>
                <a:ea typeface="黑体"/>
              </a:rPr>
              <a:t>自学指导一：重点词语解释</a:t>
            </a:r>
            <a:br>
              <a:rPr sz="40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马之千里者 之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世有伯乐 伯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然后有千里马 千里马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祗辱于奴隶之手 祗：         辱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骈死于槽枥之间 骈：       槽枥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不以千里称也 以：        称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一食或尽粟一石 一食：      尽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才美不外见 才美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欲与常马等不可得 常：     等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一食或尽粟一石 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策之不以其道 道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食之不能尽其材 尽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鸣之而不能通其意 鸣：              通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执策而临之 临：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其真不知马也 知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安求其能千里耶？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827520" y="54756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助词，无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09880" y="892080"/>
            <a:ext cx="642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擅长相马之人，本文指识别人才的人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822920" y="1217520"/>
            <a:ext cx="505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行千里的马，本文指人才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464000" y="1593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只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6854760" y="1577880"/>
            <a:ext cx="13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辱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416480" y="193824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马并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6734160" y="1967040"/>
            <a:ext cx="31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喂牲口用的食器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118040" y="2263680"/>
            <a:ext cx="24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凭，凭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6342120" y="223200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著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4791240" y="2608200"/>
            <a:ext cx="18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吃一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586560" y="257508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吃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4157640" y="2901960"/>
            <a:ext cx="41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才能，美好的素质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4773600" y="324468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普通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6456240" y="3260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等同，一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4724280" y="363708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4284720" y="3914640"/>
            <a:ext cx="38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，正确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4186080" y="6445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627440" y="4287960"/>
            <a:ext cx="13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竭尽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970520" y="4665600"/>
            <a:ext cx="17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马鸣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8217000" y="4649760"/>
            <a:ext cx="138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晓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3990960" y="497520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4479840" y="5424480"/>
            <a:ext cx="2494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识别，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4970520" y="567864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怎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04440" y="1628640"/>
            <a:ext cx="647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Calibri"/>
                <a:ea typeface="黑体"/>
              </a:rPr>
              <a:t>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236600" y="41904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自学指导二：解释下列划线字的意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655720" y="148428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{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262680" y="148428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执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策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而临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策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之不以其道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152800" y="27082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513160" y="2492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"/>
                <a:ea typeface="隶书"/>
              </a:rPr>
              <a:t>{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873520" y="227664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食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不饱，力不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一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食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或尽粟一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食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之不能尽其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食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马者不知其能千里而食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2152800" y="4354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</a:rPr>
              <a:t>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2873520" y="378936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食马者不知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其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能千里而食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其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真无马邪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其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真不知马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586240" y="417204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"/>
                <a:ea typeface="隶书"/>
              </a:rPr>
              <a:t>{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222408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2944800" y="49417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骈死于槽枥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策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不以其道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鸣</a:t>
            </a: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  <a:ea typeface="隶书"/>
              </a:rPr>
              <a:t>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隶书"/>
              </a:rPr>
              <a:t>而不能通其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2585880" y="51577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  <a:ea typeface="隶书"/>
              </a:rPr>
              <a:t>{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5248440" y="1557360"/>
            <a:ext cx="22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鞭子，名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用鞭子打，动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746136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5608800" y="2190600"/>
            <a:ext cx="236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宋体"/>
                <a:ea typeface="Arial"/>
              </a:rPr>
              <a:t>}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shí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977160" y="3068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宋体"/>
                <a:ea typeface="Arial"/>
              </a:rPr>
              <a:t>}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Ì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通“饲”，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6977160" y="3933720"/>
            <a:ext cx="23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指代“千里马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难道，表反问语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恐怕，表推测语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5897520" y="4967280"/>
            <a:ext cx="31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”，结构助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指代“千里马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无意义，调节音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9810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3"/>
          <p:cNvSpPr/>
          <p:nvPr/>
        </p:nvSpPr>
        <p:spPr>
          <a:xfrm>
            <a:off x="784080" y="6308640"/>
            <a:ext cx="648000" cy="360360"/>
          </a:xfrm>
          <a:custGeom>
            <a:avLst/>
            <a:gdLst>
              <a:gd name="textAreaLeft" fmla="*/ 23040 w 648000"/>
              <a:gd name="textAreaRight" fmla="*/ 624960 w 64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24" h="21600">
                <a:moveTo>
                  <a:pt x="0" y="0"/>
                </a:moveTo>
                <a:lnTo>
                  <a:pt x="38824" y="0"/>
                </a:lnTo>
                <a:lnTo>
                  <a:pt x="38824" y="21600"/>
                </a:lnTo>
                <a:lnTo>
                  <a:pt x="0" y="21600"/>
                </a:lnTo>
                <a:close/>
              </a:path>
              <a:path fill="lightenLess" w="38824" h="21600">
                <a:moveTo>
                  <a:pt x="0" y="0"/>
                </a:moveTo>
                <a:lnTo>
                  <a:pt x="38824" y="0"/>
                </a:lnTo>
                <a:lnTo>
                  <a:pt x="37424" y="1400"/>
                </a:lnTo>
                <a:lnTo>
                  <a:pt x="1400" y="1400"/>
                </a:lnTo>
                <a:close/>
              </a:path>
              <a:path fill="darken" w="38824" h="21600">
                <a:moveTo>
                  <a:pt x="38824" y="0"/>
                </a:moveTo>
                <a:lnTo>
                  <a:pt x="38824" y="21600"/>
                </a:lnTo>
                <a:lnTo>
                  <a:pt x="37424" y="20200"/>
                </a:lnTo>
                <a:lnTo>
                  <a:pt x="37424" y="1400"/>
                </a:lnTo>
                <a:close/>
              </a:path>
              <a:path fill="darkenLess" w="38824" h="21600">
                <a:moveTo>
                  <a:pt x="3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4" y="20200"/>
                </a:lnTo>
                <a:close/>
              </a:path>
              <a:path fill="lighten" w="3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4" h="21600">
                <a:moveTo>
                  <a:pt x="12405" y="10800"/>
                </a:moveTo>
                <a:lnTo>
                  <a:pt x="26418" y="3794"/>
                </a:lnTo>
                <a:lnTo>
                  <a:pt x="26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1" name="arrow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620640" y="604800"/>
            <a:ext cx="9144000" cy="68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祗辱于奴隶人之手，骈死于槽枥之间，不以千里称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食马者不知其能千里而食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且欲与常马等不可得，安求其能千里也 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策之不以其道，食之不能尽其材，鸣之而不能通其意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其真无马邪？其真不知马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093680" y="2700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自学指导三：翻译句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957240" y="140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963720" y="919080"/>
            <a:ext cx="858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8f75"/>
                </a:solidFill>
                <a:latin typeface="Times New Roman"/>
              </a:rPr>
              <a:t>也只能在仆役的手下受到屈辱，跟普通的马一同死在槽枥之间，不以千里马著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819000" y="2162160"/>
            <a:ext cx="86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8f75"/>
                </a:solidFill>
                <a:latin typeface="Times New Roman"/>
              </a:rPr>
              <a:t>喂马的人不懂得要根据它日行千里的本领来喂养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620640" y="3592440"/>
            <a:ext cx="883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8f75"/>
                </a:solidFill>
                <a:latin typeface="Times New Roman"/>
              </a:rPr>
              <a:t>想要跟普通的马相等尚且办不到，又怎么能要求它日行千里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995400" y="5000760"/>
            <a:ext cx="87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8f75"/>
                </a:solidFill>
                <a:latin typeface="Times New Roman"/>
              </a:rPr>
              <a:t>鞭策它，不按正确的方法，喂养又不能使它充分发挥自己的才能，听它叫却不能通晓它的意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20640" y="63244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8f75"/>
                </a:solidFill>
                <a:latin typeface="Times New Roman"/>
              </a:rPr>
              <a:t>难道果真没有千里马吗？恐怕是他们真不识得千里马啊</a:t>
            </a:r>
            <a:r>
              <a:rPr b="1" lang="en-US" sz="2800" spc="-1" strike="noStrike">
                <a:solidFill>
                  <a:srgbClr val="718f75"/>
                </a:solidFill>
                <a:latin typeface="Times New Roman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4880" y="269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三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94880" y="159660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法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正确熟练背诵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掌握重点字词解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811080" y="117360"/>
            <a:ext cx="8381880" cy="5826240"/>
            <a:chOff x="811080" y="117360"/>
            <a:chExt cx="8381880" cy="5826240"/>
          </a:xfrm>
        </p:grpSpPr>
        <p:pic>
          <p:nvPicPr>
            <p:cNvPr id="326" name="Picture 3" descr="123"/>
            <p:cNvPicPr/>
            <p:nvPr/>
          </p:nvPicPr>
          <p:blipFill>
            <a:blip r:embed="rId1"/>
            <a:stretch/>
          </p:blipFill>
          <p:spPr>
            <a:xfrm>
              <a:off x="7036560" y="504144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" name="Group 4"/>
            <p:cNvGrpSpPr/>
            <p:nvPr/>
          </p:nvGrpSpPr>
          <p:grpSpPr>
            <a:xfrm>
              <a:off x="811080" y="117360"/>
              <a:ext cx="8381880" cy="1000080"/>
              <a:chOff x="811080" y="117360"/>
              <a:chExt cx="8381880" cy="1000080"/>
            </a:xfrm>
          </p:grpSpPr>
          <p:grpSp>
            <p:nvGrpSpPr>
              <p:cNvPr id="328" name="Group 5"/>
              <p:cNvGrpSpPr/>
              <p:nvPr/>
            </p:nvGrpSpPr>
            <p:grpSpPr>
              <a:xfrm>
                <a:off x="1081080" y="219960"/>
                <a:ext cx="661320" cy="451080"/>
                <a:chOff x="1081080" y="219960"/>
                <a:chExt cx="661320" cy="451080"/>
              </a:xfrm>
            </p:grpSpPr>
            <p:sp>
              <p:nvSpPr>
                <p:cNvPr id="329" name="Rectangle 6"/>
                <p:cNvSpPr/>
                <p:nvPr/>
              </p:nvSpPr>
              <p:spPr>
                <a:xfrm>
                  <a:off x="1081080" y="2199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7"/>
                <p:cNvSpPr/>
                <p:nvPr/>
              </p:nvSpPr>
              <p:spPr>
                <a:xfrm>
                  <a:off x="1437120" y="2199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"/>
              <p:cNvGrpSpPr/>
              <p:nvPr/>
            </p:nvGrpSpPr>
            <p:grpSpPr>
              <a:xfrm>
                <a:off x="1196280" y="621000"/>
                <a:ext cx="686520" cy="451080"/>
                <a:chOff x="1196280" y="621000"/>
                <a:chExt cx="686520" cy="451080"/>
              </a:xfrm>
            </p:grpSpPr>
            <p:sp>
              <p:nvSpPr>
                <p:cNvPr id="332" name="Rectangle 9"/>
                <p:cNvSpPr/>
                <p:nvPr/>
              </p:nvSpPr>
              <p:spPr>
                <a:xfrm>
                  <a:off x="1196280" y="6210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10"/>
                <p:cNvSpPr/>
                <p:nvPr/>
              </p:nvSpPr>
              <p:spPr>
                <a:xfrm>
                  <a:off x="1539360" y="6210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11"/>
              <p:cNvSpPr/>
              <p:nvPr/>
            </p:nvSpPr>
            <p:spPr>
              <a:xfrm>
                <a:off x="811080" y="5515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2"/>
              <p:cNvSpPr/>
              <p:nvPr/>
            </p:nvSpPr>
            <p:spPr>
              <a:xfrm>
                <a:off x="1401840" y="1173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3"/>
              <p:cNvSpPr/>
              <p:nvPr/>
            </p:nvSpPr>
            <p:spPr>
              <a:xfrm flipV="1">
                <a:off x="1104840" y="898200"/>
                <a:ext cx="808812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14"/>
            <p:cNvSpPr/>
            <p:nvPr/>
          </p:nvSpPr>
          <p:spPr>
            <a:xfrm>
              <a:off x="1925640" y="1897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5"/>
            <p:cNvSpPr/>
            <p:nvPr/>
          </p:nvSpPr>
          <p:spPr>
            <a:xfrm>
              <a:off x="1278720" y="14932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Rectangle 16"/>
          <p:cNvSpPr/>
          <p:nvPr/>
        </p:nvSpPr>
        <p:spPr>
          <a:xfrm>
            <a:off x="2412000" y="1195560"/>
            <a:ext cx="325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解释下列加线的词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A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马者不知其能千里而食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B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策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之不以其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C.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安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求其能千里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一食</a:t>
            </a:r>
            <a:r>
              <a:rPr b="1" lang="zh-CN" sz="2400" spc="-1" strike="noStrike" u="sng">
                <a:solidFill>
                  <a:srgbClr val="993366"/>
                </a:solidFill>
                <a:uFillTx/>
                <a:latin typeface="黑体"/>
                <a:ea typeface="黑体"/>
              </a:rPr>
              <a:t>或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尽粟一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用现代汉语翻译文中划线的句子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3366"/>
                </a:solidFill>
                <a:uFillTx/>
                <a:latin typeface="楷体_GB2312"/>
                <a:ea typeface="楷体_GB2312"/>
              </a:rPr>
              <a:t>其真无马耶？其真不知马也</a:t>
            </a:r>
            <a:r>
              <a:rPr b="1" lang="zh-CN" sz="24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993366"/>
                </a:solidFill>
                <a:latin typeface="宋体"/>
              </a:rPr>
              <a:t>本文表达了作者怎样的思想感情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496880" y="3762360"/>
            <a:ext cx="74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难道真的没有千里马吗？其实是他不识千里马啊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741240" y="5162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作者借千里马被埋没，抒发了自己怀才不遇的愤懑，表达了对封建统治者埋没人才的强烈不满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6068880" y="152388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通“饲”，喂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4087800" y="1905120"/>
            <a:ext cx="27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驾驭，用鞭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44686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怎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4392720" y="2666880"/>
            <a:ext cx="18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有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3581280" y="7128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当堂训练：</a:t>
            </a:r>
            <a:r>
              <a:rPr b="1" i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中考试题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658880" y="231948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Times New Roman"/>
              </a:rPr>
              <a:t>第二课时</a:t>
            </a:r>
            <a:endParaRPr b="1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714240" y="374760"/>
            <a:ext cx="8381880" cy="5825520"/>
            <a:chOff x="714240" y="374760"/>
            <a:chExt cx="8381880" cy="5825520"/>
          </a:xfrm>
        </p:grpSpPr>
        <p:pic>
          <p:nvPicPr>
            <p:cNvPr id="349" name="Picture 4" descr="123"/>
            <p:cNvPicPr/>
            <p:nvPr/>
          </p:nvPicPr>
          <p:blipFill>
            <a:blip r:embed="rId1"/>
            <a:stretch/>
          </p:blipFill>
          <p:spPr>
            <a:xfrm>
              <a:off x="6939720" y="529848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Group 5"/>
            <p:cNvGrpSpPr/>
            <p:nvPr/>
          </p:nvGrpSpPr>
          <p:grpSpPr>
            <a:xfrm>
              <a:off x="714240" y="374760"/>
              <a:ext cx="8381880" cy="1000080"/>
              <a:chOff x="714240" y="374760"/>
              <a:chExt cx="8381880" cy="1000080"/>
            </a:xfrm>
          </p:grpSpPr>
          <p:grpSp>
            <p:nvGrpSpPr>
              <p:cNvPr id="351" name="Group 6"/>
              <p:cNvGrpSpPr/>
              <p:nvPr/>
            </p:nvGrpSpPr>
            <p:grpSpPr>
              <a:xfrm>
                <a:off x="984240" y="477360"/>
                <a:ext cx="661320" cy="451080"/>
                <a:chOff x="984240" y="477360"/>
                <a:chExt cx="661320" cy="451080"/>
              </a:xfrm>
            </p:grpSpPr>
            <p:sp>
              <p:nvSpPr>
                <p:cNvPr id="352" name="Rectangle 7"/>
                <p:cNvSpPr/>
                <p:nvPr/>
              </p:nvSpPr>
              <p:spPr>
                <a:xfrm>
                  <a:off x="984240" y="4773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8"/>
                <p:cNvSpPr/>
                <p:nvPr/>
              </p:nvSpPr>
              <p:spPr>
                <a:xfrm>
                  <a:off x="1340280" y="4773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9"/>
              <p:cNvGrpSpPr/>
              <p:nvPr/>
            </p:nvGrpSpPr>
            <p:grpSpPr>
              <a:xfrm>
                <a:off x="1099440" y="878400"/>
                <a:ext cx="686520" cy="451080"/>
                <a:chOff x="1099440" y="878400"/>
                <a:chExt cx="686520" cy="451080"/>
              </a:xfrm>
            </p:grpSpPr>
            <p:sp>
              <p:nvSpPr>
                <p:cNvPr id="355" name="Rectangle 10"/>
                <p:cNvSpPr/>
                <p:nvPr/>
              </p:nvSpPr>
              <p:spPr>
                <a:xfrm>
                  <a:off x="1099440" y="8784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1"/>
                <p:cNvSpPr/>
                <p:nvPr/>
              </p:nvSpPr>
              <p:spPr>
                <a:xfrm>
                  <a:off x="1442520" y="8784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Rectangle 12"/>
              <p:cNvSpPr/>
              <p:nvPr/>
            </p:nvSpPr>
            <p:spPr>
              <a:xfrm>
                <a:off x="714240" y="8089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3"/>
              <p:cNvSpPr/>
              <p:nvPr/>
            </p:nvSpPr>
            <p:spPr>
              <a:xfrm>
                <a:off x="1305000" y="3747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14"/>
              <p:cNvSpPr/>
              <p:nvPr/>
            </p:nvSpPr>
            <p:spPr>
              <a:xfrm flipV="1">
                <a:off x="1008000" y="1155600"/>
                <a:ext cx="808812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Text Box 15"/>
            <p:cNvSpPr/>
            <p:nvPr/>
          </p:nvSpPr>
          <p:spPr>
            <a:xfrm>
              <a:off x="1828800" y="4471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1181880" y="17503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909720" y="533520"/>
            <a:ext cx="8381520" cy="5825520"/>
            <a:chOff x="909720" y="533520"/>
            <a:chExt cx="8381520" cy="5825520"/>
          </a:xfrm>
        </p:grpSpPr>
        <p:pic>
          <p:nvPicPr>
            <p:cNvPr id="363" name="Picture 3" descr="123"/>
            <p:cNvPicPr/>
            <p:nvPr/>
          </p:nvPicPr>
          <p:blipFill>
            <a:blip r:embed="rId1"/>
            <a:stretch/>
          </p:blipFill>
          <p:spPr>
            <a:xfrm>
              <a:off x="7134840" y="545724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Group 4"/>
            <p:cNvGrpSpPr/>
            <p:nvPr/>
          </p:nvGrpSpPr>
          <p:grpSpPr>
            <a:xfrm>
              <a:off x="909720" y="533520"/>
              <a:ext cx="8381520" cy="1000080"/>
              <a:chOff x="909720" y="533520"/>
              <a:chExt cx="8381520" cy="1000080"/>
            </a:xfrm>
          </p:grpSpPr>
          <p:grpSp>
            <p:nvGrpSpPr>
              <p:cNvPr id="365" name="Group 5"/>
              <p:cNvGrpSpPr/>
              <p:nvPr/>
            </p:nvGrpSpPr>
            <p:grpSpPr>
              <a:xfrm>
                <a:off x="1179720" y="636120"/>
                <a:ext cx="661320" cy="451080"/>
                <a:chOff x="1179720" y="636120"/>
                <a:chExt cx="661320" cy="451080"/>
              </a:xfrm>
            </p:grpSpPr>
            <p:sp>
              <p:nvSpPr>
                <p:cNvPr id="366" name="Rectangle 6"/>
                <p:cNvSpPr/>
                <p:nvPr/>
              </p:nvSpPr>
              <p:spPr>
                <a:xfrm>
                  <a:off x="1179720" y="63612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7"/>
                <p:cNvSpPr/>
                <p:nvPr/>
              </p:nvSpPr>
              <p:spPr>
                <a:xfrm>
                  <a:off x="1535760" y="63612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8"/>
              <p:cNvGrpSpPr/>
              <p:nvPr/>
            </p:nvGrpSpPr>
            <p:grpSpPr>
              <a:xfrm>
                <a:off x="1294920" y="1037160"/>
                <a:ext cx="686520" cy="451080"/>
                <a:chOff x="1294920" y="1037160"/>
                <a:chExt cx="686520" cy="451080"/>
              </a:xfrm>
            </p:grpSpPr>
            <p:sp>
              <p:nvSpPr>
                <p:cNvPr id="369" name="Rectangle 9"/>
                <p:cNvSpPr/>
                <p:nvPr/>
              </p:nvSpPr>
              <p:spPr>
                <a:xfrm>
                  <a:off x="1294920" y="103716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0"/>
                <p:cNvSpPr/>
                <p:nvPr/>
              </p:nvSpPr>
              <p:spPr>
                <a:xfrm>
                  <a:off x="1638000" y="103716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Rectangle 11"/>
              <p:cNvSpPr/>
              <p:nvPr/>
            </p:nvSpPr>
            <p:spPr>
              <a:xfrm>
                <a:off x="909720" y="96768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12"/>
              <p:cNvSpPr/>
              <p:nvPr/>
            </p:nvSpPr>
            <p:spPr>
              <a:xfrm>
                <a:off x="1500480" y="53352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3"/>
              <p:cNvSpPr/>
              <p:nvPr/>
            </p:nvSpPr>
            <p:spPr>
              <a:xfrm flipV="1">
                <a:off x="1203480" y="131436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Text Box 14"/>
            <p:cNvSpPr/>
            <p:nvPr/>
          </p:nvSpPr>
          <p:spPr>
            <a:xfrm>
              <a:off x="2024280" y="60588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1377000" y="19090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Text Box 16"/>
          <p:cNvSpPr/>
          <p:nvPr/>
        </p:nvSpPr>
        <p:spPr>
          <a:xfrm>
            <a:off x="1366920" y="380880"/>
            <a:ext cx="7010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学习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学习本文，背诵这篇短小精悍、波澜横生的千古名作，了解“说”的文体特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练掌握文中的文言实词和文言虚词，理解文中的诸多寓意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领会作者的写作目的和思想感情，感受封建社会摧残和埋没人才的黑暗现实。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56880" y="26964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一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56880" y="1596600"/>
            <a:ext cx="8077320" cy="42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8f75"/>
                </a:solidFill>
                <a:latin typeface="Calibri"/>
              </a:rPr>
              <a:t>自学指导：回答问题，理解课文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18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80280" y="105264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822320" y="6165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1</a:t>
            </a:r>
            <a:r>
              <a:rPr b="1" i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614320" y="6165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2</a:t>
            </a:r>
            <a:r>
              <a:rPr b="1" i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263760" y="6165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3</a:t>
            </a:r>
            <a:r>
              <a:rPr b="1" i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911400" y="6165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4</a:t>
            </a:r>
            <a:r>
              <a:rPr b="1" i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958480" y="1052640"/>
            <a:ext cx="4944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、课文首先为我们摆明了什么观点？突出强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了什么问题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、请在第一段中当千里马没有遇到伯乐时会有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样的遭遇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、请从第二段中找出句子说明千里马被埋没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原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、请从第三段中找出千里马被摧残、被埋没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现在哪三个方面？文段中哪句话能揭示全文的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旨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5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、本文表面虽是在谈马，其实是在谈人才，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麽文中以“伯乐”、“千里马”、“食马者”各比喻哪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类人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4573440" y="6165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5</a:t>
            </a:r>
            <a:r>
              <a:rPr b="1" i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9"/>
          <p:cNvSpPr/>
          <p:nvPr/>
        </p:nvSpPr>
        <p:spPr>
          <a:xfrm>
            <a:off x="176544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255744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3206880" y="609300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2"/>
          <p:cNvSpPr/>
          <p:nvPr/>
        </p:nvSpPr>
        <p:spPr>
          <a:xfrm>
            <a:off x="3854520" y="609300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3"/>
          <p:cNvSpPr/>
          <p:nvPr/>
        </p:nvSpPr>
        <p:spPr>
          <a:xfrm>
            <a:off x="457344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728720" y="309600"/>
            <a:ext cx="702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600200" y="75096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千里马的对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224000" y="1584360"/>
            <a:ext cx="589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联：无才难做千里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联：有志可成万里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932040" y="3689280"/>
            <a:ext cx="795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联：马不停蹄   千里之行始于足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联：鸡犹雄唱   一日之计筹自口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110840" y="141912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课文首先为我们摆明了什么观点？突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强调了什么问题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762200" y="549360"/>
            <a:ext cx="29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考考你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623160" y="-199800"/>
            <a:ext cx="78984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b2c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617840" y="2556000"/>
            <a:ext cx="770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简析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     </a:t>
            </a:r>
            <a:r>
              <a:rPr b="1" i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摆明的观点是“ 世有伯乐，然后有千里马”。突出强调了伯乐能识马，如果没有伯乐的慧眼，千里马就会被埋没，即伯乐对千里马的命运起决定作用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53820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3150720" y="1076400"/>
            <a:ext cx="464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请在第一段中当千里马没有遇到伯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时会有怎样的遭遇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341080" y="26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考考你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786600" y="-415440"/>
            <a:ext cx="78984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b2c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088800" y="222408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简析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      </a:t>
            </a:r>
            <a:r>
              <a:rPr b="1" i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文段一告诉我们，当千里马没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遇到伯乐时它的遭遇只能是“祗辱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奴隶人之手，骈死于槽枥之间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6"/>
          <p:cNvSpPr/>
          <p:nvPr/>
        </p:nvSpPr>
        <p:spPr>
          <a:xfrm>
            <a:off x="70164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762200" y="1341360"/>
            <a:ext cx="74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隶书"/>
              </a:rPr>
              <a:t>3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、请从第二段中找出句子说明千里马被埋没的原因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17764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考考你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550080" y="-487080"/>
            <a:ext cx="78984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b2c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549440" y="257796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简析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隶书"/>
              </a:rPr>
              <a:t>说明千里马被埋没的直接原因句子是：“食不饱，力不足，才美不外见，且欲与常马等不可得”。根本原因是“食马者不知其能千里而食也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53820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739880" y="1341360"/>
            <a:ext cx="76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、请从第三段中找出千里马被摧残、被埋没体现在哪三个方面？文段中哪句话能揭示全文的主旨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2226600" y="476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考考你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2120" y="-199800"/>
            <a:ext cx="78984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b2c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811160" y="32637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简析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千里马被摧残、被埋没体现在三个方面：“策之不以其道，食之不能尽其材，鸣之而不能通其意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757520" y="549432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文段中能揭示全文的主旨：“其真不知马也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58752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66080" y="1314360"/>
            <a:ext cx="385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5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、本文表面虽是在谈马，其实是在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人才，那麽文中以“伯乐”、“千里马”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食马者”各比喻哪几类人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797120" y="476280"/>
            <a:ext cx="29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考考你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802440" y="-271080"/>
            <a:ext cx="789840" cy="68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b2c"/>
                </a:solidFill>
                <a:latin typeface="Arial"/>
                <a:ea typeface="隶书"/>
              </a:rPr>
              <a:t>分    析     课    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530360" y="27972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简析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隶书"/>
              </a:rPr>
              <a:t>文中的“伯乐”实际上比喻的是善于识别人才，知人善用的有识之人；“千里马”比喻的是有才华、有才能的人；“食马者”比喻的则是愚妄浅薄不能识别人才，甚至于埋没人才、摧残人才的统治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71748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10720" y="26964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二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10720" y="1596600"/>
            <a:ext cx="8077320" cy="42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自学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作者如何层层深入论证论点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795240" y="779400"/>
            <a:ext cx="8381880" cy="5826240"/>
            <a:chOff x="795240" y="779400"/>
            <a:chExt cx="8381880" cy="5826240"/>
          </a:xfrm>
        </p:grpSpPr>
        <p:pic>
          <p:nvPicPr>
            <p:cNvPr id="421" name="Picture 3" descr="123"/>
            <p:cNvPicPr/>
            <p:nvPr/>
          </p:nvPicPr>
          <p:blipFill>
            <a:blip r:embed="rId1"/>
            <a:stretch/>
          </p:blipFill>
          <p:spPr>
            <a:xfrm>
              <a:off x="7020720" y="570348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Group 4"/>
            <p:cNvGrpSpPr/>
            <p:nvPr/>
          </p:nvGrpSpPr>
          <p:grpSpPr>
            <a:xfrm>
              <a:off x="795240" y="779400"/>
              <a:ext cx="8381880" cy="1000080"/>
              <a:chOff x="795240" y="779400"/>
              <a:chExt cx="8381880" cy="10000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1065240" y="882000"/>
                <a:ext cx="661320" cy="451080"/>
                <a:chOff x="1065240" y="882000"/>
                <a:chExt cx="661320" cy="451080"/>
              </a:xfrm>
            </p:grpSpPr>
            <p:sp>
              <p:nvSpPr>
                <p:cNvPr id="424" name="Rectangle 6"/>
                <p:cNvSpPr/>
                <p:nvPr/>
              </p:nvSpPr>
              <p:spPr>
                <a:xfrm>
                  <a:off x="1065240" y="88200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7"/>
                <p:cNvSpPr/>
                <p:nvPr/>
              </p:nvSpPr>
              <p:spPr>
                <a:xfrm>
                  <a:off x="1421280" y="88200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Group 8"/>
              <p:cNvGrpSpPr/>
              <p:nvPr/>
            </p:nvGrpSpPr>
            <p:grpSpPr>
              <a:xfrm>
                <a:off x="1180440" y="1283040"/>
                <a:ext cx="686520" cy="451080"/>
                <a:chOff x="1180440" y="1283040"/>
                <a:chExt cx="686520" cy="451080"/>
              </a:xfrm>
            </p:grpSpPr>
            <p:sp>
              <p:nvSpPr>
                <p:cNvPr id="427" name="Rectangle 9"/>
                <p:cNvSpPr/>
                <p:nvPr/>
              </p:nvSpPr>
              <p:spPr>
                <a:xfrm>
                  <a:off x="1180440" y="128304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0"/>
                <p:cNvSpPr/>
                <p:nvPr/>
              </p:nvSpPr>
              <p:spPr>
                <a:xfrm>
                  <a:off x="1523520" y="128304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Rectangle 11"/>
              <p:cNvSpPr/>
              <p:nvPr/>
            </p:nvSpPr>
            <p:spPr>
              <a:xfrm>
                <a:off x="795240" y="121356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12"/>
              <p:cNvSpPr/>
              <p:nvPr/>
            </p:nvSpPr>
            <p:spPr>
              <a:xfrm>
                <a:off x="1386000" y="77940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3"/>
              <p:cNvSpPr/>
              <p:nvPr/>
            </p:nvSpPr>
            <p:spPr>
              <a:xfrm flipV="1">
                <a:off x="1089000" y="1560240"/>
                <a:ext cx="808812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Text Box 14"/>
            <p:cNvSpPr/>
            <p:nvPr/>
          </p:nvSpPr>
          <p:spPr>
            <a:xfrm>
              <a:off x="1909800" y="85176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1262880" y="21553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Text Box 16"/>
          <p:cNvSpPr/>
          <p:nvPr/>
        </p:nvSpPr>
        <p:spPr>
          <a:xfrm>
            <a:off x="5423040" y="198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779400" y="1897200"/>
            <a:ext cx="828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首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提出全文论点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接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从正反两方面对论点作概括论述，第二段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进一步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反面展开论述，说明伯乐对千里马的重要性。第三段对“食马者”进行辛辣的嘲讽，结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再次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强调造成不合理现象的原因，是“其真不知马也”，点明主旨，并与开头的论点照应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96%87%E4%BD%93%E4%BD%9C%E8%80%85%E9%85%8D%E9%9F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4930920" y="3871800"/>
            <a:ext cx="2898720" cy="11912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指出千里马被埋没的原因食马者不知其能 千里而食也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860400" y="426960"/>
            <a:ext cx="8381520" cy="5826240"/>
            <a:chOff x="860400" y="426960"/>
            <a:chExt cx="8381520" cy="5826240"/>
          </a:xfrm>
        </p:grpSpPr>
        <p:pic>
          <p:nvPicPr>
            <p:cNvPr id="438" name="Picture 4" descr="123"/>
            <p:cNvPicPr/>
            <p:nvPr/>
          </p:nvPicPr>
          <p:blipFill>
            <a:blip r:embed="rId1"/>
            <a:stretch/>
          </p:blipFill>
          <p:spPr>
            <a:xfrm>
              <a:off x="7085520" y="535104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Group 5"/>
            <p:cNvGrpSpPr/>
            <p:nvPr/>
          </p:nvGrpSpPr>
          <p:grpSpPr>
            <a:xfrm>
              <a:off x="860400" y="426960"/>
              <a:ext cx="8381520" cy="1000080"/>
              <a:chOff x="860400" y="426960"/>
              <a:chExt cx="8381520" cy="1000080"/>
            </a:xfrm>
          </p:grpSpPr>
          <p:grpSp>
            <p:nvGrpSpPr>
              <p:cNvPr id="440" name="Group 6"/>
              <p:cNvGrpSpPr/>
              <p:nvPr/>
            </p:nvGrpSpPr>
            <p:grpSpPr>
              <a:xfrm>
                <a:off x="1130400" y="529560"/>
                <a:ext cx="661320" cy="451080"/>
                <a:chOff x="1130400" y="529560"/>
                <a:chExt cx="661320" cy="451080"/>
              </a:xfrm>
            </p:grpSpPr>
            <p:sp>
              <p:nvSpPr>
                <p:cNvPr id="441" name="Rectangle 7"/>
                <p:cNvSpPr/>
                <p:nvPr/>
              </p:nvSpPr>
              <p:spPr>
                <a:xfrm>
                  <a:off x="1130400" y="5295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8"/>
                <p:cNvSpPr/>
                <p:nvPr/>
              </p:nvSpPr>
              <p:spPr>
                <a:xfrm>
                  <a:off x="1486440" y="5295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9"/>
              <p:cNvGrpSpPr/>
              <p:nvPr/>
            </p:nvGrpSpPr>
            <p:grpSpPr>
              <a:xfrm>
                <a:off x="1245600" y="930600"/>
                <a:ext cx="686520" cy="451080"/>
                <a:chOff x="1245600" y="930600"/>
                <a:chExt cx="686520" cy="451080"/>
              </a:xfrm>
            </p:grpSpPr>
            <p:sp>
              <p:nvSpPr>
                <p:cNvPr id="444" name="Rectangle 10"/>
                <p:cNvSpPr/>
                <p:nvPr/>
              </p:nvSpPr>
              <p:spPr>
                <a:xfrm>
                  <a:off x="1245600" y="9306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"/>
                <p:cNvSpPr/>
                <p:nvPr/>
              </p:nvSpPr>
              <p:spPr>
                <a:xfrm>
                  <a:off x="1588680" y="9306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Rectangle 12"/>
              <p:cNvSpPr/>
              <p:nvPr/>
            </p:nvSpPr>
            <p:spPr>
              <a:xfrm>
                <a:off x="860400" y="8611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13"/>
              <p:cNvSpPr/>
              <p:nvPr/>
            </p:nvSpPr>
            <p:spPr>
              <a:xfrm>
                <a:off x="1451160" y="4269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4"/>
              <p:cNvSpPr/>
              <p:nvPr/>
            </p:nvSpPr>
            <p:spPr>
              <a:xfrm flipV="1">
                <a:off x="1154160" y="120780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Text Box 15"/>
            <p:cNvSpPr/>
            <p:nvPr/>
          </p:nvSpPr>
          <p:spPr>
            <a:xfrm>
              <a:off x="1974960" y="4993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1327680" y="18028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1809720" y="172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1095120" y="2103840"/>
            <a:ext cx="7290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隶书"/>
                <a:ea typeface="隶书"/>
              </a:rPr>
              <a:t>第一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2270160" y="1461960"/>
            <a:ext cx="1751040" cy="1410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提出论点</a:t>
            </a:r>
            <a:r>
              <a:rPr b="0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世有伯乐</a:t>
            </a:r>
            <a:r>
              <a:rPr b="0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然后有千里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20"/>
          <p:cNvSpPr/>
          <p:nvPr/>
        </p:nvSpPr>
        <p:spPr>
          <a:xfrm>
            <a:off x="3794040" y="200340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800600" y="1479600"/>
            <a:ext cx="1452600" cy="13737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正面论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千里马常有，而伯乐不常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22"/>
          <p:cNvSpPr/>
          <p:nvPr/>
        </p:nvSpPr>
        <p:spPr>
          <a:xfrm>
            <a:off x="6291360" y="2023920"/>
            <a:ext cx="976320" cy="486000"/>
          </a:xfrm>
          <a:prstGeom prst="rightArrow">
            <a:avLst>
              <a:gd name="adj1" fmla="val 43139"/>
              <a:gd name="adj2" fmla="val 738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3"/>
          <p:cNvSpPr/>
          <p:nvPr/>
        </p:nvSpPr>
        <p:spPr>
          <a:xfrm>
            <a:off x="7311960" y="1449360"/>
            <a:ext cx="1479600" cy="15570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反面论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故虽有名马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不以千里称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1087560" y="3564000"/>
            <a:ext cx="73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隶书"/>
                <a:ea typeface="隶书"/>
              </a:rPr>
              <a:t>第二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5"/>
          <p:cNvSpPr/>
          <p:nvPr/>
        </p:nvSpPr>
        <p:spPr>
          <a:xfrm>
            <a:off x="2424240" y="3981600"/>
            <a:ext cx="122076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进一步从反面论证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4050000" y="2444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课文分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7"/>
          <p:cNvSpPr/>
          <p:nvPr/>
        </p:nvSpPr>
        <p:spPr>
          <a:xfrm>
            <a:off x="3911760" y="4422600"/>
            <a:ext cx="976320" cy="486000"/>
          </a:xfrm>
          <a:prstGeom prst="rightArrow">
            <a:avLst>
              <a:gd name="adj1" fmla="val 43139"/>
              <a:gd name="adj2" fmla="val 738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28"/>
          <p:cNvSpPr/>
          <p:nvPr/>
        </p:nvSpPr>
        <p:spPr>
          <a:xfrm>
            <a:off x="1936800" y="5942160"/>
            <a:ext cx="976320" cy="485640"/>
          </a:xfrm>
          <a:prstGeom prst="rightArrow">
            <a:avLst>
              <a:gd name="adj1" fmla="val 43139"/>
              <a:gd name="adj2" fmla="val 738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9"/>
          <p:cNvSpPr/>
          <p:nvPr/>
        </p:nvSpPr>
        <p:spPr>
          <a:xfrm>
            <a:off x="2928960" y="539280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0"/>
          <p:cNvSpPr/>
          <p:nvPr/>
        </p:nvSpPr>
        <p:spPr>
          <a:xfrm>
            <a:off x="2941560" y="5653080"/>
            <a:ext cx="4138560" cy="825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1"/>
          <p:cNvSpPr/>
          <p:nvPr/>
        </p:nvSpPr>
        <p:spPr>
          <a:xfrm>
            <a:off x="3705120" y="5546880"/>
            <a:ext cx="2161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</a:rPr>
              <a:t>反面论证，得出结论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</a:rPr>
              <a:t>其真不知马也（主旨）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2"/>
          <p:cNvSpPr/>
          <p:nvPr/>
        </p:nvSpPr>
        <p:spPr>
          <a:xfrm>
            <a:off x="649080" y="5532480"/>
            <a:ext cx="10940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504d"/>
                </a:solidFill>
                <a:latin typeface="Times New Roman"/>
              </a:rPr>
              <a:t>第三段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7960" y="269640"/>
            <a:ext cx="8076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三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7960" y="1596600"/>
            <a:ext cx="8076960" cy="42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自学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总结本文的主题及写作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11383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18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18f75"/>
                </a:solidFill>
                <a:latin typeface="Calibri"/>
              </a:rPr>
              <a:t>主题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18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18f75"/>
                </a:solidFill>
                <a:latin typeface="Calibri"/>
              </a:rPr>
              <a:t>全文寄托作者并对统治者埋没人才、摧残人才，进行了讽刺和控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36720" y="257040"/>
            <a:ext cx="831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04800" y="260280"/>
            <a:ext cx="8637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703440" y="3691080"/>
            <a:ext cx="84898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写法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马说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托物寓意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，以千里马不遇伯乐，比喻贤才难遇明主。希望统治者能识别人才、重用人才，使他们能充分发挥才能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528920" y="2319480"/>
            <a:ext cx="7772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Times New Roman"/>
              </a:rPr>
              <a:t>第一课时</a:t>
            </a:r>
            <a:endParaRPr b="1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584280" y="374760"/>
            <a:ext cx="8381520" cy="5825520"/>
            <a:chOff x="584280" y="374760"/>
            <a:chExt cx="8381520" cy="5825520"/>
          </a:xfrm>
        </p:grpSpPr>
        <p:pic>
          <p:nvPicPr>
            <p:cNvPr id="190" name="Picture 4" descr="123"/>
            <p:cNvPicPr/>
            <p:nvPr/>
          </p:nvPicPr>
          <p:blipFill>
            <a:blip r:embed="rId1"/>
            <a:stretch/>
          </p:blipFill>
          <p:spPr>
            <a:xfrm>
              <a:off x="6809400" y="529848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Group 5"/>
            <p:cNvGrpSpPr/>
            <p:nvPr/>
          </p:nvGrpSpPr>
          <p:grpSpPr>
            <a:xfrm>
              <a:off x="584280" y="374760"/>
              <a:ext cx="8381520" cy="1000080"/>
              <a:chOff x="584280" y="374760"/>
              <a:chExt cx="8381520" cy="1000080"/>
            </a:xfrm>
          </p:grpSpPr>
          <p:grpSp>
            <p:nvGrpSpPr>
              <p:cNvPr id="192" name="Group 6"/>
              <p:cNvGrpSpPr/>
              <p:nvPr/>
            </p:nvGrpSpPr>
            <p:grpSpPr>
              <a:xfrm>
                <a:off x="854280" y="477360"/>
                <a:ext cx="661320" cy="451080"/>
                <a:chOff x="854280" y="477360"/>
                <a:chExt cx="661320" cy="451080"/>
              </a:xfrm>
            </p:grpSpPr>
            <p:sp>
              <p:nvSpPr>
                <p:cNvPr id="193" name="Rectangle 7"/>
                <p:cNvSpPr/>
                <p:nvPr/>
              </p:nvSpPr>
              <p:spPr>
                <a:xfrm>
                  <a:off x="854280" y="4773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8"/>
                <p:cNvSpPr/>
                <p:nvPr/>
              </p:nvSpPr>
              <p:spPr>
                <a:xfrm>
                  <a:off x="1210320" y="4773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9"/>
              <p:cNvGrpSpPr/>
              <p:nvPr/>
            </p:nvGrpSpPr>
            <p:grpSpPr>
              <a:xfrm>
                <a:off x="969480" y="878400"/>
                <a:ext cx="686520" cy="451080"/>
                <a:chOff x="969480" y="878400"/>
                <a:chExt cx="686520" cy="451080"/>
              </a:xfrm>
            </p:grpSpPr>
            <p:sp>
              <p:nvSpPr>
                <p:cNvPr id="196" name="Rectangle 10"/>
                <p:cNvSpPr/>
                <p:nvPr/>
              </p:nvSpPr>
              <p:spPr>
                <a:xfrm>
                  <a:off x="969480" y="8784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1"/>
                <p:cNvSpPr/>
                <p:nvPr/>
              </p:nvSpPr>
              <p:spPr>
                <a:xfrm>
                  <a:off x="1312560" y="8784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Rectangle 12"/>
              <p:cNvSpPr/>
              <p:nvPr/>
            </p:nvSpPr>
            <p:spPr>
              <a:xfrm>
                <a:off x="584280" y="8089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3"/>
              <p:cNvSpPr/>
              <p:nvPr/>
            </p:nvSpPr>
            <p:spPr>
              <a:xfrm>
                <a:off x="1175040" y="3747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14"/>
              <p:cNvSpPr/>
              <p:nvPr/>
            </p:nvSpPr>
            <p:spPr>
              <a:xfrm flipV="1">
                <a:off x="878040" y="115560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15"/>
            <p:cNvSpPr/>
            <p:nvPr/>
          </p:nvSpPr>
          <p:spPr>
            <a:xfrm>
              <a:off x="1698840" y="4471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51560" y="17503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77960" y="269640"/>
            <a:ext cx="8076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四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77960" y="1596600"/>
            <a:ext cx="8076960" cy="42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自学指导：拓展延伸，扩展阅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749160" y="90360"/>
            <a:ext cx="899964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504d"/>
                </a:solidFill>
                <a:latin typeface="Times New Roman"/>
              </a:rPr>
              <a:t>	</a:t>
            </a:r>
            <a:r>
              <a:rPr b="1" lang="zh-CN" sz="4500" spc="-1" strike="noStrike">
                <a:solidFill>
                  <a:srgbClr val="c0504d"/>
                </a:solidFill>
                <a:latin typeface="Times New Roman"/>
                <a:ea typeface="黑体"/>
              </a:rPr>
              <a:t>自学指导：拓展延伸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300" spc="-1" strike="noStrike">
                <a:solidFill>
                  <a:srgbClr val="c0504d"/>
                </a:solidFill>
                <a:latin typeface="Times New Roman"/>
              </a:rPr>
              <a:t>、读完本文后，你认为伯乐应具备怎样的才能？请联系你自己的读书实际，列举一位大家熟悉的伯乐，并用简洁的语言概括他的事迹。</a:t>
            </a:r>
            <a:br>
              <a:rPr sz="3300"/>
            </a:br>
            <a:r>
              <a:rPr b="1" lang="zh-CN" sz="3300" spc="-1" strike="noStrike">
                <a:solidFill>
                  <a:srgbClr val="c0504d"/>
                </a:solidFill>
                <a:latin typeface="Times New Roman"/>
              </a:rPr>
              <a:t>   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3300" spc="-1" strike="noStrike">
                <a:solidFill>
                  <a:srgbClr val="c0504d"/>
                </a:solidFill>
                <a:latin typeface="Times New Roman"/>
              </a:rPr>
              <a:t>、伯乐和千里马在推动社会发展方面谁更重要？请畅谈你的看法？可举历史和现实生活中的例子证明自己的观点？ </a:t>
            </a: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949320" y="156852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604800" y="241776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伯乐必须具备知人善用的才能，任人唯贤，要善于发现并重用人才。如：齐桓公发现并重用管仲，使齐国强盛起来。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04800" y="5002200"/>
            <a:ext cx="91440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  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如：我认为千里马更重要。因为社会发展需要人才，而千里马正是推动社会发展的巨大动力。试想如果没有爱迪生发明电灯，我们寻找光明的眼睛不知还要在黑暗中徘徊多久。再如：如果没有那些群策群力的科学家，我们不知能否破解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的奥秘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701640" y="100332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马价十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战国策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人有卖骏马者比三旦立市人莫之知往见伯乐，曰：“臣有骏马欲卖之，比三旦立于市，人莫与言。愿子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还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而顾之，臣请献 一朝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” 伯乐还而视之，去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之。一旦而马价十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解释加点词：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比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三旦立于市     伯乐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还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而视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划停顿：人有卖骏马者比三旦立市人莫之知往见伯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翻译句子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伯乐还而视之，去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之。一旦而马价十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阅读本文，你得到了怎样的启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1073160" y="374760"/>
            <a:ext cx="8381520" cy="5825520"/>
            <a:chOff x="1073160" y="374760"/>
            <a:chExt cx="8381520" cy="5825520"/>
          </a:xfrm>
        </p:grpSpPr>
        <p:pic>
          <p:nvPicPr>
            <p:cNvPr id="481" name="Picture 4" descr="123"/>
            <p:cNvPicPr/>
            <p:nvPr/>
          </p:nvPicPr>
          <p:blipFill>
            <a:blip r:embed="rId1"/>
            <a:stretch/>
          </p:blipFill>
          <p:spPr>
            <a:xfrm>
              <a:off x="7298280" y="529848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2" name="Group 5"/>
            <p:cNvGrpSpPr/>
            <p:nvPr/>
          </p:nvGrpSpPr>
          <p:grpSpPr>
            <a:xfrm>
              <a:off x="1073160" y="374760"/>
              <a:ext cx="8381520" cy="1000080"/>
              <a:chOff x="1073160" y="374760"/>
              <a:chExt cx="8381520" cy="1000080"/>
            </a:xfrm>
          </p:grpSpPr>
          <p:grpSp>
            <p:nvGrpSpPr>
              <p:cNvPr id="483" name="Group 6"/>
              <p:cNvGrpSpPr/>
              <p:nvPr/>
            </p:nvGrpSpPr>
            <p:grpSpPr>
              <a:xfrm>
                <a:off x="1343160" y="477360"/>
                <a:ext cx="661320" cy="451080"/>
                <a:chOff x="1343160" y="477360"/>
                <a:chExt cx="661320" cy="451080"/>
              </a:xfrm>
            </p:grpSpPr>
            <p:sp>
              <p:nvSpPr>
                <p:cNvPr id="484" name="Rectangle 7"/>
                <p:cNvSpPr/>
                <p:nvPr/>
              </p:nvSpPr>
              <p:spPr>
                <a:xfrm>
                  <a:off x="1343160" y="47736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Rectangle 8"/>
                <p:cNvSpPr/>
                <p:nvPr/>
              </p:nvSpPr>
              <p:spPr>
                <a:xfrm>
                  <a:off x="1699200" y="47736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9"/>
              <p:cNvGrpSpPr/>
              <p:nvPr/>
            </p:nvGrpSpPr>
            <p:grpSpPr>
              <a:xfrm>
                <a:off x="1458360" y="878400"/>
                <a:ext cx="686520" cy="451080"/>
                <a:chOff x="1458360" y="878400"/>
                <a:chExt cx="686520" cy="451080"/>
              </a:xfrm>
            </p:grpSpPr>
            <p:sp>
              <p:nvSpPr>
                <p:cNvPr id="487" name="Rectangle 10"/>
                <p:cNvSpPr/>
                <p:nvPr/>
              </p:nvSpPr>
              <p:spPr>
                <a:xfrm>
                  <a:off x="1458360" y="87840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Rectangle 11"/>
                <p:cNvSpPr/>
                <p:nvPr/>
              </p:nvSpPr>
              <p:spPr>
                <a:xfrm>
                  <a:off x="1801440" y="87840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12"/>
              <p:cNvSpPr/>
              <p:nvPr/>
            </p:nvSpPr>
            <p:spPr>
              <a:xfrm>
                <a:off x="1073160" y="80892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13"/>
              <p:cNvSpPr/>
              <p:nvPr/>
            </p:nvSpPr>
            <p:spPr>
              <a:xfrm>
                <a:off x="1663920" y="37476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14"/>
              <p:cNvSpPr/>
              <p:nvPr/>
            </p:nvSpPr>
            <p:spPr>
              <a:xfrm flipV="1">
                <a:off x="1366920" y="115560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Text Box 15"/>
            <p:cNvSpPr/>
            <p:nvPr/>
          </p:nvSpPr>
          <p:spPr>
            <a:xfrm>
              <a:off x="2187720" y="44712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16"/>
            <p:cNvSpPr/>
            <p:nvPr/>
          </p:nvSpPr>
          <p:spPr>
            <a:xfrm>
              <a:off x="1540440" y="17503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2100240" y="262080"/>
            <a:ext cx="65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当堂训练：扩展阅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11280" y="4543560"/>
            <a:ext cx="18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4791240" y="3679920"/>
            <a:ext cx="2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504d"/>
                </a:solidFill>
                <a:latin typeface="Times New Roman"/>
              </a:rPr>
              <a:t>∕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6607440" y="3699000"/>
            <a:ext cx="2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504d"/>
                </a:solidFill>
                <a:latin typeface="Times New Roman"/>
              </a:rPr>
              <a:t>∕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7979040" y="3684600"/>
            <a:ext cx="2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504d"/>
                </a:solidFill>
                <a:latin typeface="Times New Roman"/>
              </a:rPr>
              <a:t>∕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5708880" y="3314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</a:rPr>
              <a:t>接连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8761680" y="3348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</a:rPr>
              <a:t>环绕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24"/>
          <p:cNvSpPr/>
          <p:nvPr/>
        </p:nvSpPr>
        <p:spPr>
          <a:xfrm>
            <a:off x="896760" y="2036880"/>
            <a:ext cx="8704440" cy="1158840"/>
          </a:xfrm>
          <a:prstGeom prst="wedgeRectCallout">
            <a:avLst>
              <a:gd name="adj1" fmla="val -828"/>
              <a:gd name="adj2" fmla="val 1558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  <a:ea typeface="黑体"/>
              </a:rPr>
              <a:t>伯乐接受了这个请求，就去绕着马儿转几圈，看了一看，离开时再回过头去看一了眼。这匹马的价钱立刻涨了十倍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25"/>
          <p:cNvSpPr/>
          <p:nvPr/>
        </p:nvSpPr>
        <p:spPr>
          <a:xfrm>
            <a:off x="930240" y="3541680"/>
            <a:ext cx="8669520" cy="3116160"/>
          </a:xfrm>
          <a:prstGeom prst="wedgeRectCallout">
            <a:avLst>
              <a:gd name="adj1" fmla="val 2976"/>
              <a:gd name="adj2" fmla="val -3232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、有的人确有真才实学，但不一定能得到赏识和重用，因而需要有像伯乐这样的人来发现和举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、名家的赏识很重要。真正好的东西，又得到名家赏识，它的身价就会加倍增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504d"/>
                </a:solidFill>
                <a:latin typeface="黑体"/>
                <a:ea typeface="黑体"/>
              </a:rPr>
              <a:t>、骏马待伯乐至而增价，说明权威的重要，但又不可盲目地崇拜和迷信别人，更要提防有的庸才借助或冒用权威之名来抬高自己的身价。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3"/>
          <p:cNvGrpSpPr/>
          <p:nvPr/>
        </p:nvGrpSpPr>
        <p:grpSpPr>
          <a:xfrm>
            <a:off x="631800" y="533520"/>
            <a:ext cx="8381520" cy="5825520"/>
            <a:chOff x="631800" y="533520"/>
            <a:chExt cx="8381520" cy="5825520"/>
          </a:xfrm>
        </p:grpSpPr>
        <p:pic>
          <p:nvPicPr>
            <p:cNvPr id="204" name="Picture 4" descr="123"/>
            <p:cNvPicPr/>
            <p:nvPr/>
          </p:nvPicPr>
          <p:blipFill>
            <a:blip r:embed="rId1"/>
            <a:stretch/>
          </p:blipFill>
          <p:spPr>
            <a:xfrm>
              <a:off x="6856920" y="5457240"/>
              <a:ext cx="951480" cy="90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"/>
            <p:cNvGrpSpPr/>
            <p:nvPr/>
          </p:nvGrpSpPr>
          <p:grpSpPr>
            <a:xfrm>
              <a:off x="631800" y="533520"/>
              <a:ext cx="8381520" cy="1000080"/>
              <a:chOff x="631800" y="533520"/>
              <a:chExt cx="8381520" cy="10000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901800" y="636120"/>
                <a:ext cx="661320" cy="451080"/>
                <a:chOff x="901800" y="636120"/>
                <a:chExt cx="661320" cy="451080"/>
              </a:xfrm>
            </p:grpSpPr>
            <p:sp>
              <p:nvSpPr>
                <p:cNvPr id="207" name="Rectangle 7"/>
                <p:cNvSpPr/>
                <p:nvPr/>
              </p:nvSpPr>
              <p:spPr>
                <a:xfrm>
                  <a:off x="901800" y="63612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8"/>
                <p:cNvSpPr/>
                <p:nvPr/>
              </p:nvSpPr>
              <p:spPr>
                <a:xfrm>
                  <a:off x="1257840" y="63612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9"/>
              <p:cNvGrpSpPr/>
              <p:nvPr/>
            </p:nvGrpSpPr>
            <p:grpSpPr>
              <a:xfrm>
                <a:off x="1017000" y="1037160"/>
                <a:ext cx="686520" cy="451080"/>
                <a:chOff x="1017000" y="1037160"/>
                <a:chExt cx="686520" cy="451080"/>
              </a:xfrm>
            </p:grpSpPr>
            <p:sp>
              <p:nvSpPr>
                <p:cNvPr id="210" name="Rectangle 10"/>
                <p:cNvSpPr/>
                <p:nvPr/>
              </p:nvSpPr>
              <p:spPr>
                <a:xfrm>
                  <a:off x="1017000" y="103716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1"/>
                <p:cNvSpPr/>
                <p:nvPr/>
              </p:nvSpPr>
              <p:spPr>
                <a:xfrm>
                  <a:off x="1360080" y="103716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Rectangle 12"/>
              <p:cNvSpPr/>
              <p:nvPr/>
            </p:nvSpPr>
            <p:spPr>
              <a:xfrm>
                <a:off x="631800" y="96768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13"/>
              <p:cNvSpPr/>
              <p:nvPr/>
            </p:nvSpPr>
            <p:spPr>
              <a:xfrm>
                <a:off x="1222560" y="53352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4"/>
              <p:cNvSpPr/>
              <p:nvPr/>
            </p:nvSpPr>
            <p:spPr>
              <a:xfrm flipV="1">
                <a:off x="925560" y="131436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15"/>
            <p:cNvSpPr/>
            <p:nvPr/>
          </p:nvSpPr>
          <p:spPr>
            <a:xfrm>
              <a:off x="1746360" y="60588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1099080" y="190908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Text Box 2"/>
          <p:cNvSpPr/>
          <p:nvPr/>
        </p:nvSpPr>
        <p:spPr>
          <a:xfrm>
            <a:off x="1089000" y="380880"/>
            <a:ext cx="7010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学习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学习本文，背诵这篇短小精悍、波澜横生的千古名作，了解“说”的文体特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熟练掌握文中的文言实词和文言虚词，理解文中的诸多寓意 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领会作者的写作目的和思想感情，感受封建社会摧残和埋没人才的黑暗现实。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0"/>
          <p:cNvGrpSpPr/>
          <p:nvPr/>
        </p:nvGrpSpPr>
        <p:grpSpPr>
          <a:xfrm>
            <a:off x="746280" y="685800"/>
            <a:ext cx="8381520" cy="5826240"/>
            <a:chOff x="746280" y="685800"/>
            <a:chExt cx="8381520" cy="5826240"/>
          </a:xfrm>
        </p:grpSpPr>
        <p:pic>
          <p:nvPicPr>
            <p:cNvPr id="219" name="Picture 11" descr="123"/>
            <p:cNvPicPr/>
            <p:nvPr/>
          </p:nvPicPr>
          <p:blipFill>
            <a:blip r:embed="rId1"/>
            <a:stretch/>
          </p:blipFill>
          <p:spPr>
            <a:xfrm>
              <a:off x="6971400" y="5609880"/>
              <a:ext cx="951480" cy="9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Group 12"/>
            <p:cNvGrpSpPr/>
            <p:nvPr/>
          </p:nvGrpSpPr>
          <p:grpSpPr>
            <a:xfrm>
              <a:off x="746280" y="685800"/>
              <a:ext cx="8381520" cy="1000080"/>
              <a:chOff x="746280" y="685800"/>
              <a:chExt cx="8381520" cy="1000080"/>
            </a:xfrm>
          </p:grpSpPr>
          <p:grpSp>
            <p:nvGrpSpPr>
              <p:cNvPr id="221" name="Group 13"/>
              <p:cNvGrpSpPr/>
              <p:nvPr/>
            </p:nvGrpSpPr>
            <p:grpSpPr>
              <a:xfrm>
                <a:off x="1016280" y="788400"/>
                <a:ext cx="661320" cy="451080"/>
                <a:chOff x="1016280" y="788400"/>
                <a:chExt cx="661320" cy="451080"/>
              </a:xfrm>
            </p:grpSpPr>
            <p:sp>
              <p:nvSpPr>
                <p:cNvPr id="222" name="Rectangle 14"/>
                <p:cNvSpPr/>
                <p:nvPr/>
              </p:nvSpPr>
              <p:spPr>
                <a:xfrm>
                  <a:off x="1016280" y="788400"/>
                  <a:ext cx="40680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5"/>
                <p:cNvSpPr/>
                <p:nvPr/>
              </p:nvSpPr>
              <p:spPr>
                <a:xfrm>
                  <a:off x="1372320" y="788400"/>
                  <a:ext cx="30528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16"/>
              <p:cNvGrpSpPr/>
              <p:nvPr/>
            </p:nvGrpSpPr>
            <p:grpSpPr>
              <a:xfrm>
                <a:off x="1131480" y="1189440"/>
                <a:ext cx="686520" cy="451080"/>
                <a:chOff x="1131480" y="1189440"/>
                <a:chExt cx="686520" cy="451080"/>
              </a:xfrm>
            </p:grpSpPr>
            <p:sp>
              <p:nvSpPr>
                <p:cNvPr id="225" name="Rectangle 17"/>
                <p:cNvSpPr/>
                <p:nvPr/>
              </p:nvSpPr>
              <p:spPr>
                <a:xfrm>
                  <a:off x="1131480" y="1189440"/>
                  <a:ext cx="3920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8"/>
                <p:cNvSpPr/>
                <p:nvPr/>
              </p:nvSpPr>
              <p:spPr>
                <a:xfrm>
                  <a:off x="1474560" y="1189440"/>
                  <a:ext cx="343440" cy="451080"/>
                </a:xfrm>
                <a:prstGeom prst="rect">
                  <a:avLst/>
                </a:prstGeom>
                <a:solidFill>
                  <a:srgbClr val="ffff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Rectangle 19"/>
              <p:cNvSpPr/>
              <p:nvPr/>
            </p:nvSpPr>
            <p:spPr>
              <a:xfrm>
                <a:off x="746280" y="1119960"/>
                <a:ext cx="521280" cy="40104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>
                <a:off x="1337040" y="685800"/>
                <a:ext cx="29160" cy="100008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21"/>
              <p:cNvSpPr/>
              <p:nvPr/>
            </p:nvSpPr>
            <p:spPr>
              <a:xfrm flipV="1">
                <a:off x="1040040" y="1466640"/>
                <a:ext cx="8087760" cy="52560"/>
              </a:xfrm>
              <a:prstGeom prst="rect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22"/>
            <p:cNvSpPr/>
            <p:nvPr/>
          </p:nvSpPr>
          <p:spPr>
            <a:xfrm>
              <a:off x="1860840" y="758160"/>
              <a:ext cx="6521760" cy="456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"/>
            <p:cNvSpPr/>
            <p:nvPr/>
          </p:nvSpPr>
          <p:spPr>
            <a:xfrm>
              <a:off x="1213560" y="2061720"/>
              <a:ext cx="51753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4"/>
          <p:cNvSpPr/>
          <p:nvPr/>
        </p:nvSpPr>
        <p:spPr>
          <a:xfrm>
            <a:off x="655560" y="1519200"/>
            <a:ext cx="8305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24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文鼎齿轮体"/>
              </a:rPr>
              <a:t>韩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6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字退之，河阳（现在河南孟州）人，唐代散文家、诗人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尤其著名，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起八代之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美誉，与柳宗元同为“古文运动”倡导者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“唐宋八大家”之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自谓郡望（郡里的显贵家族）昌黎，世称韩昌黎，谥号“文”，又称韩文公，官至吏部侍郎，故又称韩吏部。作品都收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昌黎先生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里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670560" y="547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96%87%E4%BD%93%E4%BD%9C%E8%80%85%E9%85%8D%E9%9F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一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法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了解相关文体知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正确流利的朗读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orsec_06_x"/>
          <p:cNvPicPr/>
          <p:nvPr/>
        </p:nvPicPr>
        <p:blipFill>
          <a:blip r:embed="rId1"/>
          <a:srcRect l="0" t="4668" r="0" b="0"/>
          <a:stretch/>
        </p:blipFill>
        <p:spPr>
          <a:xfrm>
            <a:off x="71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WordArt 3"/>
          <p:cNvSpPr txBox="1"/>
          <p:nvPr/>
        </p:nvSpPr>
        <p:spPr>
          <a:xfrm rot="5526600">
            <a:off x="4566600" y="34272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仿宋_GB2312"/>
              </a:rPr>
              <a:t>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仿宋_GB2312"/>
              <a:ea typeface="仿宋_GB2312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938240" y="1762200"/>
            <a:ext cx="7010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古代一种议论体裁，用以陈述作者对社会上某些问题的观点；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的语言通常简洁明了，寓意深刻，说理透彻。通常采用以小见大的办法，借讲寓言故事、状写事物等来说明事理。讲究文采，跟现在的杂文大致相近。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“马说”即谈马、论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95320" y="59785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爱莲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587520" y="15228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世有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伯乐，然后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千里马。千里马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有，而伯乐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常有。故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有名马，祗辱于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奴隶人之手，骈死于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槽枥之间，不以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里称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马之千里者，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粟一石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者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其能千里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。是马也，虽有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里之能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饱，力不足，才美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且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欲与常马等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得，安求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能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里也 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策之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以其道，食之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尽其材，鸣之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能通其意，执策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临之，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马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呜呼！其真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马邪？其</a:t>
            </a:r>
            <a:r>
              <a:rPr b="1" lang="en-US" sz="2800" spc="-1" strike="noStrike">
                <a:solidFill>
                  <a:srgbClr val="d70532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不知马也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044720" y="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朗诵课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295880" y="620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zh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693200" y="62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iá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790800" y="198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691320" y="1916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978200" y="256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6945480" y="2581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h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798640" y="316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ià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3863880" y="952560"/>
            <a:ext cx="763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66070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5735520" y="1916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à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马说.mp3" descr=""/>
          <p:cNvPicPr/>
          <p:nvPr/>
        </p:nvPicPr>
        <p:blipFill>
          <a:blip r:embed="rId1"/>
          <a:stretch/>
        </p:blipFill>
        <p:spPr>
          <a:xfrm>
            <a:off x="9056520" y="6167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15096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96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二次先学后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7796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法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结合注释及工具书等翻译课文疏通文意，不会的可小组讨论、请教老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10:54:13Z</dcterms:created>
  <dc:creator/>
  <dc:description/>
  <dc:language>en-US</dc:language>
  <cp:lastModifiedBy>wxsw</cp:lastModifiedBy>
  <dcterms:modified xsi:type="dcterms:W3CDTF">2012-10-17T06:45:08Z</dcterms:modified>
  <cp:revision>1</cp:revision>
  <dc:subject/>
  <dc:title>幻灯片 1</dc:title>
</cp:coreProperties>
</file>