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>
            <a:hlinkClick r:id="" action="ppaction://hlinkshowjump?jump=previousslide"/>
          </p:cNvPr>
          <p:cNvSpPr/>
          <p:nvPr/>
        </p:nvSpPr>
        <p:spPr>
          <a:xfrm rot="10800000">
            <a:off x="8155080" y="62672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>
            <a:hlinkClick r:id="" action="ppaction://hlinkshowjump?jump=nextslide"/>
          </p:cNvPr>
          <p:cNvSpPr/>
          <p:nvPr/>
        </p:nvSpPr>
        <p:spPr>
          <a:xfrm>
            <a:off x="8640720" y="62676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>
            <a:hlinkClick r:id="" action="ppaction://hlinkshowjump?jump=firstslide"/>
          </p:cNvPr>
          <p:cNvSpPr/>
          <p:nvPr/>
        </p:nvSpPr>
        <p:spPr>
          <a:xfrm>
            <a:off x="7732800" y="6232680"/>
            <a:ext cx="172800" cy="196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01080" y="115920"/>
            <a:ext cx="720720" cy="14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8096760" y="57240"/>
            <a:ext cx="7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按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宋体"/>
              </a:rPr>
              <a:t>ESC</a:t>
            </a: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退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7896240" y="6234120"/>
            <a:ext cx="173160" cy="19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706880" y="617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首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2195640" y="6176880"/>
            <a:ext cx="10382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知识积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3368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综合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previousslide"/>
          </p:cNvPr>
          <p:cNvSpPr/>
          <p:nvPr/>
        </p:nvSpPr>
        <p:spPr>
          <a:xfrm rot="10800000">
            <a:off x="8155080" y="62672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640720" y="62676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732800" y="6232680"/>
            <a:ext cx="172800" cy="196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1080" y="115920"/>
            <a:ext cx="720720" cy="14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8096760" y="57240"/>
            <a:ext cx="7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按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宋体"/>
              </a:rPr>
              <a:t>ESC</a:t>
            </a: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退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896240" y="6234120"/>
            <a:ext cx="173160" cy="19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706880" y="617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首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知识积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36840" y="6176880"/>
            <a:ext cx="10382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综合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83080" y="6176880"/>
            <a:ext cx="10382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跟踪训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 rot="10800000">
            <a:off x="8155080" y="62672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640720" y="62676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732800" y="6232680"/>
            <a:ext cx="172800" cy="196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115920"/>
            <a:ext cx="720720" cy="14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8096760" y="57240"/>
            <a:ext cx="7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按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宋体"/>
              </a:rPr>
              <a:t>ESC</a:t>
            </a: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退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896240" y="6234120"/>
            <a:ext cx="173160" cy="19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706880" y="617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首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知识积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368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综合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70240" y="3392640"/>
            <a:ext cx="19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宋体"/>
              </a:rPr>
              <a:t>语   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6560" y="731880"/>
            <a:ext cx="82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0067"/>
                </a:solidFill>
                <a:latin typeface="Arial"/>
                <a:ea typeface="宋体"/>
              </a:rPr>
              <a:t>   </a:t>
            </a:r>
            <a:r>
              <a:rPr b="1" lang="en-US" sz="4800" spc="-1" strike="noStrike">
                <a:solidFill>
                  <a:srgbClr val="fe0067"/>
                </a:solidFill>
                <a:latin typeface="Arial"/>
                <a:ea typeface="宋体"/>
              </a:rPr>
              <a:t>2013</a:t>
            </a:r>
            <a:r>
              <a:rPr b="1" lang="zh-CN" sz="4800" spc="-1" strike="noStrike">
                <a:solidFill>
                  <a:srgbClr val="fe0067"/>
                </a:solidFill>
                <a:latin typeface="Arial"/>
                <a:ea typeface="宋体"/>
              </a:rPr>
              <a:t>年浙江中考第一轮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2200" y="1333440"/>
            <a:ext cx="83552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潭西南而望，斗折蛇行，明灭可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小石潭的西南方向看去，溪水像北斗星那样曲折，像蛇那样蜿蜒前行，时隐时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5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岸势犬牙差互，不可知其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溪岸的形状像狗牙那样参差不齐，不知道它的源头在哪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6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四面竹树环合，寂寥无人，凄神寒骨，悄怆幽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面被竹子和树林围绕着，寂静寥落，空无一人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神凄凉，寒气透骨，令人感到悲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6560" y="1473120"/>
            <a:ext cx="83552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中心概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运用移步换景、定点观察的方法，描绘了小石潭的石、水、游鱼、树木，着重渲染它的寂寥、凄寒、幽怆的气氛，借景抒发了自己在寂寞处境中悲凉、凄怆的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写作特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全文描写生动、细致，充满诗情画意。作品中写鱼，既写了鱼的悠然自得，也写了作者的喜悦心情；写溪水和溪岸，通过“斗折蛇行”“犬牙差互”的比喻，“明灭可见”的描写，以动静相融的笔法，准确生动地写出了溪身和溪流的特点。再如，写坐在潭边的感受，写出了一个极清幽冷寂的环境，和作者不幸遭遇的心境交融，使景物和人物相互融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占位符 3"/>
          <p:cNvSpPr/>
          <p:nvPr/>
        </p:nvSpPr>
        <p:spPr>
          <a:xfrm>
            <a:off x="5072040" y="50004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067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61440" y="2852280"/>
            <a:ext cx="24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小石潭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785960" y="2786040"/>
          <a:ext cx="5572080" cy="12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786040"/>
                    <a:ext cx="5572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581120"/>
          <a:ext cx="9144000" cy="292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914400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835280" y="191628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0560" y="2287440"/>
            <a:ext cx="165600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5640" y="265896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303048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340668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46440" y="377820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414972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771560"/>
          <a:ext cx="9144000" cy="2571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71560"/>
                    <a:ext cx="9144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195640" y="214308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89320" y="253224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14880" y="289728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2560" y="328464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3645000"/>
            <a:ext cx="1655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1400" y="4038480"/>
            <a:ext cx="165564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1339920"/>
          <a:ext cx="9144000" cy="3378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39920"/>
                    <a:ext cx="914400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356000" y="1673280"/>
            <a:ext cx="1656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2049480"/>
            <a:ext cx="1656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2421000"/>
            <a:ext cx="3744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2792520"/>
            <a:ext cx="1656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02040" y="3164040"/>
            <a:ext cx="32418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3844800"/>
            <a:ext cx="21564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38560"/>
            <a:ext cx="4316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4437000"/>
            <a:ext cx="216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785960" y="2786040"/>
          <a:ext cx="5572080" cy="12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786040"/>
                    <a:ext cx="5572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6560" y="1832040"/>
            <a:ext cx="8355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重要的作家作品和文学常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柳宗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773—819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字子厚，唐代政治家、思想家、文学家。祖籍山西河东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山西省芮城、运城一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人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柳河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晚年被贬柳州，亦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柳柳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本文是作者被贬为永州司马时，写下的具有连续性的山水游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永州八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第四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2200" y="1281240"/>
            <a:ext cx="8355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关键句子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小丘西行百二十步，隔篁竹，闻水声，如鸣珮环，心乐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小丘向西走一百二十步，隔着竹林，听到了水声，好像身上带的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珮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玉环相碰发出的声音，我的心情高兴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伐竹取道，下见小潭，水尤清冽。全石以为底，近岸，卷石底以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砍倒竹子，开辟出一条道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过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在下面看见一个小潭，潭水特别清凉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整块石头为底，靠近岸边，石底向上弯曲，露出水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青树翠蔓，蒙络摇缀，参差披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葱的树，翠绿的藤蔓，遮掩缠绕，摇动下垂，参差不齐，随风飘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2:56:00Z</dcterms:created>
  <dc:creator>User</dc:creator>
  <dc:description/>
  <cp:keywords/>
  <dc:language>en-US</dc:language>
  <cp:lastModifiedBy>深度联盟http:/sdwm.org</cp:lastModifiedBy>
  <cp:lastPrinted>1899-12-30T00:00:00Z</cp:lastPrinted>
  <dcterms:modified xsi:type="dcterms:W3CDTF">2012-12-29T06:10:57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